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8.xml.rels" ContentType="application/vnd.openxmlformats-package.relationships+xml"/>
  <Override PartName="/ppt/notesSlides/_rels/notesSlide60.xml.rels" ContentType="application/vnd.openxmlformats-package.relationships+xml"/>
  <Override PartName="/ppt/notesSlides/notesSlide60.xml" ContentType="application/vnd.openxmlformats-officedocument.presentationml.notesSlide+xml"/>
  <Override PartName="/ppt/notesSlides/notesSlide6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EE6B7-94C0-4108-B98F-6740D6BF3A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9EDD5-A609-4D90-99C7-0911A3AD8B0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servation: You can base your knowledge of variable B on variable A if B's value is related to A'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is slide, we know things about next, so we also know things about prev at certain poi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9117D-A243-4212-ABA8-A07D1C5EDA76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39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3032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hapter 5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 Logic and Indefinite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pyright (c) Pearson 2013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ategories of loop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finite loo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xecutes a known number of tim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loops we have seen are definite loop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2462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int "hello" 10 tim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2462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nd all the prime numbers up to an integer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2462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int each odd number between 5 and 127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definite loo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One where the number of times its body repeats is not known in advanc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2462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mpt the user until they type a non-negative numb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2462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int random numbers until a prime number is print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2462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peat until the user has types "q" to qu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whil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loop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loo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Repeatedly executes i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dy as long as a logical test is tru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le 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es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tatement(s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num = 1;            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ile (num &lt;= 200) {    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t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num + " 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m = num * 2;      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upd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output:  1 2 4 8 16 32 64 128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6" name="Picture 4" descr="while"/>
          <p:cNvPicPr/>
          <p:nvPr/>
        </p:nvPicPr>
        <p:blipFill>
          <a:blip r:embed="rId1"/>
          <a:stretch/>
        </p:blipFill>
        <p:spPr>
          <a:xfrm>
            <a:off x="6553080" y="1471680"/>
            <a:ext cx="2459160" cy="233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ampl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whil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loop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finds the first factor of 91, other than 1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n = 91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factor = 2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while (n % factor != 0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actor++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First factor is " + factor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output:  First factor is 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better th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ecause we don't know how many times we will need to increment to find the facto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ntine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value that signals the end of user input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entinel loop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Repeats until a sentinel value is see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 Write a program that prompts the user for numbers until the user types 0, then outputs their su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In this case, 0 is the sentinel value.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nter a number (0 to quit)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nter a number (0 to quit)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</a:rPr>
              <a:t>2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nter a number (0 to quit)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</a:rPr>
              <a:t>3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nter a number (0 to quit)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e sum is 6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entinel valu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lawed sentinel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's wrong with this solution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sum = 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number = 1;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"dummy value", anything but 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 (number != 0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Enter a number (0 to quit): 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mber = console.nextIn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um = sum + number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The total is " + sum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hanging the sentinel valu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ify your program to use a sentinel value of -1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 log of execution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nter a number (-1 to quit)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</a:rPr>
              <a:t>1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nter a number (-1 to quit)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</a:rPr>
              <a:t>2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nter a number (-1 to quit)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nter a number (-1 to quit)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</a:rPr>
              <a:t>3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nter a number (-1 to quit)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</a:rPr>
              <a:t>-1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e total is 8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hanging the sentinel valu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see the problem, change the sentinel's value to -1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sum = 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number = 1;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"dummy value", anything but -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 (number != </a:t>
            </a:r>
            <a:r>
              <a:rPr b="1" lang="en-US" sz="2000" spc="-1" strike="noStrike">
                <a:solidFill>
                  <a:srgbClr val="a50021"/>
                </a:solidFill>
                <a:latin typeface="Courier New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Enter a number (</a:t>
            </a:r>
            <a:r>
              <a:rPr b="1" lang="en-US" sz="2000" spc="-1" strike="noStrike">
                <a:solidFill>
                  <a:srgbClr val="a50021"/>
                </a:solidFill>
                <a:latin typeface="Courier New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to quit): 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mber = console.nextIn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um = sum + number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The total is " + sum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the solution produces the wrong output.  Why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e total was 7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problem with our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r code uses a pattern like thi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um = 0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while (input is not the sentinel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prompt for input; read inpu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add input to the sum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the last pass, the sentinel -1 is added to the su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prompt for input; read input (-1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a50021"/>
                </a:solidFill>
                <a:latin typeface="Tahoma"/>
              </a:rPr>
              <a:t>    </a:t>
            </a:r>
            <a:r>
              <a:rPr b="0" i="1" lang="en-US" sz="2200" spc="-1" strike="noStrike">
                <a:solidFill>
                  <a:srgbClr val="a50021"/>
                </a:solidFill>
                <a:latin typeface="Tahoma"/>
              </a:rPr>
              <a:t>add input (-1) to the sum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is a fencepost proble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ust read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numbers, but only sum the firs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-1 of them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fencepost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um = 0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99"/>
                </a:solidFill>
                <a:latin typeface="Tahoma"/>
              </a:rPr>
              <a:t>prompt for input; read input.</a:t>
            </a:r>
            <a:r>
              <a:rPr b="0" i="1" lang="en-US" sz="22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i="1" lang="en-US" sz="22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i="1" lang="en-US" sz="2200" spc="-1" strike="noStrike">
                <a:solidFill>
                  <a:srgbClr val="008080"/>
                </a:solidFill>
                <a:latin typeface="Tahoma"/>
              </a:rPr>
              <a:t>// place a "post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while (input is not the sentinel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99"/>
                </a:solidFill>
                <a:latin typeface="Tahoma"/>
              </a:rPr>
              <a:t>    </a:t>
            </a:r>
            <a:r>
              <a:rPr b="0" i="1" lang="en-US" sz="2200" spc="-1" strike="noStrike">
                <a:solidFill>
                  <a:srgbClr val="003399"/>
                </a:solidFill>
                <a:latin typeface="Tahoma"/>
              </a:rPr>
              <a:t>add input to the sum.</a:t>
            </a:r>
            <a:r>
              <a:rPr b="0" i="1" lang="en-US" sz="22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i="1" lang="en-US" sz="22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i="1" lang="en-US" sz="22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i="1" lang="en-US" sz="2200" spc="-1" strike="noStrike">
                <a:solidFill>
                  <a:srgbClr val="008080"/>
                </a:solidFill>
                <a:latin typeface="Tahoma"/>
              </a:rPr>
              <a:t>// place a "wire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prompt for input; read input.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200" spc="-1" strike="noStrike">
                <a:solidFill>
                  <a:srgbClr val="008080"/>
                </a:solidFill>
                <a:latin typeface="Tahoma"/>
              </a:rPr>
              <a:t>// place a "post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inel loops often utilize a fencepost "loop-and-a-half" style solution by pulling some code out of the loop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rrect sentinel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sum = 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pull one prompt/read ("post") out of the loo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ystem.out.print("Enter a number (-1 to quit): 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int number = console.nextIn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 (number != -1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um = sum + number;</a:t>
            </a: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moved to top of loo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Enter a number (-1 to quit): 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mber = console.nextIn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The total is " + sum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deceptive problem...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ntNumb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prints each number from 1 to a given maximum, separated by commas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example, the ca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ntNumbers(5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prin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1, 2, 3, 4, 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entinel as a constan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public static final int SENTINEL = -1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sum = 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pull one prompt/read ("post") out of the loo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Enter a number (" +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ENTINEL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+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" to quit): 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number = console.nextIn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 (number !=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ENTINEL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um = sum + number;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moved to top of loo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Enter a number (" +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ENTINEL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+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" to quit): 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mber = console.nextIn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The total is " + sum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Random number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Random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ando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bject generates pseudo-random number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las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andom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found in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java.uti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packag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andom rand = new Random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randomNumber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and.nextInt(10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0-9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2280" y="2666880"/>
          <a:ext cx="8809200" cy="1792440"/>
        </p:xfrm>
        <a:graphic>
          <a:graphicData uri="http://schemas.openxmlformats.org/drawingml/2006/table">
            <a:tbl>
              <a:tblPr/>
              <a:tblGrid>
                <a:gridCol w="1959120"/>
                <a:gridCol w="6850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hod 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extInt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a random integ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extInt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a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a random integer in the range [0,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a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 other words, 0 to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a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1 inclus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extDouble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a random real number in the range [0.0, 1.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Generating random numb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usage: to get a random number from 1 to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n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and.nextInt(20) + 1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1-20 inclusiv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67120" indent="-2671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get a number in arbitrary range [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a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] inclusiv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nextInt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ize of rang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+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i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0"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re 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ze of rang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 is 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ax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 -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i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+ 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-240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A random integer between 4 and 10 inclusiv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n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and.nextInt(7) + 4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Random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ques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n the following declaration, how would you ge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andom rand = new Random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random number between 1 and 47 inclusiv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random1 = rand.nextInt(47) + 1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random number between 23 and 30 inclusiv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random2 = rand.nextInt(8) + 23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random even number between 4 and 12 inclusiv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random3 = rand.nextInt(5) * 2 + 4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Random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and other typ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extDoub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 return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between 0.0 - 1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2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Get a random GPA value between 1.5 and 4.0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uble randomGpa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and.nextDouble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* 2.5 + 1.5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set of possible values can be mapped to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de to randomly play Rock-Paper-Scissor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r = rand.nextInt(3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r == 0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Rock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else if (r == 1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Paper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else {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r == 2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Scissors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8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8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8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Random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ques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program that simulates rolling of two 6-sided dice until their combined result comes up as 7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2 + 4 = 6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3 + 5 = 8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5 + 6 = 11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1 + 1 = 2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4 + 3 = 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You won after 5 tries!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Random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answ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olls two dice until a sum of 7 is reached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Dic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andom rand = new Random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tries = 0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sum = 0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 (sum != 7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oll the dice on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roll1 = rand.nextInt(6) + 1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roll2 = rand.nextInt(6) + 1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um = roll1 + roll2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roll1 + " + " + roll2 + " = " + sum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ries++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You won after " + tries + " tries!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Random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ques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program that plays an adding gam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sk user to solve random adding problems with 2-5 numb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user gets 1 point for a correct answer, 0 for incorrec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program stops after 3 incorrect answ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4 + 10 + 3 + 10 =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2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9 + 2 =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8 + 6 + 7 + 9 =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rong! The answer was 3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5 + 9 =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rong! The answer was 1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4 + 9 + 9 =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2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3 + 1 + 7 + 2 =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4 + 2 + 10 + 9 + 7 =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4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rong! The answer was 3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ou earned 4 total point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Random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answ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Asks the user to do adding problems and scores them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AddingGam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andom rand = new Random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play until user gets 3 wron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points = 0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wrong = 0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 (wrong &lt; 3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result = play(console, rand);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play one gam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result &gt; 0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oints++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rong++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You earned " + points + " total points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lawed solu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printNumbers(int max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1; i &lt;= max; i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 + ", "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to end the line of out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utput from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ntNumbers(5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, 2, 3, 4, 5</a:t>
            </a:r>
            <a:r>
              <a:rPr b="1" lang="en-US" sz="2000" spc="-1" strike="noStrike">
                <a:solidFill>
                  <a:srgbClr val="a50021"/>
                </a:solidFill>
                <a:latin typeface="Courier New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printNumbers(int max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1; i &lt;= max; i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", " + i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to end the line of out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utput from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ntNumbers(5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a50021"/>
                </a:solidFill>
                <a:latin typeface="Courier New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, 2, 3, 4, 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9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9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9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Random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answer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Builds one addition problem and presents it to the user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Returns 1 point if you get it right, 0 if wrong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int play(Scanner console, Random rand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print the operands being added, and sum the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operands = rand.nextInt(4) + 2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sum = rand.nextInt(10) + 1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sum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nt i = 2; i &lt;= operands; i++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n = rand.nextInt(10) + 1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um += n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 + " + n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 = 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read user's guess and report whether it was correc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guess = console.nextInt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guess == sum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1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Wrong! The answer was " + total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do/whil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loop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o/whil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loo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erforms its test at the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en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f each repetitio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Guarantees that the loop'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{}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ody will run at least onc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o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tatement(s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while 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es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Example: prompt until correct password is ty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phras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Type your password: 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hrase = console.nex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 while (!phrase.equals("abracadabra"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8" name="Picture 3" descr="do_while"/>
          <p:cNvPicPr/>
          <p:nvPr/>
        </p:nvPicPr>
        <p:blipFill>
          <a:blip r:embed="rId1"/>
          <a:stretch/>
        </p:blipFill>
        <p:spPr>
          <a:xfrm>
            <a:off x="7385040" y="2178000"/>
            <a:ext cx="1533600" cy="20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do/whil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ques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Modify the previous 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</a:rPr>
              <a:t>Dice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 program to use 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</a:rPr>
              <a:t>do/while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2 + 4 = 6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3 + 5 = 8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5 + 6 = 11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1 + 1 = 2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4 + 3 = 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You won after 5 tries!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/whi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good fit for our pas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ntine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rogr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2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do/whil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answ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Rolls two dice until a sum of 7 is reached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Dic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andom rand = new Random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tries = 0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sum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o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roll1 = rand.nextInt(6) + 1;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one rol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roll2 = rand.nextInt(6) + 1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um = roll1 + roll2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roll1 + " + " + roll2 + " = " + sum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ries++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 while (sum != 7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You won after " + tries + " tries!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Type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boolean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ethods that are tes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thods return logical valu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call to such a method is used as a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e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a loop or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Type your first name: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name = console.nex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ame.startsWith("Dr."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Will you marry me?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if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ame.endsWith("Esq."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And I am Ted 'Theodore' Logan!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tring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test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lvl="1" marL="575640" indent="0">
              <a:lnSpc>
                <a:spcPct val="9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640" indent="0">
              <a:lnSpc>
                <a:spcPct val="9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640" indent="0">
              <a:lnSpc>
                <a:spcPct val="9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640" indent="0">
              <a:lnSpc>
                <a:spcPct val="9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640" indent="0">
              <a:lnSpc>
                <a:spcPct val="9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640" indent="0">
              <a:lnSpc>
                <a:spcPct val="9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640" indent="0">
              <a:lnSpc>
                <a:spcPct val="9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640" indent="0">
              <a:lnSpc>
                <a:spcPct val="9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64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name = console.nex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64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ame.contains("Prof"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System.out.println("When are your office hours?"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if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ame.equalsIgnoreCase("STUART"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System.out.println("Let's talk about meta!"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38160" y="1371600"/>
          <a:ext cx="9067680" cy="2690640"/>
        </p:xfrm>
        <a:graphic>
          <a:graphicData uri="http://schemas.openxmlformats.org/drawingml/2006/table">
            <a:tbl>
              <a:tblPr/>
              <a:tblGrid>
                <a:gridCol w="3038400"/>
                <a:gridCol w="6029280"/>
              </a:tblGrid>
              <a:tr h="41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quals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t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hether two strings contain the same charact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qualsIgnoreCase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t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hether two strings contain the same characters, ignoring upper vs. lower c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tartsWith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t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hether one contains other's characters at sta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ndsWith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t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hether one contains other's characters at e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ontains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t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hether the given string is found within this 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yp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boolea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logical type whose values ar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-2358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logical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e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actually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expressio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-2358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t is legal to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e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vari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value as a parame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turn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value from metho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ll a method that returns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use it as a t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boolean minor   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(age &lt; 21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boolean isProf  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name.contains("Prof"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boolean lovesCSE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allow only CSE-loving students over 21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inor || isProf || !lovesC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Can't enter the club!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Us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boolea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is typ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useful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capture a complex logical test result and use it lat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write a method that does a complex test and returns 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akes code more readabl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pass around the result of a logical test (as param/return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olean goodAge    = age &gt;= 12 &amp;&amp; age &lt; 29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olean goodHeight = height &gt;= 78 &amp;&amp; height &lt; 84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olean rich       = salary &gt;= 100000.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(goodAge &amp;&amp; goodHeight) || rich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Okay, let's go out!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It's not you, it's me...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turn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boolea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isPrime(int n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factors = 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1; i &lt;= n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n % i == 0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actors++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factors == 2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s to methods returning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an be used as t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sPrime(57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21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21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21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215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ence post analog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prin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numbers but need only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- 1 comm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building a fence with wires separated by po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we use a flawed algorithm that repeatedly places a post + wire, the last post will have an extra dangling wire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Tahoma"/>
              </a:rPr>
              <a:t>	</a:t>
            </a:r>
            <a:r>
              <a:rPr b="0" i="1" lang="en-US" sz="2200" spc="-1" strike="noStrike">
                <a:solidFill>
                  <a:srgbClr val="800000"/>
                </a:solidFill>
                <a:latin typeface="Tahoma"/>
              </a:rPr>
              <a:t>for (length of fence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800000"/>
                </a:solidFill>
                <a:latin typeface="Tahoma"/>
              </a:rPr>
              <a:t>	</a:t>
            </a:r>
            <a:r>
              <a:rPr b="0" i="1" lang="en-US" sz="2200" spc="-1" strike="noStrike">
                <a:solidFill>
                  <a:srgbClr val="800000"/>
                </a:solidFill>
                <a:latin typeface="Tahoma"/>
              </a:rPr>
              <a:t>    </a:t>
            </a:r>
            <a:r>
              <a:rPr b="0" i="1" lang="en-US" sz="2200" spc="-1" strike="noStrike">
                <a:solidFill>
                  <a:srgbClr val="800000"/>
                </a:solidFill>
                <a:latin typeface="Tahoma"/>
              </a:rPr>
              <a:t>place a po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800000"/>
                </a:solidFill>
                <a:latin typeface="Tahoma"/>
              </a:rPr>
              <a:t>	</a:t>
            </a:r>
            <a:r>
              <a:rPr b="0" i="1" lang="en-US" sz="2200" spc="-1" strike="noStrike">
                <a:solidFill>
                  <a:srgbClr val="800000"/>
                </a:solidFill>
                <a:latin typeface="Tahoma"/>
              </a:rPr>
              <a:t>    </a:t>
            </a:r>
            <a:r>
              <a:rPr b="0" i="1" lang="en-US" sz="2200" spc="-1" strike="noStrike">
                <a:solidFill>
                  <a:srgbClr val="800000"/>
                </a:solidFill>
                <a:latin typeface="Tahoma"/>
              </a:rPr>
              <a:t>place some wir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800000"/>
                </a:solidFill>
                <a:latin typeface="Tahoma"/>
              </a:rPr>
              <a:t>	</a:t>
            </a:r>
            <a:r>
              <a:rPr b="0" i="1" lang="en-US" sz="2200" spc="-1" strike="noStrike">
                <a:solidFill>
                  <a:srgbClr val="800000"/>
                </a:solidFill>
                <a:latin typeface="Tahoma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4" name="Group 4"/>
          <p:cNvGrpSpPr/>
          <p:nvPr/>
        </p:nvGrpSpPr>
        <p:grpSpPr>
          <a:xfrm>
            <a:off x="2286000" y="4876920"/>
            <a:ext cx="4952520" cy="990360"/>
            <a:chOff x="2286000" y="4876920"/>
            <a:chExt cx="4952520" cy="990360"/>
          </a:xfrm>
        </p:grpSpPr>
        <p:grpSp>
          <p:nvGrpSpPr>
            <p:cNvPr id="95" name="Group 5"/>
            <p:cNvGrpSpPr/>
            <p:nvPr/>
          </p:nvGrpSpPr>
          <p:grpSpPr>
            <a:xfrm>
              <a:off x="2286000" y="4876920"/>
              <a:ext cx="990360" cy="990360"/>
              <a:chOff x="2286000" y="4876920"/>
              <a:chExt cx="990360" cy="990360"/>
            </a:xfrm>
          </p:grpSpPr>
          <p:sp>
            <p:nvSpPr>
              <p:cNvPr id="96" name="Rectangle 6"/>
              <p:cNvSpPr/>
              <p:nvPr/>
            </p:nvSpPr>
            <p:spPr>
              <a:xfrm>
                <a:off x="2286000" y="4876920"/>
                <a:ext cx="228600" cy="9903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buClr>
                    <a:srgbClr val="800080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7" name="Group 7"/>
              <p:cNvGrpSpPr/>
              <p:nvPr/>
            </p:nvGrpSpPr>
            <p:grpSpPr>
              <a:xfrm>
                <a:off x="2514600" y="5029200"/>
                <a:ext cx="761760" cy="380160"/>
                <a:chOff x="2514600" y="5029200"/>
                <a:chExt cx="761760" cy="380160"/>
              </a:xfrm>
            </p:grpSpPr>
            <p:sp>
              <p:nvSpPr>
                <p:cNvPr id="98" name="Rectangle 8"/>
                <p:cNvSpPr/>
                <p:nvPr/>
              </p:nvSpPr>
              <p:spPr>
                <a:xfrm>
                  <a:off x="2514600" y="5029200"/>
                  <a:ext cx="761760" cy="756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Rectangle 9"/>
                <p:cNvSpPr/>
                <p:nvPr/>
              </p:nvSpPr>
              <p:spPr>
                <a:xfrm>
                  <a:off x="2514600" y="5333400"/>
                  <a:ext cx="761760" cy="759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0" name="Group 10"/>
            <p:cNvGrpSpPr/>
            <p:nvPr/>
          </p:nvGrpSpPr>
          <p:grpSpPr>
            <a:xfrm>
              <a:off x="3276360" y="4876920"/>
              <a:ext cx="990360" cy="990360"/>
              <a:chOff x="3276360" y="4876920"/>
              <a:chExt cx="990360" cy="990360"/>
            </a:xfrm>
          </p:grpSpPr>
          <p:sp>
            <p:nvSpPr>
              <p:cNvPr id="101" name="Rectangle 11"/>
              <p:cNvSpPr/>
              <p:nvPr/>
            </p:nvSpPr>
            <p:spPr>
              <a:xfrm>
                <a:off x="3276360" y="4876920"/>
                <a:ext cx="228600" cy="9903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buClr>
                    <a:srgbClr val="800080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" name="Group 12"/>
              <p:cNvGrpSpPr/>
              <p:nvPr/>
            </p:nvGrpSpPr>
            <p:grpSpPr>
              <a:xfrm>
                <a:off x="3504960" y="5029200"/>
                <a:ext cx="761760" cy="380160"/>
                <a:chOff x="3504960" y="5029200"/>
                <a:chExt cx="761760" cy="380160"/>
              </a:xfrm>
            </p:grpSpPr>
            <p:sp>
              <p:nvSpPr>
                <p:cNvPr id="103" name="Rectangle 13"/>
                <p:cNvSpPr/>
                <p:nvPr/>
              </p:nvSpPr>
              <p:spPr>
                <a:xfrm>
                  <a:off x="3504960" y="5029200"/>
                  <a:ext cx="761760" cy="756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Rectangle 14"/>
                <p:cNvSpPr/>
                <p:nvPr/>
              </p:nvSpPr>
              <p:spPr>
                <a:xfrm>
                  <a:off x="3504960" y="5333400"/>
                  <a:ext cx="761760" cy="759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5" name="Group 15"/>
            <p:cNvGrpSpPr/>
            <p:nvPr/>
          </p:nvGrpSpPr>
          <p:grpSpPr>
            <a:xfrm>
              <a:off x="4267080" y="4876920"/>
              <a:ext cx="990360" cy="990360"/>
              <a:chOff x="4267080" y="4876920"/>
              <a:chExt cx="990360" cy="990360"/>
            </a:xfrm>
          </p:grpSpPr>
          <p:sp>
            <p:nvSpPr>
              <p:cNvPr id="106" name="Rectangle 16"/>
              <p:cNvSpPr/>
              <p:nvPr/>
            </p:nvSpPr>
            <p:spPr>
              <a:xfrm>
                <a:off x="4267080" y="4876920"/>
                <a:ext cx="228600" cy="9903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buClr>
                    <a:srgbClr val="800080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7" name="Group 17"/>
              <p:cNvGrpSpPr/>
              <p:nvPr/>
            </p:nvGrpSpPr>
            <p:grpSpPr>
              <a:xfrm>
                <a:off x="4495680" y="5029200"/>
                <a:ext cx="761760" cy="380160"/>
                <a:chOff x="4495680" y="5029200"/>
                <a:chExt cx="761760" cy="380160"/>
              </a:xfrm>
            </p:grpSpPr>
            <p:sp>
              <p:nvSpPr>
                <p:cNvPr id="108" name="Rectangle 18"/>
                <p:cNvSpPr/>
                <p:nvPr/>
              </p:nvSpPr>
              <p:spPr>
                <a:xfrm>
                  <a:off x="4495680" y="5029200"/>
                  <a:ext cx="761760" cy="756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" name="Rectangle 19"/>
                <p:cNvSpPr/>
                <p:nvPr/>
              </p:nvSpPr>
              <p:spPr>
                <a:xfrm>
                  <a:off x="4495680" y="5333400"/>
                  <a:ext cx="761760" cy="759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0" name="Group 20"/>
            <p:cNvGrpSpPr/>
            <p:nvPr/>
          </p:nvGrpSpPr>
          <p:grpSpPr>
            <a:xfrm>
              <a:off x="5257800" y="4876920"/>
              <a:ext cx="990360" cy="990360"/>
              <a:chOff x="5257800" y="4876920"/>
              <a:chExt cx="990360" cy="990360"/>
            </a:xfrm>
          </p:grpSpPr>
          <p:sp>
            <p:nvSpPr>
              <p:cNvPr id="111" name="Rectangle 21"/>
              <p:cNvSpPr/>
              <p:nvPr/>
            </p:nvSpPr>
            <p:spPr>
              <a:xfrm>
                <a:off x="5257800" y="4876920"/>
                <a:ext cx="228600" cy="9903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buClr>
                    <a:srgbClr val="800080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" name="Group 22"/>
              <p:cNvGrpSpPr/>
              <p:nvPr/>
            </p:nvGrpSpPr>
            <p:grpSpPr>
              <a:xfrm>
                <a:off x="5486400" y="5029200"/>
                <a:ext cx="761760" cy="380160"/>
                <a:chOff x="5486400" y="5029200"/>
                <a:chExt cx="761760" cy="380160"/>
              </a:xfrm>
            </p:grpSpPr>
            <p:sp>
              <p:nvSpPr>
                <p:cNvPr id="113" name="Rectangle 23"/>
                <p:cNvSpPr/>
                <p:nvPr/>
              </p:nvSpPr>
              <p:spPr>
                <a:xfrm>
                  <a:off x="5486400" y="5029200"/>
                  <a:ext cx="761760" cy="756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Rectangle 24"/>
                <p:cNvSpPr/>
                <p:nvPr/>
              </p:nvSpPr>
              <p:spPr>
                <a:xfrm>
                  <a:off x="5486400" y="5333400"/>
                  <a:ext cx="761760" cy="759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5" name="Group 25"/>
            <p:cNvGrpSpPr/>
            <p:nvPr/>
          </p:nvGrpSpPr>
          <p:grpSpPr>
            <a:xfrm>
              <a:off x="6248160" y="4876920"/>
              <a:ext cx="990360" cy="990360"/>
              <a:chOff x="6248160" y="4876920"/>
              <a:chExt cx="990360" cy="990360"/>
            </a:xfrm>
          </p:grpSpPr>
          <p:sp>
            <p:nvSpPr>
              <p:cNvPr id="116" name="Rectangle 26"/>
              <p:cNvSpPr/>
              <p:nvPr/>
            </p:nvSpPr>
            <p:spPr>
              <a:xfrm>
                <a:off x="6248160" y="4876920"/>
                <a:ext cx="228600" cy="9903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buClr>
                    <a:srgbClr val="800080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7" name="Group 27"/>
              <p:cNvGrpSpPr/>
              <p:nvPr/>
            </p:nvGrpSpPr>
            <p:grpSpPr>
              <a:xfrm>
                <a:off x="6476760" y="5029200"/>
                <a:ext cx="761760" cy="380160"/>
                <a:chOff x="6476760" y="5029200"/>
                <a:chExt cx="761760" cy="380160"/>
              </a:xfrm>
            </p:grpSpPr>
            <p:sp>
              <p:nvSpPr>
                <p:cNvPr id="118" name="Rectangle 28"/>
                <p:cNvSpPr/>
                <p:nvPr/>
              </p:nvSpPr>
              <p:spPr>
                <a:xfrm>
                  <a:off x="6476760" y="5029200"/>
                  <a:ext cx="761760" cy="756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Rectangle 29"/>
                <p:cNvSpPr/>
                <p:nvPr/>
              </p:nvSpPr>
              <p:spPr>
                <a:xfrm>
                  <a:off x="6476760" y="5333400"/>
                  <a:ext cx="761760" cy="759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oolean ques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 our "rhyme" / "alliterate" program to use boolean methods to test for rhyming and allitera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ype two words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</a:rPr>
              <a:t>Bare blar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ey rhyme!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ey alliterate!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oolean answ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yme(word1, word2)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ln("They rhyme!"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lliterate(word1, word2)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ln("They alliterate!"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Returns true if s1 and s2 end with the same two letters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static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oolean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hyme(String s1, String s2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s2.length() &gt;= 2 &amp;&amp; s1.endsWith(s2.substring(s2.length() - 2))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Returns true if s1 and s2 start with the same letter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static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oolean alliterat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String s1, String s2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s1.startsWith(s2.substring(0, 1))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"Boolean Zen", part 1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dents new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ten test if a result i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isPrime(57) == tru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ba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this is unnecessary and redundant.  Preferre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isPrime(57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     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goo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milar pattern can be used for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es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isPrime(57) == fa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ba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!isPrime(57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    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goo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2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2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22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22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22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"Boolean Zen", part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hods that retur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ten have a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/els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return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boolean bothOdd(int n1, int n2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n1 % 2 != 0 &amp;&amp; n2 % 2 != 0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ut the code above is unnecessarily verbos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olution w/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boolean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va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We could store the result of the logical test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boolean bothOdd(int n1, int n2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oolean test =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n1 % 2 != 0 &amp;&amp; n2 % 2 != 0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es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test == tr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test == fal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tice: Whatever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e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, we want to return tha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ue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we want to retur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we want to retur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olution w/ "Boolean Zen"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servation: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/els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un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variabl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e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stores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value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ts value is exactly what you want to return.  So return that!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boolean bothOdd(int n1, int n2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olean test = (n1 % 2 != 0 &amp;&amp; n2 % 2 != 0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tes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ven shorter vers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don't even need the variabl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e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can just perform the test and return its result in one step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boolean bothOdd(int n1, int n2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(n1 % 2 != 0 &amp;&amp; n2 % 2 != 0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"Boolean Zen" templat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boolean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800000"/>
                </a:solidFill>
                <a:latin typeface="Tahoma"/>
              </a:rPr>
              <a:t>test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return tru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return fals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boolean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return </a:t>
            </a: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test</a:t>
            </a: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rove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sPrim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following version utilizes Boolean Ze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isPrime(int n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factors = 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1; i &lt;= n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n % i == 0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actors++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return factors == 2;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if n has 2 factors, tr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ify our Rhyme program to use Boolean Ze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23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oolean Zen answ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("Type two words: "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ring word1 = console.next().toLowerCase(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ring word2 = console.next().toLowerCase(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yme(word1, word2)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ln("They rhyme!"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lliterate(word1, word2)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ln("They alliterate!"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Returns true if s1 and s2 end with the same two letters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static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oolean rhym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String s1, String s2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s2.length() &gt;= 2 &amp;&amp; s1.endsWith(s2.substring(s2.length() - 2)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Returns true if s1 and s2 start with the same letter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static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oolean alliterat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String s1, String s2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s1.startsWith(s2.substring(0, 1)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"Short-circuit" evalu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-215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va stops evaluating a test if it knows the answ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stops early if any part of the test i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||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stops early if any part of the test i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5280" indent="-215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following test will crash if s2's length is less than 2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   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turns true if s1 and s2 end with the same two letter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boolean rhyme(String s1, String s2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s1.endsWith(s2.substring(s2.length() - 2)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&amp;&amp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1.length() &gt;= 2 &amp;&amp; s2.length() &gt;= 2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-215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following test will not crash; it stops if length &lt; 2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   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turns true if s1 and s2 end with the same two letter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boolean rhyme(String s1, String s2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1.length() &gt;= 2 &amp;&amp; s2.length() &gt;= 2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&amp;&amp;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1.endsWith(s2.substring(s2.length() - 2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encepost loop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a statement outside the loop to place the initial "post."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lso called a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fencepost loop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r a "loop-and-a-half" solutio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place a po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for (length of fence</a:t>
            </a: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 - 1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place some wir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place a po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2" name="Group 4"/>
          <p:cNvGrpSpPr/>
          <p:nvPr/>
        </p:nvGrpSpPr>
        <p:grpSpPr>
          <a:xfrm>
            <a:off x="2286000" y="4876920"/>
            <a:ext cx="4191120" cy="990360"/>
            <a:chOff x="2286000" y="4876920"/>
            <a:chExt cx="4191120" cy="990360"/>
          </a:xfrm>
        </p:grpSpPr>
        <p:grpSp>
          <p:nvGrpSpPr>
            <p:cNvPr id="123" name="Group 5"/>
            <p:cNvGrpSpPr/>
            <p:nvPr/>
          </p:nvGrpSpPr>
          <p:grpSpPr>
            <a:xfrm>
              <a:off x="2286000" y="4876920"/>
              <a:ext cx="990360" cy="990360"/>
              <a:chOff x="2286000" y="4876920"/>
              <a:chExt cx="990360" cy="990360"/>
            </a:xfrm>
          </p:grpSpPr>
          <p:sp>
            <p:nvSpPr>
              <p:cNvPr id="124" name="Rectangle 6"/>
              <p:cNvSpPr/>
              <p:nvPr/>
            </p:nvSpPr>
            <p:spPr>
              <a:xfrm>
                <a:off x="2286000" y="4876920"/>
                <a:ext cx="228600" cy="9903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buClr>
                    <a:srgbClr val="800080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5" name="Group 7"/>
              <p:cNvGrpSpPr/>
              <p:nvPr/>
            </p:nvGrpSpPr>
            <p:grpSpPr>
              <a:xfrm>
                <a:off x="2514600" y="5029200"/>
                <a:ext cx="761760" cy="380160"/>
                <a:chOff x="2514600" y="5029200"/>
                <a:chExt cx="761760" cy="380160"/>
              </a:xfrm>
            </p:grpSpPr>
            <p:sp>
              <p:nvSpPr>
                <p:cNvPr id="126" name="Rectangle 8"/>
                <p:cNvSpPr/>
                <p:nvPr/>
              </p:nvSpPr>
              <p:spPr>
                <a:xfrm>
                  <a:off x="2514600" y="5029200"/>
                  <a:ext cx="761760" cy="756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Rectangle 9"/>
                <p:cNvSpPr/>
                <p:nvPr/>
              </p:nvSpPr>
              <p:spPr>
                <a:xfrm>
                  <a:off x="2514600" y="5333400"/>
                  <a:ext cx="761760" cy="759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8" name="Group 10"/>
            <p:cNvGrpSpPr/>
            <p:nvPr/>
          </p:nvGrpSpPr>
          <p:grpSpPr>
            <a:xfrm>
              <a:off x="3276720" y="4876920"/>
              <a:ext cx="990360" cy="990360"/>
              <a:chOff x="3276720" y="4876920"/>
              <a:chExt cx="990360" cy="990360"/>
            </a:xfrm>
          </p:grpSpPr>
          <p:sp>
            <p:nvSpPr>
              <p:cNvPr id="129" name="Rectangle 11"/>
              <p:cNvSpPr/>
              <p:nvPr/>
            </p:nvSpPr>
            <p:spPr>
              <a:xfrm>
                <a:off x="3276720" y="4876920"/>
                <a:ext cx="228600" cy="9903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buClr>
                    <a:srgbClr val="800080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0" name="Group 12"/>
              <p:cNvGrpSpPr/>
              <p:nvPr/>
            </p:nvGrpSpPr>
            <p:grpSpPr>
              <a:xfrm>
                <a:off x="3505320" y="5029200"/>
                <a:ext cx="761760" cy="380160"/>
                <a:chOff x="3505320" y="5029200"/>
                <a:chExt cx="761760" cy="380160"/>
              </a:xfrm>
            </p:grpSpPr>
            <p:sp>
              <p:nvSpPr>
                <p:cNvPr id="131" name="Rectangle 13"/>
                <p:cNvSpPr/>
                <p:nvPr/>
              </p:nvSpPr>
              <p:spPr>
                <a:xfrm>
                  <a:off x="3505320" y="5029200"/>
                  <a:ext cx="761760" cy="756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Rectangle 14"/>
                <p:cNvSpPr/>
                <p:nvPr/>
              </p:nvSpPr>
              <p:spPr>
                <a:xfrm>
                  <a:off x="3505320" y="5333400"/>
                  <a:ext cx="761760" cy="759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5"/>
            <p:cNvGrpSpPr/>
            <p:nvPr/>
          </p:nvGrpSpPr>
          <p:grpSpPr>
            <a:xfrm>
              <a:off x="4267440" y="4876920"/>
              <a:ext cx="990360" cy="990360"/>
              <a:chOff x="4267440" y="4876920"/>
              <a:chExt cx="990360" cy="990360"/>
            </a:xfrm>
          </p:grpSpPr>
          <p:sp>
            <p:nvSpPr>
              <p:cNvPr id="134" name="Rectangle 16"/>
              <p:cNvSpPr/>
              <p:nvPr/>
            </p:nvSpPr>
            <p:spPr>
              <a:xfrm>
                <a:off x="4267440" y="4876920"/>
                <a:ext cx="228600" cy="9903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buClr>
                    <a:srgbClr val="800080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5" name="Group 17"/>
              <p:cNvGrpSpPr/>
              <p:nvPr/>
            </p:nvGrpSpPr>
            <p:grpSpPr>
              <a:xfrm>
                <a:off x="4496040" y="5029200"/>
                <a:ext cx="761760" cy="380160"/>
                <a:chOff x="4496040" y="5029200"/>
                <a:chExt cx="761760" cy="380160"/>
              </a:xfrm>
            </p:grpSpPr>
            <p:sp>
              <p:nvSpPr>
                <p:cNvPr id="136" name="Rectangle 18"/>
                <p:cNvSpPr/>
                <p:nvPr/>
              </p:nvSpPr>
              <p:spPr>
                <a:xfrm>
                  <a:off x="4496040" y="5029200"/>
                  <a:ext cx="761760" cy="756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9"/>
                <p:cNvSpPr/>
                <p:nvPr/>
              </p:nvSpPr>
              <p:spPr>
                <a:xfrm>
                  <a:off x="4496040" y="5333400"/>
                  <a:ext cx="761760" cy="759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20"/>
            <p:cNvGrpSpPr/>
            <p:nvPr/>
          </p:nvGrpSpPr>
          <p:grpSpPr>
            <a:xfrm>
              <a:off x="5257800" y="4876920"/>
              <a:ext cx="990360" cy="990360"/>
              <a:chOff x="5257800" y="4876920"/>
              <a:chExt cx="990360" cy="990360"/>
            </a:xfrm>
          </p:grpSpPr>
          <p:sp>
            <p:nvSpPr>
              <p:cNvPr id="139" name="Rectangle 21"/>
              <p:cNvSpPr/>
              <p:nvPr/>
            </p:nvSpPr>
            <p:spPr>
              <a:xfrm>
                <a:off x="5257800" y="4876920"/>
                <a:ext cx="228600" cy="9903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buClr>
                    <a:srgbClr val="800080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0" name="Group 22"/>
              <p:cNvGrpSpPr/>
              <p:nvPr/>
            </p:nvGrpSpPr>
            <p:grpSpPr>
              <a:xfrm>
                <a:off x="5486400" y="5029200"/>
                <a:ext cx="761760" cy="380160"/>
                <a:chOff x="5486400" y="5029200"/>
                <a:chExt cx="761760" cy="380160"/>
              </a:xfrm>
            </p:grpSpPr>
            <p:sp>
              <p:nvSpPr>
                <p:cNvPr id="141" name="Rectangle 23"/>
                <p:cNvSpPr/>
                <p:nvPr/>
              </p:nvSpPr>
              <p:spPr>
                <a:xfrm>
                  <a:off x="5486400" y="5029200"/>
                  <a:ext cx="761760" cy="756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24"/>
                <p:cNvSpPr/>
                <p:nvPr/>
              </p:nvSpPr>
              <p:spPr>
                <a:xfrm>
                  <a:off x="5486400" y="5333400"/>
                  <a:ext cx="761760" cy="759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3" name="Rectangle 25"/>
            <p:cNvSpPr/>
            <p:nvPr/>
          </p:nvSpPr>
          <p:spPr>
            <a:xfrm>
              <a:off x="6248520" y="4876920"/>
              <a:ext cx="228600" cy="990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De Morgan's Law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 Morgan's Law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Rules used to negate boolean tes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seful when you want the opposite of an existing te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685800" y="2317680"/>
          <a:ext cx="7756560" cy="1065240"/>
        </p:xfrm>
        <a:graphic>
          <a:graphicData uri="http://schemas.openxmlformats.org/drawingml/2006/table">
            <a:tbl>
              <a:tblPr/>
              <a:tblGrid>
                <a:gridCol w="2965320"/>
                <a:gridCol w="3024360"/>
                <a:gridCol w="17668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riginal Expres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gated Expres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lterna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 &amp;&amp;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!a || !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!(a &amp;&amp; b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 ||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!a &amp;&amp; !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!(a || b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9" name=""/>
          <p:cNvGraphicFramePr/>
          <p:nvPr/>
        </p:nvGraphicFramePr>
        <p:xfrm>
          <a:off x="457200" y="4622760"/>
          <a:ext cx="8229600" cy="12445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riginal Co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gated Co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x == 7 &amp;&amp; y &gt; 3) {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x </a:t>
                      </a: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Courier New"/>
                        </a:rPr>
                        <a:t>!=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7 </a:t>
                      </a: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Courier New"/>
                        </a:rPr>
                        <a:t>||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y </a:t>
                      </a: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Courier New"/>
                        </a:rPr>
                        <a:t>&lt;=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3) {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oolean practice ques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name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sVowe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returns whether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 vowel (a, e, i, o, or u), case-insensitivel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sVowel("q"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turn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sVowel("A"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turn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sVowel("e"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turn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 the above method into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sNonVowe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returns whether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ny character except a vowe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sNonVowel("q"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turn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sNonVowel("A"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turn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sNonVowel("e"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turn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oolean practice answ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Enlightened version.  I have seen the true way (and false way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boolean isVowel(String 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s.equalsIgnoreCase("a") || s.equalsIgnoreCase("e") ||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.equalsIgnoreCase("i") || s.equalsIgnoreCase("o") ||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.equalsIgnoreCase("u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Enlightened "Boolean Zen" vers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boolean isNonVowel(String 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!s.equalsIgnoreCase("a") &amp;&amp; !s.equalsIgnoreCase("e") &amp;&amp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!s.equalsIgnoreCase("i") &amp;&amp; !s.equalsIgnoreCase("o") &amp;&amp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!s.equalsIgnoreCase("u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or, return !isVowel(s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hen to return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hods with loops and return values can be trick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and where should the method return its result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ve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ando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arameter and uses it to draw up to ten lotto numbers from 1-30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224"/>
              </a:spcBef>
              <a:buNone/>
              <a:tabLst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any of the numbers is a lucky 7, the method should stop and retur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 If none of the ten are 7 it should retur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224"/>
              </a:spcBef>
              <a:buNone/>
              <a:tabLst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method should print each number as it is draw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spcBef>
                <a:spcPts val="224"/>
              </a:spcBef>
              <a:buNone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5 29 18 29 11 3 30 17 19 22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first cal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9 5 29 4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7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second cal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spcBef>
                <a:spcPts val="499"/>
              </a:spcBef>
              <a:buNone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2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2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2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lawed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Draws 10 lotto numbers; returns true if one is 7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boolean seven(Random rand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1; i &lt;= 10; i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num = rand.nextInt(30) + 1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num + "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if (num == 7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return tru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return fals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method always returns immediately after the first roll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is wrong if that roll isn't a 7; we need to keep rolling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turning at the right tim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Draws 10 lotto numbers; returns true if one is 7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boolean seven(Random rand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1; i &lt;= 10; i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num = rand.nextInt(30) + 1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num + "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3399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f (num == 7) {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found lucky 7; can exit now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return tru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808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return false;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if we get here, there was no 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turn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mmediately if 7 is foun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7 isn't found, the loop continues drawing lotto numb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all ten aren't 7, the loop ends and we retur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whil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loop ques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gitS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n integer parameter and returns the sum of its digi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ssume that the number is non-negativ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igitSum(29107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turns 2+9+1+0+7 or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19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int: Use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%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perator to extract a digit from a numb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2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whil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loop answ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int digitSum(int n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 = Math.abs(n); 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handle negativ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sum = 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ile (n &gt; 0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um = sum + (n % 10);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add last dig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 = n / 10;  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remove last dig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sum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oolean return ques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10960" indent="-2109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asAnOddDigi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: return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an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digit of an integer is od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asAnOddDigit(4822</a:t>
            </a:r>
            <a:r>
              <a:rPr b="0" lang="en-US" sz="2200" spc="-1" strike="noStrike">
                <a:solidFill>
                  <a:srgbClr val="003399"/>
                </a:solidFill>
                <a:latin typeface="Courier New"/>
              </a:rPr>
              <a:t>11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6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turn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asAnOddDigit(2448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turn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-2109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llDigitsOd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: return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eve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digit of an integer is od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llDigitsOdd(135319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turn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llDigitsOdd(917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4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5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9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turn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-2109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sAllVowel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: return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eve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har in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a vowel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sAllVowels("eIeIo"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turn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sAllVowels("oi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nk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"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turn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se problems are available in our Practice-It! system under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.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2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2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2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25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25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25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oolean return answ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boolean hasAnOddDigit(int n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 (n != 0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n % 2 != 0) {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check whether last digit is od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n = n / 10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boolean allDigitsOdd(int n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 (n != 0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n % 2 == 0) {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check whether last digit is eve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n = n / 10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boolean isAllVowels(String 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nt i = 0; i &lt; s.length(); i++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ing letter = s.substring(i, i + 1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!isVowel(letter)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encepost method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6267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printNumbers(int max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System.out.print(1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 i &lt;= max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(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", " + i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);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to end the li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67120" indent="-2671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lternate solution: Either first or last "post" can be taken ou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printNumbers(int max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1;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i &lt;= max - 1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(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i + ", "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System.out.println(max);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to end the li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4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4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4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Logical Asser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539280" y="3016080"/>
            <a:ext cx="7905960" cy="18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ogical asser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sser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statement that is either true or fals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Java was created in 1995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sky is purpl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23 is a prime numb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10 is greater than 20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x divided by 2 equals 7. 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(depends on the value of x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assertion might be false ("The sky is purple" above), but it is still an assertion because it is a true/false stat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asoning about asser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se you have the following co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x &gt; 3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  <a:ea typeface="Courier New"/>
              </a:rPr>
              <a:t>// Point 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x--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} els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  <a:ea typeface="Courier New"/>
              </a:rPr>
              <a:t>// Point B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x++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  <a:ea typeface="Courier New"/>
              </a:rPr>
              <a:t>// Point C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  <a:ea typeface="Courier New"/>
              </a:rPr>
              <a:t>// Point 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do you know abou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's value at the three point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x &gt; 3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?  Always?  Sometimes?  Never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ssertions in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can make assertions about our code and ask whether they are true at various points in the cod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-23112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Valid answers are ALWAYS, NEVER, or SOMETIMES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-23112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-231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("Type a nonnegative number: 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-231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ouble number = console.nextDouble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-231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i="1" lang="en-US" sz="2200" spc="-1" strike="noStrike">
                <a:solidFill>
                  <a:srgbClr val="008080"/>
                </a:solidFill>
                <a:latin typeface="Courier New"/>
              </a:rPr>
              <a:t>// Point A: is number &lt; 0.0 her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-231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-231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le (number &lt; 0.0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-231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i="1" lang="en-US" sz="22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i="1" lang="en-US" sz="2200" spc="-1" strike="noStrike">
                <a:solidFill>
                  <a:srgbClr val="008080"/>
                </a:solidFill>
                <a:latin typeface="Courier New"/>
              </a:rPr>
              <a:t>// Point B: is number &lt; 0.0 her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-231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("Negative; try again: 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-231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-231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mber = console.nextDouble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-231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i="1" lang="en-US" sz="22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i="1" lang="en-US" sz="2200" spc="-1" strike="noStrike">
                <a:solidFill>
                  <a:srgbClr val="008080"/>
                </a:solidFill>
                <a:latin typeface="Courier New"/>
              </a:rPr>
              <a:t>// Point C: is number &lt; 0.0 her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-231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-231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-231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i="1" lang="en-US" sz="2200" spc="-1" strike="noStrike">
                <a:solidFill>
                  <a:srgbClr val="008080"/>
                </a:solidFill>
                <a:latin typeface="Courier New"/>
              </a:rPr>
              <a:t>// Point D: is number &lt; 0.0 her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7134120" y="2317680"/>
            <a:ext cx="20574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(SOMETIM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(ALWAY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(SOMETIM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(NEVE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asoning about asser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ght after a variable is initialized, its value is know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x = 3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is x &gt; 0?  ALWAY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eneral you know nothing about parameters' val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mystery(int a, int b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is a == 10?  SOMETIM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inside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etc., you may know someth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mystery(int a, int b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a &lt; 0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is a == 10?  NEV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ssertions and loop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-215280">
              <a:lnSpc>
                <a:spcPct val="75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the start of a loop's body, the loop's test must 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le (y &lt; 10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is y &lt; 10?  ALWAY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5280" indent="-215280">
              <a:lnSpc>
                <a:spcPct val="75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fter a loop, the loop's test must 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le (y &lt; 10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is y &lt; 10?  NEV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5280" indent="-215280">
              <a:lnSpc>
                <a:spcPct val="75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ide a loop's body, the loop's test may becom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le (y &lt; 10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y++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is y &lt; 10?  SOMETIM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"Sometimes"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ngs that cause a variable's value to be unknow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often leads to "sometimes" answers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ading from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cann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ading a number from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andom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parameter's initial value to a metho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you can reach a part of the program both with the answer being "yes" and the answer being "no", then the correct answer is "sometimes"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you're unsure, "Sometimes" is a good gues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ssertion example 1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ystery(int x, int y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z = 0;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// Point A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 (x &gt;= y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// Point 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x = x - y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z++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x != y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            </a:t>
            </a: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// Point 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z = z * 2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// Point 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// Point 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z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4478400" y="3809880"/>
          <a:ext cx="4665600" cy="2286000"/>
        </p:xfrm>
        <a:graphic>
          <a:graphicData uri="http://schemas.openxmlformats.org/drawingml/2006/table">
            <a:tbl>
              <a:tblPr/>
              <a:tblGrid>
                <a:gridCol w="922320"/>
                <a:gridCol w="1141200"/>
                <a:gridCol w="1141560"/>
                <a:gridCol w="14605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x &lt; 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x == 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z == 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6" name=""/>
          <p:cNvGraphicFramePr/>
          <p:nvPr/>
        </p:nvGraphicFramePr>
        <p:xfrm>
          <a:off x="4473720" y="3809880"/>
          <a:ext cx="4665600" cy="2292480"/>
        </p:xfrm>
        <a:graphic>
          <a:graphicData uri="http://schemas.openxmlformats.org/drawingml/2006/table">
            <a:tbl>
              <a:tblPr/>
              <a:tblGrid>
                <a:gridCol w="922320"/>
                <a:gridCol w="1141200"/>
                <a:gridCol w="1141560"/>
                <a:gridCol w="14605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LW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E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E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E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E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LW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E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7" name="Text Box 41"/>
          <p:cNvSpPr/>
          <p:nvPr/>
        </p:nvSpPr>
        <p:spPr>
          <a:xfrm>
            <a:off x="4114800" y="2590920"/>
            <a:ext cx="510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Which of the following assertions ar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true at which point(s) in the code?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Choose ALWAYS, NEVER, or SOMETI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ssertion example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int mystery(Scanner console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prev = 0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count = 0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next = console.nextInt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// Point A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 (next != 0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// Point 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next == prev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            </a:t>
            </a: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// Point C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unt++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ev = nex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next = console.nextInt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// Point 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// Point 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coun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4478400" y="3809880"/>
          <a:ext cx="4665600" cy="2286000"/>
        </p:xfrm>
        <a:graphic>
          <a:graphicData uri="http://schemas.openxmlformats.org/drawingml/2006/table">
            <a:tbl>
              <a:tblPr/>
              <a:tblGrid>
                <a:gridCol w="921960"/>
                <a:gridCol w="1141560"/>
                <a:gridCol w="1141560"/>
                <a:gridCol w="14605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ext == 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prev == 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ext == pre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81" name=""/>
          <p:cNvGraphicFramePr/>
          <p:nvPr/>
        </p:nvGraphicFramePr>
        <p:xfrm>
          <a:off x="4473720" y="3809880"/>
          <a:ext cx="4665600" cy="2292480"/>
        </p:xfrm>
        <a:graphic>
          <a:graphicData uri="http://schemas.openxmlformats.org/drawingml/2006/table">
            <a:tbl>
              <a:tblPr/>
              <a:tblGrid>
                <a:gridCol w="922320"/>
                <a:gridCol w="1141560"/>
                <a:gridCol w="1141200"/>
                <a:gridCol w="14605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LW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E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E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E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LW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EVE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LW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2" name="Text Box 41"/>
          <p:cNvSpPr/>
          <p:nvPr/>
        </p:nvSpPr>
        <p:spPr>
          <a:xfrm>
            <a:off x="4114800" y="2590920"/>
            <a:ext cx="510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Which of the following assertions ar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true at which point(s) in the code?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Choose ALWAYS, NEVER, or SOMETI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ssertion example 3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Assumes y &gt;= 0, and returns x^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int pow(int x, int y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prod = 1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// Point 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 (y &gt; 0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// Point 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y % 2 == 0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            </a:t>
            </a: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// Point 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x = x * x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y = y / 2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            </a:t>
            </a: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// Point 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            </a:t>
            </a: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// Point 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od = prod * x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y--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            </a:t>
            </a: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// Point F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// Point 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prod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5257800" y="3124080"/>
          <a:ext cx="3352680" cy="3078360"/>
        </p:xfrm>
        <a:graphic>
          <a:graphicData uri="http://schemas.openxmlformats.org/drawingml/2006/table">
            <a:tbl>
              <a:tblPr/>
              <a:tblGrid>
                <a:gridCol w="922320"/>
                <a:gridCol w="1141560"/>
                <a:gridCol w="12888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y &gt; 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y % 2 == 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6" name="Text Box 41"/>
          <p:cNvSpPr/>
          <p:nvPr/>
        </p:nvSpPr>
        <p:spPr>
          <a:xfrm>
            <a:off x="4114800" y="2057400"/>
            <a:ext cx="510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Which of the following assertions ar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true at which point(s) in the code?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Choose ALWAYS, NEVER, or SOMETI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5257800" y="3124080"/>
          <a:ext cx="3352680" cy="3076560"/>
        </p:xfrm>
        <a:graphic>
          <a:graphicData uri="http://schemas.openxmlformats.org/drawingml/2006/table">
            <a:tbl>
              <a:tblPr/>
              <a:tblGrid>
                <a:gridCol w="922320"/>
                <a:gridCol w="1141560"/>
                <a:gridCol w="1288800"/>
              </a:tblGrid>
              <a:tr h="30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y &gt; 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y % 2 == 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LW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LW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LW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LW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LW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E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LW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E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LW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encepost ques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ify your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ntNumb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to a new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ntPrim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prints all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rim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s up to a max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ntPrimes(50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pri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2, 3, 5, 7, 11, 13, 17, 19, 23, 29, 31, 37, 41, 43, 47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the maximum is less than 2, print no outpu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help you, 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untFacto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hich returns the number of factors of a given integ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untFactors(20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return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ue to factors 1, 2, 4, 5, 10, 20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encepost answ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Prints all prime numbers up to the given max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printPrimes(int max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max &gt;= 2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2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nt i = 3; i &lt;= max; i++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countFactors(i) == 2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, " + i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Returns how many factors the given number ha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int countFactors(int number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count = 0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nt i = 1; i &lt;= number; i++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number % i == 0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unt++;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i is a factor of numb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coun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 loop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539280" y="3016080"/>
            <a:ext cx="7905960" cy="18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Marty Stepp</cp:lastModifiedBy>
  <dcterms:modified xsi:type="dcterms:W3CDTF">2013-03-28T21:52:17Z</dcterms:modified>
  <cp:revision>124</cp:revision>
  <dc:subject/>
  <dc:title>CSE 142 Python Slides</dc:title>
</cp:coreProperties>
</file>