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AB1E-57AF-4866-9AB1-3CB806B63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4868-BB6C-4777-BF35-3A44AED9AD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5899-5F7F-49C1-BD74-3D8AC9D6B1F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C35C-CC03-4F33-9BD8-A5C73449E390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28Z</dcterms:modified>
  <cp:revision>126</cp:revision>
  <dc:subject/>
  <dc:title>CSE 142 Python Slides</dc:title>
</cp:coreProperties>
</file>