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41B97-A6C5-41A8-90C6-D25859654443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19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Programming with Java 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6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iveProblems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iveProblem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Scanner console, int count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text,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IntBinaryOperator operat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andom r = new Random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umRight 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count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x = r.nextInt(12) + 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y = r.nextInt(12) + 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x + " " + text + " " + y + " =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answer =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operator.applyAsInt(x, y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response = console.next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response == answer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ou got it right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umRight++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incorrect...the answer was "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 answer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numRight + " of " + count + " correct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eams (19.3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ea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sequence of elements from a data source that supports aggregate opera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eams operate on a data source and modify i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------+               +--------+                      +------------+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|source| -&gt; stream1 -&gt; |modifier| -&gt; stream2 -&gt; ... -&gt; | terminator |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------+               +--------+                      +------------+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print each element of a colle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sum each integer in a fi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concatenate strings together into one large str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find the largest value in a colle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de w/o strea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functional programming sum co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compute the sum of the squares of integers 1-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1; i &lt;= 5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m = sum + i * i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map modifi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odifier applies a lambda to each stream elemen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higher-order func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Takes a function as an argume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compute the sum of the squares of integers 1-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urier New"/>
              </a:rPr>
              <a:t>int sum = </a:t>
            </a:r>
            <a:r>
              <a:rPr b="0" lang="pt-BR" sz="2200" spc="-1" strike="noStrike">
                <a:solidFill>
                  <a:srgbClr val="333399"/>
                </a:solidFill>
                <a:latin typeface="Courier New"/>
              </a:rPr>
              <a:t>IntStream.range(1, 6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pt-BR" sz="2200" spc="-1" strike="noStrike">
                <a:solidFill>
                  <a:srgbClr val="333399"/>
                </a:solidFill>
                <a:latin typeface="Courier New"/>
              </a:rPr>
              <a:t>.map(n -&gt; n * n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0" lang="pt-BR" sz="2200" spc="-1" strike="noStrike">
                <a:solidFill>
                  <a:srgbClr val="333399"/>
                </a:solidFill>
                <a:latin typeface="Courier New"/>
              </a:rPr>
              <a:t>.sum()</a:t>
            </a:r>
            <a:r>
              <a:rPr b="0" lang="pt-BR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the stream operations are as follow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Stream.range(1, 6) -&gt; [1, 2, 3, 4, 5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-&gt; map -&gt; [1, 4, 9, 16, 25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-&gt; sum -&gt; 5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filter modifi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tream modifier removes/keeps elements of the stream using a boolean lambd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compute the sum of squares of odd integer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urier New"/>
              </a:rPr>
              <a:t>int sum =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pt-BR" sz="2200" spc="-1" strike="noStrike">
                <a:solidFill>
                  <a:srgbClr val="000000"/>
                </a:solidFill>
                <a:latin typeface="Courier New"/>
              </a:rPr>
              <a:t>IntStream.of(3, 1, 4, 1, 5, 9, 2, 6, 5, 3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2200" spc="-1" strike="noStrike">
                <a:solidFill>
                  <a:srgbClr val="333399"/>
                </a:solidFill>
                <a:latin typeface="Courier New"/>
              </a:rPr>
              <a:t>.filter(n -&gt; n % 2 != 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200" spc="-1" strike="noStrike">
                <a:solidFill>
                  <a:srgbClr val="000000"/>
                </a:solidFill>
                <a:latin typeface="Courier New"/>
              </a:rPr>
              <a:t>.map(n -&gt; n * n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200" spc="-1" strike="noStrike">
                <a:solidFill>
                  <a:srgbClr val="000000"/>
                </a:solidFill>
                <a:latin typeface="Courier New"/>
              </a:rPr>
              <a:t>.sum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the stream operations are as follow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Stream.of  -&gt; [3, 1, 4, 1, 5, 9, 2, 6, 5, 3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-&gt; filter -&gt; [3, 1, 1, 5, 9, 5, 3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-&gt; map -&gt; [9, 1, 1, 25, 81, 25, 9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-&gt; sum -&gt; 15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eams and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ing streams as part of a regular metho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Returns true if the given integer is prim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Assumes n &gt;= 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boolean isPrime(int n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IntStream.range(1, n + 1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filter(x -&gt; n % x == 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count() == 2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reduce modifi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du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odifier combines elements of a stream using a lambda combination fun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ccepts two parameters: an initial value and a lambda to combine that initial value with each next value in the strea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Returns n!, or 1*2*3*...*(n-1)*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Assumes n is non-negativ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int factorial(int n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IntStream.range(2, n + 1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.reduce(1, (a, b) -&gt; a * b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eam operat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68120" y="1143000"/>
          <a:ext cx="8809200" cy="5263920"/>
        </p:xfrm>
        <a:graphic>
          <a:graphicData uri="http://schemas.openxmlformats.org/drawingml/2006/table">
            <a:tbl>
              <a:tblPr/>
              <a:tblGrid>
                <a:gridCol w="1959120"/>
                <a:gridCol w="6850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nyMatc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rue if any elements of stream match given predic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llMatc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rue if all elements of stream match given predic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verage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rithmetic mean of numbers in str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llec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nvert stream into a collection and return 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unt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number of elements in str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distinct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unique elements from str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ilter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elements that match the given predic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rEac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rforms an action on each element of str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imi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iz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only the next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iz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elements of str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ap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pplies the given function to every element of str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oneMatc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rue if zero elements of stream match given predic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eam operat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68120" y="1143000"/>
          <a:ext cx="8809200" cy="3286080"/>
        </p:xfrm>
        <a:graphic>
          <a:graphicData uri="http://schemas.openxmlformats.org/drawingml/2006/table">
            <a:tbl>
              <a:tblPr/>
              <a:tblGrid>
                <a:gridCol w="1959120"/>
                <a:gridCol w="6850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arallel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 multithreaded version of this str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eek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xamines the first element of stream on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duc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pplies the given binary reduction function to stream ele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quential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ingle-threaded, opposite of parallel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kip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mits the next n elements from the str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orted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stream's elements in sorted or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um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sum of elements in str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Array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nverts stream into arr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171360" y="4572000"/>
          <a:ext cx="8809200" cy="2190600"/>
        </p:xfrm>
        <a:graphic>
          <a:graphicData uri="http://schemas.openxmlformats.org/drawingml/2006/table">
            <a:tbl>
              <a:tblPr/>
              <a:tblGrid>
                <a:gridCol w="2637000"/>
                <a:gridCol w="6172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atic meth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ca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s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glues two streams toget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mpty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 zero-element str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terat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e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n infinite stream with given start el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nverts the given values into a str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ang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ar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n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 range of integer values as a str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ptional resul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tream terminators like max return an "optional" result because the stream might be empty or not contain the resul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print largest multiple of 10 in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(does not compile!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largest =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Stream.of(55, 20, 19, 31, 40, -2, 62, 3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filter(n -&gt; n % 10 == 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.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max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(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largest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at is FP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nctional programming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style of programming that emphasizes the use of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nction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methods) to decompose a complex task into subtask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s of functional languages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ISP, Scheme, ML, Haskell, Erlang, F#, Clojure,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 is considered an object-oriented language, not a functional langua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Java 8 adds several language features to facilitate a partial functional programming sty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ptional results fi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extract the optional result, use a "get as" terminat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verts type OptionalInt to Integ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print largest multiple of 10 in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(this version compiles and works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largest =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Stream.of(55, 20, 19, 31, 40, -2, 62, 3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filter(n -&gt; n % 10 == 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max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.getAsInt(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largest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eam exerci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mAbsV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uses stream operations to compute the sum of the absolute values of an array of integers.  For example, the sum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-1, 2, -4, 6, -9}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argestEve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uses stream operations to find and return the largest even number from an array of integers. For example, if the array 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5, -1, 12, 10, 2, 8}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your method should retur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 You may assume that the array contains at least one even integ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osures (19.4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ound/free vari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 a lambda expression, parameters are bound variables while variables in the outer containing scope are free variab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nction clo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block of code defining a function along with the definitions of any free variables that are defined in the containing sco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8000"/>
                </a:solidFill>
                <a:latin typeface="Courier New"/>
              </a:rPr>
              <a:t>// free variables: min, max, multipl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8000"/>
                </a:solidFill>
                <a:latin typeface="Courier New"/>
              </a:rPr>
              <a:t>// bound variables: x, 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min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 = 1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max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 = 5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multiplier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 = 3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compute((x, y) -&gt; Math.max(x,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min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) *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Math.max(y,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max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) *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multiplier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eams and array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rray can be converted into a stream with Arrays.stre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compute sum of absolute values of even i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numbers = {3, -4, 8, 4, -2, 17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9, -10, 14, 6, -12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sum = Arrays.stream(number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map(n -&gt; Math.abs(n)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filter(n -&gt; n % 2 == 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distinct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sum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ethod referenc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ass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: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thod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ethod reference lets you pass a method where a lambda would otherwise be expecte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compute sum of absolute values of even i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numbers = {3, -4, 8, 4, -2, 17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9, -10, 14, 6, -12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sum = Arrays.stream(number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map(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Math::ab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filter(n -&gt; n % 2 == 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distinct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sum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eams and lis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llection can be converted into a stream by calling i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ea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compute sum of absolute values of even i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&lt;Integer&gt; list =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w ArrayList&lt;Integer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-4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-17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68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stream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map(Math::ab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forEach(System.out::println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eams and string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convert into set of lowercase wor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&lt;String&gt; words = Arrays.asList(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To", "be", "or", "Not", "to", "be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&lt;String&gt; words2 = words.stream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map(String::toLowerCas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collect(Collectors.toSet(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word set = " + words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ord set = [not, be, or, to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eams and fil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find longest line in the fi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longest = Files.lines(Paths.get("haiku.txt")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mapToInt(String::length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max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getAsIn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ream operation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iles.lines -&gt; ["haiku are funny"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but sometimes they don't make sense"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refrigerator"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-&gt; mapToInt -&gt; [15, 35, 12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-&gt; max -&gt; 3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eam exerci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igLat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uses stream operations to convert a String parameter into its "Pig Latin" form.  For example, if the string passed is "go seattle mariners", return "o-gay eattle-say ariners-may"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LetterWord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 file name as a parameter and returns a count of the number of unique lines in the file that are exactly four letters long.  Assume that each line in the file contains at least one wor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 8 FP featur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 Effect-free programm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 Processing structured data via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 First-class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. Function clos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. Higher-order operations on col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ffect-free code (19.1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de eff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change to the state of an object or program variable produced by a call on a function (i.e., a method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modifying the value of a variab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printing output to System.ou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reading/writing data to a file, collection, or network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result = f(x) + f(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result = 2 * f(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e the two above statements the sam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es, if the function f() has no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ide eff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e goal of functional programming is to minimize side eff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de w/ side eff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SideEffect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static int x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static int f(int n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x * 2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x + n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8000"/>
                </a:solidFill>
                <a:latin typeface="Courier New"/>
              </a:rPr>
              <a:t>// what if it were 2 * f(x)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5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result 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(x) + f(x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tem.out.println(result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irst-class functions (19.2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rst-class citize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element of a programming language that is tightly integrated with the language and supports the full range of operations generally available to other entities in the langua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functional programming, functions (methods) are treated as first-class citizens of the languag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store a function in a variab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pass a function as a parameter to another fun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return a value from a fun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create a collection of func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ambda express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mbda expressio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"lambda"): Expression that describes a function by specifying its parameters and return val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Java 8 adds support for lambda expression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parameter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-&gt; 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express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x) -&gt; x * x      </a:t>
            </a: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squares a numb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bove is roughly equivalent to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int squared(int x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x * x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dd/multiply tut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a program that gives addition and multiplication quiz problems to the us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9 + 6 =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1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ou got it righ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3 * 7 =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1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correct...the answer was 2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do we generalize the idea of "add or multiply"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much work would it be to add other operator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ould functional programming help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de w/ lambda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represent the math operation as a lambd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quiz the user on 3 addition proble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iveProblems(console, 3, "+",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(x, y) -&gt; x + 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quiz the user on 3 multiplication proble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iveProblems(console, 3, "*",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(x, y) -&gt; x * 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Registered User</cp:lastModifiedBy>
  <dcterms:modified xsi:type="dcterms:W3CDTF">2016-08-17T07:01:37Z</dcterms:modified>
  <cp:revision>658</cp:revision>
  <dc:subject/>
  <dc:title>CSE 142 Python Slides</dc:title>
</cp:coreProperties>
</file>