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39.xml.rels" ContentType="application/vnd.openxmlformats-package.relationships+xml"/>
  <Override PartName="/ppt/notesSlides/notesSlide39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E33E-7080-4017-A774-3B392A6F4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variation: Output only the *unique* rearrangements.  For example, permute("GOOGLE") has two Os, but swapping them in order produces the same string, which shouldn't appear twice in the outp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variation: Output only the *unique* rearrangements.  For example, permute("GOOGLE") has two Os, but swapping them in order produces the same string, which shouldn't appear twice in the outp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F4C7-C7E8-4BCB-9705-47A14E7B98AE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2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u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basic ca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re the cases to consid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a very easy number of stars to print without a loo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ndling more ca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ling additional cases, with no loops (in a bad way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=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= 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= 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ndling more case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ing advantage of the repeated pattern (somewhat better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n =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1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"*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n == 3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2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"**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n == 4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3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"***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recursion properl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ensing the recursive cases into a single c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print one mor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n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Recursion Zen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al, even simpler, base case i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0, not 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end the line of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print one mor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n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cursion Ze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art of properly identifying the best set of cases for a recursive algorithm and expressing them elegantly.</a:t>
            </a:r>
            <a:br>
              <a:rPr sz="2200"/>
            </a:br>
            <a:br>
              <a:rPr sz="8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A CSE 143 informal ter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trac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recursive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int mystery(int n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n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n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n / 1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n % 1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stery(a + b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result of the following call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ystery(648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recursive tr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mystery(648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648 / 10;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6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648 % 10;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 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ystery(a + b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mystery(7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mystery(72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 = 72 / 10;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b = 72 % 10;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ystery(a + b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ystery(9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mystery(9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9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87480" y="1289160"/>
            <a:ext cx="7456320" cy="457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3124080"/>
            <a:ext cx="6629400" cy="266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4876920"/>
            <a:ext cx="213372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tracing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recursive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int mystery(int n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n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(10 * n) + n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stery(n / 10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stery(n % 10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(100 * a) +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result of the following call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ystery(348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recursive trac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mystery(34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mystery(3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 = mystery(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55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(10 * 3) + 3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3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b = mystery(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55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(10 * 4) + 4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4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(100 * 33) + 44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334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mystery(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(10 * 8) + 8;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8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(100 * 3344) + 88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lang="en-US" sz="2200" spc="-1" strike="noStrike" u="sng">
                <a:solidFill>
                  <a:srgbClr val="008000"/>
                </a:solidFill>
                <a:uFillTx/>
                <a:latin typeface="Courier New"/>
              </a:rPr>
              <a:t>33448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is method really doing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2127240"/>
            <a:ext cx="5410080" cy="180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4662360"/>
            <a:ext cx="5410080" cy="3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30480" y="2467080"/>
            <a:ext cx="4006800" cy="35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28680" y="3181320"/>
            <a:ext cx="4006800" cy="35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7480" y="1289160"/>
            <a:ext cx="7151400" cy="457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n integer base and exponent and returns the base raised to that expon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w(3, 4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8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ve the problem recursively and without using loop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cur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definition of an operation in terms of itself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ving a problem using recursion depends on solv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aller occurrences of the same probl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cursive programm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riting methods that call themselves to solve problems recurs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equally powerful substitute fo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ter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loo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ticularly well-suited to solving certain types of problem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w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base ^ expon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exponent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pow(int base, int expon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exponent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any number to 0th power is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:  x^y = x * x^(y-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 * pow(base, exponent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optim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ce the following mathematical propert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12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53144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9</a:t>
            </a:r>
            <a:r>
              <a:rPr b="0" lang="en-US" sz="2200" spc="-1" strike="noStrike" baseline="30000">
                <a:solidFill>
                  <a:srgbClr val="800000"/>
                </a:solidFill>
                <a:latin typeface="Tahoma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(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800000"/>
                </a:solidFill>
                <a:latin typeface="Tahoma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53144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(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9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((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800000"/>
                </a:solidFill>
                <a:latin typeface="Tahoma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does this "trick" work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incorporate this optimization into ou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benefit of this trick if the method already work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w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base ^ expon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exponent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pow(int base, int expon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exponent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any number to 0th power is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else if (exponent % 2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 1:  x^y = (x^2)^(y/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 pow(base * base, exponent /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}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 2:  x^y = x * x^(y-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 * pow(base, exponent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Bin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integer and prints that number's representation in binary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base 2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Binary(7)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 1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Binary(1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 1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Binary(4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 1010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the method recursively and without using any loop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057400" y="3835440"/>
          <a:ext cx="5045040" cy="888840"/>
        </p:xfrm>
        <a:graphic>
          <a:graphicData uri="http://schemas.openxmlformats.org/drawingml/2006/table">
            <a:tbl>
              <a:tblPr/>
              <a:tblGrid>
                <a:gridCol w="777960"/>
                <a:gridCol w="460440"/>
                <a:gridCol w="453960"/>
                <a:gridCol w="630360"/>
                <a:gridCol w="460080"/>
                <a:gridCol w="460440"/>
                <a:gridCol w="430200"/>
                <a:gridCol w="457200"/>
                <a:gridCol w="457200"/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l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 analysi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ursion is about solving a small piece of a large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69743 in binar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we know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yth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about its representation in binar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se analysi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/are easy numbers to print in binar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we express a larger number in terms of a smaller number(s)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ppose we are examining some arbitrary integ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binary representation 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1001010101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 / 2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binary representation 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10010101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 % 2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binary representation 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Bin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the given integer's binary represent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n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Binary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same as base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break number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/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%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we eliminate the precondition and deal with negativ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Bin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the given integer's binary represent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Binary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f (n &l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 for negative nu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ystem.out.print("-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ntBinary(-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} 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f (n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same as base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break number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/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%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Palindr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return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it reads the same forwards as backwar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madam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racecar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step on no pets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able was I ere I saw elba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Java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rotater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byebye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notion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rue if the given string read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orwards as backwar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rivially true for empty or 1-letter str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isPalindrome(String 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.length()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first = s.charAt(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last  = s.charAt(s.length()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first != las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   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middle = s.substring(1, s.length()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isPalindrome(middl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rue if the given string read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orwards as backwar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rivially true for empty or 1-letter str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isPalindrome(String 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.length()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charAt(0) == s.charAt(s.length() - 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&amp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sPalindrome(s.substring(1, s.length() - 1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y learn recursion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cultural experience" - A different way of thinking of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solve some kinds of problems better than it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ds to elegant, simplistic, short code (when used wel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programming languages ("functional" languages such as Scheme, ML, and Haskell) use recursion exclusively  (no loo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key component of the rest of our assignments in CSE 14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L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fi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prints the lines of the file in reverse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input file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pected console 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the cases to consid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can we solve a small part of the problem at a ti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a file that is very easy to revers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2743200"/>
            <a:ext cx="32763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19720" y="4038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ersal pseudo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sing the lines of a f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 a line L from the fi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 the rest of the lines in reverse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 the line 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If only we had a way to reverse the rest of the lines of the file...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ersal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cursive c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is the base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429000" y="2743200"/>
            <a:ext cx="2363760" cy="2438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64920" y="534816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7120" y="534816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1600" y="5727600"/>
            <a:ext cx="2649600" cy="97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36480" y="5727600"/>
            <a:ext cx="2649600" cy="97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cing our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ll st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method invocations running at any one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verseLines(new Scanner("poem.txt"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76320" y="228600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Roses are red,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320" y="289548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Violets are blue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320" y="347040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All my bas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320" y="407988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Are belong to you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320" y="4670280"/>
            <a:ext cx="8991360" cy="119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320" y="5867280"/>
            <a:ext cx="3045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4.44444E-006 L 3.46945E-018 0.03333 E">
                                      <p:cBhvr>
                                        <p:cTn id="21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0.03333 L 3.46945E-018 0.06666 E">
                                      <p:cBhvr>
                                        <p:cTn id="22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0.06666 L 3.46945E-018 0.1 E">
                                      <p:cBhvr>
                                        <p:cTn id="23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raw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 and prints information about that f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represents a normal file, just print its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represents a directory, print its name and information about every file/directory inside it, inden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se14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ndo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llabus.do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ecture_schedule.x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-sortedint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IntList.ja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ortedIntList.ja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.ht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yle.c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cursive 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directory can contain other director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F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(from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i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ckage) repres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file or directory on the dis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04920" y="2362320"/>
          <a:ext cx="8542080" cy="4038120"/>
        </p:xfrm>
        <a:graphic>
          <a:graphicData uri="http://schemas.openxmlformats.org/drawingml/2006/table">
            <a:tbl>
              <a:tblPr/>
              <a:tblGrid>
                <a:gridCol w="2549160"/>
                <a:gridCol w="5992920"/>
              </a:tblGrid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or/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l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ate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object representing file with given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nRead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whether file is able to be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let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moves file from d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ists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is file exists on d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Nam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file's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Director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whether this object represents a direc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ngth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number of bytes in 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stFiles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le[]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representing files in this direc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nameTo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anges name of 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ublic/private pai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not vary the indentation without an extra parame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crawl(File f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, String ind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ten the parameters we need for our recursion do not match those the client will want to p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se cases, we instead write a pair of method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) 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non-recursive one with the parameters the client wa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) 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recursive one with the parameters we really ne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information about this fil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nd (if it is a directory) any files insid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ublic static void crawl(File 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crawl(f, ""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call private recursive help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helper to implement crawl/indent behavi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va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void crawl(File f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, String ind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dent +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.getName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f.isDirectory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print contained files/di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File subFile : f.listFiles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awl(subFile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, indent + "    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cursive Backtrackin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Permut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mu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string as a parameter and outputs all possible rearrangements of the letters in that string.  The arrangements may be output in any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ermute("MARTY"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s the follow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quence of lin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990960" y="2666880"/>
          <a:ext cx="4772160" cy="3946320"/>
        </p:xfrm>
        <a:graphic>
          <a:graphicData uri="http://schemas.openxmlformats.org/drawingml/2006/table">
            <a:tbl>
              <a:tblPr/>
              <a:tblGrid>
                <a:gridCol w="795600"/>
                <a:gridCol w="795240"/>
                <a:gridCol w="795240"/>
                <a:gridCol w="795240"/>
                <a:gridCol w="795600"/>
                <a:gridCol w="795240"/>
              </a:tblGrid>
              <a:tr h="39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o a student in the front row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any students total are directly behind you in your "column" of the classroo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have poor vision, so you ca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e only the people right next to you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you can't just look back and cou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you are allowed to ask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estions of the person next to you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solve this problem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ecursivel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31626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ining the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of each permutation as a set of choices 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character do I want to place fir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character do I want to place secon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olution spa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et of all possible sets of decisions to explo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ant to generate all possible sequences of deci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(each possible first letter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(each possible second letter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(each possible third letter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517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517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nt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51704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called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epth-first sear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cision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446640" y="1295280"/>
          <a:ext cx="2408040" cy="812880"/>
        </p:xfrm>
        <a:graphic>
          <a:graphicData uri="http://schemas.openxmlformats.org/drawingml/2006/table">
            <a:tbl>
              <a:tblPr/>
              <a:tblGrid>
                <a:gridCol w="1079280"/>
                <a:gridCol w="13287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os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2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2f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 flipH="1">
            <a:off x="3657600" y="21337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741760" y="2387520"/>
          <a:ext cx="1404720" cy="406440"/>
        </p:xfrm>
        <a:graphic>
          <a:graphicData uri="http://schemas.openxmlformats.org/drawingml/2006/table">
            <a:tbl>
              <a:tblPr/>
              <a:tblGrid>
                <a:gridCol w="379080"/>
                <a:gridCol w="10256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1598760" y="3174840"/>
          <a:ext cx="1404720" cy="406440"/>
        </p:xfrm>
        <a:graphic>
          <a:graphicData uri="http://schemas.openxmlformats.org/drawingml/2006/table">
            <a:tbl>
              <a:tblPr/>
              <a:tblGrid>
                <a:gridCol w="610920"/>
                <a:gridCol w="793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 flipH="1">
            <a:off x="2360520" y="2819520"/>
            <a:ext cx="91440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74560" y="3936960"/>
          <a:ext cx="1404720" cy="406440"/>
        </p:xfrm>
        <a:graphic>
          <a:graphicData uri="http://schemas.openxmlformats.org/drawingml/2006/table">
            <a:tbl>
              <a:tblPr/>
              <a:tblGrid>
                <a:gridCol w="847800"/>
                <a:gridCol w="556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52280" y="4699080"/>
          <a:ext cx="1405080" cy="406440"/>
        </p:xfrm>
        <a:graphic>
          <a:graphicData uri="http://schemas.openxmlformats.org/drawingml/2006/table">
            <a:tbl>
              <a:tblPr/>
              <a:tblGrid>
                <a:gridCol w="107496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15228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3241800" y="3174840"/>
          <a:ext cx="1409400" cy="406440"/>
        </p:xfrm>
        <a:graphic>
          <a:graphicData uri="http://schemas.openxmlformats.org/drawingml/2006/table">
            <a:tbl>
              <a:tblPr/>
              <a:tblGrid>
                <a:gridCol w="615600"/>
                <a:gridCol w="793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4913280" y="3174840"/>
          <a:ext cx="1404720" cy="406440"/>
        </p:xfrm>
        <a:graphic>
          <a:graphicData uri="http://schemas.openxmlformats.org/drawingml/2006/table">
            <a:tbl>
              <a:tblPr/>
              <a:tblGrid>
                <a:gridCol w="606240"/>
                <a:gridCol w="798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R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6594480" y="3174840"/>
          <a:ext cx="1406520" cy="406440"/>
        </p:xfrm>
        <a:graphic>
          <a:graphicData uri="http://schemas.openxmlformats.org/drawingml/2006/table">
            <a:tbl>
              <a:tblPr/>
              <a:tblGrid>
                <a:gridCol w="606600"/>
                <a:gridCol w="799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7510320" y="2362320"/>
          <a:ext cx="1405080" cy="406440"/>
        </p:xfrm>
        <a:graphic>
          <a:graphicData uri="http://schemas.openxmlformats.org/drawingml/2006/table">
            <a:tbl>
              <a:tblPr/>
              <a:tblGrid>
                <a:gridCol w="336600"/>
                <a:gridCol w="106848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4648320" y="2133720"/>
            <a:ext cx="2819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03520" y="2819520"/>
            <a:ext cx="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84760" y="2819520"/>
            <a:ext cx="129528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89320" y="2819520"/>
            <a:ext cx="236232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1522080" y="35812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327400" y="3936960"/>
          <a:ext cx="1414440" cy="406440"/>
        </p:xfrm>
        <a:graphic>
          <a:graphicData uri="http://schemas.openxmlformats.org/drawingml/2006/table">
            <a:tbl>
              <a:tblPr/>
              <a:tblGrid>
                <a:gridCol w="847800"/>
                <a:gridCol w="5666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4037040" y="3936960"/>
          <a:ext cx="1415880" cy="406440"/>
        </p:xfrm>
        <a:graphic>
          <a:graphicData uri="http://schemas.openxmlformats.org/drawingml/2006/table">
            <a:tbl>
              <a:tblPr/>
              <a:tblGrid>
                <a:gridCol w="847440"/>
                <a:gridCol w="568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2360520" y="358128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17720" y="358128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828800" y="4699080"/>
          <a:ext cx="1405080" cy="406440"/>
        </p:xfrm>
        <a:graphic>
          <a:graphicData uri="http://schemas.openxmlformats.org/drawingml/2006/table">
            <a:tbl>
              <a:tblPr/>
              <a:tblGrid>
                <a:gridCol w="107496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 flipH="1">
            <a:off x="838080" y="4343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434340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90512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Y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259092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962520" y="4699080"/>
          <a:ext cx="1404720" cy="406440"/>
        </p:xfrm>
        <a:graphic>
          <a:graphicData uri="http://schemas.openxmlformats.org/drawingml/2006/table">
            <a:tbl>
              <a:tblPr/>
              <a:tblGrid>
                <a:gridCol w="107460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396252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638680" y="4699080"/>
          <a:ext cx="1405080" cy="406440"/>
        </p:xfrm>
        <a:graphic>
          <a:graphicData uri="http://schemas.openxmlformats.org/drawingml/2006/table">
            <a:tbl>
              <a:tblPr/>
              <a:tblGrid>
                <a:gridCol w="107496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 flipH="1">
            <a:off x="4648320" y="4343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81480" y="434340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571500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T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640080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629400" y="3962520"/>
          <a:ext cx="1415880" cy="406440"/>
        </p:xfrm>
        <a:graphic>
          <a:graphicData uri="http://schemas.openxmlformats.org/drawingml/2006/table">
            <a:tbl>
              <a:tblPr/>
              <a:tblGrid>
                <a:gridCol w="847800"/>
                <a:gridCol w="568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Y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 flipH="1">
            <a:off x="7195680" y="3581280"/>
            <a:ext cx="11916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001000" y="35812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623440" y="38098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96280" y="342900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24680" y="342900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591760" y="26668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61080" y="41911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404480" y="42670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track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cktrack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general algorithm for finding solution(s) to a computational problem by trying partial solutions and then abandoning them ("backtracking") if they are not suit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"brute force" algorithmic technique  (tries all paths; not clev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(but not always) implemented recursive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pplica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ducing all permutations of a set of val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sing langua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ames: anagrams, crosswords, word jumbles, 8 quee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binatorics and logic programm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tracking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general pseudo-code algorithm for backtracking proble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ore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o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are no mor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oic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make:  sto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s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ke a single choic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m the set of choic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Remove </a:t>
            </a:r>
            <a:r>
              <a:rPr b="1" lang="en-US" sz="1800" spc="-1" strike="noStrike">
                <a:solidFill>
                  <a:srgbClr val="808080"/>
                </a:solidFill>
                <a:latin typeface="Tahoma"/>
              </a:rPr>
              <a:t>C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 from the set of </a:t>
            </a:r>
            <a:r>
              <a:rPr b="1" lang="en-US" sz="1800" spc="-1" strike="noStrike">
                <a:solidFill>
                  <a:srgbClr val="808080"/>
                </a:solidFill>
                <a:latin typeface="Tahoma"/>
              </a:rPr>
              <a:t>choices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ore the rem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o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-make choic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Backtrack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tracking strateg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olving a backtracking problem, ask these ques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the "choices" in this problem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the "base case"?  (How do I know when I'm out of choices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I "make" a cho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I need to create additional variables to remember my choic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I need to modify the values of existing variabl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I explore the rest of the choice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I need to remove the made choice from the list of choic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ce I'm done exploring the rest, what should I do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I "un-make" a cho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ermutations revisit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mu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string as a parameter and outputs all possible rearrangements of the letters in that string.  The arrangements may be output in any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ermute("MARTY"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s the follow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quence of lin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990960" y="2666880"/>
          <a:ext cx="4772160" cy="3946320"/>
        </p:xfrm>
        <a:graphic>
          <a:graphicData uri="http://schemas.openxmlformats.org/drawingml/2006/table">
            <a:tbl>
              <a:tblPr/>
              <a:tblGrid>
                <a:gridCol w="795600"/>
                <a:gridCol w="795240"/>
                <a:gridCol w="795240"/>
                <a:gridCol w="795240"/>
                <a:gridCol w="795600"/>
                <a:gridCol w="795240"/>
              </a:tblGrid>
              <a:tr h="39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Outputs all permutations of the given string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void permute(String s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ermute(s, "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rivate static void permute(String s, String chosen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f (s.length() ==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base case: no choices left to be mad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chosen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recursive case: choose each possible next letter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har c = s.charAt(i);    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 = s.substring(0, i) + s.substring(i + 1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hosen += c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permute(s, chosen)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 = s.substring(0, i) + c + s.substring(i + 1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hosen =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hosen.substring(0, chosen.length() - 1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                           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Outputs all permutations of the given string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void permute(String s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ermute(s, "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rivate static void permute(String s, String chosen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f (s.length() ==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base case: no choices left to be mad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chosen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recursive case: choose each possible next letter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tring ch = s.substring(i, i + 1);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tring rest = s.substring(0, i) +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remov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.substring(i + 1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permute(rest, chosen + ch)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(don't need to "un-choose" becau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 we used temp variables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Combin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bin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str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n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s parameters and outputs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letter words that can be formed from unique letters in that string.  The arrangements may be output in any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mbinations("GOOGLE", 3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s the sequence of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nes at righ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implify the problem, you may assum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the strin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tains at leas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ique charac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7238880" y="2987640"/>
          <a:ext cx="1371600" cy="356544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</a:tblGrid>
              <a:tr h="357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G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G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L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itial attemp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combinations(String s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binations(s, "", length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static void combinations(String s, String chosen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ength =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chosen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base case: no choices lef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ch = s.substring(i, 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chosen.contains(ch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rest = s.substring(0, i) + s.substring(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binations(rest, chosen + ch, length -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Prints same string multiple tim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id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ursion is all about breaking a big problem into smaller occurrences of that same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person can solve a small part of the probl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a small version of the problem that would be easy to answe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nformation from a neighbor might help 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32328"/>
          <a:stretch/>
        </p:blipFill>
        <p:spPr>
          <a:xfrm>
            <a:off x="4030560" y="3514680"/>
            <a:ext cx="480852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combinations(String s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&lt;String&gt; all = new TreeSet&lt;String&gt;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binations(s, ""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length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String comb : a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comb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static void combinations(String s, String chosen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&lt;String&gt; al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ength =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l.add(chosen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  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base case: no choices lef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ch = s.substring(i, 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chosen.contains(ch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rest = s.substring(0, i) + s.substring(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binations(rest, chosen + ch, all, length -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Domino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ame of dominoes is played with sma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 tiles, each having 2 numbers of do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0-6.  Players line up tiles to match do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a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mi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he follow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first()  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first dots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econd() 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econd dots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e.g. "(3|5)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tak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dominoes and a starting/ending dot value, and returns whether the dominoes can be made into a chain that starts/ends with those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chain's start/end are the same, the answer is alway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858000" y="1085760"/>
            <a:ext cx="2286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omino chai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have the following domino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link them into a chain from 1 to 3 as foll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ice that the 3|5 domino had to be flipp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"link" one domino into a "chain" from 6 to 2 as follow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rcRect l="20178" t="28004" r="20919" b="64408"/>
          <a:stretch/>
        </p:blipFill>
        <p:spPr>
          <a:xfrm>
            <a:off x="1752480" y="1827360"/>
            <a:ext cx="5694480" cy="5666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rcRect l="33505" t="55928" r="34433" b="36644"/>
          <a:stretch/>
        </p:blipFill>
        <p:spPr>
          <a:xfrm>
            <a:off x="2978280" y="3936960"/>
            <a:ext cx="3117600" cy="5587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rcRect l="44182" t="47288" r="45044" b="45606"/>
          <a:stretch/>
        </p:blipFill>
        <p:spPr>
          <a:xfrm>
            <a:off x="4038480" y="5535720"/>
            <a:ext cx="106056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clien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or Array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olveDominoes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[(1|4), (2|6), (4|5), (1|5), (3|5)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&lt;Domino&gt; dominoes = new ArrayList&lt;Domino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1, 4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2, 6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4, 5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1, 5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3, 5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5, 5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5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3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6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2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ist&lt;Domino&gt; dominoes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tart, int e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ist&lt;Domino&gt; dominoes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tart, int e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start == e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       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dominoes.size()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 d = dominoes.remove(i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d.first() == start) {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d.second(), en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d.second() == star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d.first(), en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i, d);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Print chai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variation of y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that also prints the chain of dominoes that it finds, if a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Chain(dominoes, 1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(1|4), (4|5), (5|3)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boolean hasChain(List&lt;Domino&gt; dominoes, int start, int end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ck&lt;Domino&gt; chosen = new Stack&lt;Domino&gt;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asChain(dominoes, chosen, start, end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static boolean hasChain(List&lt;Domino&gt; dominoes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ck&lt;Domino&gt; chos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, int start, int end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start == end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ystem.out.println(chosen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                 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dominoes.size(); i++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mino d = dominoes.remove(i);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d.first() == start) {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ush(d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hasChain(dominoes, chosen, d.second(), end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op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if (d.second() == start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.flip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ush(d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hasChain(dominoes, chosen, d.second(), end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op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minoes.add(i, d);      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"8 Queens"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problem of trying to place 8 queens on a chess board such that no queen can attack another que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the "choices"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"make" 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un-make" a cho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know whe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to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4267080" y="2209680"/>
          <a:ext cx="4724280" cy="4267080"/>
        </p:xfrm>
        <a:graphic>
          <a:graphicData uri="http://schemas.openxmlformats.org/drawingml/2006/table">
            <a:tbl>
              <a:tblPr/>
              <a:tblGrid>
                <a:gridCol w="590400"/>
                <a:gridCol w="590760"/>
                <a:gridCol w="590400"/>
                <a:gridCol w="590400"/>
                <a:gridCol w="590760"/>
                <a:gridCol w="590400"/>
                <a:gridCol w="590760"/>
                <a:gridCol w="5904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78" name=""/>
          <p:cNvGrpSpPr/>
          <p:nvPr/>
        </p:nvGrpSpPr>
        <p:grpSpPr>
          <a:xfrm>
            <a:off x="4495320" y="2431800"/>
            <a:ext cx="4419720" cy="3810240"/>
            <a:chOff x="4495320" y="2431800"/>
            <a:chExt cx="4419720" cy="3810240"/>
          </a:xfrm>
        </p:grpSpPr>
        <p:sp>
          <p:nvSpPr>
            <p:cNvPr id="279" name=""/>
            <p:cNvSpPr/>
            <p:nvPr/>
          </p:nvSpPr>
          <p:spPr>
            <a:xfrm flipV="1">
              <a:off x="5714640" y="2431800"/>
              <a:ext cx="0" cy="1447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14640" y="4260960"/>
              <a:ext cx="0" cy="19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67280" y="4108320"/>
              <a:ext cx="3047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4495320" y="410832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4495320" y="2965320"/>
              <a:ext cx="106668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495320" y="4260960"/>
              <a:ext cx="106668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43240" y="4260960"/>
              <a:ext cx="2133720" cy="19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5943240" y="2431800"/>
              <a:ext cx="1524240" cy="1447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aive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(each square on board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a queen the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y to place the res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the quee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-place the que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large is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ution space f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algorithm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4 * 63 * 62 *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676680" y="1676520"/>
          <a:ext cx="5315040" cy="4790520"/>
        </p:xfrm>
        <a:graphic>
          <a:graphicData uri="http://schemas.openxmlformats.org/drawingml/2006/table">
            <a:tbl>
              <a:tblPr/>
              <a:tblGrid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  <a:gridCol w="590760"/>
                <a:gridCol w="5904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etter algorithm id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ervation: In a work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, exactly 1 que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appear in ea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w and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colum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define a "choice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be valid placemen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a queen in 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ticular colum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large is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ution space now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 * 8 * 8 *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3676680" y="1676520"/>
          <a:ext cx="5315040" cy="4790520"/>
        </p:xfrm>
        <a:graphic>
          <a:graphicData uri="http://schemas.openxmlformats.org/drawingml/2006/table">
            <a:tbl>
              <a:tblPr/>
              <a:tblGrid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  <a:gridCol w="590760"/>
                <a:gridCol w="5904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people behind m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is someone behind me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k him/her how many people are behind him/h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they respond with a valu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n I will answe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+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is nobody behind me, I will answe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0" t="0" r="0" b="32658"/>
          <a:stretch/>
        </p:blipFill>
        <p:spPr>
          <a:xfrm>
            <a:off x="4038480" y="3591000"/>
            <a:ext cx="47260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hav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a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with the follow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lveQuee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a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a parameter and tries to place 8 queens on it saf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r method should stop exploring if it finds a solu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47600" y="1971720"/>
          <a:ext cx="8890200" cy="2676600"/>
        </p:xfrm>
        <a:graphic>
          <a:graphicData uri="http://schemas.openxmlformats.org/drawingml/2006/table">
            <a:tbl>
              <a:tblPr/>
              <a:tblGrid>
                <a:gridCol w="5918400"/>
                <a:gridCol w="2971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59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/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ar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siz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 empty bo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boolean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Saf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row, int colum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if queen can b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fely placed 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lac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row, int colum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ace queen 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mo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row, int colum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move queen from 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 display of bo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arches for a solution to the 8 queens problem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with this board, reporting the first result foun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solveQueens(Board boar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!explore(board, 1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No solution found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One solution is as follows: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boar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ly searches for a solution to 8 queens on thi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oard, starting with the given column, returning true if 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olution is found and storing that solution in the boar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: queens have been safely placed in columns 1 to (col-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explore(Board board, int co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ol &gt; board.size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ase case: all columns are plac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 case: place a queen in this colum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row = 1; row &lt;= board.size(); row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board.isSafe(row, col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ard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ow, col);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lo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board, col + 1)) {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olution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ow, col);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solution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on and ca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recursive algorithm involves at least 2 ca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ase ca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simple occurrence that can be answered direct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cursive ca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more complex occurrence of the problem that cannot be directly answered, but can instead be described in terms of smaller occurrences of the same probl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recursive algorithms have more than one base or recursive case, but all have at least one of each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rucial part of recursive programming is identifying these ca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recursive tas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can we remove exactly half of the M&amp;M's in a large bowl, without dumping them all out or being able to count th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f multiple people help out with solving the problem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each person do a small part of the work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a number of M&amp;M'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t is easy to double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n if you can't count?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What is a "base case"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724280" y="38862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on in Jav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method to print a line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haract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a line containing the given number of st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n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nd the line of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version of this method (that calls itself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ve the problem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without using any loop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nt: Your solution should print just one star at a t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01Z</dcterms:modified>
  <cp:revision>314</cp:revision>
  <dc:subject/>
  <dc:title>CSE 142 Python Slides</dc:title>
</cp:coreProperties>
</file>