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F590-5D98-4E6A-A85C-E2B18D637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on of looping over a collection while modifying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on of not destroying a stack while examining it (write 1st version that destroys stack, 2nd version puts it ba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ogy: trays of food at the sizz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ing each element once is li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ouldn't want me to just throw your exam in the garbage as I read it, would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ogy: trays of food at the sizz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4206-284F-40EF-BF1F-95882B315B5D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4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cks and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an input file of exam scores in reverse ABC ord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eilding      Janet      8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te         Steven     8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odd          Kim        5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ashev        Sylvia     9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code to print the exam scores in ABC order using a stac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f we want to further process the exams after printing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ahoma"/>
              </a:rPr>
              <a:t>What happened to my stack?</a:t>
            </a:r>
            <a:endParaRPr b="1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're asked to 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Stack of integers and returns the largest integer in the stac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following solution is seemingly correc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s.size() &gt; 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x(Stack&lt;Integer&gt; 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maxValue = s.pop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!s.isEmpty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ext = s.pop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xValue = Math.max(maxValue, nex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axValu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 is correct, but what is wrong with the cod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ahoma"/>
              </a:rPr>
              <a:t>What happened to my stack?</a:t>
            </a:r>
            <a:endParaRPr b="1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destroys the stack in figuring out its answ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fix this, you must save and restore the stack's content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x(Stack&lt;Integer&gt; 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ck&lt;Integer&gt; backup = new Stack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maxValue = s.pop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ackup.push(max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!s.isEmpty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ext = s.pop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ackup.push(nex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xValue = Math.max(maxValue, nex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 (!backup.isEmpty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.push(backup.pop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axValu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194400" indent="-194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que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trieves elements in the order they were add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-In, First-Out ("FIFO"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ments are stored in order of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ertion but don't have index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ent can only add to the end of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eue, and can only examine/remov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front of the que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94400" indent="-194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queue oper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enqueue): Add an element to the bac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dequeue): Remove the front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Examine the front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91320" y="1914480"/>
            <a:ext cx="3352680" cy="2044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210200" y="4114800"/>
            <a:ext cx="48574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ues in computer sci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ng syste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eue of print jobs to send to the prin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eue of programs / processes to be ru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eue of network data packets to se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m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eling a line of customers or cli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ing a queue of computations to be performed in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world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ople on an escalator or waiting in a 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rs at a gas station (or on an assembly lin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ming with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Queu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6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ueue&lt;Integer&gt; q = new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LinkedLi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.add(4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.add(-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.add(17);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ront [42, -3, 17] b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q.remove()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MPORTA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When constructing a queue you must use a ne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instead of a ne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77240" indent="-148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has to do with a topic we'll discuss later calle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nterfa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295280"/>
          <a:ext cx="8321760" cy="2374920"/>
        </p:xfrm>
        <a:graphic>
          <a:graphicData uri="http://schemas.openxmlformats.org/drawingml/2006/table">
            <a:tbl>
              <a:tblPr/>
              <a:tblGrid>
                <a:gridCol w="1717920"/>
                <a:gridCol w="6603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ces given value at back of que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value from front of queue and returns i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hrow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SuchElement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queue is emp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eek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front value from queue without removing i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u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queue is emp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number of elements in que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Empty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queue has no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1" name=""/>
          <p:cNvGrpSpPr/>
          <p:nvPr/>
        </p:nvGrpSpPr>
        <p:grpSpPr>
          <a:xfrm>
            <a:off x="4343400" y="4191120"/>
            <a:ext cx="914040" cy="380880"/>
            <a:chOff x="4343400" y="4191120"/>
            <a:chExt cx="914040" cy="380880"/>
          </a:xfrm>
        </p:grpSpPr>
        <p:sp>
          <p:nvSpPr>
            <p:cNvPr id="132" name=""/>
            <p:cNvSpPr/>
            <p:nvPr/>
          </p:nvSpPr>
          <p:spPr>
            <a:xfrm flipV="1">
              <a:off x="4343400" y="419112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4800600" y="4191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5028840" y="419112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ue idio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with stacks, must pull contents out of queue to view th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!q.isEmpty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o something wi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q.remov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other idiom: Examining each element exactly o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size = q.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size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o something wi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q.remov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including possibly re-adding it to the queu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do we need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riabl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ixing stacks and que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often mix stacks and queues to achieve certain eff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Reverse the order of the elements of a que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&lt;Integer&gt; q = new LinkedList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.add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.add(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.add(3);           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1, 2, 3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ck&lt;Integer&gt; s = new Stack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!q.isEmpty()) {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Q -&gt; 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.push(q.remov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!s.isEmpty()) {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 -&gt; Q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.add(s.pop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q);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3, 2, 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our exam score program so that it reads the exam scores into a queue and prints the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xt, filter out any exams where the student got a score of 10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perform your previous code of reversing and printing the remaining stud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f we want to further process the exams after print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ut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queue of integers as a parameter and replaces every element of the queue with two copies of that el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[1, 2, 3] back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com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[1, 1, 2, 2, 3, 3] bac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irr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queue of strings as a parameter and appends the queue's contents to itself in reverse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[a, b, c] back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com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[a, b, c, c, b, a] bac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time Efficiency (13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easure of the use of computing resources by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relative to speed (time), memory (space), et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st commonly refers to run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y single Java statement takes the same amount of time to ru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ethod call's runtime is measured by the total of the statements inside the method's bod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oop's runtime, if the loop repeats N times, is N times the runtime of the statements in its bod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ck/queue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ostfix express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mathematical expression but with the operators written after the operands rather than befo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+ 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come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 1 +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+ 2 * 3 + 4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come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 2 3 * + 4 +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pported by many kinds of fancy calculato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ver need to use parenthe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ver need to use an = character to evaluate on a calculat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stfixEvalu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postfix expression string, evaluates it, and returns the resul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operands are integers; legal operators 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stFixEvaluate("5 2 4 * + 7 -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stfix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lgorithm: Use 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 see an operand, push it onto the stac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 see an operato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p the last two operands off of the stac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y the operator to th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sh the result onto the stac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're done, the one remaining stack element is the resul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5 2 4 * + 7 -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762120" y="472428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1676520" y="472428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2590920" y="472428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3505320" y="472932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419720" y="472428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334120" y="472428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6248520" y="472428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valuates the given prefix expression and returns its resul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condition: string represents a legal postfix expres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postfixEvaluate(String expression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ck&lt;Integer&gt; s = new Stack&lt;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expressio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Int()) {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operand (integ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push(input.nextInt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   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opera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operator = input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operand2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pop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operand1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pop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operator.equals("+"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.push(operand1 + operand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operator.equals("-"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.push(operand1 - operand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operator.equals("*"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.push(operand1 * operand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.push(operand1 / operand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pop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ck/queue motiv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it is good to have a collection that is less powerful, but is optimized to perform certain operations very quick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cks and queues do few things, but they do them efficient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26880" y="3373560"/>
            <a:ext cx="2797200" cy="2604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340640" y="595800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533760" y="4724280"/>
            <a:ext cx="5384880" cy="1602000"/>
            <a:chOff x="3533760" y="4724280"/>
            <a:chExt cx="5384880" cy="1602000"/>
          </a:xfrm>
        </p:grpSpPr>
        <p:sp>
          <p:nvSpPr>
            <p:cNvPr id="161" name=""/>
            <p:cNvSpPr/>
            <p:nvPr/>
          </p:nvSpPr>
          <p:spPr>
            <a:xfrm>
              <a:off x="5667480" y="595800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3533760" y="4724280"/>
              <a:ext cx="5384880" cy="1216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80880" y="1909800"/>
          <a:ext cx="8382240" cy="4414680"/>
        </p:xfrm>
        <a:graphic>
          <a:graphicData uri="http://schemas.openxmlformats.org/drawingml/2006/table">
            <a:tbl>
              <a:tblPr/>
              <a:tblGrid>
                <a:gridCol w="2916360"/>
                <a:gridCol w="5465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ppends value at end of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erts given value at given index, shifting subsequent values 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ea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elements of the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first index where given value is found in list (-1 if not fou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value at given 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/returns value at given index, shifting subsequent values 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places value at given index with given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umber of elements in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tring representation of the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ch a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[3, 42, -7, 15]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operations are most/least efficient, and wh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cks and que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it is good to have a collection that is less powerful, but is optimized to perform certain operations very quick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day we will examine two specialty colle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c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Retrieves elements in the reverse of the order they were add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que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Retrieves elements in the same order they were add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6880" y="3772080"/>
            <a:ext cx="2797200" cy="2604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340640" y="635652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67480" y="57294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533760" y="4621320"/>
            <a:ext cx="538488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data types (ADTs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don't know exactly how a stack or queue is implemented, and we don't need 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just need to understand the idea of the collection and what operations it can perfor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808080"/>
                </a:solidFill>
                <a:latin typeface="Tahoma"/>
              </a:rPr>
              <a:t>(Stacks are usually implemented with arrays; queues are often implemented using another structure called a linked list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c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based on the principle of adding elements and retrieving them in the opposite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st-In, First-Out ("LIFO"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are stored in order of insertion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we do not think of them as having index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ient can only add/remove/examin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ast element added (the "top"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stack oper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us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dd an element to the to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o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move the top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Examine the top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315200" y="1981080"/>
            <a:ext cx="1386000" cy="2000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95880" y="4267080"/>
            <a:ext cx="249552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cks in computer sci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ming languages and compil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 calls are placed onto a stack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(call=push, return=pop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ilers use stacks to evaluate express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tching up related pairs of thing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nd out whether a string is a palindro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ine a file to see if its brace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other operators mat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vert "infix" expressions to "postfix" or "prefix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phisticated algorith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arching through a maze with "backtracking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ny programs use an "undo stack" of previous oper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781680" y="2346480"/>
          <a:ext cx="2092320" cy="1539720"/>
        </p:xfrm>
        <a:graphic>
          <a:graphicData uri="http://schemas.openxmlformats.org/drawingml/2006/table">
            <a:tbl>
              <a:tblPr/>
              <a:tblGrid>
                <a:gridCol w="1076400"/>
                <a:gridCol w="1015920"/>
              </a:tblGrid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ethod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 v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l va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a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ethod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 v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l va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a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ethod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 v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l va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a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ac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01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ck&lt;Integer&gt; s = new Stack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.push(4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.push(-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.push(17);        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ottom [42, -3, 17] t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s.pop());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1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0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-2430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c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s other methods, but we forbid you to use th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90480" y="1371600"/>
          <a:ext cx="7691400" cy="2739960"/>
        </p:xfrm>
        <a:graphic>
          <a:graphicData uri="http://schemas.openxmlformats.org/drawingml/2006/table">
            <a:tbl>
              <a:tblPr/>
              <a:tblGrid>
                <a:gridCol w="1869840"/>
                <a:gridCol w="5821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ack&lt;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structs a new stack with elements of typ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ush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ces given value on top of st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op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top value from stack and returns i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hrow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Stack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stack is emp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eek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op value from stack without removing i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hrow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Stack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stack is emp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number of elements in st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Empty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stack has no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ck limitations/idio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ember: You cannot loop over a stack in the usual w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ck&lt;Integer&gt; s = new Stack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s.size()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o something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.get(i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you must pull contents out of the stack to view th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mon idiom: Removing each element until the stack is empt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!s.isEmpty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o something wi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.pop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914400" y="2543040"/>
            <a:ext cx="5410080" cy="990360"/>
            <a:chOff x="914400" y="2543040"/>
            <a:chExt cx="5410080" cy="990360"/>
          </a:xfrm>
        </p:grpSpPr>
        <p:sp>
          <p:nvSpPr>
            <p:cNvPr id="114" name=""/>
            <p:cNvSpPr/>
            <p:nvPr/>
          </p:nvSpPr>
          <p:spPr>
            <a:xfrm>
              <a:off x="914400" y="2619000"/>
              <a:ext cx="541008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914400" y="2543040"/>
              <a:ext cx="541008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13Z</dcterms:modified>
  <cp:revision>155</cp:revision>
  <dc:subject/>
  <dc:title>CSE 142 Python Slides</dc:title>
</cp:coreProperties>
</file>