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05A4-FFA6-43AD-A326-131FDF316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finition of a tree shown here is recur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it be useful to have a trinary tree?  An N-ary tr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for some applications.  A T9 cell phone typing algorithm uses a 26-ary "prefix tree" or "Trie".  Databases often use N-ary trees for indexing for speed.  But we can do a lot with just two li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D6BA-B38D-4C70-9F10-0239CF30ACB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talk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o the node objects insid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rea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manipulate the nod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data and links between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562720" y="3395520"/>
            <a:ext cx="3504960" cy="3105360"/>
            <a:chOff x="5562720" y="3395520"/>
            <a:chExt cx="3504960" cy="3105360"/>
          </a:xfrm>
        </p:grpSpPr>
        <p:grpSp>
          <p:nvGrpSpPr>
            <p:cNvPr id="246" name=""/>
            <p:cNvGrpSpPr/>
            <p:nvPr/>
          </p:nvGrpSpPr>
          <p:grpSpPr>
            <a:xfrm>
              <a:off x="5715000" y="3413160"/>
              <a:ext cx="3200400" cy="2987640"/>
              <a:chOff x="5715000" y="3413160"/>
              <a:chExt cx="3200400" cy="2987640"/>
            </a:xfrm>
          </p:grpSpPr>
          <p:sp>
            <p:nvSpPr>
              <p:cNvPr id="247" name=""/>
              <p:cNvSpPr/>
              <p:nvPr/>
            </p:nvSpPr>
            <p:spPr>
              <a:xfrm>
                <a:off x="8404200" y="58723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5496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70760" y="4917960"/>
                <a:ext cx="51300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24680" y="4917960"/>
                <a:ext cx="51408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048440" y="40705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2" name=""/>
              <p:cNvCxnSpPr>
                <a:stCxn id="251" idx="3"/>
                <a:endCxn id="250" idx="0"/>
              </p:cNvCxnSpPr>
              <p:nvPr/>
            </p:nvCxnSpPr>
            <p:spPr>
              <a:xfrm flipH="1">
                <a:off x="638100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3" name=""/>
              <p:cNvCxnSpPr>
                <a:stCxn id="251" idx="5"/>
                <a:endCxn id="249" idx="0"/>
              </p:cNvCxnSpPr>
              <p:nvPr/>
            </p:nvCxnSpPr>
            <p:spPr>
              <a:xfrm>
                <a:off x="748476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4" name=""/>
              <p:cNvCxnSpPr>
                <a:stCxn id="249" idx="3"/>
                <a:endCxn id="248" idx="0"/>
              </p:cNvCxnSpPr>
              <p:nvPr/>
            </p:nvCxnSpPr>
            <p:spPr>
              <a:xfrm flipH="1">
                <a:off x="7811640" y="5389200"/>
                <a:ext cx="23400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5" name=""/>
              <p:cNvCxnSpPr>
                <a:stCxn id="249" idx="5"/>
                <a:endCxn id="247" idx="0"/>
              </p:cNvCxnSpPr>
              <p:nvPr/>
            </p:nvCxnSpPr>
            <p:spPr>
              <a:xfrm>
                <a:off x="8408520" y="5389200"/>
                <a:ext cx="25164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6" name=""/>
              <p:cNvSpPr/>
              <p:nvPr/>
            </p:nvSpPr>
            <p:spPr>
              <a:xfrm>
                <a:off x="6561000" y="5872320"/>
                <a:ext cx="5144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71500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8" name=""/>
              <p:cNvCxnSpPr>
                <a:stCxn id="250" idx="3"/>
                <a:endCxn id="257" idx="0"/>
              </p:cNvCxnSpPr>
              <p:nvPr/>
            </p:nvCxnSpPr>
            <p:spPr>
              <a:xfrm flipH="1">
                <a:off x="5971320" y="5396040"/>
                <a:ext cx="229320" cy="450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9" name=""/>
              <p:cNvCxnSpPr>
                <a:stCxn id="250" idx="5"/>
                <a:endCxn id="256" idx="0"/>
              </p:cNvCxnSpPr>
              <p:nvPr/>
            </p:nvCxnSpPr>
            <p:spPr>
              <a:xfrm>
                <a:off x="6562800" y="5389200"/>
                <a:ext cx="25596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60" name=""/>
              <p:cNvSpPr/>
              <p:nvPr/>
            </p:nvSpPr>
            <p:spPr>
              <a:xfrm>
                <a:off x="6531840" y="3413160"/>
                <a:ext cx="154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overallRoo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1" name=""/>
              <p:cNvCxnSpPr>
                <a:stCxn id="260" idx="2"/>
                <a:endCxn id="251" idx="0"/>
              </p:cNvCxnSpPr>
              <p:nvPr/>
            </p:nvCxnSpPr>
            <p:spPr>
              <a:xfrm>
                <a:off x="7302600" y="3809520"/>
                <a:ext cx="216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62" name=""/>
            <p:cNvSpPr/>
            <p:nvPr/>
          </p:nvSpPr>
          <p:spPr>
            <a:xfrm>
              <a:off x="5562720" y="3395520"/>
              <a:ext cx="3504960" cy="310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we have the following constru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TreeNode overallRoo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heigh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2nd constructor will create a tree and fill it with nodes with random data values from 1-100 until it is full at the given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 tree = new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791320" y="3505320"/>
            <a:ext cx="3200400" cy="2987640"/>
            <a:chOff x="5791320" y="3505320"/>
            <a:chExt cx="3200400" cy="2987640"/>
          </a:xfrm>
        </p:grpSpPr>
        <p:sp>
          <p:nvSpPr>
            <p:cNvPr id="266" name=""/>
            <p:cNvSpPr/>
            <p:nvPr/>
          </p:nvSpPr>
          <p:spPr>
            <a:xfrm>
              <a:off x="8480520" y="5964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128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47080" y="5010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01000" y="501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24760" y="4162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"/>
            <p:cNvCxnSpPr>
              <a:stCxn id="270" idx="3"/>
              <a:endCxn id="269" idx="0"/>
            </p:cNvCxnSpPr>
            <p:nvPr/>
          </p:nvCxnSpPr>
          <p:spPr>
            <a:xfrm flipH="1">
              <a:off x="645732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70" idx="5"/>
              <a:endCxn id="268" idx="0"/>
            </p:cNvCxnSpPr>
            <p:nvPr/>
          </p:nvCxnSpPr>
          <p:spPr>
            <a:xfrm>
              <a:off x="756108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" name=""/>
            <p:cNvCxnSpPr>
              <a:stCxn id="268" idx="3"/>
              <a:endCxn id="267" idx="0"/>
            </p:cNvCxnSpPr>
            <p:nvPr/>
          </p:nvCxnSpPr>
          <p:spPr>
            <a:xfrm flipH="1">
              <a:off x="7887960" y="5481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" name=""/>
            <p:cNvCxnSpPr>
              <a:stCxn id="268" idx="5"/>
              <a:endCxn id="266" idx="0"/>
            </p:cNvCxnSpPr>
            <p:nvPr/>
          </p:nvCxnSpPr>
          <p:spPr>
            <a:xfrm>
              <a:off x="8484840" y="5481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6637320" y="5964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132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"/>
            <p:cNvCxnSpPr>
              <a:stCxn id="269" idx="3"/>
              <a:endCxn id="276" idx="0"/>
            </p:cNvCxnSpPr>
            <p:nvPr/>
          </p:nvCxnSpPr>
          <p:spPr>
            <a:xfrm flipH="1">
              <a:off x="6047640" y="5488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69" idx="5"/>
              <a:endCxn id="275" idx="0"/>
            </p:cNvCxnSpPr>
            <p:nvPr/>
          </p:nvCxnSpPr>
          <p:spPr>
            <a:xfrm>
              <a:off x="6639120" y="5481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9" name=""/>
            <p:cNvSpPr/>
            <p:nvPr/>
          </p:nvSpPr>
          <p:spPr>
            <a:xfrm>
              <a:off x="6608160" y="3505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"/>
            <p:cNvCxnSpPr>
              <a:stCxn id="279" idx="2"/>
              <a:endCxn id="270" idx="0"/>
            </p:cNvCxnSpPr>
            <p:nvPr/>
          </p:nvCxnSpPr>
          <p:spPr>
            <a:xfrm>
              <a:off x="7378920" y="3901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elements of the tree, separated by sp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's left subtree should be printed before it, and its right subtree should be printed after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791320" y="3565440"/>
            <a:ext cx="3200400" cy="2987640"/>
            <a:chOff x="5791320" y="3565440"/>
            <a:chExt cx="3200400" cy="2987640"/>
          </a:xfrm>
        </p:grpSpPr>
        <p:sp>
          <p:nvSpPr>
            <p:cNvPr id="284" name=""/>
            <p:cNvSpPr/>
            <p:nvPr/>
          </p:nvSpPr>
          <p:spPr>
            <a:xfrm>
              <a:off x="8480520" y="6024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3128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47080" y="507024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01000" y="507024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24760" y="42228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"/>
            <p:cNvCxnSpPr>
              <a:stCxn id="288" idx="3"/>
              <a:endCxn id="287" idx="0"/>
            </p:cNvCxnSpPr>
            <p:nvPr/>
          </p:nvCxnSpPr>
          <p:spPr>
            <a:xfrm flipH="1">
              <a:off x="645732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0" name=""/>
            <p:cNvCxnSpPr>
              <a:stCxn id="288" idx="5"/>
              <a:endCxn id="286" idx="0"/>
            </p:cNvCxnSpPr>
            <p:nvPr/>
          </p:nvCxnSpPr>
          <p:spPr>
            <a:xfrm>
              <a:off x="756108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6" idx="3"/>
              <a:endCxn id="285" idx="0"/>
            </p:cNvCxnSpPr>
            <p:nvPr/>
          </p:nvCxnSpPr>
          <p:spPr>
            <a:xfrm flipH="1">
              <a:off x="7887960" y="554148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86" idx="5"/>
              <a:endCxn id="284" idx="0"/>
            </p:cNvCxnSpPr>
            <p:nvPr/>
          </p:nvCxnSpPr>
          <p:spPr>
            <a:xfrm>
              <a:off x="8484840" y="554148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6637320" y="6024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9132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5" name=""/>
            <p:cNvCxnSpPr>
              <a:stCxn id="287" idx="3"/>
              <a:endCxn id="294" idx="0"/>
            </p:cNvCxnSpPr>
            <p:nvPr/>
          </p:nvCxnSpPr>
          <p:spPr>
            <a:xfrm flipH="1">
              <a:off x="6047640" y="5548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87" idx="5"/>
              <a:endCxn id="293" idx="0"/>
            </p:cNvCxnSpPr>
            <p:nvPr/>
          </p:nvCxnSpPr>
          <p:spPr>
            <a:xfrm>
              <a:off x="6639120" y="554148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"/>
            <p:cNvSpPr/>
            <p:nvPr/>
          </p:nvSpPr>
          <p:spPr>
            <a:xfrm>
              <a:off x="6608160" y="356544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"/>
            <p:cNvCxnSpPr>
              <a:stCxn id="297" idx="2"/>
              <a:endCxn id="288" idx="0"/>
            </p:cNvCxnSpPr>
            <p:nvPr/>
          </p:nvCxnSpPr>
          <p:spPr>
            <a:xfrm>
              <a:off x="7378920" y="396180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i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print(IntTreeNode roo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(base case is implicitly to do nothing on nul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rint left, center,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lef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overallRoot.data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mplate for tre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name(overall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IntTreeNode 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 methods are often implemented recurs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a public/private pai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ivate version accepts the root node to pro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the elements of a tre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ttern used in many tree algorithms and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orderings for travers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e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root node, then its left/right subtre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 subtree, then root node, then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st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/right subtrees, then roo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019920" y="4343400"/>
            <a:ext cx="2590200" cy="2252160"/>
            <a:chOff x="6019920" y="4343400"/>
            <a:chExt cx="2590200" cy="2252160"/>
          </a:xfrm>
        </p:grpSpPr>
        <p:sp>
          <p:nvSpPr>
            <p:cNvPr id="306" name=""/>
            <p:cNvSpPr/>
            <p:nvPr/>
          </p:nvSpPr>
          <p:spPr>
            <a:xfrm>
              <a:off x="8196480" y="618804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0924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45840" y="5451480"/>
              <a:ext cx="41508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51480" y="5451480"/>
              <a:ext cx="41580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99200" y="479772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1" name=""/>
            <p:cNvCxnSpPr>
              <a:stCxn id="310" idx="3"/>
              <a:endCxn id="309" idx="0"/>
            </p:cNvCxnSpPr>
            <p:nvPr/>
          </p:nvCxnSpPr>
          <p:spPr>
            <a:xfrm flipH="1">
              <a:off x="655920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0" idx="5"/>
              <a:endCxn id="308" idx="0"/>
            </p:cNvCxnSpPr>
            <p:nvPr/>
          </p:nvCxnSpPr>
          <p:spPr>
            <a:xfrm>
              <a:off x="745272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"/>
            <p:cNvCxnSpPr>
              <a:stCxn id="308" idx="3"/>
              <a:endCxn id="307" idx="0"/>
            </p:cNvCxnSpPr>
            <p:nvPr/>
          </p:nvCxnSpPr>
          <p:spPr>
            <a:xfrm flipH="1">
              <a:off x="7716960" y="5815440"/>
              <a:ext cx="189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08" idx="5"/>
              <a:endCxn id="306" idx="0"/>
            </p:cNvCxnSpPr>
            <p:nvPr/>
          </p:nvCxnSpPr>
          <p:spPr>
            <a:xfrm>
              <a:off x="8200440" y="5815440"/>
              <a:ext cx="2037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6704640" y="6188040"/>
              <a:ext cx="41616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1992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7" name=""/>
            <p:cNvCxnSpPr>
              <a:stCxn id="309" idx="3"/>
              <a:endCxn id="316" idx="0"/>
            </p:cNvCxnSpPr>
            <p:nvPr/>
          </p:nvCxnSpPr>
          <p:spPr>
            <a:xfrm flipH="1">
              <a:off x="6227280" y="5820120"/>
              <a:ext cx="1857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"/>
            <p:cNvCxnSpPr>
              <a:stCxn id="309" idx="5"/>
              <a:endCxn id="315" idx="0"/>
            </p:cNvCxnSpPr>
            <p:nvPr/>
          </p:nvCxnSpPr>
          <p:spPr>
            <a:xfrm>
              <a:off x="6706080" y="5815440"/>
              <a:ext cx="207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9" name=""/>
            <p:cNvSpPr/>
            <p:nvPr/>
          </p:nvSpPr>
          <p:spPr>
            <a:xfrm>
              <a:off x="6693120" y="4343400"/>
              <a:ext cx="12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0" name=""/>
            <p:cNvCxnSpPr>
              <a:stCxn id="319" idx="2"/>
              <a:endCxn id="310" idx="0"/>
            </p:cNvCxnSpPr>
            <p:nvPr/>
          </p:nvCxnSpPr>
          <p:spPr>
            <a:xfrm>
              <a:off x="7304400" y="4596120"/>
              <a:ext cx="1800" cy="18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7 41 29 6 9 81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6 41 81 40 9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71800" y="1219320"/>
            <a:ext cx="3200400" cy="2987640"/>
            <a:chOff x="2971800" y="1219320"/>
            <a:chExt cx="3200400" cy="2987640"/>
          </a:xfrm>
        </p:grpSpPr>
        <p:sp>
          <p:nvSpPr>
            <p:cNvPr id="324" name=""/>
            <p:cNvSpPr/>
            <p:nvPr/>
          </p:nvSpPr>
          <p:spPr>
            <a:xfrm>
              <a:off x="566100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1176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756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8148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0524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"/>
            <p:cNvCxnSpPr>
              <a:stCxn id="328" idx="3"/>
              <a:endCxn id="327" idx="0"/>
            </p:cNvCxnSpPr>
            <p:nvPr/>
          </p:nvCxnSpPr>
          <p:spPr>
            <a:xfrm flipH="1">
              <a:off x="363780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328" idx="5"/>
              <a:endCxn id="326" idx="0"/>
            </p:cNvCxnSpPr>
            <p:nvPr/>
          </p:nvCxnSpPr>
          <p:spPr>
            <a:xfrm>
              <a:off x="474156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1" name=""/>
            <p:cNvCxnSpPr>
              <a:stCxn id="326" idx="3"/>
              <a:endCxn id="325" idx="0"/>
            </p:cNvCxnSpPr>
            <p:nvPr/>
          </p:nvCxnSpPr>
          <p:spPr>
            <a:xfrm flipH="1">
              <a:off x="506844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2" name=""/>
            <p:cNvCxnSpPr>
              <a:stCxn id="326" idx="5"/>
              <a:endCxn id="324" idx="0"/>
            </p:cNvCxnSpPr>
            <p:nvPr/>
          </p:nvCxnSpPr>
          <p:spPr>
            <a:xfrm>
              <a:off x="566532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3" name=""/>
            <p:cNvSpPr/>
            <p:nvPr/>
          </p:nvSpPr>
          <p:spPr>
            <a:xfrm>
              <a:off x="381780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7180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5" name=""/>
            <p:cNvCxnSpPr>
              <a:stCxn id="327" idx="3"/>
              <a:endCxn id="334" idx="0"/>
            </p:cNvCxnSpPr>
            <p:nvPr/>
          </p:nvCxnSpPr>
          <p:spPr>
            <a:xfrm flipH="1">
              <a:off x="322812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6" name=""/>
            <p:cNvCxnSpPr>
              <a:stCxn id="327" idx="5"/>
              <a:endCxn id="333" idx="0"/>
            </p:cNvCxnSpPr>
            <p:nvPr/>
          </p:nvCxnSpPr>
          <p:spPr>
            <a:xfrm>
              <a:off x="381960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7" name=""/>
            <p:cNvSpPr/>
            <p:nvPr/>
          </p:nvSpPr>
          <p:spPr>
            <a:xfrm>
              <a:off x="378864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8" name=""/>
            <p:cNvCxnSpPr>
              <a:stCxn id="337" idx="2"/>
              <a:endCxn id="328" idx="0"/>
            </p:cNvCxnSpPr>
            <p:nvPr/>
          </p:nvCxnSpPr>
          <p:spPr>
            <a:xfrm>
              <a:off x="455940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tri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quickly generate a travers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ce a path around the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you pass a node on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per side, proces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-order: lef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-order: bott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-order: righ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 41  29  6  9  81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41  6  17  81  9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6  41  81  40  9 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410080" y="1219320"/>
            <a:ext cx="3200400" cy="2987640"/>
            <a:chOff x="5410080" y="1219320"/>
            <a:chExt cx="3200400" cy="2987640"/>
          </a:xfrm>
        </p:grpSpPr>
        <p:sp>
          <p:nvSpPr>
            <p:cNvPr id="342" name=""/>
            <p:cNvSpPr/>
            <p:nvPr/>
          </p:nvSpPr>
          <p:spPr>
            <a:xfrm>
              <a:off x="809928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5004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6584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1976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352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7" name=""/>
            <p:cNvCxnSpPr>
              <a:stCxn id="346" idx="3"/>
              <a:endCxn id="345" idx="0"/>
            </p:cNvCxnSpPr>
            <p:nvPr/>
          </p:nvCxnSpPr>
          <p:spPr>
            <a:xfrm flipH="1">
              <a:off x="607608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" name=""/>
            <p:cNvCxnSpPr>
              <a:stCxn id="346" idx="5"/>
              <a:endCxn id="344" idx="0"/>
            </p:cNvCxnSpPr>
            <p:nvPr/>
          </p:nvCxnSpPr>
          <p:spPr>
            <a:xfrm>
              <a:off x="717984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9" name=""/>
            <p:cNvCxnSpPr>
              <a:stCxn id="344" idx="3"/>
              <a:endCxn id="343" idx="0"/>
            </p:cNvCxnSpPr>
            <p:nvPr/>
          </p:nvCxnSpPr>
          <p:spPr>
            <a:xfrm flipH="1">
              <a:off x="750672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0" name=""/>
            <p:cNvCxnSpPr>
              <a:stCxn id="344" idx="5"/>
              <a:endCxn id="342" idx="0"/>
            </p:cNvCxnSpPr>
            <p:nvPr/>
          </p:nvCxnSpPr>
          <p:spPr>
            <a:xfrm>
              <a:off x="810360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" name=""/>
            <p:cNvSpPr/>
            <p:nvPr/>
          </p:nvSpPr>
          <p:spPr>
            <a:xfrm>
              <a:off x="625608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008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3" name=""/>
            <p:cNvCxnSpPr>
              <a:stCxn id="345" idx="3"/>
              <a:endCxn id="352" idx="0"/>
            </p:cNvCxnSpPr>
            <p:nvPr/>
          </p:nvCxnSpPr>
          <p:spPr>
            <a:xfrm flipH="1">
              <a:off x="566640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4" name=""/>
            <p:cNvCxnSpPr>
              <a:stCxn id="345" idx="5"/>
              <a:endCxn id="351" idx="0"/>
            </p:cNvCxnSpPr>
            <p:nvPr/>
          </p:nvCxnSpPr>
          <p:spPr>
            <a:xfrm>
              <a:off x="625788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5" name=""/>
            <p:cNvSpPr/>
            <p:nvPr/>
          </p:nvSpPr>
          <p:spPr>
            <a:xfrm>
              <a:off x="622692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6" name=""/>
            <p:cNvCxnSpPr>
              <a:stCxn id="355" idx="2"/>
              <a:endCxn id="346" idx="0"/>
            </p:cNvCxnSpPr>
            <p:nvPr/>
          </p:nvCxnSpPr>
          <p:spPr>
            <a:xfrm>
              <a:off x="699768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57" name=""/>
          <p:cNvSpPr/>
          <p:nvPr/>
        </p:nvSpPr>
        <p:spPr>
          <a:xfrm>
            <a:off x="5334120" y="1636560"/>
            <a:ext cx="3348000" cy="2743200"/>
          </a:xfrm>
          <a:custGeom>
            <a:avLst/>
            <a:gdLst/>
            <a:ahLst/>
            <a:rect l="l" t="t" r="r" b="b"/>
            <a:pathLst>
              <a:path w="2109" h="1728">
                <a:moveTo>
                  <a:pt x="809" y="11"/>
                </a:moveTo>
                <a:lnTo>
                  <a:pt x="804" y="368"/>
                </a:lnTo>
                <a:lnTo>
                  <a:pt x="217" y="730"/>
                </a:lnTo>
                <a:lnTo>
                  <a:pt x="217" y="1004"/>
                </a:lnTo>
                <a:lnTo>
                  <a:pt x="0" y="1344"/>
                </a:lnTo>
                <a:lnTo>
                  <a:pt x="0" y="1635"/>
                </a:lnTo>
                <a:lnTo>
                  <a:pt x="137" y="1723"/>
                </a:lnTo>
                <a:lnTo>
                  <a:pt x="307" y="1723"/>
                </a:lnTo>
                <a:lnTo>
                  <a:pt x="412" y="1624"/>
                </a:lnTo>
                <a:lnTo>
                  <a:pt x="406" y="1076"/>
                </a:lnTo>
                <a:lnTo>
                  <a:pt x="543" y="1081"/>
                </a:lnTo>
                <a:lnTo>
                  <a:pt x="554" y="1619"/>
                </a:lnTo>
                <a:lnTo>
                  <a:pt x="670" y="1717"/>
                </a:lnTo>
                <a:lnTo>
                  <a:pt x="845" y="1717"/>
                </a:lnTo>
                <a:lnTo>
                  <a:pt x="960" y="1624"/>
                </a:lnTo>
                <a:lnTo>
                  <a:pt x="966" y="1355"/>
                </a:lnTo>
                <a:lnTo>
                  <a:pt x="697" y="993"/>
                </a:lnTo>
                <a:lnTo>
                  <a:pt x="697" y="730"/>
                </a:lnTo>
                <a:lnTo>
                  <a:pt x="960" y="543"/>
                </a:lnTo>
                <a:lnTo>
                  <a:pt x="1158" y="543"/>
                </a:lnTo>
                <a:lnTo>
                  <a:pt x="1427" y="675"/>
                </a:lnTo>
                <a:lnTo>
                  <a:pt x="1427" y="960"/>
                </a:lnTo>
                <a:lnTo>
                  <a:pt x="1174" y="1355"/>
                </a:lnTo>
                <a:lnTo>
                  <a:pt x="1169" y="1624"/>
                </a:lnTo>
                <a:lnTo>
                  <a:pt x="1295" y="1717"/>
                </a:lnTo>
                <a:lnTo>
                  <a:pt x="1451" y="1717"/>
                </a:lnTo>
                <a:lnTo>
                  <a:pt x="1572" y="1652"/>
                </a:lnTo>
                <a:lnTo>
                  <a:pt x="1572" y="1070"/>
                </a:lnTo>
                <a:lnTo>
                  <a:pt x="1714" y="1070"/>
                </a:lnTo>
                <a:lnTo>
                  <a:pt x="1714" y="1646"/>
                </a:lnTo>
                <a:lnTo>
                  <a:pt x="1824" y="1728"/>
                </a:lnTo>
                <a:lnTo>
                  <a:pt x="1994" y="1728"/>
                </a:lnTo>
                <a:lnTo>
                  <a:pt x="2109" y="1624"/>
                </a:lnTo>
                <a:lnTo>
                  <a:pt x="2109" y="1328"/>
                </a:lnTo>
                <a:lnTo>
                  <a:pt x="1851" y="1010"/>
                </a:lnTo>
                <a:lnTo>
                  <a:pt x="1851" y="708"/>
                </a:lnTo>
                <a:lnTo>
                  <a:pt x="1270" y="379"/>
                </a:lnTo>
                <a:lnTo>
                  <a:pt x="1270" y="0"/>
                </a:lnTo>
              </a:path>
            </a:pathLst>
          </a:custGeom>
          <a:noFill/>
          <a:ln w="507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pre-, in-, and post-or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rsals for the following tre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2 15 27 48 9 86 12 5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 48 27 42 86 5 12 9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t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8 27 15 5 12 86 39 3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156280" y="1143000"/>
            <a:ext cx="3606840" cy="4795920"/>
            <a:chOff x="5156280" y="1143000"/>
            <a:chExt cx="3606840" cy="4795920"/>
          </a:xfrm>
        </p:grpSpPr>
        <p:sp>
          <p:nvSpPr>
            <p:cNvPr id="361" name=""/>
            <p:cNvSpPr/>
            <p:nvPr/>
          </p:nvSpPr>
          <p:spPr>
            <a:xfrm>
              <a:off x="7740720" y="36021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86560" y="360216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02720" y="264780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6280" y="26478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0400" y="18003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6" name=""/>
            <p:cNvCxnSpPr>
              <a:stCxn id="365" idx="3"/>
              <a:endCxn id="364" idx="0"/>
            </p:cNvCxnSpPr>
            <p:nvPr/>
          </p:nvCxnSpPr>
          <p:spPr>
            <a:xfrm flipH="1">
              <a:off x="541296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7" name=""/>
            <p:cNvCxnSpPr>
              <a:stCxn id="365" idx="5"/>
              <a:endCxn id="363" idx="0"/>
            </p:cNvCxnSpPr>
            <p:nvPr/>
          </p:nvCxnSpPr>
          <p:spPr>
            <a:xfrm>
              <a:off x="651672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"/>
            <p:cNvCxnSpPr>
              <a:stCxn id="363" idx="3"/>
              <a:endCxn id="362" idx="0"/>
            </p:cNvCxnSpPr>
            <p:nvPr/>
          </p:nvCxnSpPr>
          <p:spPr>
            <a:xfrm flipH="1">
              <a:off x="6843600" y="311904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63" idx="5"/>
              <a:endCxn id="361" idx="0"/>
            </p:cNvCxnSpPr>
            <p:nvPr/>
          </p:nvCxnSpPr>
          <p:spPr>
            <a:xfrm>
              <a:off x="7440480" y="3117960"/>
              <a:ext cx="55620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0" name=""/>
            <p:cNvSpPr/>
            <p:nvPr/>
          </p:nvSpPr>
          <p:spPr>
            <a:xfrm>
              <a:off x="5592960" y="360216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3800" y="45115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"/>
            <p:cNvCxnSpPr>
              <a:stCxn id="370" idx="3"/>
              <a:endCxn id="371" idx="0"/>
            </p:cNvCxnSpPr>
            <p:nvPr/>
          </p:nvCxnSpPr>
          <p:spPr>
            <a:xfrm flipH="1">
              <a:off x="5460480" y="4071600"/>
              <a:ext cx="20700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3" name=""/>
            <p:cNvCxnSpPr>
              <a:stCxn id="364" idx="5"/>
              <a:endCxn id="370" idx="0"/>
            </p:cNvCxnSpPr>
            <p:nvPr/>
          </p:nvCxnSpPr>
          <p:spPr>
            <a:xfrm>
              <a:off x="5594400" y="311904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5563440" y="114300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5" name=""/>
            <p:cNvCxnSpPr>
              <a:stCxn id="374" idx="2"/>
              <a:endCxn id="365" idx="0"/>
            </p:cNvCxnSpPr>
            <p:nvPr/>
          </p:nvCxnSpPr>
          <p:spPr>
            <a:xfrm>
              <a:off x="6333840" y="1539360"/>
              <a:ext cx="252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6" name=""/>
            <p:cNvSpPr/>
            <p:nvPr/>
          </p:nvSpPr>
          <p:spPr>
            <a:xfrm>
              <a:off x="695664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7" name=""/>
            <p:cNvCxnSpPr>
              <a:stCxn id="362" idx="5"/>
              <a:endCxn id="376" idx="0"/>
            </p:cNvCxnSpPr>
            <p:nvPr/>
          </p:nvCxnSpPr>
          <p:spPr>
            <a:xfrm>
              <a:off x="7024320" y="4071600"/>
              <a:ext cx="18828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8" name=""/>
            <p:cNvSpPr/>
            <p:nvPr/>
          </p:nvSpPr>
          <p:spPr>
            <a:xfrm>
              <a:off x="825192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9" name=""/>
            <p:cNvCxnSpPr>
              <a:stCxn id="361" idx="5"/>
              <a:endCxn id="378" idx="0"/>
            </p:cNvCxnSpPr>
            <p:nvPr/>
          </p:nvCxnSpPr>
          <p:spPr>
            <a:xfrm>
              <a:off x="8177040" y="4071600"/>
              <a:ext cx="33084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0" name=""/>
            <p:cNvSpPr/>
            <p:nvPr/>
          </p:nvSpPr>
          <p:spPr>
            <a:xfrm>
              <a:off x="6575400" y="54100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"/>
            <p:cNvCxnSpPr>
              <a:stCxn id="376" idx="3"/>
              <a:endCxn id="380" idx="0"/>
            </p:cNvCxnSpPr>
            <p:nvPr/>
          </p:nvCxnSpPr>
          <p:spPr>
            <a:xfrm flipH="1">
              <a:off x="6830640" y="4981320"/>
              <a:ext cx="200880" cy="41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Side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tree in a sideways indented format, with right nodes above roots above left nodes, with each level 4 spaces more indented than the one abov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utput from the tree below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667480" y="3489480"/>
            <a:ext cx="2790720" cy="2987640"/>
            <a:chOff x="5667480" y="3489480"/>
            <a:chExt cx="2790720" cy="2987640"/>
          </a:xfrm>
        </p:grpSpPr>
        <p:sp>
          <p:nvSpPr>
            <p:cNvPr id="385" name=""/>
            <p:cNvSpPr/>
            <p:nvPr/>
          </p:nvSpPr>
          <p:spPr>
            <a:xfrm>
              <a:off x="794700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9776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13560" y="499428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67480" y="499428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91240" y="41464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0" name=""/>
            <p:cNvCxnSpPr>
              <a:stCxn id="389" idx="3"/>
              <a:endCxn id="388" idx="0"/>
            </p:cNvCxnSpPr>
            <p:nvPr/>
          </p:nvCxnSpPr>
          <p:spPr>
            <a:xfrm flipH="1">
              <a:off x="592380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1" name=""/>
            <p:cNvCxnSpPr>
              <a:stCxn id="389" idx="5"/>
              <a:endCxn id="387" idx="0"/>
            </p:cNvCxnSpPr>
            <p:nvPr/>
          </p:nvCxnSpPr>
          <p:spPr>
            <a:xfrm>
              <a:off x="702756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2" name=""/>
            <p:cNvCxnSpPr>
              <a:stCxn id="387" idx="3"/>
              <a:endCxn id="386" idx="0"/>
            </p:cNvCxnSpPr>
            <p:nvPr/>
          </p:nvCxnSpPr>
          <p:spPr>
            <a:xfrm flipH="1">
              <a:off x="7354440" y="546552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3" name=""/>
            <p:cNvCxnSpPr>
              <a:stCxn id="387" idx="5"/>
              <a:endCxn id="385" idx="0"/>
            </p:cNvCxnSpPr>
            <p:nvPr/>
          </p:nvCxnSpPr>
          <p:spPr>
            <a:xfrm>
              <a:off x="795132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4" name=""/>
            <p:cNvSpPr/>
            <p:nvPr/>
          </p:nvSpPr>
          <p:spPr>
            <a:xfrm>
              <a:off x="6103800" y="594828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5" name=""/>
            <p:cNvCxnSpPr>
              <a:stCxn id="388" idx="5"/>
              <a:endCxn id="394" idx="0"/>
            </p:cNvCxnSpPr>
            <p:nvPr/>
          </p:nvCxnSpPr>
          <p:spPr>
            <a:xfrm>
              <a:off x="6105600" y="546552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6" name=""/>
            <p:cNvSpPr/>
            <p:nvPr/>
          </p:nvSpPr>
          <p:spPr>
            <a:xfrm>
              <a:off x="6069240" y="34894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"/>
            <p:cNvCxnSpPr>
              <a:stCxn id="396" idx="2"/>
              <a:endCxn id="389" idx="0"/>
            </p:cNvCxnSpPr>
            <p:nvPr/>
          </p:nvCxnSpPr>
          <p:spPr>
            <a:xfrm>
              <a:off x="6845400" y="388620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8" name=""/>
          <p:cNvSpPr/>
          <p:nvPr/>
        </p:nvSpPr>
        <p:spPr>
          <a:xfrm>
            <a:off x="1338120" y="3886200"/>
            <a:ext cx="2009520" cy="26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ve use of arrays/lin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data structures (such as hash tables and binary trees) are built around clever ways of using arrays and/or linked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ray order can help us find values quickly la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linked list nodes each had more than one lin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71560" y="289548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127080" y="5334120"/>
            <a:ext cx="8651160" cy="382320"/>
            <a:chOff x="127080" y="5334120"/>
            <a:chExt cx="8651160" cy="382320"/>
          </a:xfrm>
        </p:grpSpPr>
        <p:sp>
          <p:nvSpPr>
            <p:cNvPr id="92" name=""/>
            <p:cNvSpPr/>
            <p:nvPr/>
          </p:nvSpPr>
          <p:spPr>
            <a:xfrm>
              <a:off x="127080" y="5348160"/>
              <a:ext cx="7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5545080"/>
              <a:ext cx="24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97480" y="5334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7714800" y="553896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572000" y="5342040"/>
              <a:ext cx="1333440" cy="372960"/>
              <a:chOff x="4572000" y="5342040"/>
              <a:chExt cx="1333440" cy="372960"/>
            </a:xfrm>
          </p:grpSpPr>
          <p:sp>
            <p:nvSpPr>
              <p:cNvPr id="97" name=""/>
              <p:cNvSpPr/>
              <p:nvPr/>
            </p:nvSpPr>
            <p:spPr>
              <a:xfrm>
                <a:off x="54691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0292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4691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054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198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720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720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0119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910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720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343560" y="5334120"/>
              <a:ext cx="1333440" cy="372960"/>
              <a:chOff x="6343560" y="5334120"/>
              <a:chExt cx="1333440" cy="372960"/>
            </a:xfrm>
          </p:grpSpPr>
          <p:sp>
            <p:nvSpPr>
              <p:cNvPr id="108" name=""/>
              <p:cNvSpPr/>
              <p:nvPr/>
            </p:nvSpPr>
            <p:spPr>
              <a:xfrm>
                <a:off x="7240680" y="533556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00760" y="533556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40680" y="533556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77000" y="533556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9140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343560" y="533412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43560" y="533412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83480" y="533412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62640" y="533556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343560" y="570096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838600" y="5342040"/>
              <a:ext cx="1333440" cy="372960"/>
              <a:chOff x="2838600" y="5342040"/>
              <a:chExt cx="1333440" cy="372960"/>
            </a:xfrm>
          </p:grpSpPr>
          <p:sp>
            <p:nvSpPr>
              <p:cNvPr id="119" name=""/>
              <p:cNvSpPr/>
              <p:nvPr/>
            </p:nvSpPr>
            <p:spPr>
              <a:xfrm>
                <a:off x="37357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958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7357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720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864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386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386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785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576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386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104840" y="5342040"/>
              <a:ext cx="1333440" cy="372960"/>
              <a:chOff x="1104840" y="5342040"/>
              <a:chExt cx="1333440" cy="372960"/>
            </a:xfrm>
          </p:grpSpPr>
          <p:sp>
            <p:nvSpPr>
              <p:cNvPr id="130" name=""/>
              <p:cNvSpPr/>
              <p:nvPr/>
            </p:nvSpPr>
            <p:spPr>
              <a:xfrm>
                <a:off x="200196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6204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0196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3828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5268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0484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0484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4476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2392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0484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>
              <a:off x="571500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96252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209320" y="5524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238880" y="533412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112760" y="534204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tree in a sideways indented form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intSideways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overallRoot, "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printSideways(IntTreeNode roo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ind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righ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dent + root.dat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lef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404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9" name=""/>
            <p:cNvCxnSpPr>
              <a:stCxn id="408" idx="3"/>
              <a:endCxn id="407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"/>
            <p:cNvCxnSpPr>
              <a:stCxn id="408" idx="5"/>
              <a:endCxn id="406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6" idx="3"/>
              <a:endCxn id="405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6" idx="5"/>
              <a:endCxn id="404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3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"/>
            <p:cNvCxnSpPr>
              <a:stCxn id="407" idx="3"/>
              <a:endCxn id="414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07" idx="5"/>
              <a:endCxn id="413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7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8" name=""/>
            <p:cNvCxnSpPr>
              <a:stCxn id="417" idx="2"/>
              <a:endCxn id="408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f the trees shown are legal binary search tre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6320" y="1865160"/>
            <a:ext cx="3200400" cy="3164040"/>
            <a:chOff x="76320" y="1865160"/>
            <a:chExt cx="3200400" cy="3164040"/>
          </a:xfrm>
        </p:grpSpPr>
        <p:sp>
          <p:nvSpPr>
            <p:cNvPr id="422" name=""/>
            <p:cNvSpPr/>
            <p:nvPr/>
          </p:nvSpPr>
          <p:spPr>
            <a:xfrm>
              <a:off x="2765520" y="36669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628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32080" y="2712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5640" y="27129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9760" y="18651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7" name=""/>
            <p:cNvCxnSpPr>
              <a:stCxn id="426" idx="3"/>
              <a:endCxn id="425" idx="0"/>
            </p:cNvCxnSpPr>
            <p:nvPr/>
          </p:nvCxnSpPr>
          <p:spPr>
            <a:xfrm flipH="1">
              <a:off x="74232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8" name=""/>
            <p:cNvCxnSpPr>
              <a:stCxn id="426" idx="5"/>
              <a:endCxn id="424" idx="0"/>
            </p:cNvCxnSpPr>
            <p:nvPr/>
          </p:nvCxnSpPr>
          <p:spPr>
            <a:xfrm>
              <a:off x="184608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9" name=""/>
            <p:cNvCxnSpPr>
              <a:stCxn id="424" idx="3"/>
              <a:endCxn id="423" idx="0"/>
            </p:cNvCxnSpPr>
            <p:nvPr/>
          </p:nvCxnSpPr>
          <p:spPr>
            <a:xfrm flipH="1">
              <a:off x="2172960" y="3184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0" name=""/>
            <p:cNvCxnSpPr>
              <a:stCxn id="424" idx="5"/>
              <a:endCxn id="422" idx="0"/>
            </p:cNvCxnSpPr>
            <p:nvPr/>
          </p:nvCxnSpPr>
          <p:spPr>
            <a:xfrm>
              <a:off x="2769840" y="3184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1" name=""/>
            <p:cNvSpPr/>
            <p:nvPr/>
          </p:nvSpPr>
          <p:spPr>
            <a:xfrm>
              <a:off x="380880" y="45007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32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3" name=""/>
            <p:cNvCxnSpPr>
              <a:stCxn id="425" idx="3"/>
              <a:endCxn id="432" idx="0"/>
            </p:cNvCxnSpPr>
            <p:nvPr/>
          </p:nvCxnSpPr>
          <p:spPr>
            <a:xfrm flipH="1">
              <a:off x="332640" y="3190680"/>
              <a:ext cx="229320" cy="44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4" name=""/>
            <p:cNvCxnSpPr>
              <a:stCxn id="432" idx="5"/>
              <a:endCxn id="431" idx="0"/>
            </p:cNvCxnSpPr>
            <p:nvPr/>
          </p:nvCxnSpPr>
          <p:spPr>
            <a:xfrm>
              <a:off x="514440" y="413676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5" name=""/>
          <p:cNvGrpSpPr/>
          <p:nvPr/>
        </p:nvGrpSpPr>
        <p:grpSpPr>
          <a:xfrm>
            <a:off x="5410080" y="1828800"/>
            <a:ext cx="3581640" cy="4033800"/>
            <a:chOff x="5410080" y="1828800"/>
            <a:chExt cx="3581640" cy="4033800"/>
          </a:xfrm>
        </p:grpSpPr>
        <p:sp>
          <p:nvSpPr>
            <p:cNvPr id="436" name=""/>
            <p:cNvSpPr/>
            <p:nvPr/>
          </p:nvSpPr>
          <p:spPr>
            <a:xfrm>
              <a:off x="8099280" y="3630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5004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66200" y="2676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19760" y="2676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43880" y="182880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1" name=""/>
            <p:cNvCxnSpPr>
              <a:stCxn id="440" idx="3"/>
              <a:endCxn id="439" idx="0"/>
            </p:cNvCxnSpPr>
            <p:nvPr/>
          </p:nvCxnSpPr>
          <p:spPr>
            <a:xfrm flipH="1">
              <a:off x="607644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2" name=""/>
            <p:cNvCxnSpPr>
              <a:stCxn id="440" idx="5"/>
              <a:endCxn id="438" idx="0"/>
            </p:cNvCxnSpPr>
            <p:nvPr/>
          </p:nvCxnSpPr>
          <p:spPr>
            <a:xfrm>
              <a:off x="718020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38" idx="3"/>
              <a:endCxn id="437" idx="0"/>
            </p:cNvCxnSpPr>
            <p:nvPr/>
          </p:nvCxnSpPr>
          <p:spPr>
            <a:xfrm flipH="1">
              <a:off x="7507080" y="314784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38" idx="5"/>
              <a:endCxn id="436" idx="0"/>
            </p:cNvCxnSpPr>
            <p:nvPr/>
          </p:nvCxnSpPr>
          <p:spPr>
            <a:xfrm>
              <a:off x="8104320" y="314784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5" name=""/>
            <p:cNvSpPr/>
            <p:nvPr/>
          </p:nvSpPr>
          <p:spPr>
            <a:xfrm>
              <a:off x="5715000" y="44640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1008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"/>
            <p:cNvCxnSpPr>
              <a:stCxn id="439" idx="3"/>
              <a:endCxn id="446" idx="0"/>
            </p:cNvCxnSpPr>
            <p:nvPr/>
          </p:nvCxnSpPr>
          <p:spPr>
            <a:xfrm flipH="1">
              <a:off x="5666760" y="3154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"/>
            <p:cNvCxnSpPr>
              <a:stCxn id="446" idx="5"/>
              <a:endCxn id="445" idx="0"/>
            </p:cNvCxnSpPr>
            <p:nvPr/>
          </p:nvCxnSpPr>
          <p:spPr>
            <a:xfrm>
              <a:off x="5848200" y="410004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9" name=""/>
            <p:cNvSpPr/>
            <p:nvPr/>
          </p:nvSpPr>
          <p:spPr>
            <a:xfrm>
              <a:off x="6269040" y="3657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"/>
            <p:cNvCxnSpPr>
              <a:stCxn id="439" idx="5"/>
              <a:endCxn id="449" idx="0"/>
            </p:cNvCxnSpPr>
            <p:nvPr/>
          </p:nvCxnSpPr>
          <p:spPr>
            <a:xfrm>
              <a:off x="6259680" y="3146040"/>
              <a:ext cx="26712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"/>
            <p:cNvSpPr/>
            <p:nvPr/>
          </p:nvSpPr>
          <p:spPr>
            <a:xfrm>
              <a:off x="8480520" y="44956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2" name=""/>
            <p:cNvCxnSpPr>
              <a:stCxn id="436" idx="5"/>
              <a:endCxn id="451" idx="0"/>
            </p:cNvCxnSpPr>
            <p:nvPr/>
          </p:nvCxnSpPr>
          <p:spPr>
            <a:xfrm>
              <a:off x="8535960" y="4100040"/>
              <a:ext cx="20088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8099280" y="533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4" name=""/>
            <p:cNvCxnSpPr>
              <a:stCxn id="451" idx="3"/>
              <a:endCxn id="453" idx="0"/>
            </p:cNvCxnSpPr>
            <p:nvPr/>
          </p:nvCxnSpPr>
          <p:spPr>
            <a:xfrm flipH="1">
              <a:off x="8354520" y="4965840"/>
              <a:ext cx="20088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5" name=""/>
          <p:cNvSpPr/>
          <p:nvPr/>
        </p:nvSpPr>
        <p:spPr>
          <a:xfrm>
            <a:off x="4213080" y="2290680"/>
            <a:ext cx="511200" cy="5288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371600" y="4994280"/>
            <a:ext cx="1360440" cy="1482840"/>
            <a:chOff x="1371600" y="4994280"/>
            <a:chExt cx="1360440" cy="1482840"/>
          </a:xfrm>
        </p:grpSpPr>
        <p:sp>
          <p:nvSpPr>
            <p:cNvPr id="457" name=""/>
            <p:cNvSpPr/>
            <p:nvPr/>
          </p:nvSpPr>
          <p:spPr>
            <a:xfrm>
              <a:off x="222084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7160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87400" y="499428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"/>
            <p:cNvCxnSpPr>
              <a:stCxn id="459" idx="3"/>
              <a:endCxn id="458" idx="0"/>
            </p:cNvCxnSpPr>
            <p:nvPr/>
          </p:nvCxnSpPr>
          <p:spPr>
            <a:xfrm flipH="1">
              <a:off x="1627920" y="5465520"/>
              <a:ext cx="2343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1" name=""/>
            <p:cNvCxnSpPr>
              <a:stCxn id="459" idx="5"/>
              <a:endCxn id="457" idx="0"/>
            </p:cNvCxnSpPr>
            <p:nvPr/>
          </p:nvCxnSpPr>
          <p:spPr>
            <a:xfrm>
              <a:off x="222516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62" name=""/>
          <p:cNvGrpSpPr/>
          <p:nvPr/>
        </p:nvGrpSpPr>
        <p:grpSpPr>
          <a:xfrm>
            <a:off x="3276720" y="4191120"/>
            <a:ext cx="2514600" cy="2330280"/>
            <a:chOff x="3276720" y="4191120"/>
            <a:chExt cx="2514600" cy="2330280"/>
          </a:xfrm>
        </p:grpSpPr>
        <p:sp>
          <p:nvSpPr>
            <p:cNvPr id="463" name=""/>
            <p:cNvSpPr/>
            <p:nvPr/>
          </p:nvSpPr>
          <p:spPr>
            <a:xfrm>
              <a:off x="5064120" y="5992920"/>
              <a:ext cx="727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33880" y="5992920"/>
              <a:ext cx="57636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78480" y="5038560"/>
              <a:ext cx="576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6720" y="5038560"/>
              <a:ext cx="5778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51360" y="4191120"/>
              <a:ext cx="57312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"/>
            <p:cNvCxnSpPr>
              <a:stCxn id="467" idx="3"/>
              <a:endCxn id="466" idx="0"/>
            </p:cNvCxnSpPr>
            <p:nvPr/>
          </p:nvCxnSpPr>
          <p:spPr>
            <a:xfrm flipH="1">
              <a:off x="3564720" y="4660560"/>
              <a:ext cx="4690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67" idx="5"/>
              <a:endCxn id="465" idx="0"/>
            </p:cNvCxnSpPr>
            <p:nvPr/>
          </p:nvCxnSpPr>
          <p:spPr>
            <a:xfrm>
              <a:off x="4440240" y="4660560"/>
              <a:ext cx="4276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5" idx="3"/>
              <a:endCxn id="464" idx="0"/>
            </p:cNvCxnSpPr>
            <p:nvPr/>
          </p:nvCxnSpPr>
          <p:spPr>
            <a:xfrm flipH="1">
              <a:off x="4422240" y="5508720"/>
              <a:ext cx="2404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1" name=""/>
            <p:cNvCxnSpPr>
              <a:stCxn id="465" idx="5"/>
              <a:endCxn id="463" idx="0"/>
            </p:cNvCxnSpPr>
            <p:nvPr/>
          </p:nvCxnSpPr>
          <p:spPr>
            <a:xfrm>
              <a:off x="5070600" y="5508720"/>
              <a:ext cx="35784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an algorithm for searching the tree below for the value 3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search for the value 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maxim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need to exam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erform any searc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543480" y="2503440"/>
            <a:ext cx="5371920" cy="3821040"/>
            <a:chOff x="3543480" y="2503440"/>
            <a:chExt cx="5371920" cy="3821040"/>
          </a:xfrm>
        </p:grpSpPr>
        <p:sp>
          <p:nvSpPr>
            <p:cNvPr id="475" name=""/>
            <p:cNvSpPr/>
            <p:nvPr/>
          </p:nvSpPr>
          <p:spPr>
            <a:xfrm>
              <a:off x="4575240" y="40435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58080" y="3129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7" name=""/>
            <p:cNvCxnSpPr>
              <a:stCxn id="476" idx="3"/>
              <a:endCxn id="475" idx="0"/>
            </p:cNvCxnSpPr>
            <p:nvPr/>
          </p:nvCxnSpPr>
          <p:spPr>
            <a:xfrm flipH="1">
              <a:off x="4831920" y="3598920"/>
              <a:ext cx="13010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8" name=""/>
            <p:cNvCxnSpPr>
              <a:stCxn id="476" idx="5"/>
              <a:endCxn id="479" idx="0"/>
            </p:cNvCxnSpPr>
            <p:nvPr/>
          </p:nvCxnSpPr>
          <p:spPr>
            <a:xfrm>
              <a:off x="6494400" y="3598920"/>
              <a:ext cx="115488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0" name=""/>
            <p:cNvSpPr/>
            <p:nvPr/>
          </p:nvSpPr>
          <p:spPr>
            <a:xfrm>
              <a:off x="421020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0852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2" name=""/>
            <p:cNvCxnSpPr>
              <a:stCxn id="475" idx="3"/>
              <a:endCxn id="481" idx="0"/>
            </p:cNvCxnSpPr>
            <p:nvPr/>
          </p:nvCxnSpPr>
          <p:spPr>
            <a:xfrm flipH="1">
              <a:off x="416484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3" name=""/>
            <p:cNvCxnSpPr>
              <a:stCxn id="481" idx="5"/>
              <a:endCxn id="480" idx="0"/>
            </p:cNvCxnSpPr>
            <p:nvPr/>
          </p:nvCxnSpPr>
          <p:spPr>
            <a:xfrm>
              <a:off x="434628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4" name=""/>
            <p:cNvSpPr/>
            <p:nvPr/>
          </p:nvSpPr>
          <p:spPr>
            <a:xfrm>
              <a:off x="526104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"/>
            <p:cNvCxnSpPr>
              <a:stCxn id="475" idx="5"/>
              <a:endCxn id="484" idx="0"/>
            </p:cNvCxnSpPr>
            <p:nvPr/>
          </p:nvCxnSpPr>
          <p:spPr>
            <a:xfrm>
              <a:off x="501480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6" name=""/>
            <p:cNvSpPr/>
            <p:nvPr/>
          </p:nvSpPr>
          <p:spPr>
            <a:xfrm>
              <a:off x="5535720" y="25034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7" name=""/>
            <p:cNvCxnSpPr>
              <a:stCxn id="486" idx="2"/>
              <a:endCxn id="476" idx="0"/>
            </p:cNvCxnSpPr>
            <p:nvPr/>
          </p:nvCxnSpPr>
          <p:spPr>
            <a:xfrm flipH="1">
              <a:off x="6312600" y="2900520"/>
              <a:ext cx="252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8" name=""/>
            <p:cNvSpPr/>
            <p:nvPr/>
          </p:nvSpPr>
          <p:spPr>
            <a:xfrm>
              <a:off x="354348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9" name=""/>
            <p:cNvCxnSpPr>
              <a:stCxn id="481" idx="3"/>
              <a:endCxn id="488" idx="0"/>
            </p:cNvCxnSpPr>
            <p:nvPr/>
          </p:nvCxnSpPr>
          <p:spPr>
            <a:xfrm flipH="1">
              <a:off x="379980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0" name=""/>
            <p:cNvSpPr/>
            <p:nvPr/>
          </p:nvSpPr>
          <p:spPr>
            <a:xfrm>
              <a:off x="558468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"/>
            <p:cNvCxnSpPr>
              <a:stCxn id="484" idx="5"/>
              <a:endCxn id="490" idx="0"/>
            </p:cNvCxnSpPr>
            <p:nvPr/>
          </p:nvCxnSpPr>
          <p:spPr>
            <a:xfrm>
              <a:off x="569880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>
              <a:off x="491796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3" name=""/>
            <p:cNvCxnSpPr>
              <a:stCxn id="484" idx="3"/>
              <a:endCxn id="492" idx="0"/>
            </p:cNvCxnSpPr>
            <p:nvPr/>
          </p:nvCxnSpPr>
          <p:spPr>
            <a:xfrm flipH="1">
              <a:off x="517464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9" name=""/>
            <p:cNvSpPr/>
            <p:nvPr/>
          </p:nvSpPr>
          <p:spPr>
            <a:xfrm>
              <a:off x="7391520" y="40435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2612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2480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"/>
            <p:cNvCxnSpPr>
              <a:stCxn id="479" idx="3"/>
              <a:endCxn id="495" idx="0"/>
            </p:cNvCxnSpPr>
            <p:nvPr/>
          </p:nvCxnSpPr>
          <p:spPr>
            <a:xfrm flipH="1">
              <a:off x="698112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>
              <a:stCxn id="495" idx="5"/>
              <a:endCxn id="494" idx="0"/>
            </p:cNvCxnSpPr>
            <p:nvPr/>
          </p:nvCxnSpPr>
          <p:spPr>
            <a:xfrm>
              <a:off x="716256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8" name=""/>
            <p:cNvSpPr/>
            <p:nvPr/>
          </p:nvSpPr>
          <p:spPr>
            <a:xfrm>
              <a:off x="807732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"/>
            <p:cNvCxnSpPr>
              <a:stCxn id="479" idx="5"/>
              <a:endCxn id="498" idx="0"/>
            </p:cNvCxnSpPr>
            <p:nvPr/>
          </p:nvCxnSpPr>
          <p:spPr>
            <a:xfrm>
              <a:off x="783108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"/>
            <p:cNvSpPr/>
            <p:nvPr/>
          </p:nvSpPr>
          <p:spPr>
            <a:xfrm>
              <a:off x="635940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"/>
            <p:cNvCxnSpPr>
              <a:stCxn id="495" idx="3"/>
              <a:endCxn id="500" idx="0"/>
            </p:cNvCxnSpPr>
            <p:nvPr/>
          </p:nvCxnSpPr>
          <p:spPr>
            <a:xfrm flipH="1">
              <a:off x="661608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2" name=""/>
            <p:cNvSpPr/>
            <p:nvPr/>
          </p:nvSpPr>
          <p:spPr>
            <a:xfrm>
              <a:off x="840096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8" idx="5"/>
              <a:endCxn id="502" idx="0"/>
            </p:cNvCxnSpPr>
            <p:nvPr/>
          </p:nvCxnSpPr>
          <p:spPr>
            <a:xfrm>
              <a:off x="851508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4" name=""/>
            <p:cNvSpPr/>
            <p:nvPr/>
          </p:nvSpPr>
          <p:spPr>
            <a:xfrm>
              <a:off x="773424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5" name=""/>
            <p:cNvCxnSpPr>
              <a:stCxn id="498" idx="3"/>
              <a:endCxn id="504" idx="0"/>
            </p:cNvCxnSpPr>
            <p:nvPr/>
          </p:nvCxnSpPr>
          <p:spPr>
            <a:xfrm flipH="1">
              <a:off x="799092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the tree will constitute a legal binary search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searches the tree for a given integer,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fou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red to the tree below, the following calls would have these resul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2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5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63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3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638680" y="3946680"/>
            <a:ext cx="3200400" cy="2758680"/>
            <a:chOff x="5638680" y="3946680"/>
            <a:chExt cx="3200400" cy="2758680"/>
          </a:xfrm>
        </p:grpSpPr>
        <p:sp>
          <p:nvSpPr>
            <p:cNvPr id="509" name=""/>
            <p:cNvSpPr/>
            <p:nvPr/>
          </p:nvSpPr>
          <p:spPr>
            <a:xfrm>
              <a:off x="8327880" y="621756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7864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94800" y="533664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48360" y="533664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72480" y="455364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4" name=""/>
            <p:cNvCxnSpPr>
              <a:stCxn id="513" idx="3"/>
              <a:endCxn id="512" idx="0"/>
            </p:cNvCxnSpPr>
            <p:nvPr/>
          </p:nvCxnSpPr>
          <p:spPr>
            <a:xfrm flipH="1">
              <a:off x="630504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513" idx="5"/>
              <a:endCxn id="511" idx="0"/>
            </p:cNvCxnSpPr>
            <p:nvPr/>
          </p:nvCxnSpPr>
          <p:spPr>
            <a:xfrm>
              <a:off x="740880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511" idx="3"/>
              <a:endCxn id="510" idx="0"/>
            </p:cNvCxnSpPr>
            <p:nvPr/>
          </p:nvCxnSpPr>
          <p:spPr>
            <a:xfrm flipH="1">
              <a:off x="7735680" y="577116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511" idx="5"/>
              <a:endCxn id="509" idx="0"/>
            </p:cNvCxnSpPr>
            <p:nvPr/>
          </p:nvCxnSpPr>
          <p:spPr>
            <a:xfrm>
              <a:off x="8332920" y="577116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8" name=""/>
            <p:cNvSpPr/>
            <p:nvPr/>
          </p:nvSpPr>
          <p:spPr>
            <a:xfrm>
              <a:off x="6485040" y="621756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3868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"/>
            <p:cNvCxnSpPr>
              <a:stCxn id="512" idx="3"/>
              <a:endCxn id="519" idx="0"/>
            </p:cNvCxnSpPr>
            <p:nvPr/>
          </p:nvCxnSpPr>
          <p:spPr>
            <a:xfrm flipH="1">
              <a:off x="5895360" y="577764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12" idx="5"/>
              <a:endCxn id="518" idx="0"/>
            </p:cNvCxnSpPr>
            <p:nvPr/>
          </p:nvCxnSpPr>
          <p:spPr>
            <a:xfrm>
              <a:off x="6486480" y="577116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2" name=""/>
            <p:cNvSpPr/>
            <p:nvPr/>
          </p:nvSpPr>
          <p:spPr>
            <a:xfrm>
              <a:off x="6450120" y="3946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"/>
            <p:cNvCxnSpPr>
              <a:stCxn id="522" idx="2"/>
              <a:endCxn id="513" idx="0"/>
            </p:cNvCxnSpPr>
            <p:nvPr/>
          </p:nvCxnSpPr>
          <p:spPr>
            <a:xfrm>
              <a:off x="7226280" y="431316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whether this tree contains the given inte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boolean contains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==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oot.data &lt;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add the value 14 to the BST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the new node be add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the value 3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7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tree is empty, wh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a new value be add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general algorith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257800" y="2362320"/>
            <a:ext cx="3580920" cy="4033800"/>
            <a:chOff x="5257800" y="2362320"/>
            <a:chExt cx="3580920" cy="4033800"/>
          </a:xfrm>
        </p:grpSpPr>
        <p:sp>
          <p:nvSpPr>
            <p:cNvPr id="529" name=""/>
            <p:cNvSpPr/>
            <p:nvPr/>
          </p:nvSpPr>
          <p:spPr>
            <a:xfrm>
              <a:off x="7946640" y="4164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974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13560" y="3210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67120" y="32101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91240" y="2362320"/>
              <a:ext cx="510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33" idx="3"/>
              <a:endCxn id="532" idx="0"/>
            </p:cNvCxnSpPr>
            <p:nvPr/>
          </p:nvCxnSpPr>
          <p:spPr>
            <a:xfrm flipH="1">
              <a:off x="592344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33" idx="5"/>
              <a:endCxn id="531" idx="0"/>
            </p:cNvCxnSpPr>
            <p:nvPr/>
          </p:nvCxnSpPr>
          <p:spPr>
            <a:xfrm>
              <a:off x="702720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>
              <a:stCxn id="531" idx="3"/>
              <a:endCxn id="530" idx="0"/>
            </p:cNvCxnSpPr>
            <p:nvPr/>
          </p:nvCxnSpPr>
          <p:spPr>
            <a:xfrm flipH="1">
              <a:off x="7354080" y="3681360"/>
              <a:ext cx="23364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7" name=""/>
            <p:cNvCxnSpPr>
              <a:stCxn id="531" idx="5"/>
              <a:endCxn id="529" idx="0"/>
            </p:cNvCxnSpPr>
            <p:nvPr/>
          </p:nvCxnSpPr>
          <p:spPr>
            <a:xfrm>
              <a:off x="7951320" y="368136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8" name=""/>
            <p:cNvSpPr/>
            <p:nvPr/>
          </p:nvSpPr>
          <p:spPr>
            <a:xfrm>
              <a:off x="5562360" y="49975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78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0" name=""/>
            <p:cNvCxnSpPr>
              <a:stCxn id="532" idx="3"/>
              <a:endCxn id="539" idx="0"/>
            </p:cNvCxnSpPr>
            <p:nvPr/>
          </p:nvCxnSpPr>
          <p:spPr>
            <a:xfrm flipH="1">
              <a:off x="5514480" y="3687840"/>
              <a:ext cx="22896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"/>
            <p:cNvCxnSpPr>
              <a:stCxn id="539" idx="5"/>
              <a:endCxn id="538" idx="0"/>
            </p:cNvCxnSpPr>
            <p:nvPr/>
          </p:nvCxnSpPr>
          <p:spPr>
            <a:xfrm>
              <a:off x="5695200" y="4633560"/>
              <a:ext cx="12420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2" name=""/>
            <p:cNvSpPr/>
            <p:nvPr/>
          </p:nvSpPr>
          <p:spPr>
            <a:xfrm>
              <a:off x="6116400" y="4191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3" name=""/>
            <p:cNvCxnSpPr>
              <a:stCxn id="532" idx="5"/>
              <a:endCxn id="542" idx="0"/>
            </p:cNvCxnSpPr>
            <p:nvPr/>
          </p:nvCxnSpPr>
          <p:spPr>
            <a:xfrm>
              <a:off x="6106680" y="3679560"/>
              <a:ext cx="2667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4" name=""/>
            <p:cNvSpPr/>
            <p:nvPr/>
          </p:nvSpPr>
          <p:spPr>
            <a:xfrm>
              <a:off x="8327880" y="5029200"/>
              <a:ext cx="5108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5" name=""/>
            <p:cNvCxnSpPr>
              <a:stCxn id="529" idx="5"/>
              <a:endCxn id="544" idx="0"/>
            </p:cNvCxnSpPr>
            <p:nvPr/>
          </p:nvCxnSpPr>
          <p:spPr>
            <a:xfrm>
              <a:off x="8382960" y="4633560"/>
              <a:ext cx="2005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6" name=""/>
            <p:cNvSpPr/>
            <p:nvPr/>
          </p:nvSpPr>
          <p:spPr>
            <a:xfrm>
              <a:off x="7946640" y="5867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7" name=""/>
            <p:cNvCxnSpPr>
              <a:stCxn id="544" idx="3"/>
              <a:endCxn id="546" idx="0"/>
            </p:cNvCxnSpPr>
            <p:nvPr/>
          </p:nvCxnSpPr>
          <p:spPr>
            <a:xfrm flipH="1">
              <a:off x="8201520" y="5499360"/>
              <a:ext cx="20052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what a binary search tree would look like if the following values were added to an initially empty tree in this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4305240" y="2362320"/>
            <a:ext cx="511200" cy="5284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122640" y="2831760"/>
            <a:ext cx="1257120" cy="906840"/>
            <a:chOff x="3122640" y="2831760"/>
            <a:chExt cx="1257120" cy="906840"/>
          </a:xfrm>
        </p:grpSpPr>
        <p:sp>
          <p:nvSpPr>
            <p:cNvPr id="552" name=""/>
            <p:cNvSpPr/>
            <p:nvPr/>
          </p:nvSpPr>
          <p:spPr>
            <a:xfrm>
              <a:off x="3122640" y="3209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3" name=""/>
            <p:cNvCxnSpPr>
              <a:stCxn id="550" idx="3"/>
              <a:endCxn id="552" idx="0"/>
            </p:cNvCxnSpPr>
            <p:nvPr/>
          </p:nvCxnSpPr>
          <p:spPr>
            <a:xfrm flipH="1">
              <a:off x="3379320" y="2831760"/>
              <a:ext cx="100080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4" name=""/>
          <p:cNvGrpSpPr/>
          <p:nvPr/>
        </p:nvGrpSpPr>
        <p:grpSpPr>
          <a:xfrm>
            <a:off x="4741920" y="2831760"/>
            <a:ext cx="1125360" cy="906840"/>
            <a:chOff x="4741920" y="2831760"/>
            <a:chExt cx="1125360" cy="906840"/>
          </a:xfrm>
        </p:grpSpPr>
        <p:sp>
          <p:nvSpPr>
            <p:cNvPr id="555" name=""/>
            <p:cNvSpPr/>
            <p:nvPr/>
          </p:nvSpPr>
          <p:spPr>
            <a:xfrm>
              <a:off x="5354640" y="32097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6" name=""/>
            <p:cNvCxnSpPr>
              <a:stCxn id="550" idx="5"/>
              <a:endCxn id="555" idx="0"/>
            </p:cNvCxnSpPr>
            <p:nvPr/>
          </p:nvCxnSpPr>
          <p:spPr>
            <a:xfrm>
              <a:off x="4741920" y="2831760"/>
              <a:ext cx="8704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7" name=""/>
          <p:cNvGrpSpPr/>
          <p:nvPr/>
        </p:nvGrpSpPr>
        <p:grpSpPr>
          <a:xfrm>
            <a:off x="5964120" y="4633560"/>
            <a:ext cx="533160" cy="924120"/>
            <a:chOff x="5964120" y="4633560"/>
            <a:chExt cx="533160" cy="924120"/>
          </a:xfrm>
        </p:grpSpPr>
        <p:sp>
          <p:nvSpPr>
            <p:cNvPr id="558" name=""/>
            <p:cNvSpPr/>
            <p:nvPr/>
          </p:nvSpPr>
          <p:spPr>
            <a:xfrm>
              <a:off x="5964120" y="50292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9" name=""/>
            <p:cNvCxnSpPr>
              <a:stCxn id="560" idx="3"/>
              <a:endCxn id="558" idx="0"/>
            </p:cNvCxnSpPr>
            <p:nvPr/>
          </p:nvCxnSpPr>
          <p:spPr>
            <a:xfrm flipH="1">
              <a:off x="6220800" y="4633560"/>
              <a:ext cx="2768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1" name=""/>
          <p:cNvGrpSpPr/>
          <p:nvPr/>
        </p:nvGrpSpPr>
        <p:grpSpPr>
          <a:xfrm>
            <a:off x="5792400" y="3679920"/>
            <a:ext cx="1141920" cy="1012680"/>
            <a:chOff x="5792400" y="3679920"/>
            <a:chExt cx="1141920" cy="1012680"/>
          </a:xfrm>
        </p:grpSpPr>
        <p:sp>
          <p:nvSpPr>
            <p:cNvPr id="560" name=""/>
            <p:cNvSpPr/>
            <p:nvPr/>
          </p:nvSpPr>
          <p:spPr>
            <a:xfrm>
              <a:off x="6423120" y="416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2" name=""/>
            <p:cNvCxnSpPr>
              <a:stCxn id="555" idx="5"/>
              <a:endCxn id="560" idx="0"/>
            </p:cNvCxnSpPr>
            <p:nvPr/>
          </p:nvCxnSpPr>
          <p:spPr>
            <a:xfrm>
              <a:off x="5792400" y="3679920"/>
              <a:ext cx="8866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3" name=""/>
          <p:cNvGrpSpPr/>
          <p:nvPr/>
        </p:nvGrpSpPr>
        <p:grpSpPr>
          <a:xfrm>
            <a:off x="2590920" y="3679920"/>
            <a:ext cx="606240" cy="1012680"/>
            <a:chOff x="2590920" y="3679920"/>
            <a:chExt cx="606240" cy="1012680"/>
          </a:xfrm>
        </p:grpSpPr>
        <p:sp>
          <p:nvSpPr>
            <p:cNvPr id="564" name=""/>
            <p:cNvSpPr/>
            <p:nvPr/>
          </p:nvSpPr>
          <p:spPr>
            <a:xfrm>
              <a:off x="259092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5" name=""/>
            <p:cNvCxnSpPr>
              <a:stCxn id="552" idx="3"/>
              <a:endCxn id="564" idx="0"/>
            </p:cNvCxnSpPr>
            <p:nvPr/>
          </p:nvCxnSpPr>
          <p:spPr>
            <a:xfrm flipH="1">
              <a:off x="2847600" y="3679920"/>
              <a:ext cx="34992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6" name=""/>
          <p:cNvGrpSpPr/>
          <p:nvPr/>
        </p:nvGrpSpPr>
        <p:grpSpPr>
          <a:xfrm>
            <a:off x="4017960" y="4660920"/>
            <a:ext cx="514440" cy="896760"/>
            <a:chOff x="4017960" y="4660920"/>
            <a:chExt cx="514440" cy="896760"/>
          </a:xfrm>
        </p:grpSpPr>
        <p:sp>
          <p:nvSpPr>
            <p:cNvPr id="567" name=""/>
            <p:cNvSpPr/>
            <p:nvPr/>
          </p:nvSpPr>
          <p:spPr>
            <a:xfrm>
              <a:off x="40179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8" name=""/>
            <p:cNvCxnSpPr>
              <a:stCxn id="569" idx="5"/>
              <a:endCxn id="567" idx="0"/>
            </p:cNvCxnSpPr>
            <p:nvPr/>
          </p:nvCxnSpPr>
          <p:spPr>
            <a:xfrm>
              <a:off x="4095720" y="4660920"/>
              <a:ext cx="18000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0" name=""/>
          <p:cNvGrpSpPr/>
          <p:nvPr/>
        </p:nvGrpSpPr>
        <p:grpSpPr>
          <a:xfrm>
            <a:off x="3561840" y="3679560"/>
            <a:ext cx="608400" cy="1040040"/>
            <a:chOff x="3561840" y="3679560"/>
            <a:chExt cx="608400" cy="1040040"/>
          </a:xfrm>
        </p:grpSpPr>
        <p:sp>
          <p:nvSpPr>
            <p:cNvPr id="569" name=""/>
            <p:cNvSpPr/>
            <p:nvPr/>
          </p:nvSpPr>
          <p:spPr>
            <a:xfrm>
              <a:off x="3657600" y="4191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1" name=""/>
            <p:cNvCxnSpPr>
              <a:stCxn id="552" idx="5"/>
              <a:endCxn id="569" idx="0"/>
            </p:cNvCxnSpPr>
            <p:nvPr/>
          </p:nvCxnSpPr>
          <p:spPr>
            <a:xfrm>
              <a:off x="3561840" y="3679560"/>
              <a:ext cx="3531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2" name=""/>
          <p:cNvGrpSpPr/>
          <p:nvPr/>
        </p:nvGrpSpPr>
        <p:grpSpPr>
          <a:xfrm>
            <a:off x="6804000" y="4633560"/>
            <a:ext cx="663480" cy="924120"/>
            <a:chOff x="6804000" y="4633560"/>
            <a:chExt cx="663480" cy="924120"/>
          </a:xfrm>
        </p:grpSpPr>
        <p:sp>
          <p:nvSpPr>
            <p:cNvPr id="573" name=""/>
            <p:cNvSpPr/>
            <p:nvPr/>
          </p:nvSpPr>
          <p:spPr>
            <a:xfrm>
              <a:off x="6804000" y="5029200"/>
              <a:ext cx="663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4" name=""/>
            <p:cNvCxnSpPr>
              <a:stCxn id="560" idx="5"/>
              <a:endCxn id="573" idx="0"/>
            </p:cNvCxnSpPr>
            <p:nvPr/>
          </p:nvCxnSpPr>
          <p:spPr>
            <a:xfrm>
              <a:off x="6859440" y="4633560"/>
              <a:ext cx="27720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5" name=""/>
          <p:cNvGrpSpPr/>
          <p:nvPr/>
        </p:nvGrpSpPr>
        <p:grpSpPr>
          <a:xfrm>
            <a:off x="3332160" y="4660920"/>
            <a:ext cx="514440" cy="896760"/>
            <a:chOff x="3332160" y="4660920"/>
            <a:chExt cx="514440" cy="896760"/>
          </a:xfrm>
        </p:grpSpPr>
        <p:sp>
          <p:nvSpPr>
            <p:cNvPr id="576" name=""/>
            <p:cNvSpPr/>
            <p:nvPr/>
          </p:nvSpPr>
          <p:spPr>
            <a:xfrm>
              <a:off x="33321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7" name=""/>
            <p:cNvCxnSpPr>
              <a:stCxn id="569" idx="3"/>
              <a:endCxn id="576" idx="0"/>
            </p:cNvCxnSpPr>
            <p:nvPr/>
          </p:nvCxnSpPr>
          <p:spPr>
            <a:xfrm flipH="1">
              <a:off x="3588480" y="46609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8" name=""/>
          <p:cNvGrpSpPr/>
          <p:nvPr/>
        </p:nvGrpSpPr>
        <p:grpSpPr>
          <a:xfrm>
            <a:off x="5562720" y="5499000"/>
            <a:ext cx="512640" cy="901800"/>
            <a:chOff x="5562720" y="5499000"/>
            <a:chExt cx="512640" cy="901800"/>
          </a:xfrm>
        </p:grpSpPr>
        <p:sp>
          <p:nvSpPr>
            <p:cNvPr id="579" name=""/>
            <p:cNvSpPr/>
            <p:nvPr/>
          </p:nvSpPr>
          <p:spPr>
            <a:xfrm>
              <a:off x="556272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0" name=""/>
            <p:cNvCxnSpPr>
              <a:stCxn id="558" idx="3"/>
              <a:endCxn id="579" idx="0"/>
            </p:cNvCxnSpPr>
            <p:nvPr/>
          </p:nvCxnSpPr>
          <p:spPr>
            <a:xfrm flipH="1">
              <a:off x="5819040" y="5499000"/>
              <a:ext cx="21996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584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9" name=""/>
            <p:cNvCxnSpPr>
              <a:stCxn id="588" idx="3"/>
              <a:endCxn id="587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0" name=""/>
            <p:cNvCxnSpPr>
              <a:stCxn id="588" idx="5"/>
              <a:endCxn id="586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1" name=""/>
            <p:cNvCxnSpPr>
              <a:stCxn id="586" idx="3"/>
              <a:endCxn id="585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2" name=""/>
            <p:cNvCxnSpPr>
              <a:stCxn id="586" idx="5"/>
              <a:endCxn id="584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3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5" name=""/>
            <p:cNvCxnSpPr>
              <a:stCxn id="587" idx="3"/>
              <a:endCxn id="594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87" idx="5"/>
              <a:endCxn id="593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7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8" name=""/>
            <p:cNvCxnSpPr>
              <a:stCxn id="597" idx="2"/>
              <a:endCxn id="588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4114800" y="5814720"/>
            <a:ext cx="512640" cy="846360"/>
            <a:chOff x="4114800" y="5814720"/>
            <a:chExt cx="512640" cy="846360"/>
          </a:xfrm>
        </p:grpSpPr>
        <p:sp>
          <p:nvSpPr>
            <p:cNvPr id="600" name=""/>
            <p:cNvSpPr/>
            <p:nvPr/>
          </p:nvSpPr>
          <p:spPr>
            <a:xfrm>
              <a:off x="4114800" y="6172200"/>
              <a:ext cx="512640" cy="488880"/>
            </a:xfrm>
            <a:prstGeom prst="ellipse">
              <a:avLst/>
            </a:prstGeom>
            <a:solidFill>
              <a:srgbClr val="fcd4d4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1" name=""/>
            <p:cNvCxnSpPr>
              <a:stCxn id="593" idx="5"/>
              <a:endCxn id="600" idx="0"/>
            </p:cNvCxnSpPr>
            <p:nvPr/>
          </p:nvCxnSpPr>
          <p:spPr>
            <a:xfrm>
              <a:off x="4257360" y="5814720"/>
              <a:ext cx="114840" cy="338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root.data =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n't this solution 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477120" y="3614760"/>
            <a:ext cx="2361960" cy="2252160"/>
            <a:chOff x="6477120" y="3614760"/>
            <a:chExt cx="2361960" cy="2252160"/>
          </a:xfrm>
        </p:grpSpPr>
        <p:sp>
          <p:nvSpPr>
            <p:cNvPr id="605" name=""/>
            <p:cNvSpPr/>
            <p:nvPr/>
          </p:nvSpPr>
          <p:spPr>
            <a:xfrm>
              <a:off x="8461800" y="546084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3504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41760" y="4728600"/>
              <a:ext cx="37836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79160" y="4728600"/>
              <a:ext cx="3790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61000" y="407772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0" name=""/>
            <p:cNvCxnSpPr>
              <a:stCxn id="609" idx="3"/>
              <a:endCxn id="608" idx="0"/>
            </p:cNvCxnSpPr>
            <p:nvPr/>
          </p:nvCxnSpPr>
          <p:spPr>
            <a:xfrm flipH="1">
              <a:off x="696816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>
              <a:stCxn id="609" idx="5"/>
              <a:endCxn id="607" idx="0"/>
            </p:cNvCxnSpPr>
            <p:nvPr/>
          </p:nvCxnSpPr>
          <p:spPr>
            <a:xfrm>
              <a:off x="778284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>
              <a:stCxn id="607" idx="3"/>
              <a:endCxn id="606" idx="0"/>
            </p:cNvCxnSpPr>
            <p:nvPr/>
          </p:nvCxnSpPr>
          <p:spPr>
            <a:xfrm flipH="1">
              <a:off x="8024400" y="5091120"/>
              <a:ext cx="17280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>
              <a:stCxn id="607" idx="5"/>
              <a:endCxn id="605" idx="0"/>
            </p:cNvCxnSpPr>
            <p:nvPr/>
          </p:nvCxnSpPr>
          <p:spPr>
            <a:xfrm>
              <a:off x="8465040" y="5091120"/>
              <a:ext cx="1857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7101360" y="546084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6" name=""/>
            <p:cNvCxnSpPr>
              <a:stCxn id="608" idx="3"/>
              <a:endCxn id="615" idx="0"/>
            </p:cNvCxnSpPr>
            <p:nvPr/>
          </p:nvCxnSpPr>
          <p:spPr>
            <a:xfrm flipH="1">
              <a:off x="6666120" y="5095440"/>
              <a:ext cx="169200" cy="34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>
              <a:stCxn id="608" idx="5"/>
              <a:endCxn id="614" idx="0"/>
            </p:cNvCxnSpPr>
            <p:nvPr/>
          </p:nvCxnSpPr>
          <p:spPr>
            <a:xfrm>
              <a:off x="7102800" y="5091120"/>
              <a:ext cx="1893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8" name=""/>
            <p:cNvSpPr/>
            <p:nvPr/>
          </p:nvSpPr>
          <p:spPr>
            <a:xfrm>
              <a:off x="7020720" y="361476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9" name=""/>
            <p:cNvCxnSpPr>
              <a:stCxn id="618" idx="2"/>
              <a:endCxn id="609" idx="0"/>
            </p:cNvCxnSpPr>
            <p:nvPr/>
          </p:nvCxnSpPr>
          <p:spPr>
            <a:xfrm>
              <a:off x="7648560" y="3878640"/>
              <a:ext cx="1440" cy="18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rected, acyclic structure of linked no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r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one-way links between nod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cyc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No path wraps back around to the same node tw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nary 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where each node has at most two childr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ree can be defined a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-2124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left and/or r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tree could be empty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48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"/>
            <p:cNvCxnSpPr>
              <a:stCxn id="152" idx="3"/>
              <a:endCxn id="151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52" idx="5"/>
              <a:endCxn id="150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50" idx="3"/>
              <a:endCxn id="149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0" idx="5"/>
              <a:endCxn id="148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51" idx="3"/>
              <a:endCxn id="158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7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1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"/>
            <p:cNvCxnSpPr>
              <a:stCxn id="161" idx="2"/>
              <a:endCxn id="152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like with linked lists, if we just modify what a local variable refers to, it won't change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linked list case, how did w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tually modify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a node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6553080" y="3462480"/>
            <a:ext cx="2361960" cy="2252160"/>
            <a:chOff x="6553080" y="3462480"/>
            <a:chExt cx="2361960" cy="2252160"/>
          </a:xfrm>
        </p:grpSpPr>
        <p:sp>
          <p:nvSpPr>
            <p:cNvPr id="623" name=""/>
            <p:cNvSpPr/>
            <p:nvPr/>
          </p:nvSpPr>
          <p:spPr>
            <a:xfrm>
              <a:off x="853740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10280" y="530856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18080" y="457668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854760" y="45766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37320" y="392580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8" name=""/>
            <p:cNvCxnSpPr>
              <a:stCxn id="627" idx="3"/>
              <a:endCxn id="626" idx="0"/>
            </p:cNvCxnSpPr>
            <p:nvPr/>
          </p:nvCxnSpPr>
          <p:spPr>
            <a:xfrm flipH="1">
              <a:off x="704448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627" idx="5"/>
              <a:endCxn id="625" idx="0"/>
            </p:cNvCxnSpPr>
            <p:nvPr/>
          </p:nvCxnSpPr>
          <p:spPr>
            <a:xfrm>
              <a:off x="785916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stCxn id="625" idx="3"/>
              <a:endCxn id="624" idx="0"/>
            </p:cNvCxnSpPr>
            <p:nvPr/>
          </p:nvCxnSpPr>
          <p:spPr>
            <a:xfrm flipH="1">
              <a:off x="8100000" y="493812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1" name=""/>
            <p:cNvCxnSpPr>
              <a:stCxn id="625" idx="5"/>
              <a:endCxn id="623" idx="0"/>
            </p:cNvCxnSpPr>
            <p:nvPr/>
          </p:nvCxnSpPr>
          <p:spPr>
            <a:xfrm>
              <a:off x="8542080" y="493812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2" name=""/>
            <p:cNvSpPr/>
            <p:nvPr/>
          </p:nvSpPr>
          <p:spPr>
            <a:xfrm>
              <a:off x="7176960" y="530856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5308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4" name=""/>
            <p:cNvCxnSpPr>
              <a:stCxn id="626" idx="3"/>
              <a:endCxn id="633" idx="0"/>
            </p:cNvCxnSpPr>
            <p:nvPr/>
          </p:nvCxnSpPr>
          <p:spPr>
            <a:xfrm flipH="1">
              <a:off x="6742800" y="494352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5" name=""/>
            <p:cNvCxnSpPr>
              <a:stCxn id="626" idx="5"/>
              <a:endCxn id="632" idx="0"/>
            </p:cNvCxnSpPr>
            <p:nvPr/>
          </p:nvCxnSpPr>
          <p:spPr>
            <a:xfrm>
              <a:off x="7178040" y="493812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6" name=""/>
            <p:cNvSpPr/>
            <p:nvPr/>
          </p:nvSpPr>
          <p:spPr>
            <a:xfrm>
              <a:off x="7096680" y="3462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7" name=""/>
            <p:cNvCxnSpPr>
              <a:stCxn id="636" idx="2"/>
              <a:endCxn id="627" idx="0"/>
            </p:cNvCxnSpPr>
            <p:nvPr/>
          </p:nvCxnSpPr>
          <p:spPr>
            <a:xfrm>
              <a:off x="7724520" y="372528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38" name=""/>
          <p:cNvGrpSpPr/>
          <p:nvPr/>
        </p:nvGrpSpPr>
        <p:grpSpPr>
          <a:xfrm>
            <a:off x="4707720" y="2362320"/>
            <a:ext cx="1232640" cy="406440"/>
            <a:chOff x="4707720" y="2362320"/>
            <a:chExt cx="1232640" cy="406440"/>
          </a:xfrm>
        </p:grpSpPr>
        <p:sp>
          <p:nvSpPr>
            <p:cNvPr id="639" name=""/>
            <p:cNvSpPr/>
            <p:nvPr/>
          </p:nvSpPr>
          <p:spPr>
            <a:xfrm>
              <a:off x="5562720" y="23623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07720" y="238788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"/>
            <p:cNvCxnSpPr>
              <a:stCxn id="640" idx="3"/>
              <a:endCxn id="639" idx="2"/>
            </p:cNvCxnSpPr>
            <p:nvPr/>
          </p:nvCxnSpPr>
          <p:spPr>
            <a:xfrm>
              <a:off x="5272200" y="2555640"/>
              <a:ext cx="272160" cy="1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or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 (bad styl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allRoo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overall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lef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righ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x = change(x);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 methods that modify a string actually return a new 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want to modify a string variable, we must re-assig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ll this general algorithmic pattern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 = change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use this approach when writing methods that modify the structure of a binary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lef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righ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65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3" name=""/>
            <p:cNvCxnSpPr>
              <a:stCxn id="662" idx="3"/>
              <a:endCxn id="66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4" name=""/>
            <p:cNvCxnSpPr>
              <a:stCxn id="662" idx="5"/>
              <a:endCxn id="66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5" name=""/>
            <p:cNvCxnSpPr>
              <a:stCxn id="660" idx="3"/>
              <a:endCxn id="65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6" name=""/>
            <p:cNvCxnSpPr>
              <a:stCxn id="660" idx="5"/>
              <a:endCxn id="65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"/>
            <p:cNvCxnSpPr>
              <a:stCxn id="661" idx="3"/>
              <a:endCxn id="66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0" name=""/>
            <p:cNvCxnSpPr>
              <a:stCxn id="661" idx="5"/>
              <a:endCxn id="66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2" name=""/>
            <p:cNvCxnSpPr>
              <a:stCxn id="671" idx="2"/>
              <a:endCxn id="66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B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STs below contain the sam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rders are "better" for search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584520" y="2362320"/>
            <a:ext cx="2359080" cy="4414320"/>
            <a:chOff x="3584520" y="2362320"/>
            <a:chExt cx="2359080" cy="4414320"/>
          </a:xfrm>
        </p:grpSpPr>
        <p:sp>
          <p:nvSpPr>
            <p:cNvPr id="676" name=""/>
            <p:cNvSpPr/>
            <p:nvPr/>
          </p:nvSpPr>
          <p:spPr>
            <a:xfrm>
              <a:off x="358452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33840" y="2957040"/>
              <a:ext cx="51120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8" name=""/>
            <p:cNvCxnSpPr>
              <a:stCxn id="677" idx="3"/>
              <a:endCxn id="676" idx="0"/>
            </p:cNvCxnSpPr>
            <p:nvPr/>
          </p:nvCxnSpPr>
          <p:spPr>
            <a:xfrm flipH="1">
              <a:off x="3841200" y="3403080"/>
              <a:ext cx="7671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9" name=""/>
            <p:cNvCxnSpPr>
              <a:stCxn id="677" idx="5"/>
              <a:endCxn id="680" idx="0"/>
            </p:cNvCxnSpPr>
            <p:nvPr/>
          </p:nvCxnSpPr>
          <p:spPr>
            <a:xfrm>
              <a:off x="4970160" y="3403080"/>
              <a:ext cx="7167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1" name=""/>
            <p:cNvSpPr/>
            <p:nvPr/>
          </p:nvSpPr>
          <p:spPr>
            <a:xfrm>
              <a:off x="5105520" y="6274080"/>
              <a:ext cx="51408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8304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3" name=""/>
            <p:cNvCxnSpPr>
              <a:stCxn id="676" idx="5"/>
              <a:endCxn id="682" idx="0"/>
            </p:cNvCxnSpPr>
            <p:nvPr/>
          </p:nvCxnSpPr>
          <p:spPr>
            <a:xfrm>
              <a:off x="4024080" y="4272840"/>
              <a:ext cx="21636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4" name=""/>
            <p:cNvCxnSpPr>
              <a:stCxn id="685" idx="5"/>
              <a:endCxn id="681" idx="0"/>
            </p:cNvCxnSpPr>
            <p:nvPr/>
          </p:nvCxnSpPr>
          <p:spPr>
            <a:xfrm>
              <a:off x="5183280" y="5938920"/>
              <a:ext cx="180000" cy="31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6" name=""/>
            <p:cNvSpPr/>
            <p:nvPr/>
          </p:nvSpPr>
          <p:spPr>
            <a:xfrm>
              <a:off x="4060800" y="2362320"/>
              <a:ext cx="145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7" name=""/>
            <p:cNvCxnSpPr>
              <a:stCxn id="686" idx="2"/>
              <a:endCxn id="677" idx="0"/>
            </p:cNvCxnSpPr>
            <p:nvPr/>
          </p:nvCxnSpPr>
          <p:spPr>
            <a:xfrm flipH="1">
              <a:off x="4788720" y="2739240"/>
              <a:ext cx="2520" cy="19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0" name=""/>
            <p:cNvSpPr/>
            <p:nvPr/>
          </p:nvSpPr>
          <p:spPr>
            <a:xfrm>
              <a:off x="542916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0552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9" name=""/>
            <p:cNvCxnSpPr>
              <a:stCxn id="680" idx="3"/>
              <a:endCxn id="688" idx="0"/>
            </p:cNvCxnSpPr>
            <p:nvPr/>
          </p:nvCxnSpPr>
          <p:spPr>
            <a:xfrm flipH="1">
              <a:off x="5361840" y="4272840"/>
              <a:ext cx="14220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5" name=""/>
            <p:cNvSpPr/>
            <p:nvPr/>
          </p:nvSpPr>
          <p:spPr>
            <a:xfrm>
              <a:off x="4743360" y="5492520"/>
              <a:ext cx="51444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0" name=""/>
            <p:cNvCxnSpPr>
              <a:stCxn id="688" idx="3"/>
              <a:endCxn id="685" idx="0"/>
            </p:cNvCxnSpPr>
            <p:nvPr/>
          </p:nvCxnSpPr>
          <p:spPr>
            <a:xfrm flipH="1">
              <a:off x="5000400" y="5116320"/>
              <a:ext cx="180000" cy="3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1" name=""/>
          <p:cNvGrpSpPr/>
          <p:nvPr/>
        </p:nvGrpSpPr>
        <p:grpSpPr>
          <a:xfrm>
            <a:off x="152280" y="3581280"/>
            <a:ext cx="3200400" cy="2987640"/>
            <a:chOff x="152280" y="3581280"/>
            <a:chExt cx="3200400" cy="2987640"/>
          </a:xfrm>
        </p:grpSpPr>
        <p:sp>
          <p:nvSpPr>
            <p:cNvPr id="692" name=""/>
            <p:cNvSpPr/>
            <p:nvPr/>
          </p:nvSpPr>
          <p:spPr>
            <a:xfrm>
              <a:off x="2841480" y="60404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9224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08400" y="508644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1960" y="508644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86080" y="4238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7" name=""/>
            <p:cNvCxnSpPr>
              <a:stCxn id="696" idx="3"/>
              <a:endCxn id="695" idx="0"/>
            </p:cNvCxnSpPr>
            <p:nvPr/>
          </p:nvCxnSpPr>
          <p:spPr>
            <a:xfrm flipH="1">
              <a:off x="81864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8" name=""/>
            <p:cNvCxnSpPr>
              <a:stCxn id="696" idx="5"/>
              <a:endCxn id="694" idx="0"/>
            </p:cNvCxnSpPr>
            <p:nvPr/>
          </p:nvCxnSpPr>
          <p:spPr>
            <a:xfrm>
              <a:off x="192240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9" name=""/>
            <p:cNvCxnSpPr>
              <a:stCxn id="694" idx="3"/>
              <a:endCxn id="693" idx="0"/>
            </p:cNvCxnSpPr>
            <p:nvPr/>
          </p:nvCxnSpPr>
          <p:spPr>
            <a:xfrm flipH="1">
              <a:off x="2249280" y="555768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0" name=""/>
            <p:cNvCxnSpPr>
              <a:stCxn id="694" idx="5"/>
              <a:endCxn id="692" idx="0"/>
            </p:cNvCxnSpPr>
            <p:nvPr/>
          </p:nvCxnSpPr>
          <p:spPr>
            <a:xfrm>
              <a:off x="2846520" y="555768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1" name=""/>
            <p:cNvSpPr/>
            <p:nvPr/>
          </p:nvSpPr>
          <p:spPr>
            <a:xfrm>
              <a:off x="998640" y="60404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228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3" name=""/>
            <p:cNvCxnSpPr>
              <a:stCxn id="695" idx="3"/>
              <a:endCxn id="702" idx="0"/>
            </p:cNvCxnSpPr>
            <p:nvPr/>
          </p:nvCxnSpPr>
          <p:spPr>
            <a:xfrm flipH="1">
              <a:off x="408960" y="556416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4" name=""/>
            <p:cNvCxnSpPr>
              <a:stCxn id="695" idx="5"/>
              <a:endCxn id="701" idx="0"/>
            </p:cNvCxnSpPr>
            <p:nvPr/>
          </p:nvCxnSpPr>
          <p:spPr>
            <a:xfrm>
              <a:off x="1000080" y="5557680"/>
              <a:ext cx="25596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5" name=""/>
            <p:cNvSpPr/>
            <p:nvPr/>
          </p:nvSpPr>
          <p:spPr>
            <a:xfrm>
              <a:off x="963720" y="35812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6" name=""/>
            <p:cNvCxnSpPr>
              <a:stCxn id="705" idx="2"/>
              <a:endCxn id="696" idx="0"/>
            </p:cNvCxnSpPr>
            <p:nvPr/>
          </p:nvCxnSpPr>
          <p:spPr>
            <a:xfrm>
              <a:off x="1739880" y="397836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07" name=""/>
          <p:cNvGrpSpPr/>
          <p:nvPr/>
        </p:nvGrpSpPr>
        <p:grpSpPr>
          <a:xfrm>
            <a:off x="6324480" y="1512720"/>
            <a:ext cx="2849400" cy="5268600"/>
            <a:chOff x="6324480" y="1512720"/>
            <a:chExt cx="2849400" cy="5268600"/>
          </a:xfrm>
        </p:grpSpPr>
        <p:sp>
          <p:nvSpPr>
            <p:cNvPr id="708" name=""/>
            <p:cNvSpPr/>
            <p:nvPr/>
          </p:nvSpPr>
          <p:spPr>
            <a:xfrm>
              <a:off x="7829280" y="28285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34200" y="21380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0" name=""/>
            <p:cNvCxnSpPr>
              <a:stCxn id="709" idx="3"/>
              <a:endCxn id="708" idx="0"/>
            </p:cNvCxnSpPr>
            <p:nvPr/>
          </p:nvCxnSpPr>
          <p:spPr>
            <a:xfrm flipH="1">
              <a:off x="8085960" y="2607840"/>
              <a:ext cx="123120" cy="20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1" name=""/>
            <p:cNvCxnSpPr>
              <a:stCxn id="712" idx="3"/>
              <a:endCxn id="713" idx="0"/>
            </p:cNvCxnSpPr>
            <p:nvPr/>
          </p:nvCxnSpPr>
          <p:spPr>
            <a:xfrm flipH="1">
              <a:off x="7476480" y="39844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4" name=""/>
            <p:cNvSpPr/>
            <p:nvPr/>
          </p:nvSpPr>
          <p:spPr>
            <a:xfrm>
              <a:off x="6324480" y="62528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24360" y="35143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5" name=""/>
            <p:cNvCxnSpPr>
              <a:stCxn id="708" idx="3"/>
              <a:endCxn id="712" idx="0"/>
            </p:cNvCxnSpPr>
            <p:nvPr/>
          </p:nvCxnSpPr>
          <p:spPr>
            <a:xfrm flipH="1">
              <a:off x="7781400" y="3298680"/>
              <a:ext cx="12240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6" name=""/>
            <p:cNvCxnSpPr>
              <a:stCxn id="717" idx="3"/>
              <a:endCxn id="714" idx="0"/>
            </p:cNvCxnSpPr>
            <p:nvPr/>
          </p:nvCxnSpPr>
          <p:spPr>
            <a:xfrm flipH="1">
              <a:off x="6581160" y="6041520"/>
              <a:ext cx="123120" cy="19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7616880" y="15127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9" name=""/>
            <p:cNvCxnSpPr>
              <a:stCxn id="718" idx="2"/>
              <a:endCxn id="709" idx="0"/>
            </p:cNvCxnSpPr>
            <p:nvPr/>
          </p:nvCxnSpPr>
          <p:spPr>
            <a:xfrm flipH="1">
              <a:off x="8389080" y="1909440"/>
              <a:ext cx="684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3" name=""/>
            <p:cNvSpPr/>
            <p:nvPr/>
          </p:nvSpPr>
          <p:spPr>
            <a:xfrm>
              <a:off x="7219800" y="420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14880" y="488592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1" name=""/>
            <p:cNvCxnSpPr>
              <a:stCxn id="713" idx="3"/>
              <a:endCxn id="720" idx="0"/>
            </p:cNvCxnSpPr>
            <p:nvPr/>
          </p:nvCxnSpPr>
          <p:spPr>
            <a:xfrm flipH="1">
              <a:off x="7171560" y="46702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7" name=""/>
            <p:cNvSpPr/>
            <p:nvPr/>
          </p:nvSpPr>
          <p:spPr>
            <a:xfrm>
              <a:off x="6629040" y="55717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2" name=""/>
            <p:cNvCxnSpPr>
              <a:stCxn id="720" idx="3"/>
              <a:endCxn id="717" idx="0"/>
            </p:cNvCxnSpPr>
            <p:nvPr/>
          </p:nvCxnSpPr>
          <p:spPr>
            <a:xfrm flipH="1">
              <a:off x="6886080" y="5356080"/>
              <a:ext cx="10368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and bal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lanced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ose subtrees differ in height by at most 1 and are themselves balanc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alanced tree of N nodes has a height of ~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ery unbalanced tree can have a height close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untime of adding to / searching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ST is closely related to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tree collections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in code to balance themsel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new nodes are ad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6629400" y="3635280"/>
            <a:ext cx="2209320" cy="2688840"/>
            <a:chOff x="6629400" y="3635280"/>
            <a:chExt cx="2209320" cy="2688840"/>
          </a:xfrm>
        </p:grpSpPr>
        <p:sp>
          <p:nvSpPr>
            <p:cNvPr id="726" name=""/>
            <p:cNvSpPr/>
            <p:nvPr/>
          </p:nvSpPr>
          <p:spPr>
            <a:xfrm>
              <a:off x="8494200" y="532080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54200" y="5951520"/>
              <a:ext cx="34596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202240" y="464796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56640" y="464796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80160" y="404964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1" name=""/>
            <p:cNvCxnSpPr>
              <a:stCxn id="730" idx="3"/>
              <a:endCxn id="729" idx="0"/>
            </p:cNvCxnSpPr>
            <p:nvPr/>
          </p:nvCxnSpPr>
          <p:spPr>
            <a:xfrm flipH="1">
              <a:off x="712944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2" name=""/>
            <p:cNvCxnSpPr>
              <a:stCxn id="730" idx="5"/>
              <a:endCxn id="728" idx="0"/>
            </p:cNvCxnSpPr>
            <p:nvPr/>
          </p:nvCxnSpPr>
          <p:spPr>
            <a:xfrm>
              <a:off x="787392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3" name=""/>
            <p:cNvCxnSpPr>
              <a:stCxn id="734" idx="3"/>
              <a:endCxn id="727" idx="0"/>
            </p:cNvCxnSpPr>
            <p:nvPr/>
          </p:nvCxnSpPr>
          <p:spPr>
            <a:xfrm flipH="1">
              <a:off x="7227360" y="5652000"/>
              <a:ext cx="1332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5" name=""/>
            <p:cNvCxnSpPr>
              <a:stCxn id="728" idx="5"/>
              <a:endCxn id="726" idx="0"/>
            </p:cNvCxnSpPr>
            <p:nvPr/>
          </p:nvCxnSpPr>
          <p:spPr>
            <a:xfrm>
              <a:off x="8497440" y="4979880"/>
              <a:ext cx="169560" cy="32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4" name=""/>
            <p:cNvSpPr/>
            <p:nvPr/>
          </p:nvSpPr>
          <p:spPr>
            <a:xfrm>
              <a:off x="7310160" y="532080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29400" y="532080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7" name=""/>
            <p:cNvCxnSpPr>
              <a:stCxn id="729" idx="3"/>
              <a:endCxn id="736" idx="0"/>
            </p:cNvCxnSpPr>
            <p:nvPr/>
          </p:nvCxnSpPr>
          <p:spPr>
            <a:xfrm flipH="1">
              <a:off x="6801840" y="4978800"/>
              <a:ext cx="20484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8" name=""/>
            <p:cNvCxnSpPr>
              <a:stCxn id="729" idx="5"/>
              <a:endCxn id="734" idx="0"/>
            </p:cNvCxnSpPr>
            <p:nvPr/>
          </p:nvCxnSpPr>
          <p:spPr>
            <a:xfrm>
              <a:off x="7253280" y="4978800"/>
              <a:ext cx="23076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9" name=""/>
            <p:cNvSpPr/>
            <p:nvPr/>
          </p:nvSpPr>
          <p:spPr>
            <a:xfrm>
              <a:off x="7115760" y="3635280"/>
              <a:ext cx="127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"/>
            <p:cNvCxnSpPr>
              <a:stCxn id="739" idx="2"/>
              <a:endCxn id="730" idx="0"/>
            </p:cNvCxnSpPr>
            <p:nvPr/>
          </p:nvCxnSpPr>
          <p:spPr>
            <a:xfrm>
              <a:off x="7751160" y="3866040"/>
              <a:ext cx="1440" cy="17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41" name=""/>
          <p:cNvSpPr/>
          <p:nvPr/>
        </p:nvSpPr>
        <p:spPr>
          <a:xfrm>
            <a:off x="632448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934880" y="601992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lanc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74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1" name=""/>
            <p:cNvCxnSpPr>
              <a:stCxn id="750" idx="3"/>
              <a:endCxn id="74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2" name=""/>
            <p:cNvCxnSpPr>
              <a:stCxn id="750" idx="5"/>
              <a:endCxn id="74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3" name=""/>
            <p:cNvCxnSpPr>
              <a:stCxn id="748" idx="3"/>
              <a:endCxn id="74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4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7" name=""/>
            <p:cNvCxnSpPr>
              <a:stCxn id="749" idx="3"/>
              <a:endCxn id="75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8" name=""/>
            <p:cNvCxnSpPr>
              <a:stCxn id="749" idx="5"/>
              <a:endCxn id="75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0" name=""/>
            <p:cNvCxnSpPr>
              <a:stCxn id="759" idx="2"/>
              <a:endCxn id="75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76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9" name=""/>
            <p:cNvCxnSpPr>
              <a:stCxn id="768" idx="3"/>
              <a:endCxn id="76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0" name=""/>
            <p:cNvCxnSpPr>
              <a:stCxn id="768" idx="5"/>
              <a:endCxn id="76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1" name=""/>
            <p:cNvCxnSpPr>
              <a:stCxn id="766" idx="3"/>
              <a:endCxn id="76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2" name=""/>
            <p:cNvCxnSpPr>
              <a:stCxn id="766" idx="5"/>
              <a:endCxn id="76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5" name=""/>
            <p:cNvCxnSpPr>
              <a:stCxn id="767" idx="3"/>
              <a:endCxn id="77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6" name=""/>
            <p:cNvCxnSpPr>
              <a:stCxn id="767" idx="5"/>
              <a:endCxn id="77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8" name=""/>
            <p:cNvCxnSpPr>
              <a:stCxn id="777" idx="2"/>
              <a:endCxn id="76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78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7" name=""/>
            <p:cNvCxnSpPr>
              <a:stCxn id="786" idx="3"/>
              <a:endCxn id="78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8" name=""/>
            <p:cNvCxnSpPr>
              <a:stCxn id="786" idx="5"/>
              <a:endCxn id="78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9" name=""/>
            <p:cNvCxnSpPr>
              <a:stCxn id="784" idx="3"/>
              <a:endCxn id="78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0" name=""/>
            <p:cNvCxnSpPr>
              <a:stCxn id="784" idx="5"/>
              <a:endCxn id="78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3" name=""/>
            <p:cNvCxnSpPr>
              <a:stCxn id="791" idx="3"/>
              <a:endCxn id="79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4" name=""/>
            <p:cNvCxnSpPr>
              <a:stCxn id="785" idx="5"/>
              <a:endCxn id="79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6" name=""/>
            <p:cNvCxnSpPr>
              <a:stCxn id="795" idx="2"/>
              <a:endCxn id="78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8" name=""/>
            <p:cNvCxnSpPr>
              <a:stCxn id="783" idx="5"/>
              <a:endCxn id="79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ders/files on a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mily genealogy; organizational 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: decision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s: parse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 (b + c) * 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phone T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622920" y="1295280"/>
            <a:ext cx="2292480" cy="2556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648320" y="3543480"/>
            <a:ext cx="2818440" cy="3009240"/>
            <a:chOff x="4648320" y="3543480"/>
            <a:chExt cx="2818440" cy="3009240"/>
          </a:xfrm>
        </p:grpSpPr>
        <p:sp>
          <p:nvSpPr>
            <p:cNvPr id="167" name=""/>
            <p:cNvSpPr/>
            <p:nvPr/>
          </p:nvSpPr>
          <p:spPr>
            <a:xfrm>
              <a:off x="699696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6944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3960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832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3960" y="354348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71" idx="3"/>
              <a:endCxn id="170" idx="0"/>
            </p:cNvCxnSpPr>
            <p:nvPr/>
          </p:nvCxnSpPr>
          <p:spPr>
            <a:xfrm flipH="1">
              <a:off x="488268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1" idx="5"/>
              <a:endCxn id="169" idx="0"/>
            </p:cNvCxnSpPr>
            <p:nvPr/>
          </p:nvCxnSpPr>
          <p:spPr>
            <a:xfrm>
              <a:off x="589536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9" idx="3"/>
              <a:endCxn id="168" idx="0"/>
            </p:cNvCxnSpPr>
            <p:nvPr/>
          </p:nvCxnSpPr>
          <p:spPr>
            <a:xfrm flipH="1">
              <a:off x="6104520" y="4798800"/>
              <a:ext cx="3038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9" idx="5"/>
              <a:endCxn id="167" idx="0"/>
            </p:cNvCxnSpPr>
            <p:nvPr/>
          </p:nvCxnSpPr>
          <p:spPr>
            <a:xfrm>
              <a:off x="6740640" y="4798800"/>
              <a:ext cx="49212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652752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964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68" idx="3"/>
              <a:endCxn id="177" idx="0"/>
            </p:cNvCxnSpPr>
            <p:nvPr/>
          </p:nvCxnSpPr>
          <p:spPr>
            <a:xfrm flipH="1">
              <a:off x="5634000" y="5601600"/>
              <a:ext cx="30420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68" idx="5"/>
              <a:endCxn id="176" idx="0"/>
            </p:cNvCxnSpPr>
            <p:nvPr/>
          </p:nvCxnSpPr>
          <p:spPr>
            <a:xfrm>
              <a:off x="6270480" y="5601600"/>
              <a:ext cx="49212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22280" y="4419720"/>
            <a:ext cx="264024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states for the node to be remov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both 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min value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32986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4944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56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0191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9432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"/>
          <p:cNvCxnSpPr>
            <a:stCxn id="805" idx="3"/>
            <a:endCxn id="804" idx="0"/>
          </p:cNvCxnSpPr>
          <p:nvPr/>
        </p:nvCxnSpPr>
        <p:spPr>
          <a:xfrm flipH="1">
            <a:off x="12758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805" idx="5"/>
            <a:endCxn id="803" idx="0"/>
          </p:cNvCxnSpPr>
          <p:nvPr/>
        </p:nvCxnSpPr>
        <p:spPr>
          <a:xfrm>
            <a:off x="23796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8" name=""/>
          <p:cNvCxnSpPr>
            <a:stCxn id="803" idx="3"/>
            <a:endCxn id="802" idx="0"/>
          </p:cNvCxnSpPr>
          <p:nvPr/>
        </p:nvCxnSpPr>
        <p:spPr>
          <a:xfrm flipH="1">
            <a:off x="2706480" y="5467320"/>
            <a:ext cx="23400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9" name=""/>
          <p:cNvCxnSpPr>
            <a:stCxn id="803" idx="5"/>
            <a:endCxn id="801" idx="0"/>
          </p:cNvCxnSpPr>
          <p:nvPr/>
        </p:nvCxnSpPr>
        <p:spPr>
          <a:xfrm>
            <a:off x="33037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0" name=""/>
          <p:cNvSpPr/>
          <p:nvPr/>
        </p:nvSpPr>
        <p:spPr>
          <a:xfrm>
            <a:off x="14558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2" name=""/>
          <p:cNvCxnSpPr>
            <a:stCxn id="804" idx="3"/>
            <a:endCxn id="811" idx="0"/>
          </p:cNvCxnSpPr>
          <p:nvPr/>
        </p:nvCxnSpPr>
        <p:spPr>
          <a:xfrm flipH="1">
            <a:off x="8661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3" name=""/>
          <p:cNvCxnSpPr>
            <a:stCxn id="804" idx="5"/>
            <a:endCxn id="810" idx="0"/>
          </p:cNvCxnSpPr>
          <p:nvPr/>
        </p:nvCxnSpPr>
        <p:spPr>
          <a:xfrm>
            <a:off x="14572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4" name=""/>
          <p:cNvSpPr/>
          <p:nvPr/>
        </p:nvSpPr>
        <p:spPr>
          <a:xfrm>
            <a:off x="14209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5" name=""/>
          <p:cNvCxnSpPr>
            <a:stCxn id="814" idx="2"/>
            <a:endCxn id="805" idx="0"/>
          </p:cNvCxnSpPr>
          <p:nvPr/>
        </p:nvCxnSpPr>
        <p:spPr>
          <a:xfrm>
            <a:off x="21970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6" name=""/>
          <p:cNvSpPr/>
          <p:nvPr/>
        </p:nvSpPr>
        <p:spPr>
          <a:xfrm>
            <a:off x="80992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6662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8197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7438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9" idx="3"/>
            <a:endCxn id="818" idx="0"/>
          </p:cNvCxnSpPr>
          <p:nvPr/>
        </p:nvCxnSpPr>
        <p:spPr>
          <a:xfrm flipH="1">
            <a:off x="60764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1" name=""/>
          <p:cNvCxnSpPr>
            <a:stCxn id="819" idx="5"/>
            <a:endCxn id="817" idx="0"/>
          </p:cNvCxnSpPr>
          <p:nvPr/>
        </p:nvCxnSpPr>
        <p:spPr>
          <a:xfrm>
            <a:off x="71802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2" name=""/>
          <p:cNvCxnSpPr>
            <a:stCxn id="817" idx="5"/>
            <a:endCxn id="816" idx="0"/>
          </p:cNvCxnSpPr>
          <p:nvPr/>
        </p:nvCxnSpPr>
        <p:spPr>
          <a:xfrm>
            <a:off x="81043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3" name=""/>
          <p:cNvSpPr/>
          <p:nvPr/>
        </p:nvSpPr>
        <p:spPr>
          <a:xfrm>
            <a:off x="62564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100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"/>
          <p:cNvCxnSpPr>
            <a:stCxn id="818" idx="3"/>
            <a:endCxn id="824" idx="0"/>
          </p:cNvCxnSpPr>
          <p:nvPr/>
        </p:nvCxnSpPr>
        <p:spPr>
          <a:xfrm flipH="1">
            <a:off x="56667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8" idx="5"/>
            <a:endCxn id="823" idx="0"/>
          </p:cNvCxnSpPr>
          <p:nvPr/>
        </p:nvCxnSpPr>
        <p:spPr>
          <a:xfrm>
            <a:off x="62578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7" name=""/>
          <p:cNvSpPr/>
          <p:nvPr/>
        </p:nvSpPr>
        <p:spPr>
          <a:xfrm>
            <a:off x="62215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"/>
          <p:cNvCxnSpPr>
            <a:stCxn id="827" idx="2"/>
            <a:endCxn id="819" idx="0"/>
          </p:cNvCxnSpPr>
          <p:nvPr/>
        </p:nvCxnSpPr>
        <p:spPr>
          <a:xfrm>
            <a:off x="69976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3495600" y="4495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835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0" name=""/>
            <p:cNvCxnSpPr>
              <a:stCxn id="839" idx="3"/>
              <a:endCxn id="838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1" name=""/>
            <p:cNvCxnSpPr>
              <a:stCxn id="839" idx="5"/>
              <a:endCxn id="837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37" idx="3"/>
              <a:endCxn id="836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37" idx="5"/>
              <a:endCxn id="835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4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6" name=""/>
            <p:cNvCxnSpPr>
              <a:stCxn id="838" idx="3"/>
              <a:endCxn id="845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7" name=""/>
            <p:cNvCxnSpPr>
              <a:stCxn id="838" idx="5"/>
              <a:endCxn id="844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8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9" name=""/>
            <p:cNvCxnSpPr>
              <a:stCxn id="848" idx="2"/>
              <a:endCxn id="839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853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8" name=""/>
            <p:cNvCxnSpPr>
              <a:stCxn id="857" idx="3"/>
              <a:endCxn id="856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9" name=""/>
            <p:cNvCxnSpPr>
              <a:stCxn id="857" idx="5"/>
              <a:endCxn id="855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0" name=""/>
            <p:cNvCxnSpPr>
              <a:stCxn id="855" idx="3"/>
              <a:endCxn id="854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1" name=""/>
            <p:cNvCxnSpPr>
              <a:stCxn id="855" idx="5"/>
              <a:endCxn id="853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2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4" name=""/>
            <p:cNvCxnSpPr>
              <a:stCxn id="856" idx="3"/>
              <a:endCxn id="863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5" name=""/>
            <p:cNvCxnSpPr>
              <a:stCxn id="856" idx="5"/>
              <a:endCxn id="862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6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7" name=""/>
            <p:cNvCxnSpPr>
              <a:stCxn id="866" idx="2"/>
              <a:endCxn id="857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68" name=""/>
          <p:cNvSpPr/>
          <p:nvPr/>
        </p:nvSpPr>
        <p:spPr>
          <a:xfrm>
            <a:off x="4191120" y="6172200"/>
            <a:ext cx="512640" cy="488880"/>
          </a:xfrm>
          <a:prstGeom prst="ellipse">
            <a:avLst/>
          </a:prstGeom>
          <a:solidFill>
            <a:srgbClr val="fcd4d4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"/>
          <p:cNvCxnSpPr>
            <a:stCxn id="862" idx="5"/>
            <a:endCxn id="868" idx="0"/>
          </p:cNvCxnSpPr>
          <p:nvPr/>
        </p:nvCxnSpPr>
        <p:spPr>
          <a:xfrm>
            <a:off x="4257360" y="5814720"/>
            <a:ext cx="191160" cy="338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archTr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(THIS CODE DOES NOT WORK PROPERLY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6477120" y="4502160"/>
            <a:ext cx="2361960" cy="1789200"/>
            <a:chOff x="6477120" y="4502160"/>
            <a:chExt cx="2361960" cy="1789200"/>
          </a:xfrm>
        </p:grpSpPr>
        <p:sp>
          <p:nvSpPr>
            <p:cNvPr id="873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8" name=""/>
            <p:cNvCxnSpPr>
              <a:stCxn id="877" idx="3"/>
              <a:endCxn id="876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9" name=""/>
            <p:cNvCxnSpPr>
              <a:stCxn id="877" idx="5"/>
              <a:endCxn id="875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0" name=""/>
            <p:cNvCxnSpPr>
              <a:stCxn id="875" idx="3"/>
              <a:endCxn id="874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1" name=""/>
            <p:cNvCxnSpPr>
              <a:stCxn id="875" idx="5"/>
              <a:endCxn id="873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2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4" name=""/>
            <p:cNvCxnSpPr>
              <a:stCxn id="876" idx="3"/>
              <a:endCxn id="883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76" idx="5"/>
              <a:endCxn id="882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verallRoot = change(overall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 = change(no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left = change(node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right = change(node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no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89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3" name=""/>
            <p:cNvCxnSpPr>
              <a:stCxn id="902" idx="3"/>
              <a:endCxn id="90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4" name=""/>
            <p:cNvCxnSpPr>
              <a:stCxn id="902" idx="5"/>
              <a:endCxn id="90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5" name=""/>
            <p:cNvCxnSpPr>
              <a:stCxn id="900" idx="3"/>
              <a:endCxn id="89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6" name=""/>
            <p:cNvCxnSpPr>
              <a:stCxn id="900" idx="5"/>
              <a:endCxn id="89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9" name=""/>
            <p:cNvCxnSpPr>
              <a:stCxn id="901" idx="3"/>
              <a:endCxn id="90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0" name=""/>
            <p:cNvCxnSpPr>
              <a:stCxn id="901" idx="5"/>
              <a:endCxn id="90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2" name=""/>
            <p:cNvCxnSpPr>
              <a:stCxn id="911" idx="2"/>
              <a:endCxn id="90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91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1" name=""/>
            <p:cNvCxnSpPr>
              <a:stCxn id="920" idx="3"/>
              <a:endCxn id="91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2" name=""/>
            <p:cNvCxnSpPr>
              <a:stCxn id="920" idx="5"/>
              <a:endCxn id="91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3" name=""/>
            <p:cNvCxnSpPr>
              <a:stCxn id="918" idx="3"/>
              <a:endCxn id="91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4" name=""/>
            <p:cNvCxnSpPr>
              <a:stCxn id="918" idx="5"/>
              <a:endCxn id="91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7" name=""/>
            <p:cNvCxnSpPr>
              <a:stCxn id="919" idx="3"/>
              <a:endCxn id="92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19" idx="5"/>
              <a:endCxn id="92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0" name=""/>
            <p:cNvCxnSpPr>
              <a:stCxn id="929" idx="2"/>
              <a:endCxn id="92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93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9" name=""/>
            <p:cNvCxnSpPr>
              <a:stCxn id="938" idx="3"/>
              <a:endCxn id="93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0" name=""/>
            <p:cNvCxnSpPr>
              <a:stCxn id="938" idx="5"/>
              <a:endCxn id="93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1" name=""/>
            <p:cNvCxnSpPr>
              <a:stCxn id="936" idx="3"/>
              <a:endCxn id="93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2" name=""/>
            <p:cNvCxnSpPr>
              <a:stCxn id="936" idx="5"/>
              <a:endCxn id="93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5" name=""/>
            <p:cNvCxnSpPr>
              <a:stCxn id="937" idx="3"/>
              <a:endCxn id="94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7" idx="5"/>
              <a:endCxn id="94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8" name=""/>
            <p:cNvCxnSpPr>
              <a:stCxn id="947" idx="2"/>
              <a:endCxn id="93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95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7" name=""/>
            <p:cNvCxnSpPr>
              <a:stCxn id="956" idx="3"/>
              <a:endCxn id="95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8" name=""/>
            <p:cNvCxnSpPr>
              <a:stCxn id="956" idx="5"/>
              <a:endCxn id="95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9" name=""/>
            <p:cNvCxnSpPr>
              <a:stCxn id="954" idx="3"/>
              <a:endCxn id="95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0" name=""/>
            <p:cNvCxnSpPr>
              <a:stCxn id="954" idx="5"/>
              <a:endCxn id="95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3" name=""/>
            <p:cNvCxnSpPr>
              <a:stCxn id="961" idx="3"/>
              <a:endCxn id="96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55" idx="5"/>
              <a:endCxn id="96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6" name=""/>
            <p:cNvCxnSpPr>
              <a:stCxn id="965" idx="2"/>
              <a:endCxn id="95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8" name=""/>
            <p:cNvCxnSpPr>
              <a:stCxn id="953" idx="5"/>
              <a:endCxn id="96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wit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s are a mixture of linked lists and 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ed very elegant (perhaps beautiful!) by CSE ne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icult for novices to ma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doesn't work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works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52280" y="3244680"/>
            <a:ext cx="2368440" cy="2759040"/>
            <a:chOff x="152280" y="3244680"/>
            <a:chExt cx="2368440" cy="2759040"/>
          </a:xfrm>
        </p:grpSpPr>
        <p:sp>
          <p:nvSpPr>
            <p:cNvPr id="972" name=""/>
            <p:cNvSpPr/>
            <p:nvPr/>
          </p:nvSpPr>
          <p:spPr>
            <a:xfrm>
              <a:off x="561960" y="46335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86080" y="38509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4" name=""/>
            <p:cNvCxnSpPr>
              <a:stCxn id="973" idx="3"/>
              <a:endCxn id="972" idx="0"/>
            </p:cNvCxnSpPr>
            <p:nvPr/>
          </p:nvCxnSpPr>
          <p:spPr>
            <a:xfrm flipH="1">
              <a:off x="818640" y="42937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5" name=""/>
            <p:cNvSpPr/>
            <p:nvPr/>
          </p:nvSpPr>
          <p:spPr>
            <a:xfrm>
              <a:off x="998640" y="55148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2280" y="55148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7" name=""/>
            <p:cNvCxnSpPr>
              <a:stCxn id="972" idx="3"/>
              <a:endCxn id="976" idx="0"/>
            </p:cNvCxnSpPr>
            <p:nvPr/>
          </p:nvCxnSpPr>
          <p:spPr>
            <a:xfrm flipH="1">
              <a:off x="408960" y="50749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8" name=""/>
            <p:cNvCxnSpPr>
              <a:stCxn id="972" idx="5"/>
              <a:endCxn id="975" idx="0"/>
            </p:cNvCxnSpPr>
            <p:nvPr/>
          </p:nvCxnSpPr>
          <p:spPr>
            <a:xfrm>
              <a:off x="1000080" y="5070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9" name=""/>
            <p:cNvSpPr/>
            <p:nvPr/>
          </p:nvSpPr>
          <p:spPr>
            <a:xfrm>
              <a:off x="963720" y="3244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0" name=""/>
            <p:cNvCxnSpPr>
              <a:stCxn id="979" idx="2"/>
              <a:endCxn id="973" idx="0"/>
            </p:cNvCxnSpPr>
            <p:nvPr/>
          </p:nvCxnSpPr>
          <p:spPr>
            <a:xfrm>
              <a:off x="1739880" y="3611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81" name=""/>
          <p:cNvSpPr/>
          <p:nvPr/>
        </p:nvSpPr>
        <p:spPr>
          <a:xfrm>
            <a:off x="29520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-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3200400" y="3260880"/>
            <a:ext cx="1959120" cy="2759040"/>
            <a:chOff x="3200400" y="3260880"/>
            <a:chExt cx="1959120" cy="2759040"/>
          </a:xfrm>
        </p:grpSpPr>
        <p:sp>
          <p:nvSpPr>
            <p:cNvPr id="983" name=""/>
            <p:cNvSpPr/>
            <p:nvPr/>
          </p:nvSpPr>
          <p:spPr>
            <a:xfrm>
              <a:off x="3200400" y="465012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124520" y="38674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5" name=""/>
            <p:cNvCxnSpPr>
              <a:stCxn id="984" idx="3"/>
              <a:endCxn id="983" idx="0"/>
            </p:cNvCxnSpPr>
            <p:nvPr/>
          </p:nvCxnSpPr>
          <p:spPr>
            <a:xfrm flipH="1">
              <a:off x="3457080" y="4309920"/>
              <a:ext cx="741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6" name=""/>
            <p:cNvSpPr/>
            <p:nvPr/>
          </p:nvSpPr>
          <p:spPr>
            <a:xfrm>
              <a:off x="3637080" y="55310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7" name=""/>
            <p:cNvCxnSpPr>
              <a:stCxn id="983" idx="5"/>
              <a:endCxn id="986" idx="0"/>
            </p:cNvCxnSpPr>
            <p:nvPr/>
          </p:nvCxnSpPr>
          <p:spPr>
            <a:xfrm>
              <a:off x="363852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8" name=""/>
            <p:cNvSpPr/>
            <p:nvPr/>
          </p:nvSpPr>
          <p:spPr>
            <a:xfrm>
              <a:off x="3602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9" name=""/>
            <p:cNvCxnSpPr>
              <a:stCxn id="988" idx="2"/>
              <a:endCxn id="984" idx="0"/>
            </p:cNvCxnSpPr>
            <p:nvPr/>
          </p:nvCxnSpPr>
          <p:spPr>
            <a:xfrm>
              <a:off x="437796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0" name=""/>
          <p:cNvGrpSpPr/>
          <p:nvPr/>
        </p:nvGrpSpPr>
        <p:grpSpPr>
          <a:xfrm>
            <a:off x="5527800" y="3260880"/>
            <a:ext cx="1565280" cy="1860480"/>
            <a:chOff x="5527800" y="3260880"/>
            <a:chExt cx="1565280" cy="1860480"/>
          </a:xfrm>
        </p:grpSpPr>
        <p:sp>
          <p:nvSpPr>
            <p:cNvPr id="991" name=""/>
            <p:cNvSpPr/>
            <p:nvPr/>
          </p:nvSpPr>
          <p:spPr>
            <a:xfrm>
              <a:off x="6050160" y="3867480"/>
              <a:ext cx="5108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578640" y="463248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3" name=""/>
            <p:cNvCxnSpPr/>
            <p:nvPr/>
          </p:nvCxnSpPr>
          <p:spPr>
            <a:xfrm>
              <a:off x="6502320" y="4251240"/>
              <a:ext cx="255960" cy="42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4" name=""/>
            <p:cNvSpPr/>
            <p:nvPr/>
          </p:nvSpPr>
          <p:spPr>
            <a:xfrm>
              <a:off x="552780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5" name=""/>
            <p:cNvCxnSpPr>
              <a:stCxn id="994" idx="2"/>
              <a:endCxn id="991" idx="0"/>
            </p:cNvCxnSpPr>
            <p:nvPr/>
          </p:nvCxnSpPr>
          <p:spPr>
            <a:xfrm>
              <a:off x="630360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6" name=""/>
          <p:cNvGrpSpPr/>
          <p:nvPr/>
        </p:nvGrpSpPr>
        <p:grpSpPr>
          <a:xfrm>
            <a:off x="7635960" y="3260880"/>
            <a:ext cx="1557000" cy="1094760"/>
            <a:chOff x="7635960" y="3260880"/>
            <a:chExt cx="1557000" cy="1094760"/>
          </a:xfrm>
        </p:grpSpPr>
        <p:sp>
          <p:nvSpPr>
            <p:cNvPr id="997" name=""/>
            <p:cNvSpPr/>
            <p:nvPr/>
          </p:nvSpPr>
          <p:spPr>
            <a:xfrm>
              <a:off x="8157960" y="3867120"/>
              <a:ext cx="511200" cy="488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63596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"/>
            <p:cNvCxnSpPr>
              <a:stCxn id="998" idx="2"/>
              <a:endCxn id="997" idx="0"/>
            </p:cNvCxnSpPr>
            <p:nvPr/>
          </p:nvCxnSpPr>
          <p:spPr>
            <a:xfrm>
              <a:off x="8412120" y="3627360"/>
              <a:ext cx="2160" cy="22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0" name=""/>
          <p:cNvSpPr/>
          <p:nvPr/>
        </p:nvSpPr>
        <p:spPr>
          <a:xfrm>
            <a:off x="289224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483160" y="53341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th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09480" y="3260880"/>
            <a:ext cx="3200400" cy="2759040"/>
            <a:chOff x="609480" y="3260880"/>
            <a:chExt cx="3200400" cy="2759040"/>
          </a:xfrm>
        </p:grpSpPr>
        <p:sp>
          <p:nvSpPr>
            <p:cNvPr id="1005" name=""/>
            <p:cNvSpPr/>
            <p:nvPr/>
          </p:nvSpPr>
          <p:spPr>
            <a:xfrm>
              <a:off x="32986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4944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56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191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9432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0" name=""/>
            <p:cNvCxnSpPr>
              <a:stCxn id="1009" idx="3"/>
              <a:endCxn id="1008" idx="0"/>
            </p:cNvCxnSpPr>
            <p:nvPr/>
          </p:nvCxnSpPr>
          <p:spPr>
            <a:xfrm flipH="1">
              <a:off x="12758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1009" idx="5"/>
              <a:endCxn id="1007" idx="0"/>
            </p:cNvCxnSpPr>
            <p:nvPr/>
          </p:nvCxnSpPr>
          <p:spPr>
            <a:xfrm>
              <a:off x="23796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2" name=""/>
            <p:cNvCxnSpPr>
              <a:stCxn id="1007" idx="3"/>
              <a:endCxn id="1006" idx="0"/>
            </p:cNvCxnSpPr>
            <p:nvPr/>
          </p:nvCxnSpPr>
          <p:spPr>
            <a:xfrm flipH="1">
              <a:off x="2706480" y="50864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3" name=""/>
            <p:cNvCxnSpPr>
              <a:stCxn id="1007" idx="5"/>
              <a:endCxn id="1005" idx="0"/>
            </p:cNvCxnSpPr>
            <p:nvPr/>
          </p:nvCxnSpPr>
          <p:spPr>
            <a:xfrm>
              <a:off x="33037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4" name=""/>
            <p:cNvSpPr/>
            <p:nvPr/>
          </p:nvSpPr>
          <p:spPr>
            <a:xfrm>
              <a:off x="14558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094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6" name=""/>
            <p:cNvCxnSpPr>
              <a:stCxn id="1008" idx="3"/>
              <a:endCxn id="1015" idx="0"/>
            </p:cNvCxnSpPr>
            <p:nvPr/>
          </p:nvCxnSpPr>
          <p:spPr>
            <a:xfrm flipH="1">
              <a:off x="8661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7" name=""/>
            <p:cNvCxnSpPr>
              <a:stCxn id="1008" idx="5"/>
              <a:endCxn id="1014" idx="0"/>
            </p:cNvCxnSpPr>
            <p:nvPr/>
          </p:nvCxnSpPr>
          <p:spPr>
            <a:xfrm>
              <a:off x="14572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8" name=""/>
            <p:cNvSpPr/>
            <p:nvPr/>
          </p:nvSpPr>
          <p:spPr>
            <a:xfrm>
              <a:off x="14209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9" name=""/>
            <p:cNvCxnSpPr>
              <a:stCxn id="1018" idx="2"/>
              <a:endCxn id="1009" idx="0"/>
            </p:cNvCxnSpPr>
            <p:nvPr/>
          </p:nvCxnSpPr>
          <p:spPr>
            <a:xfrm>
              <a:off x="21970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20" name=""/>
          <p:cNvGrpSpPr/>
          <p:nvPr/>
        </p:nvGrpSpPr>
        <p:grpSpPr>
          <a:xfrm>
            <a:off x="5410080" y="3260880"/>
            <a:ext cx="3200400" cy="2759040"/>
            <a:chOff x="5410080" y="3260880"/>
            <a:chExt cx="3200400" cy="2759040"/>
          </a:xfrm>
        </p:grpSpPr>
        <p:sp>
          <p:nvSpPr>
            <p:cNvPr id="1021" name=""/>
            <p:cNvSpPr/>
            <p:nvPr/>
          </p:nvSpPr>
          <p:spPr>
            <a:xfrm>
              <a:off x="80992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6662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197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438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5" name=""/>
            <p:cNvCxnSpPr>
              <a:stCxn id="1024" idx="3"/>
              <a:endCxn id="1023" idx="0"/>
            </p:cNvCxnSpPr>
            <p:nvPr/>
          </p:nvCxnSpPr>
          <p:spPr>
            <a:xfrm flipH="1">
              <a:off x="60764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6" name=""/>
            <p:cNvCxnSpPr>
              <a:stCxn id="1024" idx="5"/>
              <a:endCxn id="1022" idx="0"/>
            </p:cNvCxnSpPr>
            <p:nvPr/>
          </p:nvCxnSpPr>
          <p:spPr>
            <a:xfrm>
              <a:off x="71802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7" name=""/>
            <p:cNvCxnSpPr>
              <a:stCxn id="1022" idx="5"/>
              <a:endCxn id="1021" idx="0"/>
            </p:cNvCxnSpPr>
            <p:nvPr/>
          </p:nvCxnSpPr>
          <p:spPr>
            <a:xfrm>
              <a:off x="81043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8" name=""/>
            <p:cNvSpPr/>
            <p:nvPr/>
          </p:nvSpPr>
          <p:spPr>
            <a:xfrm>
              <a:off x="62564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4100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0" name=""/>
            <p:cNvCxnSpPr>
              <a:stCxn id="1023" idx="3"/>
              <a:endCxn id="1029" idx="0"/>
            </p:cNvCxnSpPr>
            <p:nvPr/>
          </p:nvCxnSpPr>
          <p:spPr>
            <a:xfrm flipH="1">
              <a:off x="56667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1" name=""/>
            <p:cNvCxnSpPr>
              <a:stCxn id="1023" idx="5"/>
              <a:endCxn id="1028" idx="0"/>
            </p:cNvCxnSpPr>
            <p:nvPr/>
          </p:nvCxnSpPr>
          <p:spPr>
            <a:xfrm>
              <a:off x="62578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2" name=""/>
            <p:cNvSpPr/>
            <p:nvPr/>
          </p:nvSpPr>
          <p:spPr>
            <a:xfrm>
              <a:off x="6221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3" name=""/>
            <p:cNvCxnSpPr>
              <a:stCxn id="1032" idx="2"/>
              <a:endCxn id="1024" idx="0"/>
            </p:cNvCxnSpPr>
            <p:nvPr/>
          </p:nvCxnSpPr>
          <p:spPr>
            <a:xfrm>
              <a:off x="69976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34" name=""/>
          <p:cNvSpPr/>
          <p:nvPr/>
        </p:nvSpPr>
        <p:spPr>
          <a:xfrm>
            <a:off x="3495600" y="4114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ing a data value and left/right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pmost node of a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has no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n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y internal node;  neither the root nor a 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refers to thi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this node refers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b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with a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86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"/>
            <p:cNvCxnSpPr>
              <a:stCxn id="190" idx="3"/>
              <a:endCxn id="189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>
              <a:stCxn id="190" idx="5"/>
              <a:endCxn id="188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8" idx="3"/>
              <a:endCxn id="187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88" idx="5"/>
              <a:endCxn id="186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5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89" idx="3"/>
              <a:endCxn id="196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89" idx="5"/>
              <a:endCxn id="195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"/>
            <p:cNvCxnSpPr>
              <a:stCxn id="199" idx="2"/>
              <a:endCxn id="190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tree of nodes reachable to the left/right from the current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 of the longest path from the root to any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the path from a roo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 give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ll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very bran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2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204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8" idx="3"/>
              <a:endCxn id="207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208" idx="5"/>
              <a:endCxn id="206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stCxn id="206" idx="3"/>
              <a:endCxn id="205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206" idx="5"/>
              <a:endCxn id="204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"/>
            <p:cNvCxnSpPr>
              <a:stCxn id="207" idx="3"/>
              <a:endCxn id="214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7" idx="5"/>
              <a:endCxn id="213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"/>
            <p:cNvCxnSpPr>
              <a:stCxn id="217" idx="2"/>
              <a:endCxn id="208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9" name=""/>
          <p:cNvSpPr/>
          <p:nvPr/>
        </p:nvSpPr>
        <p:spPr>
          <a:xfrm>
            <a:off x="5029200" y="41148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3960" y="3733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0640" y="4129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6760" y="5006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6760" y="59436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tree node for inte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asic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 node 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ores data and refers to left/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nodes can be linked together into a large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581280" y="182880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581280" y="3581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9080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2578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556320" y="583884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289548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5334120"/>
            <a:ext cx="62532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257440" y="51195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26664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9828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56832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93668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546600" y="624204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914960" y="623880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Nod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Node object is one node in a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Nod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data;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ata stored at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lef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righ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leaf node with the given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(data, null, nul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branch node with the given data and link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, IntTreeNode lef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TreeNode r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left = lef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ight = r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40Z</dcterms:modified>
  <cp:revision>378</cp:revision>
  <dc:subject/>
  <dc:title>CSE 142 Python Slides</dc:title>
</cp:coreProperties>
</file>