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5294-DF02-43F9-BE60-9B9654D0D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452B-D615-4C08-AB9A-FAA1EE8EC8D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9Z</dcterms:modified>
  <cp:revision>127</cp:revision>
  <dc:subject/>
  <dc:title>CSE 142 Python Slides</dc:title>
</cp:coreProperties>
</file>