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81DAB0A-51BD-406D-AF64-5F5526B53B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Outp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2 and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9 and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It's also useful to write a program that prompts for multiple values, both on the same line or each on its own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It's also useful to write a program that prompts for multiple values, both on the same line or each on its own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oto Sans CJK SC"/>
              </a:rPr>
              <a:t>You have already called System.out.println and passed parameters to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9902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0680"/>
            <a:ext cx="89902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438696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8480" y="1294920"/>
            <a:ext cx="438696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0680"/>
            <a:ext cx="438696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8480" y="4000680"/>
            <a:ext cx="438696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289476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1760" y="1294920"/>
            <a:ext cx="289476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1600" y="1294920"/>
            <a:ext cx="289476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0680"/>
            <a:ext cx="289476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1760" y="4000680"/>
            <a:ext cx="289476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1600" y="4000680"/>
            <a:ext cx="289476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4920"/>
            <a:ext cx="899028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99028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438696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8480" y="1294920"/>
            <a:ext cx="438696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438696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8480" y="1294920"/>
            <a:ext cx="438696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0680"/>
            <a:ext cx="438696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4920"/>
            <a:ext cx="899028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438696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8480" y="1294920"/>
            <a:ext cx="438696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8480" y="4000680"/>
            <a:ext cx="438696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438696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8480" y="1294920"/>
            <a:ext cx="438696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0680"/>
            <a:ext cx="89902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9902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0680"/>
            <a:ext cx="89902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438696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8480" y="1294920"/>
            <a:ext cx="438696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0680"/>
            <a:ext cx="438696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8480" y="4000680"/>
            <a:ext cx="438696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289476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1760" y="1294920"/>
            <a:ext cx="289476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1600" y="1294920"/>
            <a:ext cx="289476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0680"/>
            <a:ext cx="289476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1760" y="4000680"/>
            <a:ext cx="289476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1600" y="4000680"/>
            <a:ext cx="289476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99028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438696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8480" y="1294920"/>
            <a:ext cx="438696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438696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8480" y="1294920"/>
            <a:ext cx="438696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0680"/>
            <a:ext cx="438696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438696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8480" y="1294920"/>
            <a:ext cx="438696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8480" y="4000680"/>
            <a:ext cx="438696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438696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8480" y="1294920"/>
            <a:ext cx="438696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0680"/>
            <a:ext cx="89902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4920"/>
            <a:ext cx="899028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006271E-906C-4DA0-A2CC-8BB34ABE69AE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096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spcBef>
                <a:spcPts val="55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 algn="ctr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3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meters and Ob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ow parameters are pass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the method is call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1280" indent="-272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lue is stored into the parameter variab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1280" indent="-272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's code executes using tha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1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nt(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nt(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chant(int time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times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Just a salad..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651040" y="3328920"/>
            <a:ext cx="3198960" cy="1064880"/>
            <a:chOff x="2651040" y="3328920"/>
            <a:chExt cx="3198960" cy="1064880"/>
          </a:xfrm>
        </p:grpSpPr>
        <p:sp>
          <p:nvSpPr>
            <p:cNvPr id="122" name=""/>
            <p:cNvSpPr/>
            <p:nvPr/>
          </p:nvSpPr>
          <p:spPr>
            <a:xfrm>
              <a:off x="2651040" y="3328920"/>
              <a:ext cx="2551320" cy="49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67160" y="3738960"/>
              <a:ext cx="582840" cy="654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2651040" y="3657600"/>
            <a:ext cx="3208320" cy="736560"/>
            <a:chOff x="2651040" y="3657600"/>
            <a:chExt cx="3208320" cy="736560"/>
          </a:xfrm>
        </p:grpSpPr>
        <p:sp>
          <p:nvSpPr>
            <p:cNvPr id="125" name=""/>
            <p:cNvSpPr/>
            <p:nvPr/>
          </p:nvSpPr>
          <p:spPr>
            <a:xfrm>
              <a:off x="5276880" y="3740040"/>
              <a:ext cx="582480" cy="65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51040" y="3657600"/>
              <a:ext cx="255132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err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 method accepts a parameter, it is illegal to call it without passing any value for that parame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chant();  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// ERROR: parameter value requir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value passed to a method must be of the correct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chant(3.7);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// ERROR: must be of type i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hang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to use a parameterized method for drawing lines of sta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several lines of sta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Uses a parameterized method to remove redundanc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tars2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1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3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number of stars plus a line break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line(int c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parame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ethod can accept multiple parameters. (separate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calling it, you must pass values for each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lar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params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4, 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17, 6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8, 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0, 8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Number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numb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c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umb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4444444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7171717171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0000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to draw boxes with parame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several lines and boxes made of sta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hird version with multiple parameterized method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tars3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1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3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x(10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x(5, 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x(20, 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number of stars plus a line break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line(int c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count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a box of stars of the given siz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box(int width, int heigh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line = 1; line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eigh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2; line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space = 1; space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idth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2; space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Valu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0680" indent="-2206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hen primitive variables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are passed as parameters, their values are copi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8680" indent="-2667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ing the parameter will not affect the variable passed i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trange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x +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1. x =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2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ange(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2. x =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5033880"/>
            <a:ext cx="1590480" cy="113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. x = 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. x = 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"Parameter Mystery" problem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arameterMyste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 =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z = 5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stery(z, y, 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stery(y, x, z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ystery(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" and " +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5486400" y="4572000"/>
            <a:ext cx="2589120" cy="608040"/>
            <a:chOff x="5486400" y="4572000"/>
            <a:chExt cx="2589120" cy="608040"/>
          </a:xfrm>
        </p:grpSpPr>
        <p:sp>
          <p:nvSpPr>
            <p:cNvPr id="145" name=""/>
            <p:cNvSpPr/>
            <p:nvPr/>
          </p:nvSpPr>
          <p:spPr>
            <a:xfrm>
              <a:off x="5486400" y="4572000"/>
              <a:ext cx="608040" cy="608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77120" y="4572000"/>
              <a:ext cx="608040" cy="608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467480" y="4572000"/>
              <a:ext cx="608040" cy="608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equence of text charac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"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x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br>
              <a:rPr sz="2200"/>
            </a:br>
            <a:br>
              <a:rPr sz="9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name = "Marla Singer";</a:t>
            </a:r>
            <a:br>
              <a:rPr sz="2200"/>
            </a:br>
            <a:br>
              <a:rPr sz="9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y = 5;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point = "(" + x + ", " + y + ")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reci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e for baking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ok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x the following ingredients in a bow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flo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 but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 sug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g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4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ounds chocolate chips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ace on sheet and Bake for about 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1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inut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e for baking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ok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x the following ingredients in a bow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flo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but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sug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g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8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ounds chocolate chips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ace on sheet and Bake for about 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1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inut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 as parame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tringParameters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ayHello("Marty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teacher = "Bictolia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ayHello(teacher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sayHello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Welcome, " + nam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elcome, Mar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elcome, Bictoli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8520" indent="-21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to use string parameters. Use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pea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prints a string many ti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several lines and boxes made of sta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urth version with String parame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tars4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1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3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x(10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x(5, 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x(20, 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number of stars plus a line break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line(int c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peat("*", coun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a box of stars of the given siz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box(int width, int heigh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line = 1; line &lt;= height - 2; line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peat(" ", width - 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String the given number of tim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repeat(String s, int time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i = 1; i &lt;= times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(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turn valu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's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th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1219320"/>
          <a:ext cx="6644880" cy="5260320"/>
        </p:xfrm>
        <a:graphic>
          <a:graphicData uri="http://schemas.openxmlformats.org/drawingml/2006/table">
            <a:tbl>
              <a:tblPr/>
              <a:tblGrid>
                <a:gridCol w="3083400"/>
                <a:gridCol w="3561480"/>
              </a:tblGrid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ab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bsolute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ceil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unds 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floor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unds d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log10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arithm, base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max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rger of two val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mi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maller of two val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pow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to the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p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random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ndom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between 0 and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round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arest whole 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sqrt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quare ro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si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co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a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ne/cosine/tangent of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 angle in radi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oDegree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oRadian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vert degrees to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dians and b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172200" y="5243400"/>
          <a:ext cx="2773080" cy="1010880"/>
        </p:xfrm>
        <a:graphic>
          <a:graphicData uri="http://schemas.openxmlformats.org/drawingml/2006/table">
            <a:tbl>
              <a:tblPr/>
              <a:tblGrid>
                <a:gridCol w="1220040"/>
                <a:gridCol w="1553040"/>
              </a:tblGrid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a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7182818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1415926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ll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th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squareRoot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sqrt(121.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squareRoot);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11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bsoluteValue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abs(-5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bsoluteValue);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min(3, 7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2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do not print to the conso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method produces ("returns") a numeric resul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esults are used as expressions (printed, stored, etc.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send out a value as the result of a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pposite of a paramet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ameters send informatio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the caller to the metho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 values send informatio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u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a method to its call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1680" indent="-1728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call to the method can be used as part of an express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144160" y="3581280"/>
            <a:ext cx="4905000" cy="2431080"/>
            <a:chOff x="2144160" y="3581280"/>
            <a:chExt cx="4905000" cy="2431080"/>
          </a:xfrm>
        </p:grpSpPr>
        <p:sp>
          <p:nvSpPr>
            <p:cNvPr id="166" name=""/>
            <p:cNvSpPr/>
            <p:nvPr/>
          </p:nvSpPr>
          <p:spPr>
            <a:xfrm>
              <a:off x="2144160" y="445788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967120" y="3659040"/>
              <a:ext cx="1446120" cy="9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430160" y="3581280"/>
              <a:ext cx="21618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th.abs(-4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36400" y="36450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-4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40120" y="4856040"/>
              <a:ext cx="147312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30160" y="5613480"/>
              <a:ext cx="26190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th.round(2.7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2889000" y="4951440"/>
              <a:ext cx="1525320" cy="9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673080" y="48798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2.7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3115800" y="3965400"/>
              <a:ext cx="129708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790080" y="417816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  <a:ea typeface="Times New Roman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09560" y="53974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  <a:ea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th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3840" indent="-213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e the following expres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99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9960" indent="-258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abs(-1.23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9960" indent="-258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pow(3, 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9960" indent="-258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pow(10, -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9960" indent="-258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sqrt(121.0) - Math.sqrt(256.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9960" indent="-258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round(Math.PI) + Math.round(Math.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9960" indent="-258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ceil(6.022) + Math.floor(15.9994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9960" indent="-258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abs(Math.min(-3, -5)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3840" indent="-213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ma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m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used to bound numb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ider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riable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9960" indent="-258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statement would replace negative ages with 0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9960" indent="-258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statement would cap the maximum age to 40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irks of real numb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7520" indent="-2275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other non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yp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int x = Math.pow(10, 3);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// ERROR: incompat. typ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7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520" indent="-227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alues print poorly (too many digit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result = 1.0 / 3.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result);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0.33333333333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7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520" indent="-227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mputer represen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in an imprecise w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0.1 + 0.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7400" indent="-2750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ead of 0.3, the outpu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.3000000000000000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cas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 ca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nversion from one type to ano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promot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get exact division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truncat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rom a real number to an integ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xpress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result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19 / 5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3.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esult2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int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result;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int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Math.pow(10, 3);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10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rameterized recip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Recipe for baking </a:t>
            </a: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20</a:t>
            </a: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 cook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Tahoma"/>
              </a:rPr>
              <a:t>Mix the following ingredients in a bow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6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cups flo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6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cup sug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6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eg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6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e for baking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ok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x the following ingredients in a bow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N/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cups flo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N/2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but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N/2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sug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N/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g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2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ags chocolate chips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ace on sheet and Bake for about 10 minut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value that distinguishes similar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about type cas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casting has high precedence and only casts the item immediately next to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x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1 + 1 / 2;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y = 1 +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1 / 2;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1.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use parentheses to force evaluation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average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(a + b + c) / 3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nversion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achieved in other wa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average = 1.0 * (a + b + c) / 3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ing a valu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return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expression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5360" indent="-22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slope of the line between the given poi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lope(int x1, int y1, int x2, int y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y = y2 - y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x = x2 - x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dy / d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1280" indent="-272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lope(1, 3, 5, 11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 examp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nverts degrees Fahrenheit to Celsiu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fToC(double degreesF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egreesC = 5.0 / 9.0 * (degreesF - 3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degrees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mputes triangle hypotenuse length given its side length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hypotenuse(int a, int b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c = Math.sqrt(a * a + b * b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shorten the examples by returning an expres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double fToC(double degreesF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.0 / 9.0 * (degreesF - 3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8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8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error: Not sto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students incorrectly think tha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 sends a variable's name back to the calling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lope(0, 0, 6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slope is " +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sul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RROR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              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sult not defin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slope(int x1, int x2, int y1, int y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y = y2 - y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x = x2 - x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result = dy / d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resul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xing the common err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returning sends the variable'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alu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eturned value must be stored into a variable or used in an expression to be useful to the call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double s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lope(0, 0, 6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slope is " +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slope(int x1, int x2, int y1, int y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y = y2 - y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x = x2 - x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result = dy / d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bjects and Classes; String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es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1397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program entity that represent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397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rogram / module, 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397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type of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326"/>
              </a:spcBef>
              <a:buNone/>
              <a:tabLst>
                <a:tab algn="l" pos="0"/>
                <a:tab algn="l" pos="11397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31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397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lass is a blueprint or template for constructing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0">
              <a:spcBef>
                <a:spcPts val="224"/>
              </a:spcBef>
              <a:buNone/>
              <a:tabLst>
                <a:tab algn="l" pos="0"/>
                <a:tab algn="l" pos="11397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31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397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(type) is a template f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ing man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 (windows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82520" indent="-1681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1397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va has 1000s of classes.  Later (Ch.8) we will write our ow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2520" indent="0">
              <a:spcBef>
                <a:spcPts val="649"/>
              </a:spcBef>
              <a:buNone/>
              <a:tabLst>
                <a:tab algn="l" pos="0"/>
                <a:tab algn="l" pos="11397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1397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ntity that combines data and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31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397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bject-oriented programming (OOP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rograms that perform their behavior as interactions between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dur="indefinite" fill="hold">
                      <p:stCondLst>
                        <p:cond delay="indefinite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dur="indefinite" fill="hold">
                      <p:stCondLst>
                        <p:cond delay="indefinite"/>
                      </p:stCondLst>
                      <p:childTnLst>
                        <p:par>
                          <p:cTn id="1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dur="indefinite" fill="hold">
                      <p:stCondLst>
                        <p:cond delay="indefinite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995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jec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 entity that contains data and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62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95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at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ariables inside the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62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95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ehavi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thods inside the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24"/>
              </a:spcBef>
              <a:buNone/>
              <a:tabLst>
                <a:tab algn="l" pos="0"/>
                <a:tab algn="l" pos="1995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995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interact with the methods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data is hidden in the obje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0"/>
                <a:tab algn="l" pos="1995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0">
              <a:spcBef>
                <a:spcPts val="374"/>
              </a:spcBef>
              <a:buNone/>
              <a:tabLst>
                <a:tab algn="l" pos="0"/>
                <a:tab algn="l" pos="1995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0">
              <a:spcBef>
                <a:spcPts val="374"/>
              </a:spcBef>
              <a:buNone/>
              <a:tabLst>
                <a:tab algn="l" pos="0"/>
                <a:tab algn="l" pos="1995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995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ng (creating) an objec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1995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bject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new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995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995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ing an object's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995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bject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172200" y="2133720"/>
            <a:ext cx="2819520" cy="17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lueprint ana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1359000"/>
            <a:ext cx="4876920" cy="217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iPod blueprint/fac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state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urrent 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battery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behavior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power on/of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ange station/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ange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oose random s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04920" y="4387680"/>
            <a:ext cx="8075520" cy="2019240"/>
            <a:chOff x="304920" y="4387680"/>
            <a:chExt cx="8075520" cy="2019240"/>
          </a:xfrm>
        </p:grpSpPr>
        <p:sp>
          <p:nvSpPr>
            <p:cNvPr id="203" name=""/>
            <p:cNvSpPr/>
            <p:nvPr/>
          </p:nvSpPr>
          <p:spPr>
            <a:xfrm>
              <a:off x="304920" y="4387680"/>
              <a:ext cx="213192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</a:t>
              </a:r>
              <a:r>
                <a:rPr b="0" lang="en-US" sz="12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1,000,000 Miles</a:t>
              </a: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17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2.5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00400" y="4387680"/>
              <a:ext cx="213192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Letting You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9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3.41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248520" y="4387680"/>
              <a:ext cx="213192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Discipline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24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1.8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2286000" y="3564000"/>
            <a:ext cx="4417920" cy="822240"/>
            <a:chOff x="2286000" y="3564000"/>
            <a:chExt cx="4417920" cy="822240"/>
          </a:xfrm>
        </p:grpSpPr>
        <p:grpSp>
          <p:nvGrpSpPr>
            <p:cNvPr id="207" name=""/>
            <p:cNvGrpSpPr/>
            <p:nvPr/>
          </p:nvGrpSpPr>
          <p:grpSpPr>
            <a:xfrm>
              <a:off x="2286000" y="3564000"/>
              <a:ext cx="4188960" cy="822240"/>
              <a:chOff x="2286000" y="3564000"/>
              <a:chExt cx="4188960" cy="822240"/>
            </a:xfrm>
          </p:grpSpPr>
          <p:sp>
            <p:nvSpPr>
              <p:cNvPr id="208" name=""/>
              <p:cNvSpPr/>
              <p:nvPr/>
            </p:nvSpPr>
            <p:spPr>
              <a:xfrm flipH="1">
                <a:off x="2286000" y="3564000"/>
                <a:ext cx="1829520" cy="82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115520" y="3564000"/>
                <a:ext cx="150480" cy="82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115520" y="3564000"/>
                <a:ext cx="2359440" cy="82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5699160" y="3625920"/>
              <a:ext cx="10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705720" y="1492200"/>
            <a:ext cx="2209680" cy="16844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rcRect l="5751" t="5926" r="10795" b="3210"/>
          <a:stretch/>
        </p:blipFill>
        <p:spPr>
          <a:xfrm>
            <a:off x="22096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51814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rcRect l="5751" t="5926" r="10795" b="3210"/>
          <a:stretch/>
        </p:blipFill>
        <p:spPr>
          <a:xfrm>
            <a:off x="8229600" y="5378400"/>
            <a:ext cx="62388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storing a sequence of text charac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like most other objects,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not created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"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x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br>
              <a:rPr sz="2200"/>
            </a:br>
            <a:br>
              <a:rPr sz="9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name = "Marla Singer";</a:t>
            </a:r>
            <a:br>
              <a:rPr sz="2200"/>
            </a:br>
            <a:br>
              <a:rPr sz="9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y = 5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point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"(" + x + ", " + y + ")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fig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task of printing the following lines/box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******************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        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   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   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de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228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acters of a string are numbered with 0-bas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dex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String name = "P. Diddy"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Noto Sans CJK SC"/>
              </a:rPr>
              <a:t>First character's index :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Noto Sans CJK SC"/>
              </a:rPr>
              <a:t>Last character's index : 1 less than the string's leng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Noto Sans CJK SC"/>
              </a:rPr>
              <a:t>The individual characters are values of typ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Noto Sans CJK SC"/>
              </a:rPr>
              <a:t> (seen l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397160" y="2446200"/>
          <a:ext cx="6536880" cy="831600"/>
        </p:xfrm>
        <a:graphic>
          <a:graphicData uri="http://schemas.openxmlformats.org/drawingml/2006/table">
            <a:tbl>
              <a:tblPr/>
              <a:tblGrid>
                <a:gridCol w="1379880"/>
                <a:gridCol w="644400"/>
                <a:gridCol w="646560"/>
                <a:gridCol w="642960"/>
                <a:gridCol w="644760"/>
                <a:gridCol w="644400"/>
                <a:gridCol w="645120"/>
                <a:gridCol w="644400"/>
                <a:gridCol w="644400"/>
              </a:tblGrid>
              <a:tr h="41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harac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228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639720" indent="-244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62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62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62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62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62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62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62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62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6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methods are called using the dot no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String gangsta = "Dr. Dre"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System.out.println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gangsta.length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Noto Sans CJK SC"/>
              </a:rPr>
              <a:t>// 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52280" y="1371600"/>
          <a:ext cx="8840520" cy="3090600"/>
        </p:xfrm>
        <a:graphic>
          <a:graphicData uri="http://schemas.openxmlformats.org/drawingml/2006/table">
            <a:tbl>
              <a:tblPr/>
              <a:tblGrid>
                <a:gridCol w="3696120"/>
                <a:gridCol w="51444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 where the start of the given string appears in this string (-1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ength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umber of characters in this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b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1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b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he characters in this string from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inclusive) 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  <a:ea typeface="Times New Roman"/>
                        </a:rPr>
                        <a:t>exclusi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f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s omitted, grabs till end 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LowerCas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 new string with all lowercase 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UpperCas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 new string with all uppercase 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28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639720" indent="-244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Noto Sans CJK SC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Noto Sans CJK SC"/>
              </a:rPr>
              <a:t>// index     0123456789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String s1 = "Stuart Reges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String s2 = "Marty Stepp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s1.length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);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Noto Sans CJK SC"/>
              </a:rPr>
              <a:t>//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s1.indexOf("e"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)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Noto Sans CJK SC"/>
              </a:rPr>
              <a:t>//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s1.substring(7, 1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);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Noto Sans CJK SC"/>
              </a:rPr>
              <a:t>// "Reg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String s3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s2.substring(1, 7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s3.toLowerCas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);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Noto Sans CJK SC"/>
              </a:rPr>
              <a:t>// "arty 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the following str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Noto Sans CJK SC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Noto Sans CJK SC"/>
              </a:rPr>
              <a:t>// index       01234567890123456789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String book = "Building Java Programs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6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Noto Sans CJK SC"/>
              </a:rPr>
              <a:t>How would you extract the wor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"Java"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Noto Sans CJK SC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dur="indefinite" fill="hold">
                      <p:stCondLst>
                        <p:cond delay="indefinite"/>
                      </p:stCondLst>
                      <p:childTnLst>
                        <p:par>
                          <p:cTn id="1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2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2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ying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228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lik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b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LowerCa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uild and return a new string, rather than modifying the curren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String s = "lil bow wow"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  <a:ea typeface="Noto Sans CJK SC"/>
              </a:rPr>
              <a:t>	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  <a:ea typeface="Noto Sans CJK SC"/>
              </a:rPr>
              <a:t>s.toUpperCase(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System.out.println(s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Noto Sans CJK SC"/>
              </a:rPr>
              <a:t>// lil bow w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dify a variable's value, you must reassign 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String s = "lil bow wow"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  <a:ea typeface="Noto Sans CJK SC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  <a:ea typeface="Noto Sans CJK SC"/>
              </a:rPr>
              <a:t>s = 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  <a:ea typeface="Noto Sans CJK SC"/>
              </a:rPr>
              <a:t>s.toUpperCase(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System.out.println(s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Noto Sans CJK SC"/>
              </a:rPr>
              <a:t>// LIL BOW W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nteractive Programs with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Scanner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put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ystem.i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active progr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ads input from the conso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le the program runs, it asks the user to type in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nput typed by the user is stored in variables in the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tricky; users are unpredictable and misbeha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interactive programs have more interesting behavi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that can read input from many sour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municates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(the opposite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also read from files (Ch. 6), web sites, databases,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is found i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ck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o you can use Scann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ng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to read console in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new Scanner(System.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0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12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12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12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12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12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12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12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1280" indent="-272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method waits until the user presses En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1280" indent="-272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lue typed by the user is return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How old are you? "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rom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onsole.nextInt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You typed " + ag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mp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message telling the user what input to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569880" y="1339920"/>
          <a:ext cx="8002440" cy="1993320"/>
        </p:xfrm>
        <a:graphic>
          <a:graphicData uri="http://schemas.openxmlformats.org/drawingml/2006/table">
            <a:tbl>
              <a:tblPr/>
              <a:tblGrid>
                <a:gridCol w="2134080"/>
                <a:gridCol w="5868360"/>
              </a:tblGrid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In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s a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rom the user and returns 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Doubl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rom the u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s a one-word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rom the u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ourier New"/>
                        </a:rPr>
                        <a:t>nextLin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eads a one-</a:t>
                      </a: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ine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ourier New"/>
                        </a:rPr>
                        <a:t>String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 from the u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o that I can use Scan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UserInputExampl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ow old are you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console.nextInt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years = 65 - ag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years + " years to retirement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0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ole (user input underlined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w old are you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6 years until retirement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1407960" y="2971800"/>
            <a:ext cx="228600" cy="1440"/>
          </a:xfrm>
          <a:prstGeom prst="line">
            <a:avLst/>
          </a:prstGeom>
          <a:ln w="2556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07960" y="3224160"/>
            <a:ext cx="228600" cy="1800"/>
          </a:xfrm>
          <a:prstGeom prst="line">
            <a:avLst/>
          </a:prstGeom>
          <a:ln w="2556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07960" y="3886200"/>
            <a:ext cx="228600" cy="1440"/>
          </a:xfrm>
          <a:prstGeom prst="line">
            <a:avLst/>
          </a:prstGeom>
          <a:ln w="2556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38360" y="576576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3276720" y="5867280"/>
            <a:ext cx="2364840" cy="960480"/>
            <a:chOff x="3276720" y="5867280"/>
            <a:chExt cx="2364840" cy="960480"/>
          </a:xfrm>
        </p:grpSpPr>
        <p:pic>
          <p:nvPicPr>
            <p:cNvPr id="244" name="" descr=""/>
            <p:cNvPicPr/>
            <p:nvPr/>
          </p:nvPicPr>
          <p:blipFill>
            <a:blip r:embed="rId1"/>
            <a:srcRect l="0" t="0" r="5017" b="0"/>
            <a:stretch/>
          </p:blipFill>
          <p:spPr>
            <a:xfrm>
              <a:off x="4649040" y="5867280"/>
              <a:ext cx="992520" cy="96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 flipH="1" flipV="1">
              <a:off x="3276720" y="5925960"/>
              <a:ext cx="1372320" cy="30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 flipV="1">
            <a:off x="3076560" y="3351240"/>
            <a:ext cx="961920" cy="23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672160" y="3200400"/>
            <a:ext cx="574200" cy="473040"/>
            <a:chOff x="5672160" y="3200400"/>
            <a:chExt cx="574200" cy="473040"/>
          </a:xfrm>
        </p:grpSpPr>
        <p:pic>
          <p:nvPicPr>
            <p:cNvPr id="248" name="" descr=""/>
            <p:cNvPicPr/>
            <p:nvPr/>
          </p:nvPicPr>
          <p:blipFill>
            <a:blip r:embed="rId2"/>
            <a:stretch/>
          </p:blipFill>
          <p:spPr>
            <a:xfrm>
              <a:off x="5672160" y="3200400"/>
              <a:ext cx="391320" cy="4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6064920" y="3338640"/>
              <a:ext cx="1814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50" name=""/>
          <p:cNvGraphicFramePr/>
          <p:nvPr/>
        </p:nvGraphicFramePr>
        <p:xfrm>
          <a:off x="7543800" y="2743200"/>
          <a:ext cx="1296720" cy="399600"/>
        </p:xfrm>
        <a:graphic>
          <a:graphicData uri="http://schemas.openxmlformats.org/drawingml/2006/table">
            <a:tbl>
              <a:tblPr/>
              <a:tblGrid>
                <a:gridCol w="648360"/>
                <a:gridCol w="648360"/>
              </a:tblGrid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64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7238880" y="3262320"/>
          <a:ext cx="1595160" cy="399600"/>
        </p:xfrm>
        <a:graphic>
          <a:graphicData uri="http://schemas.openxmlformats.org/drawingml/2006/table">
            <a:tbl>
              <a:tblPr/>
              <a:tblGrid>
                <a:gridCol w="947160"/>
                <a:gridCol w="648000"/>
              </a:tblGrid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64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23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dur="indefinite" fill="hold">
                      <p:stCondLst>
                        <p:cond delay="indefinite"/>
                      </p:stCondLst>
                      <p:childTnLst>
                        <p:par>
                          <p:cTn id="2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dur="indefinite" fill="hold">
                      <p:stCondLst>
                        <p:cond delay="indefinite"/>
                      </p:stCondLst>
                      <p:childTnLst>
                        <p:par>
                          <p:cTn id="2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dur="indefinite" fill="hold">
                      <p:stCondLst>
                        <p:cond delay="indefinite"/>
                      </p:stCondLst>
                      <p:childTnLst>
                        <p:par>
                          <p:cTn id="2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dur="indefinite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2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dur="indefinite" fill="hold">
                      <p:stCondLst>
                        <p:cond delay="indefinite"/>
                      </p:stCondLst>
                      <p:childTnLst>
                        <p:par>
                          <p:cTn id="2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dur="indefinite" fill="hold">
                      <p:stCondLst>
                        <p:cond delay="indefinite"/>
                      </p:stCondLst>
                      <p:childTnLst>
                        <p:par>
                          <p:cTn id="2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1000"/>
                                        <p:tgtEl>
                                          <p:spTgt spid="23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o that I can use Scan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cannerMultipl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Please type two numbers: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1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2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product = num1 * num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product is " + produc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5360" indent="-22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 (user input underlined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lease type two numbers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8 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product is 4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1280" indent="-272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an read multiple values from one li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redundan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Stars1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lineOf13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lineOf7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lineOf35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box10x3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box5x4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lineOf13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500" spc="-1" strike="noStrike">
                <a:solidFill>
                  <a:srgbClr val="a50021"/>
                </a:solidFill>
                <a:latin typeface="Courier New"/>
              </a:rPr>
              <a:t>13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lineOf7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500" spc="-1" strike="noStrike">
                <a:solidFill>
                  <a:srgbClr val="a50021"/>
                </a:solidFill>
                <a:latin typeface="Courier New"/>
              </a:rPr>
              <a:t>7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lineOf35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500" spc="-1" strike="noStrike">
                <a:solidFill>
                  <a:srgbClr val="a50021"/>
                </a:solidFill>
                <a:latin typeface="Courier New"/>
              </a:rPr>
              <a:t>35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5181480" y="1600200"/>
            <a:ext cx="38102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1160" indent="-281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code is redund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uld variables help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uld constants help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a better soluti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3429000"/>
            <a:ext cx="4191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lin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Noto Sans CJK SC"/>
              </a:rPr>
              <a:t> - A method to draw a line of any number of st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bo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Noto Sans CJK SC"/>
              </a:rPr>
              <a:t> - A method to draw a box of any 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put toke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k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unit of user input, as read b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kens are separated by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itespa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spaces, tabs, new lines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tokens appear on the following line of inpu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3  John Smith   42.0  "Hello world"  $2.50  "  19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oken is not the type you ask for, it crash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What is your age?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onsole.nextIn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at is your age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Timm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java.util.InputMismatchExcep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at java.util.Scanner.next(Unknown Sourc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at java.util.Scanner.nextInt(Unknown Sourc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dur="indefinite" fill="hold">
                      <p:stCondLst>
                        <p:cond delay="indefinite"/>
                      </p:stCondLst>
                      <p:childTnLst>
                        <p:par>
                          <p:cTn id="2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5228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ads a word of input 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System.out.print("What is your name?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Noto Sans CJK SC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name = name.toUpperCa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System.out.println(name + " has " + name.length() 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" letters and starts with " + name.substring(0, 1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Noto Sans CJK S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Noto Sans CJK SC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What is your name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  <a:ea typeface="Noto Sans CJK SC"/>
              </a:rPr>
              <a:t>Chamillion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CHAMILLIONAIRE has 14 letters and starts with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Lin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ads a line of input 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System.out.print("What is your address?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4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String address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Noto Sans CJK SC"/>
              </a:rPr>
              <a:t>console.nextLin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 as user in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dur="indefinite" fill="hold">
                      <p:stCondLst>
                        <p:cond delay="indefinite"/>
                      </p:stCondLst>
                      <p:childTnLst>
                        <p:par>
                          <p:cTn id="3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outputs a person's "gangsta name.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initi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idd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st name (all cap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na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-izz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your name, playa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Marge Simps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our gangsta name is "M. Diddy SIMPSON Marge-izzle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prints your "gangsta" nam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GangstaNam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Type your name, playa: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name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ole.nextLine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split name into first/last name and initia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fir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me.substring(0, name.indexOf(" ")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la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me.substring(name.indexOf(" ") + 1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a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.toUpperCase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fInitial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rst.substring(0, 1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r gangsta name is \"" + fInitial 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. Diddy " + last + " " + first + "-izzle\"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rameteriz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value passed to a method by its call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779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ead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eOf7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eOf1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writ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draw any length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claring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method, we will state that it requires a parameter for the number of st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al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method, we will specify how many stars to draw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153800" y="4419720"/>
            <a:ext cx="6916320" cy="1310040"/>
            <a:chOff x="1153800" y="4419720"/>
            <a:chExt cx="6916320" cy="1310040"/>
          </a:xfrm>
        </p:grpSpPr>
        <p:sp>
          <p:nvSpPr>
            <p:cNvPr id="102" name=""/>
            <p:cNvSpPr/>
            <p:nvPr/>
          </p:nvSpPr>
          <p:spPr>
            <a:xfrm>
              <a:off x="1153800" y="462276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76400" y="4816440"/>
              <a:ext cx="14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439800" y="461628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67080" y="4816440"/>
              <a:ext cx="144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908320" y="462924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*****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74280" y="4419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49400" y="5021280"/>
              <a:ext cx="1473120" cy="49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39800" y="531828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67080" y="5518080"/>
              <a:ext cx="144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908320" y="5330880"/>
              <a:ext cx="216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***********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97960" y="52387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claring a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ting that a method requires a parameter in order to ru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5360" indent="-22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sayPasswor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cod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password is: " +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1280" indent="-272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ayPasswor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called, the caller must specif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nteger code to pri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ssing a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ing a method and specifying values for its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express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ayPassword(4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ayPassword(12345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password is 4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password is 1234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rameters and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2840" indent="-222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arameter can guide the number of repetitions of a loo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nt(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chant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time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ime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Just a salad..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ust a salad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ust a salad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ust a salad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/>
  <dcterms:modified xsi:type="dcterms:W3CDTF">2022-02-12T15:54:17Z</dcterms:modified>
  <cp:revision>123</cp:revision>
  <dc:subject/>
  <dc:title>CSE 142 Python Slides</dc:title>
</cp:coreProperties>
</file>