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65337306"/>
        <c:axId val="65654347"/>
      </c:barChart>
      <c:catAx>
        <c:axId val="6533730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54347"/>
        <c:crossesAt val="0"/>
        <c:auto val="1"/>
        <c:lblAlgn val="ctr"/>
        <c:lblOffset val="100"/>
        <c:noMultiLvlLbl val="0"/>
      </c:catAx>
      <c:valAx>
        <c:axId val="65654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3730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8CA2-B96E-4484-988B-0854A2C74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4093-CFCA-4A37-9EBA-9C77FC869E5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1:48Z</dcterms:modified>
  <cp:revision>117</cp:revision>
  <dc:subject/>
  <dc:title>CSE 142 Python Slides</dc:title>
</cp:coreProperties>
</file>