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95CD-59EB-421C-B64D-62BDC9B55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program never directly interacts with ListNod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aint can analogy: LinkedIntList is a painter, the ListNodes are buckets of paint.  I don't want the buckets, just do the painting for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ew the answer right away, it goes between the 5 and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see the 5, do you know to stop yet?  when do you know to sto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(current.data &lt; valu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= current.nex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it be &lt; or &lt;= ?  when would it matter?  what if the list had 500 10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 is more ef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we have gone too far.  we want to insert the 10 in *front* of the node we are at.  We want to stop 1 before the 12.  (James Bond on train c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idea: insert BETWEEN 5 and 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change the link between the 5 and 12, we must be at the node with 5, so we can change its .next l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4789-0D4A-4760-97C8-2F23B3D890DD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6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ed 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referenc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efer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access data or methods of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e with the dot notation, such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length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ter an object variable, Java goes to the memory for that object and looks up the field/method reques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my.name = "Timmah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timmy.nam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.toUpper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003400" y="510552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44640" y="533412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93680" y="55627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003400" y="571500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111400" y="4876920"/>
            <a:ext cx="198108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865760" y="5029200"/>
          <a:ext cx="3848040" cy="395280"/>
        </p:xfrm>
        <a:graphic>
          <a:graphicData uri="http://schemas.openxmlformats.org/drawingml/2006/table">
            <a:tbl>
              <a:tblPr/>
              <a:tblGrid>
                <a:gridCol w="641160"/>
                <a:gridCol w="641520"/>
                <a:gridCol w="641160"/>
                <a:gridCol w="641520"/>
                <a:gridCol w="641160"/>
                <a:gridCol w="641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i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m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m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h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2066040" y="4479840"/>
            <a:ext cx="11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67320" y="447984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99000" y="4876920"/>
            <a:ext cx="434340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05840" y="5584680"/>
            <a:ext cx="432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indexOf(String s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length(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oUpperCa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76560" y="513396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56000" y="54100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pointer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illegal to dereferen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it causes an excep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 not refer to any object, so it has no methods or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timmy.name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.toUpp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java.lang.NullPointe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Example.main(Example.java: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159080" y="3657600"/>
          <a:ext cx="1860840" cy="495360"/>
        </p:xfrm>
        <a:graphic>
          <a:graphicData uri="http://schemas.openxmlformats.org/drawingml/2006/table">
            <a:tbl>
              <a:tblPr/>
              <a:tblGrid>
                <a:gridCol w="106704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1984320" y="38862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41148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159080" y="4267080"/>
          <a:ext cx="1860840" cy="495360"/>
        </p:xfrm>
        <a:graphic>
          <a:graphicData uri="http://schemas.openxmlformats.org/drawingml/2006/table">
            <a:tbl>
              <a:tblPr/>
              <a:tblGrid>
                <a:gridCol w="106704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4267080" y="3429000"/>
            <a:ext cx="198144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to same typ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happen if we had a class that declared one of its own type as a fiel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rang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private Strange other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this compi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so, what is the behavior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eld?  What can it 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ot, why not?  What is the error and the reasoning behind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data struc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the collections we will use and implement in this course use one of the following two underlying data structu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all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et o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inked objec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ach storing one element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one or more reference(s) to other element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676520" y="3186000"/>
          <a:ext cx="2743200" cy="395280"/>
        </p:xfrm>
        <a:graphic>
          <a:graphicData uri="http://schemas.openxmlformats.org/drawingml/2006/table">
            <a:tbl>
              <a:tblPr/>
              <a:tblGrid>
                <a:gridCol w="725400"/>
                <a:gridCol w="646200"/>
                <a:gridCol w="68580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318240" y="56088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701720" y="5610240"/>
          <a:ext cx="1346400" cy="39528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606840" y="5610240"/>
          <a:ext cx="1346040" cy="39528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511960" y="5610240"/>
          <a:ext cx="1346040" cy="39528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7416720" y="5610240"/>
          <a:ext cx="1346400" cy="39528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2743200" y="5838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838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5838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076960" y="56386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581976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list nod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Node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list node object st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piece of integer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eference to another lis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can be "linked" into chains to store a list of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9399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284472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74984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66549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98108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314840" y="56674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 node cli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onstructList1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lis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data = 4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data = -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.data = 1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.next 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st.data + " " + list.next.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" " + list.next.nex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42 -3 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84328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74804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66531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388476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8952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314840" y="56674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596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58920" y="5667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 node w/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Nod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ListNode(int 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nex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ListNode(int data, ListNode nex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next =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previous client to use these constructo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0672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06720" y="4789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0672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06720" y="4789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02760" y="201780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844720" y="2867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4749840" y="2867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3886200" y="34765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409720" y="324792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02760" y="3008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32479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02760" y="478944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844720" y="56386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 flipH="1">
            <a:off x="3504960" y="60199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02760" y="5780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60199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 follow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work?  Why or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swap(a,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swap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4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12076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54976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4686480" y="24861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621000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276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81160" y="22575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165920" y="227016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314880" y="2495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082960" y="46958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511960" y="46958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4648320" y="53053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4600" y="483696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50767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127760" y="50896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76720" y="53150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7416720" y="4705200"/>
          <a:ext cx="1406520" cy="790560"/>
        </p:xfrm>
        <a:graphic>
          <a:graphicData uri="http://schemas.openxmlformats.org/drawingml/2006/table">
            <a:tbl>
              <a:tblPr/>
              <a:tblGrid>
                <a:gridCol w="73656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6553080" y="53150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vs.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bl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left sid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  is an arrow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base of an arro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(right sid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 is an object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 box; what an arrow points a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list at righ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ns to adjust where      po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a.nex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ns to mak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 a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5638680" y="38433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4345200" y="4013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699080" y="42242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32440" y="44625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7632720" y="38527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 flipH="1">
            <a:off x="8305560" y="4257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00800" y="4419720"/>
            <a:ext cx="304920" cy="30456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67480" y="358128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461952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53040" y="576252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signing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you s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 = b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say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ake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bl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sam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 "Ma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 to the same place tha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3429000" y="4267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2135520" y="4437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89040" y="46483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22760" y="4886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423040" y="4276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3429000" y="521496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2135520" y="5384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89040" y="5595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22760" y="5834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5423040" y="52243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 flipH="1">
            <a:off x="6095520" y="4681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076440" y="56386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419720" y="4876920"/>
            <a:ext cx="914400" cy="838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a long chain of list no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know exactly how long the chain 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we print the data values in all the nod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120760" y="20145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7416720" y="20145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6553080" y="26240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8076960" y="2395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6720" y="2184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81160" y="23954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08840" y="23893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14880" y="2633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114800" y="20239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5308560" y="26431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pseudo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at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here are more nodes to print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current node'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o to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walk through the nodes of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 = list.next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s this a good idea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197080" y="52149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7493040" y="521496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6629400" y="58244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152920" y="55958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2680" y="5384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57480" y="5595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185160" y="55897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390840" y="5834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191120" y="52243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5384880" y="5843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ing a lis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(bad) way to print every value in the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list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st.data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 = list.next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ove to nex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's wrong with this appro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t loses the linked list as it prints it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197080" y="52912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7493040" y="5291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80" name=""/>
          <p:cNvSpPr/>
          <p:nvPr/>
        </p:nvSpPr>
        <p:spPr>
          <a:xfrm>
            <a:off x="6629400" y="59007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8152920" y="56721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2680" y="546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57480" y="56721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85160" y="56656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390840" y="59101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191120" y="530064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5384880" y="5919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529480" y="2209680"/>
            <a:ext cx="538200" cy="5796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143000" y="4952880"/>
            <a:ext cx="2971800" cy="673200"/>
          </a:xfrm>
          <a:custGeom>
            <a:avLst/>
            <a:gdLst/>
            <a:ahLst/>
            <a:rect l="l" t="t" r="r" b="b"/>
            <a:pathLst>
              <a:path w="1872" h="568">
                <a:moveTo>
                  <a:pt x="0" y="568"/>
                </a:moveTo>
                <a:cubicBezTo>
                  <a:pt x="372" y="324"/>
                  <a:pt x="744" y="80"/>
                  <a:pt x="1056" y="40"/>
                </a:cubicBezTo>
                <a:cubicBezTo>
                  <a:pt x="1368" y="0"/>
                  <a:pt x="1696" y="288"/>
                  <a:pt x="1872" y="32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66680" y="4800600"/>
            <a:ext cx="6324840" cy="762120"/>
          </a:xfrm>
          <a:custGeom>
            <a:avLst/>
            <a:gdLst/>
            <a:ahLst/>
            <a:rect l="l" t="t" r="r" b="b"/>
            <a:pathLst>
              <a:path w="3984" h="752">
                <a:moveTo>
                  <a:pt x="0" y="752"/>
                </a:moveTo>
                <a:cubicBezTo>
                  <a:pt x="340" y="408"/>
                  <a:pt x="680" y="64"/>
                  <a:pt x="1344" y="32"/>
                </a:cubicBezTo>
                <a:cubicBezTo>
                  <a:pt x="2008" y="0"/>
                  <a:pt x="3552" y="472"/>
                  <a:pt x="3984" y="5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urr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refer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't chan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Make another variable, and change tha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is NOT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lis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to the picture above when we wri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273400" y="3218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7569360" y="3218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95" name=""/>
          <p:cNvSpPr/>
          <p:nvPr/>
        </p:nvSpPr>
        <p:spPr>
          <a:xfrm>
            <a:off x="6705720" y="3827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8229240" y="35989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9000" y="3387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333440" y="35989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261480" y="359244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467160" y="38368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4267080" y="32274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02" name=""/>
          <p:cNvSpPr/>
          <p:nvPr/>
        </p:nvSpPr>
        <p:spPr>
          <a:xfrm>
            <a:off x="5460840" y="38466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64960" y="3794040"/>
            <a:ext cx="1868760" cy="779760"/>
            <a:chOff x="264960" y="3794040"/>
            <a:chExt cx="1868760" cy="779760"/>
          </a:xfrm>
        </p:grpSpPr>
        <p:sp>
          <p:nvSpPr>
            <p:cNvPr id="404" name=""/>
            <p:cNvSpPr/>
            <p:nvPr/>
          </p:nvSpPr>
          <p:spPr>
            <a:xfrm>
              <a:off x="264960" y="4174920"/>
              <a:ext cx="157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ur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523880" y="3794040"/>
              <a:ext cx="60984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ing a list correctl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ct way to print every value in the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Node current = lis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ove to nex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ang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 not damage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2197080" y="533412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7493040" y="53341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10" name=""/>
          <p:cNvSpPr/>
          <p:nvPr/>
        </p:nvSpPr>
        <p:spPr>
          <a:xfrm>
            <a:off x="6629400" y="59436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8152920" y="57150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2680" y="5504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57480" y="57150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85160" y="57085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90840" y="59529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191120" y="53434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17" name=""/>
          <p:cNvSpPr/>
          <p:nvPr/>
        </p:nvSpPr>
        <p:spPr>
          <a:xfrm>
            <a:off x="5384880" y="59626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8529480" y="2209680"/>
            <a:ext cx="53820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vs.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800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 to print list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front = ..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urren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urrent.dat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28840" y="12952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array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 = ..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 &lt; a.length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nked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a collection 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s the same methods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st is internally implemented as a chain of linked no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keeps a reference to 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a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end of the list; 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signifies an empty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" y="4495680"/>
            <a:ext cx="2286000" cy="213372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>
              <a:lnSpc>
                <a:spcPct val="14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(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(index, 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dexOf(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ve(inde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z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String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46483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00200" y="4800600"/>
            <a:ext cx="1600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6240" y="41292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edI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7376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5484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21224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2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4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6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lues are copied when assigned to each other or passed as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primitive is assigned to another, its value is cop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does not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nked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 v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ListNo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LinkedIntLis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s go 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>
            <a:off x="6781680" y="2209680"/>
            <a:ext cx="190512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63040" y="25909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734880" y="18144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edI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7772400" y="2590920"/>
            <a:ext cx="4572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add a new node to the end of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ad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2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4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6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an empty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adding 20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reate a new node and attach it to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752480" y="243828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95680" y="2057400"/>
            <a:ext cx="190512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47704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68656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7238880" y="1981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 flipH="1">
            <a:off x="7905240" y="23814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8208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, 1st t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the end of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non-empty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adding value 20 to end of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79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5499000" y="19908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 flipH="1">
            <a:off x="6200640" y="2419200"/>
            <a:ext cx="733680" cy="35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6" name=""/>
          <p:cNvSpPr/>
          <p:nvPr/>
        </p:nvSpPr>
        <p:spPr>
          <a:xfrm>
            <a:off x="4699080" y="53341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5499000" y="47340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8" name=""/>
          <p:cNvSpPr/>
          <p:nvPr/>
        </p:nvSpPr>
        <p:spPr>
          <a:xfrm>
            <a:off x="6692760" y="5343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7493040" y="47530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90" name=""/>
          <p:cNvSpPr/>
          <p:nvPr/>
        </p:nvSpPr>
        <p:spPr>
          <a:xfrm flipH="1">
            <a:off x="8152920" y="51624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4852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55804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53948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4852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55804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on't fall off the edge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/remove from a list, you must 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 of the nod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efore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lace you want to chan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shoul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 pointing, to add 20 at the en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loop test will stop us at this place in the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27432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43120" y="3124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1952640" y="30952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3505320" y="26668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02" name=""/>
          <p:cNvSpPr/>
          <p:nvPr/>
        </p:nvSpPr>
        <p:spPr>
          <a:xfrm>
            <a:off x="4699080" y="3286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5499000" y="26766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04" name=""/>
          <p:cNvSpPr/>
          <p:nvPr/>
        </p:nvSpPr>
        <p:spPr>
          <a:xfrm flipH="1">
            <a:off x="6200280" y="3105000"/>
            <a:ext cx="723960" cy="36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596040" y="3581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05920" y="3581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the end of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value in list at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5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9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value in list at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current.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s the given value at the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the two-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1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3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5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riables actually store the address of an object i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reference variable is assigned to another, the object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pied; both variables refer to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ame 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, 5, 2, 12, 14, 14, 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[] a2 = a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fers to same array as a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1[0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76720" y="513072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276720" y="5130720"/>
          <a:ext cx="475452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533520" y="5105520"/>
            <a:ext cx="2438280" cy="444240"/>
            <a:chOff x="533520" y="5105520"/>
            <a:chExt cx="2438280" cy="444240"/>
          </a:xfrm>
        </p:grpSpPr>
        <p:sp>
          <p:nvSpPr>
            <p:cNvPr id="97" name=""/>
            <p:cNvSpPr/>
            <p:nvPr/>
          </p:nvSpPr>
          <p:spPr>
            <a:xfrm>
              <a:off x="533520" y="510552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57400" y="5321160"/>
              <a:ext cx="914400" cy="16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1720" y="512928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33520" y="5866920"/>
            <a:ext cx="2438280" cy="457560"/>
            <a:chOff x="533520" y="5866920"/>
            <a:chExt cx="2438280" cy="457560"/>
          </a:xfrm>
        </p:grpSpPr>
        <p:sp>
          <p:nvSpPr>
            <p:cNvPr id="101" name=""/>
            <p:cNvSpPr/>
            <p:nvPr/>
          </p:nvSpPr>
          <p:spPr>
            <a:xfrm>
              <a:off x="533520" y="58802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057400" y="5866920"/>
              <a:ext cx="914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01720" y="590400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s the given value at the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=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dex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ing into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new ListNode(valu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ceptual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differe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difference between an empty list an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you create each on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are the fields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ublic?  Is this bad sty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ffect does this code have o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ceptual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consists of 0 to many node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node holds a single data elemen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lis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 list = null;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ty lis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 list = new LinkedIntLis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's okay that the node fields are public, because client code never directly interact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doesn't change the lis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hange a list only in one of the following two way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 of a node in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and returns the list's fir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remov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remove the front node from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remo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nt el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8399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front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8399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first removal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second rem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53" name=""/>
          <p:cNvSpPr/>
          <p:nvPr/>
        </p:nvSpPr>
        <p:spPr>
          <a:xfrm flipH="1">
            <a:off x="4167000" y="51274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58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60" name=""/>
          <p:cNvSpPr/>
          <p:nvPr/>
        </p:nvSpPr>
        <p:spPr>
          <a:xfrm flipH="1">
            <a:off x="6171840" y="2395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81680" y="4800600"/>
            <a:ext cx="190512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6304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772040" y="5189400"/>
            <a:ext cx="423720" cy="2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and returns the fir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hrows a NoSuchElementException on empty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remov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front.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fro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value at given index from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remove any node in general from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remo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m a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element at index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3505320" y="4724280"/>
          <a:ext cx="143172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77" name=""/>
          <p:cNvSpPr/>
          <p:nvPr/>
        </p:nvSpPr>
        <p:spPr>
          <a:xfrm>
            <a:off x="4699080" y="5343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5499000" y="47340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79" name=""/>
          <p:cNvSpPr/>
          <p:nvPr/>
        </p:nvSpPr>
        <p:spPr>
          <a:xfrm flipH="1">
            <a:off x="6152760" y="51436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4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>
            <a:off x="6692760" y="2610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7493040" y="2009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 flipH="1">
            <a:off x="8152920" y="24192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55856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59620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m the fro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element at index 0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0" name=""/>
          <p:cNvSpPr/>
          <p:nvPr/>
        </p:nvSpPr>
        <p:spPr>
          <a:xfrm>
            <a:off x="4699080" y="5343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5499000" y="47340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2" name=""/>
          <p:cNvSpPr/>
          <p:nvPr/>
        </p:nvSpPr>
        <p:spPr>
          <a:xfrm flipH="1">
            <a:off x="6152760" y="51436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7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9" name=""/>
          <p:cNvSpPr/>
          <p:nvPr/>
        </p:nvSpPr>
        <p:spPr>
          <a:xfrm>
            <a:off x="6692760" y="2610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7493040" y="2009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 flipH="1">
            <a:off x="8152920" y="24192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55856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59620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the only el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hange the front field to st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stead of a n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 we need a special case to handle thi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>
            <a:off x="6172200" y="2057400"/>
            <a:ext cx="190512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15320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7162920" y="243828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26" name=""/>
          <p:cNvSpPr/>
          <p:nvPr/>
        </p:nvSpPr>
        <p:spPr>
          <a:xfrm flipH="1">
            <a:off x="4171680" y="23814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objects and arrays use reference semantics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fficiency.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pying large objects slows dow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aring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's useful to share an object's data among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anel1 = new DrawingPanel(8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ingPanel panel2 = panel1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ame wind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nel2.setBackground(Color.CYA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24280" y="4537080"/>
            <a:ext cx="19814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1981080" y="4626000"/>
            <a:ext cx="2286000" cy="444600"/>
            <a:chOff x="1981080" y="4626000"/>
            <a:chExt cx="2286000" cy="444600"/>
          </a:xfrm>
        </p:grpSpPr>
        <p:sp>
          <p:nvSpPr>
            <p:cNvPr id="108" name=""/>
            <p:cNvSpPr/>
            <p:nvPr/>
          </p:nvSpPr>
          <p:spPr>
            <a:xfrm>
              <a:off x="1981080" y="46260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48420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49640" y="46497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81080" y="5464080"/>
            <a:ext cx="2286000" cy="444240"/>
            <a:chOff x="1981080" y="5464080"/>
            <a:chExt cx="2286000" cy="444240"/>
          </a:xfrm>
        </p:grpSpPr>
        <p:sp>
          <p:nvSpPr>
            <p:cNvPr id="112" name=""/>
            <p:cNvSpPr/>
            <p:nvPr/>
          </p:nvSpPr>
          <p:spPr>
            <a:xfrm>
              <a:off x="1981080" y="54640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505320" y="5527080"/>
              <a:ext cx="761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49640" y="54878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value at given index from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dex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pecial case: removing first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fro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ing from elsewhere in the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current.nex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value as a parameter and adds that value to a sorted list in sorted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f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f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152280" y="27432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133640" y="30193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71600" y="31719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2424240" y="27432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36" name=""/>
          <p:cNvSpPr/>
          <p:nvPr/>
        </p:nvSpPr>
        <p:spPr>
          <a:xfrm>
            <a:off x="3618000" y="33624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127400" y="27525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5878440" y="27716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39" name=""/>
          <p:cNvSpPr/>
          <p:nvPr/>
        </p:nvSpPr>
        <p:spPr>
          <a:xfrm flipH="1">
            <a:off x="6538680" y="31813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46744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18644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92488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33624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52280" y="510552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133640" y="538164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371600" y="55339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2424240" y="51055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5818320" y="5114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7569360" y="51339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50" name=""/>
          <p:cNvSpPr/>
          <p:nvPr/>
        </p:nvSpPr>
        <p:spPr>
          <a:xfrm flipH="1">
            <a:off x="8229240" y="55436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46744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87736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61544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02468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63060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4140360" y="5114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57" name=""/>
          <p:cNvSpPr/>
          <p:nvPr/>
        </p:nvSpPr>
        <p:spPr>
          <a:xfrm>
            <a:off x="419940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30856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mmon ca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middle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references must be chang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ort of loop do we ne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should the loop st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65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68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rst attemp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correct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wrong with this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op stops too late to affect the list in the right w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79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82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6973200" y="2787480"/>
            <a:ext cx="1061640" cy="990360"/>
            <a:chOff x="6973200" y="2787480"/>
            <a:chExt cx="1061640" cy="990360"/>
          </a:xfrm>
        </p:grpSpPr>
        <p:sp>
          <p:nvSpPr>
            <p:cNvPr id="688" name=""/>
            <p:cNvSpPr/>
            <p:nvPr/>
          </p:nvSpPr>
          <p:spPr>
            <a:xfrm>
              <a:off x="6973200" y="278748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467480" y="324468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4"/>
          <p:cNvSpPr/>
          <p:nvPr/>
        </p:nvSpPr>
        <p:spPr>
          <a:xfrm>
            <a:off x="2971800" y="2209680"/>
            <a:ext cx="839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 idea: peeking ahea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ed version of the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n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time the loop stops in the right pl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97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00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223960" y="2743200"/>
            <a:ext cx="1061640" cy="990360"/>
            <a:chOff x="5223960" y="2743200"/>
            <a:chExt cx="1061640" cy="990360"/>
          </a:xfrm>
        </p:grpSpPr>
        <p:sp>
          <p:nvSpPr>
            <p:cNvPr id="706" name=""/>
            <p:cNvSpPr/>
            <p:nvPr/>
          </p:nvSpPr>
          <p:spPr>
            <a:xfrm>
              <a:off x="5223960" y="274320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718240" y="320040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end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4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Exception in thread "main": java.lang.NullPointer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does our code cras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14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17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4"/>
          <p:cNvSpPr/>
          <p:nvPr/>
        </p:nvSpPr>
        <p:spPr>
          <a:xfrm>
            <a:off x="1752480" y="2209680"/>
            <a:ext cx="39308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loop te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rrection to our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heck for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efore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heck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29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1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6976440" y="2743200"/>
            <a:ext cx="1061640" cy="990360"/>
            <a:chOff x="6976440" y="2743200"/>
            <a:chExt cx="1061640" cy="990360"/>
          </a:xfrm>
        </p:grpSpPr>
        <p:sp>
          <p:nvSpPr>
            <p:cNvPr id="738" name=""/>
            <p:cNvSpPr/>
            <p:nvPr/>
          </p:nvSpPr>
          <p:spPr>
            <a:xfrm>
              <a:off x="6976440" y="274320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470720" y="320040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rd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front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-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ill our code do in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i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46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8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49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4"/>
          <p:cNvSpPr/>
          <p:nvPr/>
        </p:nvSpPr>
        <p:spPr>
          <a:xfrm>
            <a:off x="609480" y="5234040"/>
            <a:ext cx="1526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4"/>
          <p:cNvSpPr/>
          <p:nvPr/>
        </p:nvSpPr>
        <p:spPr>
          <a:xfrm>
            <a:off x="609480" y="2881440"/>
            <a:ext cx="13226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565200" y="1863720"/>
            <a:ext cx="44067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the fro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correction to our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f (value &lt;= front.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at front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in middle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our code now handle every possible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urth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(the front of) an empty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4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ill our code do in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i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"/>
          <p:cNvSpPr/>
          <p:nvPr/>
        </p:nvSpPr>
        <p:spPr>
          <a:xfrm>
            <a:off x="1066680" y="24382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048040" y="27147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2048040" y="2719440"/>
            <a:ext cx="45216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s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can store references to other objects as fiel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Homework 3 (HTML Validato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Valida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a reference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many references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stores a reference to its e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24960" y="3581280"/>
            <a:ext cx="5850360" cy="505440"/>
            <a:chOff x="624960" y="3581280"/>
            <a:chExt cx="5850360" cy="505440"/>
          </a:xfrm>
        </p:grpSpPr>
        <p:sp>
          <p:nvSpPr>
            <p:cNvPr id="118" name=""/>
            <p:cNvSpPr/>
            <p:nvPr/>
          </p:nvSpPr>
          <p:spPr>
            <a:xfrm>
              <a:off x="2255760" y="3581280"/>
              <a:ext cx="421956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Queue&lt;HtmlTag&gt; tag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4960" y="3586320"/>
              <a:ext cx="167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Valid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256120" y="4419720"/>
            <a:ext cx="5289120" cy="446040"/>
            <a:chOff x="2256120" y="4419720"/>
            <a:chExt cx="5289120" cy="446040"/>
          </a:xfrm>
        </p:grpSpPr>
        <p:sp>
          <p:nvSpPr>
            <p:cNvPr id="121" name=""/>
            <p:cNvSpPr/>
            <p:nvPr/>
          </p:nvSpPr>
          <p:spPr>
            <a:xfrm>
              <a:off x="6843600" y="4419720"/>
              <a:ext cx="7016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3412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2464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14800" y="4419720"/>
              <a:ext cx="6098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0532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6600" y="4419720"/>
              <a:ext cx="5587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24080" y="4419720"/>
              <a:ext cx="7225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ro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4419720"/>
              <a:ext cx="4421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4080" y="4865760"/>
              <a:ext cx="4421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24080" y="4419720"/>
              <a:ext cx="0" cy="446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466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0532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148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2464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3412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36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45240" y="4419720"/>
              <a:ext cx="0" cy="446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6120" y="4433760"/>
              <a:ext cx="90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6440" y="4871880"/>
            <a:ext cx="3458880" cy="886680"/>
            <a:chOff x="46440" y="4871880"/>
            <a:chExt cx="3458880" cy="886680"/>
          </a:xfrm>
        </p:grpSpPr>
        <p:sp>
          <p:nvSpPr>
            <p:cNvPr id="140" name=""/>
            <p:cNvSpPr/>
            <p:nvPr/>
          </p:nvSpPr>
          <p:spPr>
            <a:xfrm>
              <a:off x="152280" y="5253120"/>
              <a:ext cx="335304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String elemen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440" y="4871880"/>
              <a:ext cx="10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T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84920" y="5105520"/>
            <a:ext cx="3687480" cy="886320"/>
            <a:chOff x="4084920" y="5105520"/>
            <a:chExt cx="3687480" cy="886320"/>
          </a:xfrm>
        </p:grpSpPr>
        <p:sp>
          <p:nvSpPr>
            <p:cNvPr id="143" name=""/>
            <p:cNvSpPr/>
            <p:nvPr/>
          </p:nvSpPr>
          <p:spPr>
            <a:xfrm>
              <a:off x="4419720" y="5486400"/>
              <a:ext cx="335268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String elemen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84920" y="5105520"/>
              <a:ext cx="10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T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895480" y="5562720"/>
            <a:ext cx="76320" cy="519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3886200"/>
            <a:ext cx="763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428640" y="4648320"/>
            <a:ext cx="6858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4648320"/>
            <a:ext cx="83844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5791320"/>
            <a:ext cx="2286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486080" y="6157800"/>
            <a:ext cx="2247840" cy="395280"/>
            <a:chOff x="1486080" y="6157800"/>
            <a:chExt cx="2247840" cy="395280"/>
          </a:xfrm>
        </p:grpSpPr>
        <p:sp>
          <p:nvSpPr>
            <p:cNvPr id="151" name=""/>
            <p:cNvSpPr/>
            <p:nvPr/>
          </p:nvSpPr>
          <p:spPr>
            <a:xfrm>
              <a:off x="3389400" y="6157800"/>
              <a:ext cx="344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8120" y="6157800"/>
              <a:ext cx="341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05040" y="6157800"/>
              <a:ext cx="343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62320" y="6157800"/>
              <a:ext cx="34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2320" y="615780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655308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6157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0504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4812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8940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33920" y="6157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86080" y="617220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224760" y="6310440"/>
            <a:ext cx="2233440" cy="395280"/>
            <a:chOff x="6224760" y="6310440"/>
            <a:chExt cx="2233440" cy="395280"/>
          </a:xfrm>
        </p:grpSpPr>
        <p:sp>
          <p:nvSpPr>
            <p:cNvPr id="164" name=""/>
            <p:cNvSpPr/>
            <p:nvPr/>
          </p:nvSpPr>
          <p:spPr>
            <a:xfrm>
              <a:off x="8113680" y="6310440"/>
              <a:ext cx="344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72400" y="6310440"/>
              <a:ext cx="341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29680" y="6310440"/>
              <a:ext cx="34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86600" y="6310440"/>
              <a:ext cx="343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86600" y="631044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86600" y="670572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86600" y="6310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2968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7240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1368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58200" y="6310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24760" y="632448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4"/>
          <p:cNvSpPr/>
          <p:nvPr/>
        </p:nvSpPr>
        <p:spPr>
          <a:xfrm>
            <a:off x="1954080" y="2314440"/>
            <a:ext cx="26863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version of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given value to list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Existing elements are sor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Sorte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front == null ||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 &lt;= front.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at front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in middle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list fea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the following methods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e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eld to the list to return its size more effici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preconditions and exception tests to appropriat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declare that it "implements" an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promises to contain each method in that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Otherwise it will fail to compile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icycle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Vehic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requir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anana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implements Sha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haha, no methods! pw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write a class that claims to b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t doesn't impleme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, it will not comp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Banana.java:1: Banana is not abstract and does not override abstract method area() in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Banana implements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 +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s benefi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ient code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 the mo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allow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lymorphis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the same code can work with different types of object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 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hape: " + 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area : " + s.area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erim: " + s.perimeter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irc = new Circle(12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iangle tri = new Triangle(5, 12, 1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vs. array 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wo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have similar behavior, implemented in different way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hould be able to treat them the same way in client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1731960" y="2362320"/>
          <a:ext cx="261144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778" name=""/>
          <p:cNvSpPr/>
          <p:nvPr/>
        </p:nvSpPr>
        <p:spPr>
          <a:xfrm>
            <a:off x="126000" y="45133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1731960" y="4114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0" name=""/>
          <p:cNvSpPr/>
          <p:nvPr/>
        </p:nvSpPr>
        <p:spPr>
          <a:xfrm>
            <a:off x="2925720" y="4734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3726000" y="41241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2" name=""/>
          <p:cNvSpPr/>
          <p:nvPr/>
        </p:nvSpPr>
        <p:spPr>
          <a:xfrm>
            <a:off x="4919760" y="47433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5719680" y="41432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4" name=""/>
          <p:cNvSpPr/>
          <p:nvPr/>
        </p:nvSpPr>
        <p:spPr>
          <a:xfrm>
            <a:off x="893880" y="47340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684840" y="47577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7485120" y="415764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7" name=""/>
          <p:cNvSpPr/>
          <p:nvPr/>
        </p:nvSpPr>
        <p:spPr>
          <a:xfrm flipH="1">
            <a:off x="8145000" y="45673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clie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Cli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1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 list2 = new Linked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 w/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Cli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1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rocess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2 = new Linked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rocess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ocess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ntList 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System.out.println(li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System.out.println(li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Ts as interfaces (11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uses interfaces to describe AD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They messed up on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; there's no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interface, just a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lue that does not refer to any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an array of objects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the same as the empty str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the str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null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does Java hav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it used fo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043080" y="3352680"/>
          <a:ext cx="484344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793440"/>
                <a:gridCol w="793800"/>
                <a:gridCol w="793800"/>
                <a:gridCol w="79380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69920" y="373392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92320" y="39625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ADT 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using Java's built-in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nsidered good practice to always declare collection variables using the corresponding ADT interface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accept a collection as a parameter should also declare the parameter using the ADT interface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tutter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use ADT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would we want more than one kind of list, queue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Each implementation is more efficient at certain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aster for adding/removing at the end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aster for adding/removing at the front/midd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search a huge data set for a value in short tim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slower but keeps the set of data in a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hoose the optimal implementation for your task, and if the rest of your code is written to use the ADT interfaces, it will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the following two list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03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5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7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9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 interfac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reate an ADT interface for the two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6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ome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18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0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2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that some of the methods are implemented the same way in both the array and linked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we change our interface to a class?  Why /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capture this common behavio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9.6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hybrid between an interface and a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s a superclass type that can contain method declarations (like an interface) and/or method bodies (like a clas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ke interfaces, abstract classes that cannot be instantiat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annot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create any objects of their typ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goes in an abstract clas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ation of common state and behavior that will be inherited by subclasses (parent class rol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clare generic behaviors that subclasses must implement (interface rol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claring an abstract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claring an abstract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(any subclass must implement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en if it has no abstract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reate variables (but not objects) of the abstrac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Introduce an abstract class into the list hierarch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and 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classes that claim to implement an interface must implement all methods of that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t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Int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 classes can claim to implement an interface without writing its methods; subclasses must implement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bstra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Empty implements IntList {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Chil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set reference fields of an object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ass Stud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549600" y="472428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374840" y="52578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54864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549600" y="533412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3657600" y="4495680"/>
            <a:ext cx="198108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abstract list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uperclass with common code for a list of integ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lass AbstractIntList implements IntLis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(size()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ndexOf(value) &gt;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isEmpt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ize() =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xtends AbstractInt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xtends AbstractInt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 vs.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 both interfaces and abstract classes exist in Jav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bstract class can do everything an interface can do and m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why would someone ever use an interfa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Java has single inherit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extend only one supercla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implement many interfa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ving interfaces allows a class to be part of a hierarchy (polymorphism) without using up its inheritance relationshi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41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3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5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6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7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n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ner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lass defined inside of another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created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non-stat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focus on standard non-static ("nested") inner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ne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classes are hidden from other classes (encapsulate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objects can access/modify the fields of the outer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1523880" y="4952880"/>
            <a:ext cx="617220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ner class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uter (enclosing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nner (nested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this file can see the inner class or make objects of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inner object is associated with the outer object that created it, so it can access/modify that outer object's methods/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ecessary, can refer to outer object a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uterClass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nvert the linked node into an inne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6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57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59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61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63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: When 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specify the 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ccept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that it i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neri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a parameterized (generic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utting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are demanding that any client that constructs your object must supply a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require multiple type parameters separated by com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t of your class's code can refer to that type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onvert our list classes to use gener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array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myField = new 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T[] a = new T[10];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yField = param;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[] a2 = (T[]) (new Object[10]);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not create objects or arrays of a parameterized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reate variables of that type, accept them as parameters, return them, or create arrays by casting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[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inn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Inner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&lt;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}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n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Inner {}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 outer class declares a type parameter, inner classes can also use that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class should NOT redeclare the type parameter.  (If you do, it will create a second type parameter with the same nam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ngs you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do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nu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variable or an array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2]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timmy.name);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whether a variable or array elemen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timmy.name == null) { ...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to a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methods don't 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meters and throw 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a method  (often to indicate fail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76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78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9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80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82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code is particularly slow on linked li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Integer&gt; list = new Linked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siz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value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get(i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value % 2 == 1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remove(i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do to improve the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Iterator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allows a client to traverse the elements of a collection, regardless of its implemen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a position within a collection, and allows you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ce to the nex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ossibly) remove or change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nefit: A common way to examin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llection's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117000" y="5333760"/>
            <a:ext cx="3240360" cy="1295280"/>
            <a:chOff x="117000" y="5333760"/>
            <a:chExt cx="3240360" cy="1295280"/>
          </a:xfrm>
        </p:grpSpPr>
        <p:sp>
          <p:nvSpPr>
            <p:cNvPr id="889" name=""/>
            <p:cNvSpPr/>
            <p:nvPr/>
          </p:nvSpPr>
          <p:spPr>
            <a:xfrm>
              <a:off x="1147680" y="594360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2214360" y="5333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17000" y="611028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2" name=""/>
          <p:cNvGraphicFramePr/>
          <p:nvPr/>
        </p:nvGraphicFramePr>
        <p:xfrm>
          <a:off x="762120" y="4495680"/>
          <a:ext cx="211752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93" name=""/>
          <p:cNvSpPr/>
          <p:nvPr/>
        </p:nvSpPr>
        <p:spPr>
          <a:xfrm>
            <a:off x="3442320" y="48942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4" name=""/>
          <p:cNvGraphicFramePr/>
          <p:nvPr/>
        </p:nvGraphicFramePr>
        <p:xfrm>
          <a:off x="4435560" y="44956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5" name=""/>
          <p:cNvSpPr/>
          <p:nvPr/>
        </p:nvSpPr>
        <p:spPr>
          <a:xfrm>
            <a:off x="5638680" y="51055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6056280" y="45054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7" name=""/>
          <p:cNvSpPr/>
          <p:nvPr/>
        </p:nvSpPr>
        <p:spPr>
          <a:xfrm>
            <a:off x="7315200" y="5105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7696080" y="45244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9" name=""/>
          <p:cNvSpPr/>
          <p:nvPr/>
        </p:nvSpPr>
        <p:spPr>
          <a:xfrm>
            <a:off x="4191120" y="5105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8381520" y="4948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4613040" y="5333760"/>
            <a:ext cx="3240360" cy="1295280"/>
            <a:chOff x="4613040" y="5333760"/>
            <a:chExt cx="3240360" cy="1295280"/>
          </a:xfrm>
        </p:grpSpPr>
        <p:sp>
          <p:nvSpPr>
            <p:cNvPr id="902" name=""/>
            <p:cNvSpPr/>
            <p:nvPr/>
          </p:nvSpPr>
          <p:spPr>
            <a:xfrm>
              <a:off x="5643720" y="594360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6710400" y="5333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613040" y="611028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provided collection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new HashSe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terator&lt;String&gt; itr = set.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iterators for our array list and linked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don't need to suppor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per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123840" y="1371600"/>
          <a:ext cx="8915400" cy="2147760"/>
        </p:xfrm>
        <a:graphic>
          <a:graphicData uri="http://schemas.openxmlformats.org/drawingml/2006/table">
            <a:tbl>
              <a:tblPr/>
              <a:tblGrid>
                <a:gridCol w="1555560"/>
                <a:gridCol w="735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more elements to ex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ext element from the collection (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none left to exam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from the collection the last value returned b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throw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llegalState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you have not calle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ArrayList&lt;E&gt; extends AbstractIntList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perfect; doesn't forbid multiple removes in a 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class ArrayIterator implements Iterator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index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urrent position in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ArrayIterato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has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ndex &lt; siz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get(index -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List.this.remove(index -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inkedList&lt;E&gt; extends AbstractIntList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perfect; doesn't support re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class LinkedIterator implements Iterator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ListNode curren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urrent position in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LinkedIterato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fro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has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urrent !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 result = current.dat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) {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implemented for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 new UnsupportedOperationExcepti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r-each loop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s can be iterated using a "for-each"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list = new Linked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String s : lis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r collections do not work in this w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x this, your list mus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terable&lt;E&gt;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Iterator&lt;E&gt; 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3, 16.5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tends Iterable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E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ublic Iterator&lt;E&gt; 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34Z</dcterms:modified>
  <cp:revision>266</cp:revision>
  <dc:subject/>
  <dc:title>CSE 142 Python Slides</dc:title>
</cp:coreProperties>
</file>