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55CE-D9B4-4E39-B615-E5650E506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7708-7294-4651-BDB8-F2EEC9E95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3B07-25D9-4532-8E9B-D93285441AE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2Z</dcterms:modified>
  <cp:revision>122</cp:revision>
  <dc:subject/>
  <dc:title>CSE 142 Python Slides</dc:title>
</cp:coreProperties>
</file>