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E33C-6DC8-43D2-AB21-ACF86C1F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33ED-945E-4FFF-AC69-C9D7F64ADCD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0Z</dcterms:modified>
  <cp:revision>378</cp:revision>
  <dc:subject/>
  <dc:title>CSE 142 Python Slides</dc:title>
</cp:coreProperties>
</file>