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2526-185E-4C68-81FD-D14486EA0AC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prod.com/jgloss/exception.html" TargetMode="External"/><Relationship Id="rId2" Type="http://schemas.openxmlformats.org/officeDocument/2006/relationships/hyperlink" Target="http://mindprod.com/jgloss/exception.html" TargetMode="External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C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Java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, and then wha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ocess(String st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Integer.parseInt(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Invalid number: " + 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ry the operation that fail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-prompt the user for new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a nice error mess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nothing (!)   (why? when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I/O error: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.getMessag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1905120"/>
          <a:ext cx="8534160" cy="1904760"/>
        </p:xfrm>
        <a:graphic>
          <a:graphicData uri="http://schemas.openxmlformats.org/drawingml/2006/table">
            <a:tbl>
              <a:tblPr/>
              <a:tblGrid>
                <a:gridCol w="4800600"/>
                <a:gridCol w="373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Messag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's type and 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gn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57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xceptions only for exceptional condi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uthor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parse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got this wr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s that are not legal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are common (not "exceptional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What should they have done instead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  Not really.  :-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gnor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65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n't ignore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mpt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is (a common) poor sty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done to get code to compile or hide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file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{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do nothing o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print out the exception so you know it happe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.printStackTrace(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just in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86600" y="1219320"/>
            <a:ext cx="1841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 multiple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more than one kind of exception in the sam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xception is thrown, the matching catch block (if any) is u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multip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s match, the most specific match is chos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59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common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Overflow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eNotSuppor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urrentModific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tyStack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rgu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Stat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OutOfBounds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O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OFException, FileNotFoundException, InterruptedIOException, MalformedURLException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 NotSerializableException, SocketException, SSLException, UnknownHostException, Zip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formedUR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ativeArraySiz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oco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tim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Oper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also:</a:t>
            </a:r>
            <a:br>
              <a:rPr sz="20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mindprod.com/jgloss/exception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with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FileNotFoundException fnf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file not found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OException io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I/O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Exception 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cket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secon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ithmetic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thir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o should catch i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that is able to handle the error properly should be the code that catches the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times this is not the top method on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showGUI() → click() → readFile() → FileNotFoundExceptio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new PokerGame()  → new Player() → loadHistory() → Integer.parseInt() -&gt; NumberFormat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mitive data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320" y="1371600"/>
          <a:ext cx="8915040" cy="4848120"/>
        </p:xfrm>
        <a:graphic>
          <a:graphicData uri="http://schemas.openxmlformats.org/drawingml/2006/table">
            <a:tbl>
              <a:tblPr/>
              <a:tblGrid>
                <a:gridCol w="1679400"/>
                <a:gridCol w="1679760"/>
                <a:gridCol w="1613520"/>
                <a:gridCol w="1681200"/>
                <a:gridCol w="2261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d of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mor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bi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.. 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byte)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ac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teg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0000 .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FF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a'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\u2603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l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.4e38 .. 3.4e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.1e7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8e308 .. 1.8e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.022e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x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1874109487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short) 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practice to throw exceptions on unexpected err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throw rather than just ignoring the negative valu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not return a special error code, 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throwing sty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ception can accep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for a message describing what went wro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string returned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negative deposit: " + am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3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clude failure-capture information in detail mess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 the caller what went wrong, to help them fix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ent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r method throw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ain this in the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e the types of exceptions thrown and under what condi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Places the given amount of money into this ac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/ Throws an IllegalArgumentException on negative depos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negative deposit: " + am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2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cument all exceptions thrown by each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must know this in order to avoid or catch the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wo major kinds of excep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MUST be handled b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(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use) or else the program will not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erious problems that the caller ought to deal wi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inheritanc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untime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don't have to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; if not handled, the program ha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maller errors or programmer err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takes that could have been avoided by a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for null or 0,  check if a file exists,  check array's bounds,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629400" y="3157560"/>
            <a:ext cx="22096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hrows clau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use in a method header claiming it may caus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when a method may throw an uncaught checked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processFil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means one of two possibil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self might throw an excep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ght call some sub-method that throws an exception, and it is choosing not to catch it (rather, to re-throw it out to the call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exception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row exceptions appropriate to the abst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no provided exception class is quite right for your app's kind of error, you should write your ow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Thrown when the user tries to play after the game is ove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GameOverException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xtends Runtime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ivate String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GameOverException(String message, String winner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uper(message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his.winner =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ring getWinner(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in Game class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f (!inProgress()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row new GameOver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"Game already ended", winner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 suck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59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void unnecessary use of checke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ed exceptions are (arguably) a wart in the Java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should be the client's decision whether or not to catch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writing your own exception classes, exte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 it doesn't need to be caught unless the client wants to do s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ses still require throwing checked exceptions  (e.g. file I/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Exception {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RuntimeException {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throws MP3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P3Exception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xtends Runtime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...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redunda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ocess(OutputStream ou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ose code appears redundantly in both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't move it out below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beca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self could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nally blo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run after the try or catch finis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ften used for common "clean-up"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nal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 is optional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/final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lso leg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714760"/>
            <a:ext cx="7772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witch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olean 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ault: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it isn't one of the abov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lternative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used on integral types 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case can end wit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r if neither is present, it will "fall through" into the code for the next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W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Forma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InInitializ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ccess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iat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ag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lassDefFoun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Fiel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OfMemor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ckOverflow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atisfiedLink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ClassVers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Machin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assert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ing asser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enableassertio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Class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or tell your editor/IDE to enable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rtion code is zero-cost when disabled;  very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/C++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ompile-time 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you can selectively en/disable assertions at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 statem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index of n in a, or -1 if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a is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ssert isSorted(a) : "Array must be sorted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rue if the given array is sor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Sor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umerated Typ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enum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ti-pattern: int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CLUBS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DIAMONDS =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HEARTS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SPADES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Suit(int sui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suit =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 to represent sui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tion (also bad)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for the same purp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erated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type of objects with a fixed set of constant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placed into its own .java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h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at are real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;  Java's are obje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Sui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UBS, DIAMONDS, HEARTS, SP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stead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The advantages of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ypes over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constants are compelling.  Enums are far more readable, safer, and more powerful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an enu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eced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oughly equal to the following short cla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final class Suit extends Enum&lt;Sui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CLUBS 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DIAMONDS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HEART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SPADE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uit() {}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o more can be m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can an enum do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t as the type of a variable, field, parameter, or re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uit sui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why don't we need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 == Suit.CLUB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by order of decl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Card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uit != other.sui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.compareTo(other.sui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1347840"/>
          <a:ext cx="8686800" cy="258588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compareTo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ypes are Comparable by order of decl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 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 needed;  can just us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nam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ivalent t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ordina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n enum's 0-based number by order of declaration  (first is 0, then 1, then 2, ..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4224240"/>
          <a:ext cx="8686800" cy="118584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alue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s a string into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] values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rray of all values of your enum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tching Exception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omplex enu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numerated type can have fields, methods, and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enum Coin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NN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NICKE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DIM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QUART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Coi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cents = c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ents()  { return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perDollar() { return 100 /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"NICKEL (5c)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per.toString() + " (" + cents + "c)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related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"contain" sub-pack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b-pack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have similar nam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are not actually contained insi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conta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Java pack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oup related classes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am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void name coll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 a layer of access / prot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ep pieces of a project down to a manageable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53804" t="10646" r="2340" b="49980"/>
          <a:stretch/>
        </p:blipFill>
        <p:spPr>
          <a:xfrm>
            <a:off x="6705720" y="1573200"/>
            <a:ext cx="21333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s and directo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directory (fold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b.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reside in this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/b/c/D.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relative to the root of your projec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"root" directory of the package hierarchy is determined by you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directory from whi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as 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411480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pa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location(s) in which Java looks for class f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rrent "working directory" from which you ran javac / 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fol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R archiv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R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et class path manually when running java at command li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 -cp /home/stepp/libs:/foo/bar/jbl My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ackage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packag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Ghost extends Sprite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rite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go in fold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/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all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Gu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import the model package in order to us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on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Sprit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ing single classes has high preceden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same-named class in the current dir will overri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 will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static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static java.lang.Math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angle = sin(PI / 2) + ln(E * 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import allows you to refer to the members of another class without writing that class's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used rarely and only with classes whose contents are entirely static "utility"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ring to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.Scanner console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java.util.Scanner(java.lang.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 type from any package without importing it if you write its full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this is useful to disambiguate simila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awt.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explicitly import one of the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languages don't have this concep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represent errors by returning error cod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null, -1, false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exceptions better?  What are their benefi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cause an exception to occ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some actions that commonly throw excep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handl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exception is thrown and no code catches it, the program's execution will stop and an error trace will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exception is caught, the program can continue runn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1406520"/>
            <a:ext cx="19047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fault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ation units (files) that do not declare a package are put into a default, unnamed,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in the default pack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imp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used by classes in other 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editors discourage the use of the default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java.lang is implicitly imported in all programs by defa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la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 acce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vides the following access modifi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all other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only to current class (and any nested typ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the current class, any of its subclasses,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 (package): Visible to the current class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ive a member default scope, do not write a modifi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prit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points; 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;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that throws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ing by ze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dereference a null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ul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translate(2, -3);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interpret input in the wrong w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mberForma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Integer.parseInt("hi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 a non-existent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ile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"notHere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avoid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cases, the best plan is to try to avoi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o check first than try/catch without ch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x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notHere.tx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file.exists(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fi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filenam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d catc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any time, your program has an activ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xception is thrown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VM looks up the call stack unt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finds a method with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lock for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one is found, control jump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to that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ne is found, the program crash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s allo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-local error hand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many levels up the stack can handle a deep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70440" y="1981080"/>
            <a:ext cx="291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5:57Z</dcterms:modified>
  <cp:revision>612</cp:revision>
  <dc:subject/>
  <dc:title>CSE 142 Python Slides</dc:title>
</cp:coreProperties>
</file>