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A80E-1E61-48C9-B63A-77F772C13F18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ced Data Struct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hing and He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map a large domain of values to a smaller fixed doma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ly, mapping a set of elements to integer indexes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dea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 any given element value in a particular predictable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way, adding / removing / looking for it are constant-time (O(1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t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n array that stores elements via has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hat maps values to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output of a hash function for a given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previous slide, our "hash function" was: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ly requires a large array  (a.length &gt; i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n't work for negative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could be very sparse, mostly empty  (memory wast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ep 1: Build heap in-pl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Bubble" down non-leaf nodes until the array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a = {21, 66, 40, 10, 70, 81, 30, 22, 45, 95, 88, 38}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Swap each node with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larger child as nee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7" name="AutoShape 33"/>
          <p:cNvCxnSpPr>
            <a:stCxn id="1226" idx="3"/>
            <a:endCxn id="1225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8" name="AutoShape 34"/>
          <p:cNvCxnSpPr>
            <a:stCxn id="1226" idx="5"/>
            <a:endCxn id="1224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9" name="AutoShape 35"/>
          <p:cNvCxnSpPr>
            <a:stCxn id="1224" idx="5"/>
            <a:endCxn id="1221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0" name="AutoShape 36"/>
          <p:cNvCxnSpPr>
            <a:stCxn id="1225" idx="3"/>
            <a:endCxn id="1223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1" name="AutoShape 37"/>
          <p:cNvCxnSpPr>
            <a:stCxn id="1225" idx="5"/>
            <a:endCxn id="1222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2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3" name="AutoShape 39"/>
          <p:cNvCxnSpPr>
            <a:stCxn id="1223" idx="3"/>
            <a:endCxn id="1232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4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5" name="AutoShape 41"/>
          <p:cNvCxnSpPr>
            <a:stCxn id="1223" idx="5"/>
            <a:endCxn id="1234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6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7" name="AutoShape 43"/>
          <p:cNvCxnSpPr>
            <a:stCxn id="1224" idx="3"/>
            <a:endCxn id="1236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8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AutoShape 45"/>
          <p:cNvCxnSpPr>
            <a:stCxn id="1222" idx="3"/>
            <a:endCxn id="1238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0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1" name="AutoShape 47"/>
          <p:cNvCxnSpPr>
            <a:stCxn id="1222" idx="5"/>
            <a:endCxn id="1240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42" name=""/>
          <p:cNvGraphicFramePr/>
          <p:nvPr/>
        </p:nvGraphicFramePr>
        <p:xfrm>
          <a:off x="255744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3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4" name="AutoShape 43"/>
          <p:cNvCxnSpPr>
            <a:stCxn id="1236" idx="3"/>
            <a:endCxn id="1243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ild heap in-pla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0: nothing to d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81: nothing to d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70: swap with 95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0: swap with 45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40: swap with 81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66: swap with 95, then 88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21: swap with 95, then 88, then 70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3" name="AutoShape 33"/>
          <p:cNvCxnSpPr>
            <a:stCxn id="1252" idx="3"/>
            <a:endCxn id="1251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4" name="AutoShape 34"/>
          <p:cNvCxnSpPr>
            <a:stCxn id="1252" idx="5"/>
            <a:endCxn id="1250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5" name="AutoShape 35"/>
          <p:cNvCxnSpPr>
            <a:stCxn id="1250" idx="5"/>
            <a:endCxn id="1247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6" name="AutoShape 36"/>
          <p:cNvCxnSpPr>
            <a:stCxn id="1251" idx="3"/>
            <a:endCxn id="1249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7" name="AutoShape 37"/>
          <p:cNvCxnSpPr>
            <a:stCxn id="1251" idx="5"/>
            <a:endCxn id="1248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8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9" name="AutoShape 39"/>
          <p:cNvCxnSpPr>
            <a:stCxn id="1249" idx="3"/>
            <a:endCxn id="1258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0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1" name="AutoShape 41"/>
          <p:cNvCxnSpPr>
            <a:stCxn id="1249" idx="5"/>
            <a:endCxn id="1260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2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3" name="AutoShape 43"/>
          <p:cNvCxnSpPr>
            <a:stCxn id="1250" idx="3"/>
            <a:endCxn id="1262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4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5" name="AutoShape 45"/>
          <p:cNvCxnSpPr>
            <a:stCxn id="1248" idx="3"/>
            <a:endCxn id="1264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6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7" name="AutoShape 47"/>
          <p:cNvCxnSpPr>
            <a:stCxn id="1248" idx="5"/>
            <a:endCxn id="1266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68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9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0" name="AutoShape 43"/>
          <p:cNvCxnSpPr>
            <a:stCxn id="1262" idx="3"/>
            <a:endCxn id="1269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e t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 have a max-heap, remove elements repeatedly until we have a sorted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ve each removed el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he end, rather than tossing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AutoShape 33"/>
          <p:cNvCxnSpPr>
            <a:stCxn id="1278" idx="3"/>
            <a:endCxn id="1277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0" name="AutoShape 34"/>
          <p:cNvCxnSpPr>
            <a:stCxn id="1278" idx="5"/>
            <a:endCxn id="1276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1" name="AutoShape 35"/>
          <p:cNvCxnSpPr>
            <a:stCxn id="1276" idx="5"/>
            <a:endCxn id="1273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2" name="AutoShape 36"/>
          <p:cNvCxnSpPr>
            <a:stCxn id="1277" idx="3"/>
            <a:endCxn id="1275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3" name="AutoShape 37"/>
          <p:cNvCxnSpPr>
            <a:stCxn id="1277" idx="5"/>
            <a:endCxn id="1274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4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5" name="AutoShape 39"/>
          <p:cNvCxnSpPr>
            <a:stCxn id="1275" idx="3"/>
            <a:endCxn id="1284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6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7" name="AutoShape 41"/>
          <p:cNvCxnSpPr>
            <a:stCxn id="1275" idx="5"/>
            <a:endCxn id="1286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8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9" name="AutoShape 43"/>
          <p:cNvCxnSpPr>
            <a:stCxn id="1276" idx="3"/>
            <a:endCxn id="1288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0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1" name="AutoShape 45"/>
          <p:cNvCxnSpPr>
            <a:stCxn id="1274" idx="3"/>
            <a:endCxn id="1290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2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AutoShape 47"/>
          <p:cNvCxnSpPr>
            <a:stCxn id="1274" idx="5"/>
            <a:endCxn id="1292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94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5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6" name="AutoShape 43"/>
          <p:cNvCxnSpPr>
            <a:stCxn id="1288" idx="3"/>
            <a:endCxn id="1295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e to sor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5: move 38 up, swap with 88, 70, 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8: move 21 up, swap with 81, 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1: move 38 up, swap with 70, 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: move 10 up, swap with 66, 45, 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otice that after 4 remov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ast 4 elements in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are sort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remove ev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, the ent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will be sorte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5" name="AutoShape 33"/>
          <p:cNvCxnSpPr>
            <a:stCxn id="1304" idx="3"/>
            <a:endCxn id="1303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6" name="AutoShape 34"/>
          <p:cNvCxnSpPr>
            <a:stCxn id="1304" idx="5"/>
            <a:endCxn id="1302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7" name="AutoShape 35"/>
          <p:cNvCxnSpPr>
            <a:stCxn id="1302" idx="5"/>
            <a:endCxn id="1299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8" name="AutoShape 36"/>
          <p:cNvCxnSpPr>
            <a:stCxn id="1303" idx="3"/>
            <a:endCxn id="1301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9" name="AutoShape 37"/>
          <p:cNvCxnSpPr>
            <a:stCxn id="1303" idx="5"/>
            <a:endCxn id="1300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0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1" name="AutoShape 39"/>
          <p:cNvCxnSpPr>
            <a:stCxn id="1301" idx="3"/>
            <a:endCxn id="1310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2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3" name="AutoShape 41"/>
          <p:cNvCxnSpPr>
            <a:stCxn id="1301" idx="5"/>
            <a:endCxn id="1312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314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5" name="AutoShape 43"/>
          <p:cNvCxnSpPr>
            <a:stCxn id="1302" idx="3"/>
            <a:endCxn id="1314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6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7" name="AutoShape 45"/>
          <p:cNvCxnSpPr>
            <a:stCxn id="1300" idx="3"/>
            <a:endCxn id="1316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318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9" name="AutoShape 47"/>
          <p:cNvCxnSpPr>
            <a:stCxn id="1300" idx="5"/>
            <a:endCxn id="1318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graphicFrame>
        <p:nvGraphicFramePr>
          <p:cNvPr id="1320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840"/>
                <a:gridCol w="392040"/>
                <a:gridCol w="393840"/>
                <a:gridCol w="392040"/>
                <a:gridCol w="41580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1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2" name="AutoShape 43"/>
          <p:cNvCxnSpPr>
            <a:stCxn id="1314" idx="3"/>
            <a:endCxn id="1321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hash fun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 deal with negative numbers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bs(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 deal with large number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bs(i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2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37) % 10 =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-2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-2) % 10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49) % 10 == 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  <a:ea typeface="Courier New"/>
              </a:rPr>
              <a:t>// inside HashIntSet 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i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905120" y="35053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ketch of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[hash(value)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s[hash(value)]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[hash(value)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108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tim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 !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there any problems with this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i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hash function maps 2 values to same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et.add(54);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llides with 24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 resolu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for fixing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5120" y="376704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olving a collision by moving to another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ear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Moves to the next available index  (wraps if needed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54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llides with 24; must pro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tio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adratic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ves increasingly far away: +1, +4, +9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5120" y="422424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Int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t using a hash table with linear prob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implicity, assume that the set cannot store 0s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ashInt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ash function maps values to inde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hash function to find the proper bucke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see a 0, put it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not, move forward until we find an empty (0) index to store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see that the value is already in the table, don't re-add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54);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client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!= value) {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linear prob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for empty s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!= value) {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avoid duplic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ntains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search for an element in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hash function to find the proper bucke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forward until we either find the value, or an empty index (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find the value, it is contained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 If we find 0, it is not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2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1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35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== value) {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linear prob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to sear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       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8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remove by simply zeroing out an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.remove(54);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et index 5 to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.contains(1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false???  o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 replace it by a special "removed" placeholder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 be re-used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ut keep searching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05120" y="24717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905120" y="48769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 &amp;&amp; 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h] = -99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"removed" flag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54);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client 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1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3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76520" y="3995640"/>
          <a:ext cx="5638320" cy="1185840"/>
        </p:xfrm>
        <a:graphic>
          <a:graphicData uri="http://schemas.openxmlformats.org/drawingml/2006/table">
            <a:tbl>
              <a:tblPr/>
              <a:tblGrid>
                <a:gridCol w="758880"/>
                <a:gridCol w="466560"/>
                <a:gridCol w="466200"/>
                <a:gridCol w="469800"/>
                <a:gridCol w="464400"/>
                <a:gridCol w="471240"/>
                <a:gridCol w="667440"/>
                <a:gridCol w="469800"/>
                <a:gridCol w="468000"/>
                <a:gridCol w="468000"/>
                <a:gridCol w="46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tching add,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final int REMOVED = -99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lements[h] != 0 &amp;&amp; elements[h] != value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h] != R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h] 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// contains does not need patchin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// it should keep going on a -999, which it already do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lements[h] != 0 &amp;&amp; 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lements[h] =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full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umps of elements at neighboring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s down the hash table lookup; you must loop through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54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2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14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24, then 5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86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14, then 3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does each value go in the arra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indexes must be examined to answ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(94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will happen if the array completely fill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905120" y="41911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rowing to a larger array when the table is too fu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simply copy the old array to a new one.  (Why not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ad fa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atio of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 of el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/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sh table leng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collections rehash when load factor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≅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4952880"/>
          <a:ext cx="8705520" cy="1095480"/>
        </p:xfrm>
        <a:graphic>
          <a:graphicData uri="http://schemas.openxmlformats.org/drawingml/2006/table">
            <a:tbl>
              <a:tblPr/>
              <a:tblGrid>
                <a:gridCol w="691200"/>
                <a:gridCol w="397080"/>
                <a:gridCol w="398880"/>
                <a:gridCol w="397080"/>
                <a:gridCol w="398520"/>
                <a:gridCol w="397080"/>
                <a:gridCol w="397080"/>
                <a:gridCol w="398880"/>
                <a:gridCol w="397080"/>
                <a:gridCol w="398520"/>
                <a:gridCol w="397440"/>
                <a:gridCol w="398520"/>
                <a:gridCol w="397080"/>
                <a:gridCol w="421560"/>
                <a:gridCol w="397080"/>
                <a:gridCol w="401760"/>
                <a:gridCol w="398880"/>
                <a:gridCol w="400320"/>
                <a:gridCol w="398880"/>
                <a:gridCol w="420840"/>
                <a:gridCol w="401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28600" y="3581280"/>
          <a:ext cx="4667040" cy="1095480"/>
        </p:xfrm>
        <a:graphic>
          <a:graphicData uri="http://schemas.openxmlformats.org/drawingml/2006/table">
            <a:tbl>
              <a:tblPr/>
              <a:tblGrid>
                <a:gridCol w="691920"/>
                <a:gridCol w="395280"/>
                <a:gridCol w="398520"/>
                <a:gridCol w="397080"/>
                <a:gridCol w="398520"/>
                <a:gridCol w="396720"/>
                <a:gridCol w="396720"/>
                <a:gridCol w="398520"/>
                <a:gridCol w="399960"/>
                <a:gridCol w="397080"/>
                <a:gridCol w="3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has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Grows hash table to twice its original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h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old =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new int[2 * old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value : ol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value != 0 &amp;&amp; value != REMOVE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add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double) size / elements.length &gt;= 0.75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hash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table siz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prime numbers as hash table sizes to reduce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mproves spread / reduces clustering on reha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11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11 % 13 ==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39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39 % 13 == 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21 % 13 ==  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29 % 13 == 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81 % 13 ==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41 % 13 == 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99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101 % 13 ==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4419720"/>
          <a:ext cx="6571800" cy="1095120"/>
        </p:xfrm>
        <a:graphic>
          <a:graphicData uri="http://schemas.openxmlformats.org/drawingml/2006/table">
            <a:tbl>
              <a:tblPr/>
              <a:tblGrid>
                <a:gridCol w="763920"/>
                <a:gridCol w="435600"/>
                <a:gridCol w="439200"/>
                <a:gridCol w="437400"/>
                <a:gridCol w="439200"/>
                <a:gridCol w="437400"/>
                <a:gridCol w="437400"/>
                <a:gridCol w="441000"/>
                <a:gridCol w="440640"/>
                <a:gridCol w="437400"/>
                <a:gridCol w="437760"/>
                <a:gridCol w="507240"/>
                <a:gridCol w="458640"/>
                <a:gridCol w="45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Int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se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[11, 24, 54, 37, 49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905120" y="1981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e 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-206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parate chain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lving collisions by storing a list at each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-2484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/contains/remove must traverse lists, but the lists are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-2484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ossible to "run out" of indexes, unlike with prob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Node n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66880" y="2819520"/>
          <a:ext cx="56628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334120" y="47102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556272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3412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562720" y="5105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33412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556272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8620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41148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5800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711216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810252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5053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4197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8769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866920" y="32767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40080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3915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Int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 hash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using separate chai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array of linked lis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elements[i] = front of list #i (null if empt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ashInt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Node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ash function maps values to inde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want to modify a linked list, you must either change the list's front reference, 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n the list should we add the new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make sure to avoid duplica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90920" y="356724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232240" y="46339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232240" y="54720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96252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548640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988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403848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78168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703584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77240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802656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4290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3434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8006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9132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24120" y="402444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3152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2800" y="55627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470480" y="4785840"/>
            <a:ext cx="7617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241880" y="4176720"/>
            <a:ext cx="121896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contains(value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add to fro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newNode = new Node(value)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of list #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Node.next = elements[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newNod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ntains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search for an element in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loop through the linked list for the appropriate hash index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ing for the desir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ing through a linked list requires a "current" node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14)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84)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53)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73320" y="3110040"/>
          <a:ext cx="56628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740560" y="4862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969160" y="4557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74056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5969160" y="5243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74056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596916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29264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52124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26444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51824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25516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850896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9117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261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2833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273360" y="356724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80724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77979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58600" y="4876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257800" y="449568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34120" y="50673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76880" y="5226120"/>
            <a:ext cx="361800" cy="41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current = elements[hash(value)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urrent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remove an element from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s to consider: front (24), non-front (14), not found (94), null (3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move a node from a linked list, you must either change the list's front reference, 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of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eviou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remove(5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048120" y="34909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715000" y="5243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5943600" y="49388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715000" y="59292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5943600" y="56246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71500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594360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26708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449568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723888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749304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822960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848376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8862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8006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2578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24852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781320" y="3948120"/>
            <a:ext cx="38124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7724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58600" y="5243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257800" y="486252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48520" y="4938840"/>
            <a:ext cx="228600" cy="990360"/>
          </a:xfrm>
          <a:custGeom>
            <a:avLst/>
            <a:gdLst/>
            <a:ahLst/>
            <a:rect l="l" t="t" r="r" b="b"/>
            <a:pathLst>
              <a:path w="144" h="624">
                <a:moveTo>
                  <a:pt x="0" y="0"/>
                </a:moveTo>
                <a:cubicBezTo>
                  <a:pt x="72" y="116"/>
                  <a:pt x="144" y="232"/>
                  <a:pt x="144" y="336"/>
                </a:cubicBezTo>
                <a:cubicBezTo>
                  <a:pt x="144" y="440"/>
                  <a:pt x="16" y="576"/>
                  <a:pt x="0" y="62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!= null &amp;&amp; elements[h]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elements[h].next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fron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current = elements[h];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n-fron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 &amp;&amp; current.nex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urrent.next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 w/ 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chaining handles rehashing similarly to linear prob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the list in each hash bucket; re-add each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optimal implementation re-uses node objects, but this is optiona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914400" y="2666880"/>
          <a:ext cx="3835440" cy="619200"/>
        </p:xfrm>
        <a:graphic>
          <a:graphicData uri="http://schemas.openxmlformats.org/drawingml/2006/table">
            <a:tbl>
              <a:tblPr/>
              <a:tblGrid>
                <a:gridCol w="682560"/>
                <a:gridCol w="298440"/>
                <a:gridCol w="297000"/>
                <a:gridCol w="296640"/>
                <a:gridCol w="319320"/>
                <a:gridCol w="328680"/>
                <a:gridCol w="328320"/>
                <a:gridCol w="327240"/>
                <a:gridCol w="318960"/>
                <a:gridCol w="319320"/>
                <a:gridCol w="3189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835280" y="3392640"/>
          <a:ext cx="415800" cy="30924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2050920" y="31640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75904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297504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755800" y="388620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2971800" y="372888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759040" y="433872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2975040" y="418140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74004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395604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36896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458460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914400" y="4954680"/>
          <a:ext cx="8000640" cy="618840"/>
        </p:xfrm>
        <a:graphic>
          <a:graphicData uri="http://schemas.openxmlformats.org/drawingml/2006/table">
            <a:tbl>
              <a:tblPr/>
              <a:tblGrid>
                <a:gridCol w="697680"/>
                <a:gridCol w="304920"/>
                <a:gridCol w="305280"/>
                <a:gridCol w="304920"/>
                <a:gridCol w="305280"/>
                <a:gridCol w="304920"/>
                <a:gridCol w="305280"/>
                <a:gridCol w="304920"/>
                <a:gridCol w="305280"/>
                <a:gridCol w="304920"/>
                <a:gridCol w="305280"/>
                <a:gridCol w="425520"/>
                <a:gridCol w="424800"/>
                <a:gridCol w="425520"/>
                <a:gridCol w="425160"/>
                <a:gridCol w="425160"/>
                <a:gridCol w="425160"/>
                <a:gridCol w="425160"/>
                <a:gridCol w="425160"/>
                <a:gridCol w="425520"/>
                <a:gridCol w="424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105520" y="568008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5321160" y="5451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75904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>
            <a:off x="297504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362640" y="616752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6578640" y="601020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67992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389556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29588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451152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636588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658188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set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ashSe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lements Set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class Nod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Node n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asy to hash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use index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abs(i) % length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hash other types of values (such as objects)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shCod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Java objects contain the following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hash code for this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ny object to find its preferred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the other built-in "hash" collections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nally on their elements to store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odify our set's hash function to b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hash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 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Math.abs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ssues with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make an unusual cast on your array of generic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ashSet&lt;E&gt; implements Set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Node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ash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ode[]) new HashSet.Node[1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all element comparison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if (curren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current.data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value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arch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a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store a BS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BST is essentially a set of integ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 we suppor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ere are other ways to implement a set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629400" y="2209680"/>
            <a:ext cx="1981080" cy="1752480"/>
            <a:chOff x="6629400" y="2209680"/>
            <a:chExt cx="1981080" cy="1752480"/>
          </a:xfrm>
        </p:grpSpPr>
        <p:sp>
          <p:nvSpPr>
            <p:cNvPr id="88" name=""/>
            <p:cNvSpPr/>
            <p:nvPr/>
          </p:nvSpPr>
          <p:spPr>
            <a:xfrm>
              <a:off x="8294040" y="364608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6808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25480" y="3076200"/>
              <a:ext cx="31752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82840" y="307620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54520" y="257004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92" idx="3"/>
              <a:endCxn id="91" idx="0"/>
            </p:cNvCxnSpPr>
            <p:nvPr/>
          </p:nvCxnSpPr>
          <p:spPr>
            <a:xfrm flipH="1">
              <a:off x="704160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2" idx="5"/>
              <a:endCxn id="90" idx="0"/>
            </p:cNvCxnSpPr>
            <p:nvPr/>
          </p:nvCxnSpPr>
          <p:spPr>
            <a:xfrm>
              <a:off x="772488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90" idx="3"/>
              <a:endCxn id="89" idx="0"/>
            </p:cNvCxnSpPr>
            <p:nvPr/>
          </p:nvCxnSpPr>
          <p:spPr>
            <a:xfrm flipH="1">
              <a:off x="7926840" y="3358440"/>
              <a:ext cx="14472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90" idx="5"/>
              <a:endCxn id="88" idx="0"/>
            </p:cNvCxnSpPr>
            <p:nvPr/>
          </p:nvCxnSpPr>
          <p:spPr>
            <a:xfrm>
              <a:off x="8296560" y="3358440"/>
              <a:ext cx="15588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" name=""/>
            <p:cNvSpPr/>
            <p:nvPr/>
          </p:nvSpPr>
          <p:spPr>
            <a:xfrm>
              <a:off x="7152840" y="364608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2940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"/>
            <p:cNvCxnSpPr>
              <a:stCxn id="91" idx="3"/>
              <a:endCxn id="98" idx="0"/>
            </p:cNvCxnSpPr>
            <p:nvPr/>
          </p:nvCxnSpPr>
          <p:spPr>
            <a:xfrm flipH="1">
              <a:off x="6787800" y="3361320"/>
              <a:ext cx="142200" cy="26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>
              <a:stCxn id="91" idx="5"/>
              <a:endCxn id="97" idx="0"/>
            </p:cNvCxnSpPr>
            <p:nvPr/>
          </p:nvCxnSpPr>
          <p:spPr>
            <a:xfrm>
              <a:off x="7153560" y="3358440"/>
              <a:ext cx="15876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" name=""/>
            <p:cNvSpPr/>
            <p:nvPr/>
          </p:nvSpPr>
          <p:spPr>
            <a:xfrm>
              <a:off x="6983640" y="22096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"/>
            <p:cNvCxnSpPr>
              <a:stCxn id="101" idx="2"/>
              <a:endCxn id="92" idx="0"/>
            </p:cNvCxnSpPr>
            <p:nvPr/>
          </p:nvCxnSpPr>
          <p:spPr>
            <a:xfrm>
              <a:off x="7612200" y="2414520"/>
              <a:ext cx="1440" cy="14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your ow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in classes you wr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lasses come with a default version based on memory addr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verridden version should somehow "add up" the object's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you scale/multiply parts of the result to distribute the resul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etter than just returning (x +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preads out numbers, fewer colli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37 * x + 23 *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ood hashCode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well-writte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Cod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method h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Consistently with itself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  (must produce same results on each call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.hashCode() == o.hashCod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i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's state doesn't 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Consistently with equality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equals(b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imply tha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hashCode() == b.hashCod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a.equals(b)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does NOT necessarily imply tha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hashCode() != b.hashCode() 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why not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your class h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t should have bo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Good distribution of hash cod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a large set of objects with distinct states, they will generally return unique hash codes rather than all colliding into the same hash buck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: String hash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insid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ash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this.length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 = 31 * hash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charAt(i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has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with any general hashing function, collisions are possi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"Ea" and "FB" have the same hash valu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rly versions of the Java examined only the first 16 character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ome common data this led to poor hash table perform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619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Code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of your object's fields is an object, call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tu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531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Name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...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ncorpor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apper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ank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37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.valueOf(balance)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.valueOf(isCheckingAccount)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ava include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s.hashCode(...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takes any number of values and combines them into one hash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ank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s.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ame, id, balanc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 hash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map is like a set where the nodes store key/value pai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Map&lt;K, V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Map&lt;K, V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      key   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Marty", 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Jeff",  2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Kasey", 2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Stef",  3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modify your Node class to store a ke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133720" y="25909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556272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7315200" y="364320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756936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9718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4290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3434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87692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866920" y="30481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8580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5332320" y="365760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 flipH="1">
            <a:off x="64008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7315200" y="44816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7569360" y="40384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4028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733920" y="365760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think about how to write our own implementation of a ma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map as an ADT by creating a Map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: put (add), get, contains key, 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p&lt;K, V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tainsKe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, V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map vs. hash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ashing is always done on the keys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is n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there and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search for a node whose key matches a given ke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is n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if the given key is already there, you must replace its old value with the new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p.put("Bill", 66);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 49 with 6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463760" y="365760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489276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645240" y="47102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689940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3018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90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6734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20696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196960" y="4114800"/>
            <a:ext cx="38124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1880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662360" y="47242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 flipH="1">
            <a:off x="57308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645240" y="541008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689616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37032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063960" y="472428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6172920" y="617220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7692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654440" y="54100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Abb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648320" y="60958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Bill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4876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iority Queu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d Heap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8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oritization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nt job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SE lab printers constantly accept and complete jobs from all over the building.  We want to print faculty jobs before staff before student jobs, and grad students before undergrad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 schedul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cheduling patients for treatment in the ER.  A gunshot victim should be treated sooner than a guy with a cold, regardless of arrival time. How do we always choose the most urgent case when new patients continue to arr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 operations we wa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an element  (print job, patient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get/remove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most "important"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or "urgent"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ority Queue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ority 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ordered elements that provides fast access to the minimum (or maximum)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in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"highest priority"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s/retur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992160" y="5045040"/>
            <a:ext cx="21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62880" y="4191120"/>
            <a:ext cx="200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add("if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add("from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86520" y="50734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54680" y="47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21480" y="604512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74920" y="4191120"/>
            <a:ext cx="2668680" cy="17589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342600" y="4361040"/>
            <a:ext cx="2477880" cy="1521720"/>
            <a:chOff x="3342600" y="4361040"/>
            <a:chExt cx="2477880" cy="1521720"/>
          </a:xfrm>
        </p:grpSpPr>
        <p:sp>
          <p:nvSpPr>
            <p:cNvPr id="391" name=""/>
            <p:cNvSpPr/>
            <p:nvPr/>
          </p:nvSpPr>
          <p:spPr>
            <a:xfrm>
              <a:off x="3999240" y="43610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the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10040" y="4454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of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87640" y="4829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from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73280" y="4636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to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73280" y="50720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she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30280" y="51818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you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28520" y="549648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him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1440" y="55454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why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19520" y="5242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i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96400" y="48178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dow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42600" y="50112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Courier New"/>
                </a:rPr>
                <a:t>"by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64280" y="4515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if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54560" y="5099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remov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25200" y="5137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by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does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106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111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336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n unfilled array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next available index, as in a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imum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.  Shif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array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486240" y="32767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arra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index to mainta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in index [0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ift elements to remove min from index [0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16740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486240" y="32767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doubly linked list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at the end of the link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imum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.  Unlink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linked l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226040" y="32623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 flipV="1">
            <a:off x="4683240" y="34718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987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 flipV="1">
            <a:off x="5445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5749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 flipV="1">
            <a:off x="620712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51204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 flipV="1">
            <a:off x="6969240" y="34862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273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"/>
          <p:cNvSpPr/>
          <p:nvPr/>
        </p:nvSpPr>
        <p:spPr>
          <a:xfrm flipV="1">
            <a:off x="7731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8035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3897360" y="3824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02680" y="3824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191120" y="36572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8458200" y="36572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linked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nked list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place to mainta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at the fro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nk front elemen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O(1), O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linked list to find the proper insertion po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226040" y="32623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"/>
          <p:cNvSpPr/>
          <p:nvPr/>
        </p:nvSpPr>
        <p:spPr>
          <a:xfrm flipV="1">
            <a:off x="4683240" y="34718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987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 flipV="1">
            <a:off x="5445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5749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"/>
          <p:cNvSpPr/>
          <p:nvPr/>
        </p:nvSpPr>
        <p:spPr>
          <a:xfrm flipV="1">
            <a:off x="620712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51204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 flipV="1">
            <a:off x="6969240" y="34862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7273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 flipV="1">
            <a:off x="7731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8035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"/>
          <p:cNvSpPr/>
          <p:nvPr/>
        </p:nvSpPr>
        <p:spPr>
          <a:xfrm>
            <a:off x="3897360" y="3824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02680" y="3824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191120" y="36572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8458200" y="36572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336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binary search tree to implement a PQ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BST L/R - ordered spo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at the far left edge of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nk far left elemen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...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good in theory, but the tree tends to become unbalanced to the righ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Oval 4"/>
          <p:cNvSpPr/>
          <p:nvPr/>
        </p:nvSpPr>
        <p:spPr>
          <a:xfrm>
            <a:off x="815328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6"/>
          <p:cNvSpPr/>
          <p:nvPr/>
        </p:nvSpPr>
        <p:spPr>
          <a:xfrm>
            <a:off x="6172200" y="45626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7"/>
          <p:cNvSpPr/>
          <p:nvPr/>
        </p:nvSpPr>
        <p:spPr>
          <a:xfrm>
            <a:off x="7772400" y="37908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8"/>
          <p:cNvSpPr/>
          <p:nvPr/>
        </p:nvSpPr>
        <p:spPr>
          <a:xfrm>
            <a:off x="6553080" y="37814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9"/>
          <p:cNvSpPr/>
          <p:nvPr/>
        </p:nvSpPr>
        <p:spPr>
          <a:xfrm>
            <a:off x="7162920" y="30956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AutoShape 10"/>
          <p:cNvCxnSpPr>
            <a:stCxn id="451" idx="3"/>
            <a:endCxn id="450" idx="0"/>
          </p:cNvCxnSpPr>
          <p:nvPr/>
        </p:nvCxnSpPr>
        <p:spPr>
          <a:xfrm flipH="1">
            <a:off x="6781320" y="3505320"/>
            <a:ext cx="44856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AutoShape 11"/>
          <p:cNvCxnSpPr>
            <a:stCxn id="451" idx="5"/>
            <a:endCxn id="449" idx="0"/>
          </p:cNvCxnSpPr>
          <p:nvPr/>
        </p:nvCxnSpPr>
        <p:spPr>
          <a:xfrm>
            <a:off x="7553160" y="3504960"/>
            <a:ext cx="4485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AutoShape 12"/>
          <p:cNvCxnSpPr>
            <a:stCxn id="449" idx="5"/>
            <a:endCxn id="447" idx="0"/>
          </p:cNvCxnSpPr>
          <p:nvPr/>
        </p:nvCxnSpPr>
        <p:spPr>
          <a:xfrm>
            <a:off x="8163000" y="4200120"/>
            <a:ext cx="219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AutoShape 13"/>
          <p:cNvCxnSpPr>
            <a:stCxn id="450" idx="3"/>
            <a:endCxn id="448" idx="0"/>
          </p:cNvCxnSpPr>
          <p:nvPr/>
        </p:nvCxnSpPr>
        <p:spPr>
          <a:xfrm flipH="1">
            <a:off x="6400080" y="4190760"/>
            <a:ext cx="21996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Oval 19"/>
          <p:cNvSpPr/>
          <p:nvPr/>
        </p:nvSpPr>
        <p:spPr>
          <a:xfrm>
            <a:off x="739152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AutoShape 20"/>
          <p:cNvCxnSpPr>
            <a:stCxn id="449" idx="3"/>
            <a:endCxn id="456" idx="0"/>
          </p:cNvCxnSpPr>
          <p:nvPr/>
        </p:nvCxnSpPr>
        <p:spPr>
          <a:xfrm flipH="1">
            <a:off x="7619760" y="4200120"/>
            <a:ext cx="219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balanced binary tre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6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34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5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ulate these operations.  What is the tree's shap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ree tha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nbalanced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a height close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ather than 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breaks the expected runtime of many 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715000" y="1371600"/>
            <a:ext cx="2743200" cy="4038480"/>
            <a:chOff x="5715000" y="1371600"/>
            <a:chExt cx="2743200" cy="4038480"/>
          </a:xfrm>
        </p:grpSpPr>
        <p:sp>
          <p:nvSpPr>
            <p:cNvPr id="461" name="Oval 4"/>
            <p:cNvSpPr/>
            <p:nvPr/>
          </p:nvSpPr>
          <p:spPr>
            <a:xfrm>
              <a:off x="8001000" y="27432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7"/>
            <p:cNvSpPr/>
            <p:nvPr/>
          </p:nvSpPr>
          <p:spPr>
            <a:xfrm>
              <a:off x="6858000" y="19908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9"/>
            <p:cNvSpPr/>
            <p:nvPr/>
          </p:nvSpPr>
          <p:spPr>
            <a:xfrm>
              <a:off x="5715000" y="13716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4" name="AutoShape 11"/>
            <p:cNvCxnSpPr>
              <a:stCxn id="463" idx="5"/>
              <a:endCxn id="462" idx="0"/>
            </p:cNvCxnSpPr>
            <p:nvPr/>
          </p:nvCxnSpPr>
          <p:spPr>
            <a:xfrm>
              <a:off x="6105240" y="1780920"/>
              <a:ext cx="982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5" name="AutoShape 12"/>
            <p:cNvCxnSpPr>
              <a:stCxn id="462" idx="5"/>
              <a:endCxn id="461" idx="0"/>
            </p:cNvCxnSpPr>
            <p:nvPr/>
          </p:nvCxnSpPr>
          <p:spPr>
            <a:xfrm>
              <a:off x="7248240" y="2400120"/>
              <a:ext cx="9820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6" name="Oval 19"/>
            <p:cNvSpPr/>
            <p:nvPr/>
          </p:nvSpPr>
          <p:spPr>
            <a:xfrm>
              <a:off x="6172200" y="27432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7" name="AutoShape 20"/>
            <p:cNvCxnSpPr>
              <a:stCxn id="462" idx="3"/>
              <a:endCxn id="466" idx="0"/>
            </p:cNvCxnSpPr>
            <p:nvPr/>
          </p:nvCxnSpPr>
          <p:spPr>
            <a:xfrm flipH="1">
              <a:off x="6400440" y="2400120"/>
              <a:ext cx="52416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8" name="Oval 19"/>
            <p:cNvSpPr/>
            <p:nvPr/>
          </p:nvSpPr>
          <p:spPr>
            <a:xfrm>
              <a:off x="7315200" y="34290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AutoShape 20"/>
            <p:cNvCxnSpPr>
              <a:stCxn id="461" idx="3"/>
              <a:endCxn id="468" idx="0"/>
            </p:cNvCxnSpPr>
            <p:nvPr/>
          </p:nvCxnSpPr>
          <p:spPr>
            <a:xfrm flipH="1">
              <a:off x="7543440" y="3152880"/>
              <a:ext cx="524160" cy="25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0" name="Oval 19"/>
            <p:cNvSpPr/>
            <p:nvPr/>
          </p:nvSpPr>
          <p:spPr>
            <a:xfrm>
              <a:off x="7619760" y="419112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1" name="AutoShape 20"/>
            <p:cNvCxnSpPr>
              <a:stCxn id="468" idx="5"/>
              <a:endCxn id="470" idx="0"/>
            </p:cNvCxnSpPr>
            <p:nvPr/>
          </p:nvCxnSpPr>
          <p:spPr>
            <a:xfrm>
              <a:off x="7705080" y="3838680"/>
              <a:ext cx="143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2" name="Oval 19"/>
            <p:cNvSpPr/>
            <p:nvPr/>
          </p:nvSpPr>
          <p:spPr>
            <a:xfrm>
              <a:off x="7924680" y="495288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3" name="AutoShape 20"/>
            <p:cNvCxnSpPr>
              <a:stCxn id="470" idx="5"/>
              <a:endCxn id="472" idx="0"/>
            </p:cNvCxnSpPr>
            <p:nvPr/>
          </p:nvCxnSpPr>
          <p:spPr>
            <a:xfrm>
              <a:off x="8010000" y="4600440"/>
              <a:ext cx="143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lete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very level is full except possibly the lowest level, which must be filled from left to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.e., a node may not have any children until all possible siblings ex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6" name="Picture 2" descr="&#13;Fig_21-01.pct                                                  00069570_x0008_Porkchop                       B3B4845B:"/>
          <p:cNvPicPr/>
          <p:nvPr/>
        </p:nvPicPr>
        <p:blipFill>
          <a:blip r:embed="rId1"/>
          <a:srcRect l="19904" t="0" r="19904" b="21517"/>
          <a:stretch/>
        </p:blipFill>
        <p:spPr>
          <a:xfrm>
            <a:off x="4929120" y="3408480"/>
            <a:ext cx="3148200" cy="2535120"/>
          </a:xfrm>
          <a:prstGeom prst="rect">
            <a:avLst/>
          </a:prstGeom>
          <a:ln w="0">
            <a:noFill/>
          </a:ln>
        </p:spPr>
      </p:pic>
      <p:grpSp>
        <p:nvGrpSpPr>
          <p:cNvPr id="477" name="Group 5"/>
          <p:cNvGrpSpPr/>
          <p:nvPr/>
        </p:nvGrpSpPr>
        <p:grpSpPr>
          <a:xfrm>
            <a:off x="771480" y="3858840"/>
            <a:ext cx="3352320" cy="1752480"/>
            <a:chOff x="771480" y="3858840"/>
            <a:chExt cx="3352320" cy="1752480"/>
          </a:xfrm>
        </p:grpSpPr>
        <p:sp>
          <p:nvSpPr>
            <p:cNvPr id="478" name="Line 6"/>
            <p:cNvSpPr/>
            <p:nvPr/>
          </p:nvSpPr>
          <p:spPr>
            <a:xfrm flipV="1">
              <a:off x="771480" y="3858840"/>
              <a:ext cx="1955520" cy="175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7"/>
            <p:cNvSpPr/>
            <p:nvPr/>
          </p:nvSpPr>
          <p:spPr>
            <a:xfrm>
              <a:off x="771480" y="5611320"/>
              <a:ext cx="167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8"/>
            <p:cNvSpPr/>
            <p:nvPr/>
          </p:nvSpPr>
          <p:spPr>
            <a:xfrm flipV="1">
              <a:off x="2447640" y="5198760"/>
              <a:ext cx="0" cy="41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9"/>
            <p:cNvSpPr/>
            <p:nvPr/>
          </p:nvSpPr>
          <p:spPr>
            <a:xfrm flipH="1">
              <a:off x="2447640" y="5199120"/>
              <a:ext cx="167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0"/>
            <p:cNvSpPr/>
            <p:nvPr/>
          </p:nvSpPr>
          <p:spPr>
            <a:xfrm flipH="1" flipV="1">
              <a:off x="2727000" y="3859200"/>
              <a:ext cx="1396800" cy="133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f P ≤ X  for every element X with parent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ents' values are always smaller than those of their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ies that minimum element is always the root (a "min-heap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tion: "max-heap" stores largest element at root, reverses ord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a heap a BST?  How are they relat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5" name="Picture 4" descr="&#13;Fig_21-01.pct                                                  00069570_x0008_Porkchop                       B3B4845B:"/>
          <p:cNvPicPr/>
          <p:nvPr/>
        </p:nvPicPr>
        <p:blipFill>
          <a:blip r:embed="rId1"/>
          <a:srcRect l="19904" t="0" r="19904" b="21517"/>
          <a:stretch/>
        </p:blipFill>
        <p:spPr>
          <a:xfrm>
            <a:off x="4876920" y="3414600"/>
            <a:ext cx="3233520" cy="26053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&#13;Fig_21-02.pct                                                  00069570_x0008_Porkchop                       B3B4845B:"/>
          <p:cNvPicPr/>
          <p:nvPr/>
        </p:nvPicPr>
        <p:blipFill>
          <a:blip r:embed="rId2"/>
          <a:stretch/>
        </p:blipFill>
        <p:spPr>
          <a:xfrm>
            <a:off x="1600200" y="3886200"/>
            <a:ext cx="13780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68320" y="-360"/>
            <a:ext cx="74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are min-heap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Oval 3"/>
          <p:cNvSpPr/>
          <p:nvPr/>
        </p:nvSpPr>
        <p:spPr>
          <a:xfrm>
            <a:off x="990720" y="3048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"/>
          <p:cNvSpPr/>
          <p:nvPr/>
        </p:nvSpPr>
        <p:spPr>
          <a:xfrm>
            <a:off x="304920" y="3048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"/>
          <p:cNvSpPr/>
          <p:nvPr/>
        </p:nvSpPr>
        <p:spPr>
          <a:xfrm>
            <a:off x="1447920" y="228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6"/>
          <p:cNvSpPr/>
          <p:nvPr/>
        </p:nvSpPr>
        <p:spPr>
          <a:xfrm>
            <a:off x="609480" y="22860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1066680" y="15238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AutoShape 8"/>
          <p:cNvCxnSpPr>
            <a:stCxn id="492" idx="3"/>
            <a:endCxn id="491" idx="0"/>
          </p:cNvCxnSpPr>
          <p:nvPr/>
        </p:nvCxnSpPr>
        <p:spPr>
          <a:xfrm flipH="1">
            <a:off x="799560" y="1868040"/>
            <a:ext cx="32292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AutoShape 9"/>
          <p:cNvCxnSpPr>
            <a:stCxn id="492" idx="5"/>
            <a:endCxn id="490" idx="0"/>
          </p:cNvCxnSpPr>
          <p:nvPr/>
        </p:nvCxnSpPr>
        <p:spPr>
          <a:xfrm>
            <a:off x="1392120" y="1868040"/>
            <a:ext cx="246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" name="AutoShape 10"/>
          <p:cNvCxnSpPr>
            <a:stCxn id="491" idx="3"/>
            <a:endCxn id="489" idx="0"/>
          </p:cNvCxnSpPr>
          <p:nvPr/>
        </p:nvCxnSpPr>
        <p:spPr>
          <a:xfrm flipH="1">
            <a:off x="495000" y="2630160"/>
            <a:ext cx="17064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11"/>
          <p:cNvCxnSpPr>
            <a:stCxn id="491" idx="5"/>
            <a:endCxn id="488" idx="0"/>
          </p:cNvCxnSpPr>
          <p:nvPr/>
        </p:nvCxnSpPr>
        <p:spPr>
          <a:xfrm>
            <a:off x="934920" y="2630160"/>
            <a:ext cx="246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7" name="Oval 12"/>
          <p:cNvSpPr/>
          <p:nvPr/>
        </p:nvSpPr>
        <p:spPr>
          <a:xfrm>
            <a:off x="27432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3"/>
          <p:cNvSpPr/>
          <p:nvPr/>
        </p:nvSpPr>
        <p:spPr>
          <a:xfrm>
            <a:off x="13716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4"/>
          <p:cNvSpPr/>
          <p:nvPr/>
        </p:nvSpPr>
        <p:spPr>
          <a:xfrm>
            <a:off x="609480" y="51814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5"/>
          <p:cNvSpPr/>
          <p:nvPr/>
        </p:nvSpPr>
        <p:spPr>
          <a:xfrm>
            <a:off x="2209680" y="44956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6"/>
          <p:cNvSpPr/>
          <p:nvPr/>
        </p:nvSpPr>
        <p:spPr>
          <a:xfrm>
            <a:off x="1066680" y="44956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7"/>
          <p:cNvSpPr/>
          <p:nvPr/>
        </p:nvSpPr>
        <p:spPr>
          <a:xfrm>
            <a:off x="1600200" y="37339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AutoShape 18"/>
          <p:cNvCxnSpPr>
            <a:stCxn id="502" idx="3"/>
            <a:endCxn id="501" idx="0"/>
          </p:cNvCxnSpPr>
          <p:nvPr/>
        </p:nvCxnSpPr>
        <p:spPr>
          <a:xfrm flipH="1">
            <a:off x="1257120" y="4078440"/>
            <a:ext cx="39888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AutoShape 19"/>
          <p:cNvCxnSpPr>
            <a:stCxn id="502" idx="5"/>
            <a:endCxn id="500" idx="0"/>
          </p:cNvCxnSpPr>
          <p:nvPr/>
        </p:nvCxnSpPr>
        <p:spPr>
          <a:xfrm>
            <a:off x="1925280" y="4078440"/>
            <a:ext cx="47556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20"/>
          <p:cNvCxnSpPr>
            <a:stCxn id="500" idx="5"/>
            <a:endCxn id="497" idx="0"/>
          </p:cNvCxnSpPr>
          <p:nvPr/>
        </p:nvCxnSpPr>
        <p:spPr>
          <a:xfrm>
            <a:off x="2534760" y="483984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AutoShape 21"/>
          <p:cNvCxnSpPr>
            <a:stCxn id="501" idx="3"/>
            <a:endCxn id="499" idx="0"/>
          </p:cNvCxnSpPr>
          <p:nvPr/>
        </p:nvCxnSpPr>
        <p:spPr>
          <a:xfrm flipH="1">
            <a:off x="799560" y="483984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22"/>
          <p:cNvCxnSpPr>
            <a:stCxn id="501" idx="5"/>
            <a:endCxn id="498" idx="0"/>
          </p:cNvCxnSpPr>
          <p:nvPr/>
        </p:nvCxnSpPr>
        <p:spPr>
          <a:xfrm>
            <a:off x="1392120" y="483984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Oval 23"/>
          <p:cNvSpPr/>
          <p:nvPr/>
        </p:nvSpPr>
        <p:spPr>
          <a:xfrm>
            <a:off x="228600" y="583416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24"/>
          <p:cNvCxnSpPr>
            <a:stCxn id="499" idx="3"/>
            <a:endCxn id="508" idx="0"/>
          </p:cNvCxnSpPr>
          <p:nvPr/>
        </p:nvCxnSpPr>
        <p:spPr>
          <a:xfrm flipH="1">
            <a:off x="475560" y="55256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Oval 25"/>
          <p:cNvSpPr/>
          <p:nvPr/>
        </p:nvSpPr>
        <p:spPr>
          <a:xfrm>
            <a:off x="876240" y="583416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AutoShape 26"/>
          <p:cNvCxnSpPr>
            <a:stCxn id="499" idx="5"/>
            <a:endCxn id="510" idx="0"/>
          </p:cNvCxnSpPr>
          <p:nvPr/>
        </p:nvCxnSpPr>
        <p:spPr>
          <a:xfrm>
            <a:off x="934560" y="55256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Oval 27"/>
          <p:cNvSpPr/>
          <p:nvPr/>
        </p:nvSpPr>
        <p:spPr>
          <a:xfrm>
            <a:off x="20574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AutoShape 28"/>
          <p:cNvCxnSpPr>
            <a:stCxn id="500" idx="3"/>
            <a:endCxn id="512" idx="0"/>
          </p:cNvCxnSpPr>
          <p:nvPr/>
        </p:nvCxnSpPr>
        <p:spPr>
          <a:xfrm flipH="1">
            <a:off x="2247120" y="4839840"/>
            <a:ext cx="183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Oval 29"/>
          <p:cNvSpPr/>
          <p:nvPr/>
        </p:nvSpPr>
        <p:spPr>
          <a:xfrm>
            <a:off x="52578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30"/>
          <p:cNvSpPr/>
          <p:nvPr/>
        </p:nvSpPr>
        <p:spPr>
          <a:xfrm>
            <a:off x="38862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31"/>
          <p:cNvSpPr/>
          <p:nvPr/>
        </p:nvSpPr>
        <p:spPr>
          <a:xfrm>
            <a:off x="3124080" y="2743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2"/>
          <p:cNvSpPr/>
          <p:nvPr/>
        </p:nvSpPr>
        <p:spPr>
          <a:xfrm>
            <a:off x="4724280" y="20574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33"/>
          <p:cNvSpPr/>
          <p:nvPr/>
        </p:nvSpPr>
        <p:spPr>
          <a:xfrm>
            <a:off x="3581280" y="20574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4"/>
          <p:cNvSpPr/>
          <p:nvPr/>
        </p:nvSpPr>
        <p:spPr>
          <a:xfrm>
            <a:off x="4114800" y="1295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AutoShape 35"/>
          <p:cNvCxnSpPr>
            <a:stCxn id="519" idx="3"/>
            <a:endCxn id="518" idx="0"/>
          </p:cNvCxnSpPr>
          <p:nvPr/>
        </p:nvCxnSpPr>
        <p:spPr>
          <a:xfrm flipH="1">
            <a:off x="3771720" y="1639440"/>
            <a:ext cx="3988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AutoShape 36"/>
          <p:cNvCxnSpPr>
            <a:stCxn id="519" idx="5"/>
            <a:endCxn id="517" idx="0"/>
          </p:cNvCxnSpPr>
          <p:nvPr/>
        </p:nvCxnSpPr>
        <p:spPr>
          <a:xfrm>
            <a:off x="4439880" y="163944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AutoShape 37"/>
          <p:cNvCxnSpPr>
            <a:stCxn id="517" idx="5"/>
            <a:endCxn id="514" idx="0"/>
          </p:cNvCxnSpPr>
          <p:nvPr/>
        </p:nvCxnSpPr>
        <p:spPr>
          <a:xfrm>
            <a:off x="5049360" y="240156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AutoShape 38"/>
          <p:cNvCxnSpPr>
            <a:stCxn id="518" idx="3"/>
            <a:endCxn id="516" idx="0"/>
          </p:cNvCxnSpPr>
          <p:nvPr/>
        </p:nvCxnSpPr>
        <p:spPr>
          <a:xfrm flipH="1">
            <a:off x="3314160" y="240156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AutoShape 39"/>
          <p:cNvCxnSpPr>
            <a:stCxn id="518" idx="5"/>
            <a:endCxn id="515" idx="0"/>
          </p:cNvCxnSpPr>
          <p:nvPr/>
        </p:nvCxnSpPr>
        <p:spPr>
          <a:xfrm>
            <a:off x="3906720" y="240156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5" name="Oval 40"/>
          <p:cNvSpPr/>
          <p:nvPr/>
        </p:nvSpPr>
        <p:spPr>
          <a:xfrm>
            <a:off x="2743200" y="33955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41"/>
          <p:cNvCxnSpPr>
            <a:stCxn id="516" idx="3"/>
            <a:endCxn id="525" idx="0"/>
          </p:cNvCxnSpPr>
          <p:nvPr/>
        </p:nvCxnSpPr>
        <p:spPr>
          <a:xfrm flipH="1">
            <a:off x="2990160" y="308772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7" name="Oval 42"/>
          <p:cNvSpPr/>
          <p:nvPr/>
        </p:nvSpPr>
        <p:spPr>
          <a:xfrm>
            <a:off x="4800600" y="3429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AutoShape 43"/>
          <p:cNvCxnSpPr>
            <a:stCxn id="529" idx="5"/>
            <a:endCxn id="527" idx="0"/>
          </p:cNvCxnSpPr>
          <p:nvPr/>
        </p:nvCxnSpPr>
        <p:spPr>
          <a:xfrm>
            <a:off x="4897080" y="3087360"/>
            <a:ext cx="1515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Oval 44"/>
          <p:cNvSpPr/>
          <p:nvPr/>
        </p:nvSpPr>
        <p:spPr>
          <a:xfrm>
            <a:off x="45720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AutoShape 45"/>
          <p:cNvCxnSpPr>
            <a:stCxn id="517" idx="3"/>
            <a:endCxn id="529" idx="0"/>
          </p:cNvCxnSpPr>
          <p:nvPr/>
        </p:nvCxnSpPr>
        <p:spPr>
          <a:xfrm flipH="1">
            <a:off x="4761720" y="2401560"/>
            <a:ext cx="183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Oval 46"/>
          <p:cNvSpPr/>
          <p:nvPr/>
        </p:nvSpPr>
        <p:spPr>
          <a:xfrm>
            <a:off x="86104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47"/>
          <p:cNvSpPr/>
          <p:nvPr/>
        </p:nvSpPr>
        <p:spPr>
          <a:xfrm>
            <a:off x="72388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48"/>
          <p:cNvSpPr/>
          <p:nvPr/>
        </p:nvSpPr>
        <p:spPr>
          <a:xfrm>
            <a:off x="6477120" y="28195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9"/>
          <p:cNvSpPr/>
          <p:nvPr/>
        </p:nvSpPr>
        <p:spPr>
          <a:xfrm>
            <a:off x="8077320" y="21337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0"/>
          <p:cNvSpPr/>
          <p:nvPr/>
        </p:nvSpPr>
        <p:spPr>
          <a:xfrm>
            <a:off x="6934320" y="21337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51"/>
          <p:cNvSpPr/>
          <p:nvPr/>
        </p:nvSpPr>
        <p:spPr>
          <a:xfrm>
            <a:off x="7467480" y="13716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AutoShape 52"/>
          <p:cNvCxnSpPr>
            <a:stCxn id="536" idx="3"/>
            <a:endCxn id="535" idx="0"/>
          </p:cNvCxnSpPr>
          <p:nvPr/>
        </p:nvCxnSpPr>
        <p:spPr>
          <a:xfrm flipH="1">
            <a:off x="7124040" y="1715760"/>
            <a:ext cx="39924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AutoShape 53"/>
          <p:cNvCxnSpPr>
            <a:stCxn id="536" idx="5"/>
            <a:endCxn id="534" idx="0"/>
          </p:cNvCxnSpPr>
          <p:nvPr/>
        </p:nvCxnSpPr>
        <p:spPr>
          <a:xfrm>
            <a:off x="7792560" y="171576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AutoShape 54"/>
          <p:cNvCxnSpPr>
            <a:stCxn id="534" idx="5"/>
            <a:endCxn id="531" idx="0"/>
          </p:cNvCxnSpPr>
          <p:nvPr/>
        </p:nvCxnSpPr>
        <p:spPr>
          <a:xfrm>
            <a:off x="8402400" y="247788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AutoShape 55"/>
          <p:cNvCxnSpPr>
            <a:stCxn id="535" idx="3"/>
            <a:endCxn id="533" idx="0"/>
          </p:cNvCxnSpPr>
          <p:nvPr/>
        </p:nvCxnSpPr>
        <p:spPr>
          <a:xfrm flipH="1">
            <a:off x="6666840" y="247788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AutoShape 56"/>
          <p:cNvCxnSpPr>
            <a:stCxn id="535" idx="5"/>
            <a:endCxn id="532" idx="0"/>
          </p:cNvCxnSpPr>
          <p:nvPr/>
        </p:nvCxnSpPr>
        <p:spPr>
          <a:xfrm>
            <a:off x="7259760" y="247788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2" name="Oval 57"/>
          <p:cNvSpPr/>
          <p:nvPr/>
        </p:nvSpPr>
        <p:spPr>
          <a:xfrm>
            <a:off x="6095880" y="347184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AutoShape 58"/>
          <p:cNvCxnSpPr>
            <a:stCxn id="533" idx="3"/>
            <a:endCxn id="542" idx="0"/>
          </p:cNvCxnSpPr>
          <p:nvPr/>
        </p:nvCxnSpPr>
        <p:spPr>
          <a:xfrm flipH="1">
            <a:off x="6342840" y="31640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4" name="Oval 59"/>
          <p:cNvSpPr/>
          <p:nvPr/>
        </p:nvSpPr>
        <p:spPr>
          <a:xfrm>
            <a:off x="6743880" y="3471840"/>
            <a:ext cx="49500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AutoShape 60"/>
          <p:cNvCxnSpPr>
            <a:stCxn id="533" idx="5"/>
            <a:endCxn id="544" idx="0"/>
          </p:cNvCxnSpPr>
          <p:nvPr/>
        </p:nvCxnSpPr>
        <p:spPr>
          <a:xfrm>
            <a:off x="6802560" y="3164040"/>
            <a:ext cx="1893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6" name="Oval 61"/>
          <p:cNvSpPr/>
          <p:nvPr/>
        </p:nvSpPr>
        <p:spPr>
          <a:xfrm>
            <a:off x="79246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AutoShape 62"/>
          <p:cNvCxnSpPr>
            <a:stCxn id="534" idx="3"/>
            <a:endCxn id="546" idx="0"/>
          </p:cNvCxnSpPr>
          <p:nvPr/>
        </p:nvCxnSpPr>
        <p:spPr>
          <a:xfrm flipH="1">
            <a:off x="8115120" y="2477880"/>
            <a:ext cx="1800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Oval 74"/>
          <p:cNvSpPr/>
          <p:nvPr/>
        </p:nvSpPr>
        <p:spPr>
          <a:xfrm>
            <a:off x="4114800" y="60958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75"/>
          <p:cNvSpPr/>
          <p:nvPr/>
        </p:nvSpPr>
        <p:spPr>
          <a:xfrm>
            <a:off x="3352680" y="60958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76"/>
          <p:cNvSpPr/>
          <p:nvPr/>
        </p:nvSpPr>
        <p:spPr>
          <a:xfrm>
            <a:off x="4952880" y="54100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77"/>
          <p:cNvSpPr/>
          <p:nvPr/>
        </p:nvSpPr>
        <p:spPr>
          <a:xfrm>
            <a:off x="3809880" y="54100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78"/>
          <p:cNvSpPr/>
          <p:nvPr/>
        </p:nvSpPr>
        <p:spPr>
          <a:xfrm>
            <a:off x="4343400" y="46483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AutoShape 79"/>
          <p:cNvCxnSpPr>
            <a:stCxn id="552" idx="3"/>
            <a:endCxn id="551" idx="0"/>
          </p:cNvCxnSpPr>
          <p:nvPr/>
        </p:nvCxnSpPr>
        <p:spPr>
          <a:xfrm flipH="1">
            <a:off x="4000320" y="4992840"/>
            <a:ext cx="39888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AutoShape 80"/>
          <p:cNvCxnSpPr>
            <a:stCxn id="552" idx="5"/>
            <a:endCxn id="550" idx="0"/>
          </p:cNvCxnSpPr>
          <p:nvPr/>
        </p:nvCxnSpPr>
        <p:spPr>
          <a:xfrm>
            <a:off x="4668480" y="4992840"/>
            <a:ext cx="47556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5" name="AutoShape 81"/>
          <p:cNvCxnSpPr>
            <a:stCxn id="551" idx="3"/>
            <a:endCxn id="549" idx="0"/>
          </p:cNvCxnSpPr>
          <p:nvPr/>
        </p:nvCxnSpPr>
        <p:spPr>
          <a:xfrm flipH="1">
            <a:off x="3542760" y="575424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AutoShape 82"/>
          <p:cNvCxnSpPr>
            <a:stCxn id="551" idx="5"/>
            <a:endCxn id="548" idx="0"/>
          </p:cNvCxnSpPr>
          <p:nvPr/>
        </p:nvCxnSpPr>
        <p:spPr>
          <a:xfrm>
            <a:off x="4135320" y="575424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7" name="Oval 103"/>
          <p:cNvSpPr/>
          <p:nvPr/>
        </p:nvSpPr>
        <p:spPr>
          <a:xfrm>
            <a:off x="8229600" y="58388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04"/>
          <p:cNvSpPr/>
          <p:nvPr/>
        </p:nvSpPr>
        <p:spPr>
          <a:xfrm>
            <a:off x="6858000" y="58388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05"/>
          <p:cNvSpPr/>
          <p:nvPr/>
        </p:nvSpPr>
        <p:spPr>
          <a:xfrm>
            <a:off x="6095880" y="5838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6"/>
          <p:cNvSpPr/>
          <p:nvPr/>
        </p:nvSpPr>
        <p:spPr>
          <a:xfrm>
            <a:off x="7696080" y="5153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07"/>
          <p:cNvSpPr/>
          <p:nvPr/>
        </p:nvSpPr>
        <p:spPr>
          <a:xfrm>
            <a:off x="6553080" y="5153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08"/>
          <p:cNvSpPr/>
          <p:nvPr/>
        </p:nvSpPr>
        <p:spPr>
          <a:xfrm>
            <a:off x="7086600" y="439092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AutoShape 109"/>
          <p:cNvCxnSpPr>
            <a:stCxn id="562" idx="3"/>
            <a:endCxn id="561" idx="0"/>
          </p:cNvCxnSpPr>
          <p:nvPr/>
        </p:nvCxnSpPr>
        <p:spPr>
          <a:xfrm flipH="1">
            <a:off x="6743520" y="4735080"/>
            <a:ext cx="3988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AutoShape 110"/>
          <p:cNvCxnSpPr>
            <a:stCxn id="562" idx="5"/>
            <a:endCxn id="560" idx="0"/>
          </p:cNvCxnSpPr>
          <p:nvPr/>
        </p:nvCxnSpPr>
        <p:spPr>
          <a:xfrm>
            <a:off x="7411680" y="473508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AutoShape 111"/>
          <p:cNvCxnSpPr>
            <a:stCxn id="560" idx="5"/>
            <a:endCxn id="557" idx="0"/>
          </p:cNvCxnSpPr>
          <p:nvPr/>
        </p:nvCxnSpPr>
        <p:spPr>
          <a:xfrm>
            <a:off x="8021160" y="549720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AutoShape 112"/>
          <p:cNvCxnSpPr>
            <a:stCxn id="561" idx="3"/>
            <a:endCxn id="559" idx="0"/>
          </p:cNvCxnSpPr>
          <p:nvPr/>
        </p:nvCxnSpPr>
        <p:spPr>
          <a:xfrm flipH="1">
            <a:off x="6285960" y="549720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AutoShape 113"/>
          <p:cNvCxnSpPr>
            <a:stCxn id="561" idx="5"/>
            <a:endCxn id="558" idx="0"/>
          </p:cNvCxnSpPr>
          <p:nvPr/>
        </p:nvCxnSpPr>
        <p:spPr>
          <a:xfrm>
            <a:off x="6878520" y="549720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68" name="Group 123"/>
          <p:cNvGrpSpPr/>
          <p:nvPr/>
        </p:nvGrpSpPr>
        <p:grpSpPr>
          <a:xfrm>
            <a:off x="806400" y="1219320"/>
            <a:ext cx="8489520" cy="5076360"/>
            <a:chOff x="806400" y="1219320"/>
            <a:chExt cx="8489520" cy="5076360"/>
          </a:xfrm>
        </p:grpSpPr>
        <p:grpSp>
          <p:nvGrpSpPr>
            <p:cNvPr id="569" name="Group 90"/>
            <p:cNvGrpSpPr/>
            <p:nvPr/>
          </p:nvGrpSpPr>
          <p:grpSpPr>
            <a:xfrm>
              <a:off x="806400" y="1247760"/>
              <a:ext cx="2241360" cy="2104560"/>
              <a:chOff x="806400" y="1247760"/>
              <a:chExt cx="2241360" cy="2104560"/>
            </a:xfrm>
          </p:grpSpPr>
          <p:sp>
            <p:nvSpPr>
              <p:cNvPr id="570" name="Line 84"/>
              <p:cNvSpPr/>
              <p:nvPr/>
            </p:nvSpPr>
            <p:spPr>
              <a:xfrm>
                <a:off x="806400" y="176040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85"/>
              <p:cNvSpPr/>
              <p:nvPr/>
            </p:nvSpPr>
            <p:spPr>
              <a:xfrm flipV="1">
                <a:off x="871560" y="169668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89"/>
              <p:cNvSpPr/>
              <p:nvPr/>
            </p:nvSpPr>
            <p:spPr>
              <a:xfrm>
                <a:off x="1622160" y="124776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95"/>
            <p:cNvGrpSpPr/>
            <p:nvPr/>
          </p:nvGrpSpPr>
          <p:grpSpPr>
            <a:xfrm>
              <a:off x="3930480" y="1219320"/>
              <a:ext cx="2241360" cy="2104560"/>
              <a:chOff x="3930480" y="1219320"/>
              <a:chExt cx="2241360" cy="2104560"/>
            </a:xfrm>
          </p:grpSpPr>
          <p:sp>
            <p:nvSpPr>
              <p:cNvPr id="574" name="Line 96"/>
              <p:cNvSpPr/>
              <p:nvPr/>
            </p:nvSpPr>
            <p:spPr>
              <a:xfrm>
                <a:off x="3930480" y="17319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97"/>
              <p:cNvSpPr/>
              <p:nvPr/>
            </p:nvSpPr>
            <p:spPr>
              <a:xfrm flipV="1">
                <a:off x="3995640" y="16682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98"/>
              <p:cNvSpPr/>
              <p:nvPr/>
            </p:nvSpPr>
            <p:spPr>
              <a:xfrm>
                <a:off x="4746240" y="12193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14"/>
            <p:cNvGrpSpPr/>
            <p:nvPr/>
          </p:nvGrpSpPr>
          <p:grpSpPr>
            <a:xfrm>
              <a:off x="6858000" y="4191120"/>
              <a:ext cx="2241360" cy="2104560"/>
              <a:chOff x="6858000" y="4191120"/>
              <a:chExt cx="2241360" cy="2104560"/>
            </a:xfrm>
          </p:grpSpPr>
          <p:sp>
            <p:nvSpPr>
              <p:cNvPr id="578" name="Line 115"/>
              <p:cNvSpPr/>
              <p:nvPr/>
            </p:nvSpPr>
            <p:spPr>
              <a:xfrm>
                <a:off x="6858000" y="47037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116"/>
              <p:cNvSpPr/>
              <p:nvPr/>
            </p:nvSpPr>
            <p:spPr>
              <a:xfrm flipV="1">
                <a:off x="6923160" y="46400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 Box 117"/>
              <p:cNvSpPr/>
              <p:nvPr/>
            </p:nvSpPr>
            <p:spPr>
              <a:xfrm>
                <a:off x="7673760" y="41911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119"/>
            <p:cNvGrpSpPr/>
            <p:nvPr/>
          </p:nvGrpSpPr>
          <p:grpSpPr>
            <a:xfrm>
              <a:off x="7054560" y="1219320"/>
              <a:ext cx="2241360" cy="2104560"/>
              <a:chOff x="7054560" y="1219320"/>
              <a:chExt cx="2241360" cy="2104560"/>
            </a:xfrm>
          </p:grpSpPr>
          <p:sp>
            <p:nvSpPr>
              <p:cNvPr id="582" name="Line 120"/>
              <p:cNvSpPr/>
              <p:nvPr/>
            </p:nvSpPr>
            <p:spPr>
              <a:xfrm>
                <a:off x="7054560" y="17319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121"/>
              <p:cNvSpPr/>
              <p:nvPr/>
            </p:nvSpPr>
            <p:spPr>
              <a:xfrm flipV="1">
                <a:off x="7119720" y="16682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122"/>
              <p:cNvSpPr/>
              <p:nvPr/>
            </p:nvSpPr>
            <p:spPr>
              <a:xfrm>
                <a:off x="7870320" y="12193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3"/>
          <p:cNvSpPr/>
          <p:nvPr/>
        </p:nvSpPr>
        <p:spPr>
          <a:xfrm>
            <a:off x="2119320" y="2736720"/>
            <a:ext cx="1396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1373040" y="2736720"/>
            <a:ext cx="141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2462040" y="2792520"/>
            <a:ext cx="1429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1946160" y="2792520"/>
            <a:ext cx="141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3151080" y="2792520"/>
            <a:ext cx="1987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8"/>
          <p:cNvGrpSpPr/>
          <p:nvPr/>
        </p:nvGrpSpPr>
        <p:grpSpPr>
          <a:xfrm>
            <a:off x="3241800" y="1668600"/>
            <a:ext cx="1969200" cy="1422000"/>
            <a:chOff x="3241800" y="1668600"/>
            <a:chExt cx="1969200" cy="1422000"/>
          </a:xfrm>
        </p:grpSpPr>
        <p:sp>
          <p:nvSpPr>
            <p:cNvPr id="591" name="Oval 9"/>
            <p:cNvSpPr/>
            <p:nvPr/>
          </p:nvSpPr>
          <p:spPr>
            <a:xfrm>
              <a:off x="3241800" y="2751120"/>
              <a:ext cx="346320" cy="33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0"/>
            <p:cNvGrpSpPr/>
            <p:nvPr/>
          </p:nvGrpSpPr>
          <p:grpSpPr>
            <a:xfrm>
              <a:off x="3501720" y="1668600"/>
              <a:ext cx="1709280" cy="957240"/>
              <a:chOff x="3501720" y="1668600"/>
              <a:chExt cx="1709280" cy="957240"/>
            </a:xfrm>
          </p:grpSpPr>
          <p:sp>
            <p:nvSpPr>
              <p:cNvPr id="593" name="Rectangle 11"/>
              <p:cNvSpPr/>
              <p:nvPr/>
            </p:nvSpPr>
            <p:spPr>
              <a:xfrm>
                <a:off x="3673440" y="223092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Oval 12"/>
              <p:cNvSpPr/>
              <p:nvPr/>
            </p:nvSpPr>
            <p:spPr>
              <a:xfrm>
                <a:off x="4864680" y="228672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4189320" y="166860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14"/>
              <p:cNvSpPr/>
              <p:nvPr/>
            </p:nvSpPr>
            <p:spPr>
              <a:xfrm flipV="1">
                <a:off x="3730320" y="1892520"/>
                <a:ext cx="45864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15"/>
              <p:cNvSpPr/>
              <p:nvPr/>
            </p:nvSpPr>
            <p:spPr>
              <a:xfrm flipH="1" flipV="1">
                <a:off x="4534200" y="1892520"/>
                <a:ext cx="45864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543120" y="2286720"/>
                <a:ext cx="3481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4189320" y="166860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3501720" y="228672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4878000" y="228672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Line 20"/>
            <p:cNvSpPr/>
            <p:nvPr/>
          </p:nvSpPr>
          <p:spPr>
            <a:xfrm flipV="1">
              <a:off x="3436560" y="2559960"/>
              <a:ext cx="12960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21"/>
          <p:cNvGrpSpPr/>
          <p:nvPr/>
        </p:nvGrpSpPr>
        <p:grpSpPr>
          <a:xfrm>
            <a:off x="838080" y="3897360"/>
            <a:ext cx="1969560" cy="1422000"/>
            <a:chOff x="838080" y="3897360"/>
            <a:chExt cx="1969560" cy="1422000"/>
          </a:xfrm>
        </p:grpSpPr>
        <p:grpSp>
          <p:nvGrpSpPr>
            <p:cNvPr id="604" name="Group 22"/>
            <p:cNvGrpSpPr/>
            <p:nvPr/>
          </p:nvGrpSpPr>
          <p:grpSpPr>
            <a:xfrm>
              <a:off x="838080" y="3897360"/>
              <a:ext cx="1969560" cy="1422000"/>
              <a:chOff x="838080" y="3897360"/>
              <a:chExt cx="1969560" cy="1422000"/>
            </a:xfrm>
          </p:grpSpPr>
          <p:sp>
            <p:nvSpPr>
              <p:cNvPr id="605" name="Oval 23"/>
              <p:cNvSpPr/>
              <p:nvPr/>
            </p:nvSpPr>
            <p:spPr>
              <a:xfrm>
                <a:off x="838080" y="4979880"/>
                <a:ext cx="34668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Group 24"/>
              <p:cNvGrpSpPr/>
              <p:nvPr/>
            </p:nvGrpSpPr>
            <p:grpSpPr>
              <a:xfrm>
                <a:off x="1098000" y="3897360"/>
                <a:ext cx="1709640" cy="957240"/>
                <a:chOff x="1098000" y="3897360"/>
                <a:chExt cx="1709640" cy="957240"/>
              </a:xfrm>
            </p:grpSpPr>
            <p:sp>
              <p:nvSpPr>
                <p:cNvPr id="607" name="Rectangle 25"/>
                <p:cNvSpPr/>
                <p:nvPr/>
              </p:nvSpPr>
              <p:spPr>
                <a:xfrm>
                  <a:off x="1269720" y="4459680"/>
                  <a:ext cx="14040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Oval 26"/>
                <p:cNvSpPr/>
                <p:nvPr/>
              </p:nvSpPr>
              <p:spPr>
                <a:xfrm>
                  <a:off x="2461320" y="4515480"/>
                  <a:ext cx="346320" cy="339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Oval 27"/>
                <p:cNvSpPr/>
                <p:nvPr/>
              </p:nvSpPr>
              <p:spPr>
                <a:xfrm>
                  <a:off x="1785600" y="3897360"/>
                  <a:ext cx="347760" cy="3394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8"/>
                <p:cNvSpPr/>
                <p:nvPr/>
              </p:nvSpPr>
              <p:spPr>
                <a:xfrm flipV="1">
                  <a:off x="1326600" y="4121280"/>
                  <a:ext cx="459000" cy="39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9"/>
                <p:cNvSpPr/>
                <p:nvPr/>
              </p:nvSpPr>
              <p:spPr>
                <a:xfrm flipH="1" flipV="1">
                  <a:off x="2130480" y="4121280"/>
                  <a:ext cx="459000" cy="39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Oval 30"/>
                <p:cNvSpPr/>
                <p:nvPr/>
              </p:nvSpPr>
              <p:spPr>
                <a:xfrm>
                  <a:off x="1139760" y="4515480"/>
                  <a:ext cx="348120" cy="339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31"/>
                <p:cNvSpPr/>
                <p:nvPr/>
              </p:nvSpPr>
              <p:spPr>
                <a:xfrm>
                  <a:off x="1785600" y="3897360"/>
                  <a:ext cx="14184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Rectangle 32"/>
                <p:cNvSpPr/>
                <p:nvPr/>
              </p:nvSpPr>
              <p:spPr>
                <a:xfrm>
                  <a:off x="1098000" y="4515480"/>
                  <a:ext cx="14040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Rectangle 33"/>
                <p:cNvSpPr/>
                <p:nvPr/>
              </p:nvSpPr>
              <p:spPr>
                <a:xfrm>
                  <a:off x="2474640" y="4515480"/>
                  <a:ext cx="14076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6" name="Line 34"/>
              <p:cNvSpPr/>
              <p:nvPr/>
            </p:nvSpPr>
            <p:spPr>
              <a:xfrm flipV="1">
                <a:off x="1032840" y="4788720"/>
                <a:ext cx="129600" cy="19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Oval 35"/>
            <p:cNvSpPr/>
            <p:nvPr/>
          </p:nvSpPr>
          <p:spPr>
            <a:xfrm>
              <a:off x="1423080" y="4979880"/>
              <a:ext cx="347760" cy="33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6"/>
            <p:cNvSpPr/>
            <p:nvPr/>
          </p:nvSpPr>
          <p:spPr>
            <a:xfrm>
              <a:off x="1423080" y="4788720"/>
              <a:ext cx="12960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Oval 37"/>
          <p:cNvSpPr/>
          <p:nvPr/>
        </p:nvSpPr>
        <p:spPr>
          <a:xfrm>
            <a:off x="6621480" y="2878200"/>
            <a:ext cx="345960" cy="33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38"/>
          <p:cNvGrpSpPr/>
          <p:nvPr/>
        </p:nvGrpSpPr>
        <p:grpSpPr>
          <a:xfrm>
            <a:off x="6296040" y="1731960"/>
            <a:ext cx="1709280" cy="956880"/>
            <a:chOff x="6296040" y="1731960"/>
            <a:chExt cx="1709280" cy="956880"/>
          </a:xfrm>
        </p:grpSpPr>
        <p:sp>
          <p:nvSpPr>
            <p:cNvPr id="621" name="Rectangle 39"/>
            <p:cNvSpPr/>
            <p:nvPr/>
          </p:nvSpPr>
          <p:spPr>
            <a:xfrm>
              <a:off x="6467760" y="2293920"/>
              <a:ext cx="1404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40"/>
            <p:cNvSpPr/>
            <p:nvPr/>
          </p:nvSpPr>
          <p:spPr>
            <a:xfrm>
              <a:off x="7659000" y="2349720"/>
              <a:ext cx="346320" cy="339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41"/>
            <p:cNvSpPr/>
            <p:nvPr/>
          </p:nvSpPr>
          <p:spPr>
            <a:xfrm>
              <a:off x="6983640" y="1731960"/>
              <a:ext cx="347760" cy="339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2"/>
            <p:cNvSpPr/>
            <p:nvPr/>
          </p:nvSpPr>
          <p:spPr>
            <a:xfrm flipV="1">
              <a:off x="6524640" y="1955880"/>
              <a:ext cx="458640" cy="39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3"/>
            <p:cNvSpPr/>
            <p:nvPr/>
          </p:nvSpPr>
          <p:spPr>
            <a:xfrm flipH="1" flipV="1">
              <a:off x="7328520" y="1955880"/>
              <a:ext cx="458640" cy="39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44"/>
            <p:cNvSpPr/>
            <p:nvPr/>
          </p:nvSpPr>
          <p:spPr>
            <a:xfrm>
              <a:off x="6337440" y="2349720"/>
              <a:ext cx="348120" cy="339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5"/>
            <p:cNvSpPr/>
            <p:nvPr/>
          </p:nvSpPr>
          <p:spPr>
            <a:xfrm>
              <a:off x="6983640" y="1731960"/>
              <a:ext cx="1418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46"/>
            <p:cNvSpPr/>
            <p:nvPr/>
          </p:nvSpPr>
          <p:spPr>
            <a:xfrm>
              <a:off x="6296040" y="2349720"/>
              <a:ext cx="140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7"/>
            <p:cNvSpPr/>
            <p:nvPr/>
          </p:nvSpPr>
          <p:spPr>
            <a:xfrm>
              <a:off x="7672320" y="2349720"/>
              <a:ext cx="140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Line 48"/>
          <p:cNvSpPr/>
          <p:nvPr/>
        </p:nvSpPr>
        <p:spPr>
          <a:xfrm flipH="1" flipV="1">
            <a:off x="6621120" y="2624040"/>
            <a:ext cx="12852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6596280" y="2838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839880" y="4924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1449360" y="4951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54"/>
          <p:cNvGrpSpPr/>
          <p:nvPr/>
        </p:nvGrpSpPr>
        <p:grpSpPr>
          <a:xfrm>
            <a:off x="3425760" y="3833640"/>
            <a:ext cx="1725480" cy="1020240"/>
            <a:chOff x="3425760" y="3833640"/>
            <a:chExt cx="1725480" cy="1020240"/>
          </a:xfrm>
        </p:grpSpPr>
        <p:grpSp>
          <p:nvGrpSpPr>
            <p:cNvPr id="635" name="Group 55"/>
            <p:cNvGrpSpPr/>
            <p:nvPr/>
          </p:nvGrpSpPr>
          <p:grpSpPr>
            <a:xfrm>
              <a:off x="3437640" y="3897000"/>
              <a:ext cx="1709640" cy="956880"/>
              <a:chOff x="3437640" y="3897000"/>
              <a:chExt cx="1709640" cy="956880"/>
            </a:xfrm>
          </p:grpSpPr>
          <p:sp>
            <p:nvSpPr>
              <p:cNvPr id="636" name="Rectangle 56"/>
              <p:cNvSpPr/>
              <p:nvPr/>
            </p:nvSpPr>
            <p:spPr>
              <a:xfrm>
                <a:off x="3609360" y="445896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Oval 57"/>
              <p:cNvSpPr/>
              <p:nvPr/>
            </p:nvSpPr>
            <p:spPr>
              <a:xfrm>
                <a:off x="4800960" y="451476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Oval 58"/>
              <p:cNvSpPr/>
              <p:nvPr/>
            </p:nvSpPr>
            <p:spPr>
              <a:xfrm>
                <a:off x="4125240" y="389700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9"/>
              <p:cNvSpPr/>
              <p:nvPr/>
            </p:nvSpPr>
            <p:spPr>
              <a:xfrm flipV="1">
                <a:off x="3666240" y="4120920"/>
                <a:ext cx="45900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60"/>
              <p:cNvSpPr/>
              <p:nvPr/>
            </p:nvSpPr>
            <p:spPr>
              <a:xfrm flipH="1" flipV="1">
                <a:off x="4470120" y="4120920"/>
                <a:ext cx="45900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61"/>
              <p:cNvSpPr/>
              <p:nvPr/>
            </p:nvSpPr>
            <p:spPr>
              <a:xfrm>
                <a:off x="3479400" y="4514760"/>
                <a:ext cx="3481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2"/>
              <p:cNvSpPr/>
              <p:nvPr/>
            </p:nvSpPr>
            <p:spPr>
              <a:xfrm>
                <a:off x="4125240" y="389700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3"/>
              <p:cNvSpPr/>
              <p:nvPr/>
            </p:nvSpPr>
            <p:spPr>
              <a:xfrm>
                <a:off x="3437640" y="451476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4"/>
              <p:cNvSpPr/>
              <p:nvPr/>
            </p:nvSpPr>
            <p:spPr>
              <a:xfrm>
                <a:off x="4814280" y="4514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Text Box 65"/>
            <p:cNvSpPr/>
            <p:nvPr/>
          </p:nvSpPr>
          <p:spPr>
            <a:xfrm>
              <a:off x="4091040" y="3833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66"/>
            <p:cNvSpPr/>
            <p:nvPr/>
          </p:nvSpPr>
          <p:spPr>
            <a:xfrm>
              <a:off x="3425760" y="446976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67"/>
            <p:cNvSpPr/>
            <p:nvPr/>
          </p:nvSpPr>
          <p:spPr>
            <a:xfrm>
              <a:off x="4739040" y="44820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8"/>
          <p:cNvSpPr/>
          <p:nvPr/>
        </p:nvSpPr>
        <p:spPr>
          <a:xfrm>
            <a:off x="7623360" y="2305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9"/>
          <p:cNvSpPr/>
          <p:nvPr/>
        </p:nvSpPr>
        <p:spPr>
          <a:xfrm>
            <a:off x="6948720" y="17049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0"/>
          <p:cNvSpPr/>
          <p:nvPr/>
        </p:nvSpPr>
        <p:spPr>
          <a:xfrm>
            <a:off x="6297840" y="23018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1"/>
          <p:cNvSpPr/>
          <p:nvPr/>
        </p:nvSpPr>
        <p:spPr>
          <a:xfrm>
            <a:off x="4829400" y="2251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2"/>
          <p:cNvSpPr/>
          <p:nvPr/>
        </p:nvSpPr>
        <p:spPr>
          <a:xfrm>
            <a:off x="4154760" y="16286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3"/>
          <p:cNvSpPr/>
          <p:nvPr/>
        </p:nvSpPr>
        <p:spPr>
          <a:xfrm>
            <a:off x="3516480" y="2238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4"/>
          <p:cNvSpPr/>
          <p:nvPr/>
        </p:nvSpPr>
        <p:spPr>
          <a:xfrm>
            <a:off x="3179880" y="26845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5"/>
          <p:cNvSpPr/>
          <p:nvPr/>
        </p:nvSpPr>
        <p:spPr>
          <a:xfrm>
            <a:off x="1087560" y="4456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6"/>
          <p:cNvSpPr/>
          <p:nvPr/>
        </p:nvSpPr>
        <p:spPr>
          <a:xfrm>
            <a:off x="2424240" y="4468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77"/>
          <p:cNvSpPr/>
          <p:nvPr/>
        </p:nvSpPr>
        <p:spPr>
          <a:xfrm>
            <a:off x="1749600" y="38433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78"/>
          <p:cNvGrpSpPr/>
          <p:nvPr/>
        </p:nvGrpSpPr>
        <p:grpSpPr>
          <a:xfrm>
            <a:off x="5360760" y="3665520"/>
            <a:ext cx="2796840" cy="1969920"/>
            <a:chOff x="5360760" y="3665520"/>
            <a:chExt cx="2796840" cy="1969920"/>
          </a:xfrm>
        </p:grpSpPr>
        <p:grpSp>
          <p:nvGrpSpPr>
            <p:cNvPr id="659" name="Group 79"/>
            <p:cNvGrpSpPr/>
            <p:nvPr/>
          </p:nvGrpSpPr>
          <p:grpSpPr>
            <a:xfrm>
              <a:off x="5386320" y="3706560"/>
              <a:ext cx="2771280" cy="1928880"/>
              <a:chOff x="5386320" y="3706560"/>
              <a:chExt cx="2771280" cy="1928880"/>
            </a:xfrm>
          </p:grpSpPr>
          <p:sp>
            <p:nvSpPr>
              <p:cNvPr id="660" name="Freeform 80"/>
              <p:cNvSpPr/>
              <p:nvPr/>
            </p:nvSpPr>
            <p:spPr>
              <a:xfrm>
                <a:off x="5744880" y="4829760"/>
                <a:ext cx="344880" cy="339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81"/>
              <p:cNvSpPr/>
              <p:nvPr/>
            </p:nvSpPr>
            <p:spPr>
              <a:xfrm>
                <a:off x="5802840" y="4829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82"/>
              <p:cNvSpPr/>
              <p:nvPr/>
            </p:nvSpPr>
            <p:spPr>
              <a:xfrm>
                <a:off x="5573160" y="527868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83"/>
              <p:cNvSpPr/>
              <p:nvPr/>
            </p:nvSpPr>
            <p:spPr>
              <a:xfrm flipV="1">
                <a:off x="5646240" y="5105160"/>
                <a:ext cx="129600" cy="190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84"/>
              <p:cNvSpPr/>
              <p:nvPr/>
            </p:nvSpPr>
            <p:spPr>
              <a:xfrm>
                <a:off x="6261840" y="42681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85"/>
              <p:cNvSpPr/>
              <p:nvPr/>
            </p:nvSpPr>
            <p:spPr>
              <a:xfrm>
                <a:off x="6720480" y="4772880"/>
                <a:ext cx="140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86"/>
              <p:cNvSpPr/>
              <p:nvPr/>
            </p:nvSpPr>
            <p:spPr>
              <a:xfrm>
                <a:off x="5974920" y="4772880"/>
                <a:ext cx="140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87"/>
              <p:cNvSpPr/>
              <p:nvPr/>
            </p:nvSpPr>
            <p:spPr>
              <a:xfrm>
                <a:off x="7452720" y="432360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88"/>
              <p:cNvSpPr/>
              <p:nvPr/>
            </p:nvSpPr>
            <p:spPr>
              <a:xfrm>
                <a:off x="7064280" y="4829760"/>
                <a:ext cx="345240" cy="339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89"/>
              <p:cNvSpPr/>
              <p:nvPr/>
            </p:nvSpPr>
            <p:spPr>
              <a:xfrm flipV="1">
                <a:off x="7279560" y="4604400"/>
                <a:ext cx="22716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90"/>
              <p:cNvSpPr/>
              <p:nvPr/>
            </p:nvSpPr>
            <p:spPr>
              <a:xfrm>
                <a:off x="6777360" y="3706560"/>
                <a:ext cx="34740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91"/>
              <p:cNvSpPr/>
              <p:nvPr/>
            </p:nvSpPr>
            <p:spPr>
              <a:xfrm flipV="1">
                <a:off x="6318360" y="3929760"/>
                <a:ext cx="458640" cy="39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92"/>
              <p:cNvSpPr/>
              <p:nvPr/>
            </p:nvSpPr>
            <p:spPr>
              <a:xfrm flipH="1" flipV="1">
                <a:off x="7122600" y="3929760"/>
                <a:ext cx="458640" cy="39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Oval 93"/>
              <p:cNvSpPr/>
              <p:nvPr/>
            </p:nvSpPr>
            <p:spPr>
              <a:xfrm>
                <a:off x="6131880" y="4323600"/>
                <a:ext cx="34740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94"/>
              <p:cNvSpPr/>
              <p:nvPr/>
            </p:nvSpPr>
            <p:spPr>
              <a:xfrm>
                <a:off x="6531120" y="4829760"/>
                <a:ext cx="347400" cy="3366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95"/>
              <p:cNvSpPr/>
              <p:nvPr/>
            </p:nvSpPr>
            <p:spPr>
              <a:xfrm flipV="1">
                <a:off x="5960160" y="4604400"/>
                <a:ext cx="22716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96"/>
              <p:cNvSpPr/>
              <p:nvPr/>
            </p:nvSpPr>
            <p:spPr>
              <a:xfrm flipH="1" flipV="1">
                <a:off x="6417000" y="4604400"/>
                <a:ext cx="22860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97"/>
              <p:cNvSpPr/>
              <p:nvPr/>
            </p:nvSpPr>
            <p:spPr>
              <a:xfrm>
                <a:off x="6777360" y="370656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98"/>
              <p:cNvSpPr/>
              <p:nvPr/>
            </p:nvSpPr>
            <p:spPr>
              <a:xfrm>
                <a:off x="6089760" y="432360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99"/>
              <p:cNvSpPr/>
              <p:nvPr/>
            </p:nvSpPr>
            <p:spPr>
              <a:xfrm>
                <a:off x="7064280" y="482976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00"/>
              <p:cNvSpPr/>
              <p:nvPr/>
            </p:nvSpPr>
            <p:spPr>
              <a:xfrm>
                <a:off x="6548760" y="4829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101"/>
              <p:cNvSpPr/>
              <p:nvPr/>
            </p:nvSpPr>
            <p:spPr>
              <a:xfrm>
                <a:off x="7466400" y="432360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02"/>
              <p:cNvSpPr/>
              <p:nvPr/>
            </p:nvSpPr>
            <p:spPr>
              <a:xfrm>
                <a:off x="7811280" y="4829760"/>
                <a:ext cx="346320" cy="339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103"/>
              <p:cNvSpPr/>
              <p:nvPr/>
            </p:nvSpPr>
            <p:spPr>
              <a:xfrm>
                <a:off x="5386320" y="5296320"/>
                <a:ext cx="347400" cy="339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104"/>
              <p:cNvSpPr/>
              <p:nvPr/>
            </p:nvSpPr>
            <p:spPr>
              <a:xfrm flipH="1" flipV="1">
                <a:off x="7753320" y="4604400"/>
                <a:ext cx="22968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105"/>
              <p:cNvSpPr/>
              <p:nvPr/>
            </p:nvSpPr>
            <p:spPr>
              <a:xfrm>
                <a:off x="6777360" y="527868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06"/>
              <p:cNvSpPr/>
              <p:nvPr/>
            </p:nvSpPr>
            <p:spPr>
              <a:xfrm>
                <a:off x="7753320" y="4829760"/>
                <a:ext cx="1987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107"/>
            <p:cNvSpPr/>
            <p:nvPr/>
          </p:nvSpPr>
          <p:spPr>
            <a:xfrm>
              <a:off x="7791480" y="47876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08"/>
            <p:cNvSpPr/>
            <p:nvPr/>
          </p:nvSpPr>
          <p:spPr>
            <a:xfrm>
              <a:off x="701064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09"/>
            <p:cNvSpPr/>
            <p:nvPr/>
          </p:nvSpPr>
          <p:spPr>
            <a:xfrm>
              <a:off x="649152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10"/>
            <p:cNvSpPr/>
            <p:nvPr/>
          </p:nvSpPr>
          <p:spPr>
            <a:xfrm>
              <a:off x="5360760" y="52592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11"/>
            <p:cNvSpPr/>
            <p:nvPr/>
          </p:nvSpPr>
          <p:spPr>
            <a:xfrm>
              <a:off x="571320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12"/>
            <p:cNvSpPr/>
            <p:nvPr/>
          </p:nvSpPr>
          <p:spPr>
            <a:xfrm>
              <a:off x="7414920" y="42800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13"/>
            <p:cNvSpPr/>
            <p:nvPr/>
          </p:nvSpPr>
          <p:spPr>
            <a:xfrm>
              <a:off x="6102360" y="42800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14"/>
            <p:cNvSpPr/>
            <p:nvPr/>
          </p:nvSpPr>
          <p:spPr>
            <a:xfrm>
              <a:off x="6752160" y="36655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15"/>
          <p:cNvGrpSpPr/>
          <p:nvPr/>
        </p:nvGrpSpPr>
        <p:grpSpPr>
          <a:xfrm>
            <a:off x="893520" y="1608120"/>
            <a:ext cx="1734840" cy="1018800"/>
            <a:chOff x="893520" y="1608120"/>
            <a:chExt cx="1734840" cy="1018800"/>
          </a:xfrm>
        </p:grpSpPr>
        <p:grpSp>
          <p:nvGrpSpPr>
            <p:cNvPr id="696" name="Group 116"/>
            <p:cNvGrpSpPr/>
            <p:nvPr/>
          </p:nvGrpSpPr>
          <p:grpSpPr>
            <a:xfrm>
              <a:off x="902520" y="1668960"/>
              <a:ext cx="1709640" cy="957960"/>
              <a:chOff x="902520" y="1668960"/>
              <a:chExt cx="1709640" cy="957960"/>
            </a:xfrm>
          </p:grpSpPr>
          <p:sp>
            <p:nvSpPr>
              <p:cNvPr id="697" name="Rectangle 117"/>
              <p:cNvSpPr/>
              <p:nvPr/>
            </p:nvSpPr>
            <p:spPr>
              <a:xfrm>
                <a:off x="1074240" y="223128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Oval 118"/>
              <p:cNvSpPr/>
              <p:nvPr/>
            </p:nvSpPr>
            <p:spPr>
              <a:xfrm>
                <a:off x="2265840" y="2287440"/>
                <a:ext cx="34632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119"/>
              <p:cNvSpPr/>
              <p:nvPr/>
            </p:nvSpPr>
            <p:spPr>
              <a:xfrm>
                <a:off x="1590120" y="166896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120"/>
              <p:cNvSpPr/>
              <p:nvPr/>
            </p:nvSpPr>
            <p:spPr>
              <a:xfrm flipV="1">
                <a:off x="1131120" y="1892520"/>
                <a:ext cx="459000" cy="39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121"/>
              <p:cNvSpPr/>
              <p:nvPr/>
            </p:nvSpPr>
            <p:spPr>
              <a:xfrm flipH="1" flipV="1">
                <a:off x="1935000" y="1892520"/>
                <a:ext cx="459000" cy="39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Oval 122"/>
              <p:cNvSpPr/>
              <p:nvPr/>
            </p:nvSpPr>
            <p:spPr>
              <a:xfrm>
                <a:off x="944280" y="2287440"/>
                <a:ext cx="34812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123"/>
              <p:cNvSpPr/>
              <p:nvPr/>
            </p:nvSpPr>
            <p:spPr>
              <a:xfrm>
                <a:off x="1590120" y="166896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124"/>
              <p:cNvSpPr/>
              <p:nvPr/>
            </p:nvSpPr>
            <p:spPr>
              <a:xfrm>
                <a:off x="902520" y="228744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125"/>
              <p:cNvSpPr/>
              <p:nvPr/>
            </p:nvSpPr>
            <p:spPr>
              <a:xfrm>
                <a:off x="2279160" y="2287440"/>
                <a:ext cx="14076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Text Box 126"/>
            <p:cNvSpPr/>
            <p:nvPr/>
          </p:nvSpPr>
          <p:spPr>
            <a:xfrm>
              <a:off x="1560600" y="1608120"/>
              <a:ext cx="53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27"/>
            <p:cNvSpPr/>
            <p:nvPr/>
          </p:nvSpPr>
          <p:spPr>
            <a:xfrm>
              <a:off x="893520" y="22158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28"/>
            <p:cNvSpPr/>
            <p:nvPr/>
          </p:nvSpPr>
          <p:spPr>
            <a:xfrm>
              <a:off x="2216160" y="22384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134"/>
          <p:cNvGrpSpPr/>
          <p:nvPr/>
        </p:nvGrpSpPr>
        <p:grpSpPr>
          <a:xfrm>
            <a:off x="3567240" y="1219320"/>
            <a:ext cx="5035320" cy="4300560"/>
            <a:chOff x="3567240" y="1219320"/>
            <a:chExt cx="5035320" cy="4300560"/>
          </a:xfrm>
        </p:grpSpPr>
        <p:sp>
          <p:nvSpPr>
            <p:cNvPr id="710" name="Line 49"/>
            <p:cNvSpPr/>
            <p:nvPr/>
          </p:nvSpPr>
          <p:spPr>
            <a:xfrm>
              <a:off x="6361200" y="1731960"/>
              <a:ext cx="1560600" cy="152712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50"/>
            <p:cNvSpPr/>
            <p:nvPr/>
          </p:nvSpPr>
          <p:spPr>
            <a:xfrm flipV="1">
              <a:off x="6426360" y="1668240"/>
              <a:ext cx="1495440" cy="16556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29"/>
            <p:cNvSpPr/>
            <p:nvPr/>
          </p:nvSpPr>
          <p:spPr>
            <a:xfrm>
              <a:off x="3632040" y="3705120"/>
              <a:ext cx="1560600" cy="152892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0"/>
            <p:cNvSpPr/>
            <p:nvPr/>
          </p:nvSpPr>
          <p:spPr>
            <a:xfrm flipV="1">
              <a:off x="3567240" y="3641400"/>
              <a:ext cx="1493640" cy="16556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31"/>
            <p:cNvSpPr/>
            <p:nvPr/>
          </p:nvSpPr>
          <p:spPr>
            <a:xfrm>
              <a:off x="3612600" y="5151600"/>
              <a:ext cx="42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alibri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32"/>
            <p:cNvSpPr/>
            <p:nvPr/>
          </p:nvSpPr>
          <p:spPr>
            <a:xfrm>
              <a:off x="7176960" y="1219320"/>
              <a:ext cx="14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alibri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are max-heap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Slide Number Placeholder 13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3F0824-3164-46A6-BDA4-CDAA4EB187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 Set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think about how to write our own implementation of a s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we only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our set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sets as an ADT by creating a Se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 are:  add, contains,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height and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eight of a complete tree is always lo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this for su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this, if we implement a priority queue using a heap, we can provide the following runtime guarante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Oval 4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5"/>
          <p:cNvSpPr/>
          <p:nvPr/>
        </p:nvSpPr>
        <p:spPr>
          <a:xfrm>
            <a:off x="16002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6"/>
          <p:cNvSpPr/>
          <p:nvPr/>
        </p:nvSpPr>
        <p:spPr>
          <a:xfrm>
            <a:off x="27432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AutoShape 7"/>
          <p:cNvCxnSpPr>
            <a:stCxn id="720" idx="4"/>
            <a:endCxn id="721" idx="0"/>
          </p:cNvCxnSpPr>
          <p:nvPr/>
        </p:nvCxnSpPr>
        <p:spPr>
          <a:xfrm flipH="1">
            <a:off x="1675800" y="4800240"/>
            <a:ext cx="5338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4" name="AutoShape 8"/>
          <p:cNvCxnSpPr>
            <a:stCxn id="720" idx="4"/>
            <a:endCxn id="722" idx="0"/>
          </p:cNvCxnSpPr>
          <p:nvPr/>
        </p:nvCxnSpPr>
        <p:spPr>
          <a:xfrm>
            <a:off x="2209680" y="4800240"/>
            <a:ext cx="6105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Oval 9"/>
          <p:cNvSpPr/>
          <p:nvPr/>
        </p:nvSpPr>
        <p:spPr>
          <a:xfrm>
            <a:off x="12193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0"/>
          <p:cNvSpPr/>
          <p:nvPr/>
        </p:nvSpPr>
        <p:spPr>
          <a:xfrm>
            <a:off x="10666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1"/>
          <p:cNvSpPr/>
          <p:nvPr/>
        </p:nvSpPr>
        <p:spPr>
          <a:xfrm>
            <a:off x="137160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AutoShape 12"/>
          <p:cNvCxnSpPr>
            <a:stCxn id="725" idx="4"/>
            <a:endCxn id="726" idx="0"/>
          </p:cNvCxnSpPr>
          <p:nvPr/>
        </p:nvCxnSpPr>
        <p:spPr>
          <a:xfrm flipH="1">
            <a:off x="114228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9" name="AutoShape 13"/>
          <p:cNvCxnSpPr>
            <a:stCxn id="725" idx="4"/>
            <a:endCxn id="727" idx="0"/>
          </p:cNvCxnSpPr>
          <p:nvPr/>
        </p:nvCxnSpPr>
        <p:spPr>
          <a:xfrm>
            <a:off x="129528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0" name="Oval 14"/>
          <p:cNvSpPr/>
          <p:nvPr/>
        </p:nvSpPr>
        <p:spPr>
          <a:xfrm>
            <a:off x="182880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5"/>
          <p:cNvSpPr/>
          <p:nvPr/>
        </p:nvSpPr>
        <p:spPr>
          <a:xfrm>
            <a:off x="16765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16"/>
          <p:cNvSpPr/>
          <p:nvPr/>
        </p:nvSpPr>
        <p:spPr>
          <a:xfrm>
            <a:off x="19810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3" name="AutoShape 17"/>
          <p:cNvCxnSpPr>
            <a:stCxn id="730" idx="4"/>
            <a:endCxn id="731" idx="0"/>
          </p:cNvCxnSpPr>
          <p:nvPr/>
        </p:nvCxnSpPr>
        <p:spPr>
          <a:xfrm flipH="1">
            <a:off x="175212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4" name="AutoShape 18"/>
          <p:cNvCxnSpPr>
            <a:stCxn id="730" idx="4"/>
            <a:endCxn id="732" idx="0"/>
          </p:cNvCxnSpPr>
          <p:nvPr/>
        </p:nvCxnSpPr>
        <p:spPr>
          <a:xfrm>
            <a:off x="190476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AutoShape 19"/>
          <p:cNvCxnSpPr>
            <a:stCxn id="721" idx="3"/>
            <a:endCxn id="725" idx="0"/>
          </p:cNvCxnSpPr>
          <p:nvPr/>
        </p:nvCxnSpPr>
        <p:spPr>
          <a:xfrm flipH="1">
            <a:off x="1294560" y="5235480"/>
            <a:ext cx="3279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6" name="AutoShape 20"/>
          <p:cNvCxnSpPr>
            <a:stCxn id="721" idx="5"/>
            <a:endCxn id="730" idx="1"/>
          </p:cNvCxnSpPr>
          <p:nvPr/>
        </p:nvCxnSpPr>
        <p:spPr>
          <a:xfrm>
            <a:off x="1730160" y="5235480"/>
            <a:ext cx="1213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7" name="Oval 21"/>
          <p:cNvSpPr/>
          <p:nvPr/>
        </p:nvSpPr>
        <p:spPr>
          <a:xfrm>
            <a:off x="251460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23623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3"/>
          <p:cNvSpPr/>
          <p:nvPr/>
        </p:nvSpPr>
        <p:spPr>
          <a:xfrm>
            <a:off x="26668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AutoShape 24"/>
          <p:cNvCxnSpPr>
            <a:stCxn id="737" idx="4"/>
            <a:endCxn id="738" idx="0"/>
          </p:cNvCxnSpPr>
          <p:nvPr/>
        </p:nvCxnSpPr>
        <p:spPr>
          <a:xfrm flipH="1">
            <a:off x="243792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AutoShape 25"/>
          <p:cNvCxnSpPr>
            <a:stCxn id="737" idx="4"/>
            <a:endCxn id="739" idx="0"/>
          </p:cNvCxnSpPr>
          <p:nvPr/>
        </p:nvCxnSpPr>
        <p:spPr>
          <a:xfrm>
            <a:off x="259056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Oval 26"/>
          <p:cNvSpPr/>
          <p:nvPr/>
        </p:nvSpPr>
        <p:spPr>
          <a:xfrm>
            <a:off x="30481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AutoShape 27"/>
          <p:cNvCxnSpPr>
            <a:stCxn id="722" idx="4"/>
            <a:endCxn id="737" idx="0"/>
          </p:cNvCxnSpPr>
          <p:nvPr/>
        </p:nvCxnSpPr>
        <p:spPr>
          <a:xfrm flipH="1">
            <a:off x="2590200" y="52578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4" name="AutoShape 28"/>
          <p:cNvCxnSpPr>
            <a:stCxn id="722" idx="5"/>
            <a:endCxn id="742" idx="0"/>
          </p:cNvCxnSpPr>
          <p:nvPr/>
        </p:nvCxnSpPr>
        <p:spPr>
          <a:xfrm>
            <a:off x="2873520" y="5235480"/>
            <a:ext cx="25092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5" name="Oval 29"/>
          <p:cNvSpPr/>
          <p:nvPr/>
        </p:nvSpPr>
        <p:spPr>
          <a:xfrm>
            <a:off x="4724280" y="46483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30"/>
          <p:cNvSpPr/>
          <p:nvPr/>
        </p:nvSpPr>
        <p:spPr>
          <a:xfrm>
            <a:off x="419112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31"/>
          <p:cNvSpPr/>
          <p:nvPr/>
        </p:nvSpPr>
        <p:spPr>
          <a:xfrm>
            <a:off x="533412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8" name="AutoShape 32"/>
          <p:cNvCxnSpPr>
            <a:stCxn id="745" idx="4"/>
            <a:endCxn id="746" idx="0"/>
          </p:cNvCxnSpPr>
          <p:nvPr/>
        </p:nvCxnSpPr>
        <p:spPr>
          <a:xfrm flipH="1">
            <a:off x="4266720" y="4800240"/>
            <a:ext cx="5342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9" name="AutoShape 33"/>
          <p:cNvCxnSpPr>
            <a:stCxn id="745" idx="4"/>
            <a:endCxn id="747" idx="0"/>
          </p:cNvCxnSpPr>
          <p:nvPr/>
        </p:nvCxnSpPr>
        <p:spPr>
          <a:xfrm>
            <a:off x="4800240" y="4800240"/>
            <a:ext cx="6102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0" name="Oval 34"/>
          <p:cNvSpPr/>
          <p:nvPr/>
        </p:nvSpPr>
        <p:spPr>
          <a:xfrm>
            <a:off x="38098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35"/>
          <p:cNvSpPr/>
          <p:nvPr/>
        </p:nvSpPr>
        <p:spPr>
          <a:xfrm>
            <a:off x="365760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36"/>
          <p:cNvSpPr/>
          <p:nvPr/>
        </p:nvSpPr>
        <p:spPr>
          <a:xfrm>
            <a:off x="39625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AutoShape 37"/>
          <p:cNvCxnSpPr>
            <a:stCxn id="750" idx="4"/>
            <a:endCxn id="751" idx="0"/>
          </p:cNvCxnSpPr>
          <p:nvPr/>
        </p:nvCxnSpPr>
        <p:spPr>
          <a:xfrm flipH="1">
            <a:off x="373320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4" name="AutoShape 38"/>
          <p:cNvCxnSpPr>
            <a:stCxn id="750" idx="4"/>
            <a:endCxn id="752" idx="0"/>
          </p:cNvCxnSpPr>
          <p:nvPr/>
        </p:nvCxnSpPr>
        <p:spPr>
          <a:xfrm>
            <a:off x="388584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5" name="Oval 39"/>
          <p:cNvSpPr/>
          <p:nvPr/>
        </p:nvSpPr>
        <p:spPr>
          <a:xfrm>
            <a:off x="44197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6" name="AutoShape 40"/>
          <p:cNvCxnSpPr>
            <a:stCxn id="746" idx="3"/>
            <a:endCxn id="750" idx="0"/>
          </p:cNvCxnSpPr>
          <p:nvPr/>
        </p:nvCxnSpPr>
        <p:spPr>
          <a:xfrm flipH="1">
            <a:off x="3885840" y="5235480"/>
            <a:ext cx="3276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7" name="AutoShape 41"/>
          <p:cNvCxnSpPr>
            <a:stCxn id="746" idx="5"/>
            <a:endCxn id="755" idx="1"/>
          </p:cNvCxnSpPr>
          <p:nvPr/>
        </p:nvCxnSpPr>
        <p:spPr>
          <a:xfrm>
            <a:off x="4320720" y="5235480"/>
            <a:ext cx="1213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8" name="Oval 42"/>
          <p:cNvSpPr/>
          <p:nvPr/>
        </p:nvSpPr>
        <p:spPr>
          <a:xfrm>
            <a:off x="51055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43"/>
          <p:cNvSpPr/>
          <p:nvPr/>
        </p:nvSpPr>
        <p:spPr>
          <a:xfrm>
            <a:off x="56386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0" name="AutoShape 44"/>
          <p:cNvCxnSpPr>
            <a:stCxn id="747" idx="4"/>
            <a:endCxn id="758" idx="0"/>
          </p:cNvCxnSpPr>
          <p:nvPr/>
        </p:nvCxnSpPr>
        <p:spPr>
          <a:xfrm flipH="1">
            <a:off x="5180760" y="52578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AutoShape 45"/>
          <p:cNvCxnSpPr>
            <a:stCxn id="747" idx="5"/>
            <a:endCxn id="759" idx="0"/>
          </p:cNvCxnSpPr>
          <p:nvPr/>
        </p:nvCxnSpPr>
        <p:spPr>
          <a:xfrm>
            <a:off x="5463720" y="5235480"/>
            <a:ext cx="25164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Text Box 46"/>
          <p:cNvSpPr/>
          <p:nvPr/>
        </p:nvSpPr>
        <p:spPr>
          <a:xfrm>
            <a:off x="6095880" y="514656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node complet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height 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h+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g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added to a heap, where should it g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Must insert a new node while maintaining heap propert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Oval 4"/>
          <p:cNvSpPr/>
          <p:nvPr/>
        </p:nvSpPr>
        <p:spPr>
          <a:xfrm>
            <a:off x="571500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5"/>
          <p:cNvSpPr/>
          <p:nvPr/>
        </p:nvSpPr>
        <p:spPr>
          <a:xfrm>
            <a:off x="40384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6"/>
          <p:cNvSpPr/>
          <p:nvPr/>
        </p:nvSpPr>
        <p:spPr>
          <a:xfrm>
            <a:off x="26668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7"/>
          <p:cNvSpPr/>
          <p:nvPr/>
        </p:nvSpPr>
        <p:spPr>
          <a:xfrm>
            <a:off x="51814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8"/>
          <p:cNvSpPr/>
          <p:nvPr/>
        </p:nvSpPr>
        <p:spPr>
          <a:xfrm>
            <a:off x="33526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9"/>
          <p:cNvSpPr/>
          <p:nvPr/>
        </p:nvSpPr>
        <p:spPr>
          <a:xfrm>
            <a:off x="4343400" y="28576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AutoShape 10"/>
          <p:cNvCxnSpPr>
            <a:stCxn id="770" idx="3"/>
            <a:endCxn id="769" idx="0"/>
          </p:cNvCxnSpPr>
          <p:nvPr/>
        </p:nvCxnSpPr>
        <p:spPr>
          <a:xfrm flipH="1">
            <a:off x="3618720" y="333180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2" name="AutoShape 11"/>
          <p:cNvCxnSpPr>
            <a:stCxn id="770" idx="5"/>
            <a:endCxn id="768" idx="0"/>
          </p:cNvCxnSpPr>
          <p:nvPr/>
        </p:nvCxnSpPr>
        <p:spPr>
          <a:xfrm>
            <a:off x="4798800" y="333180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3" name="AutoShape 12"/>
          <p:cNvCxnSpPr>
            <a:stCxn id="768" idx="5"/>
            <a:endCxn id="765" idx="0"/>
          </p:cNvCxnSpPr>
          <p:nvPr/>
        </p:nvCxnSpPr>
        <p:spPr>
          <a:xfrm>
            <a:off x="5636880" y="416988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4" name="AutoShape 13"/>
          <p:cNvCxnSpPr>
            <a:stCxn id="769" idx="3"/>
            <a:endCxn id="767" idx="0"/>
          </p:cNvCxnSpPr>
          <p:nvPr/>
        </p:nvCxnSpPr>
        <p:spPr>
          <a:xfrm flipH="1">
            <a:off x="293328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5" name="AutoShape 14"/>
          <p:cNvCxnSpPr>
            <a:stCxn id="769" idx="5"/>
            <a:endCxn id="766" idx="0"/>
          </p:cNvCxnSpPr>
          <p:nvPr/>
        </p:nvCxnSpPr>
        <p:spPr>
          <a:xfrm>
            <a:off x="380844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Oval 15"/>
          <p:cNvSpPr/>
          <p:nvPr/>
        </p:nvSpPr>
        <p:spPr>
          <a:xfrm>
            <a:off x="228600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AutoShape 16"/>
          <p:cNvCxnSpPr>
            <a:stCxn id="767" idx="3"/>
            <a:endCxn id="776" idx="0"/>
          </p:cNvCxnSpPr>
          <p:nvPr/>
        </p:nvCxnSpPr>
        <p:spPr>
          <a:xfrm flipH="1">
            <a:off x="2533320" y="500832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Oval 17"/>
          <p:cNvSpPr/>
          <p:nvPr/>
        </p:nvSpPr>
        <p:spPr>
          <a:xfrm>
            <a:off x="31240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AutoShape 18"/>
          <p:cNvCxnSpPr>
            <a:stCxn id="767" idx="5"/>
            <a:endCxn id="778" idx="0"/>
          </p:cNvCxnSpPr>
          <p:nvPr/>
        </p:nvCxnSpPr>
        <p:spPr>
          <a:xfrm>
            <a:off x="3122640" y="500832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0" name="Oval 19"/>
          <p:cNvSpPr/>
          <p:nvPr/>
        </p:nvSpPr>
        <p:spPr>
          <a:xfrm>
            <a:off x="4876920" y="453384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AutoShape 20"/>
          <p:cNvCxnSpPr>
            <a:stCxn id="768" idx="3"/>
            <a:endCxn id="780" idx="0"/>
          </p:cNvCxnSpPr>
          <p:nvPr/>
        </p:nvCxnSpPr>
        <p:spPr>
          <a:xfrm flipH="1">
            <a:off x="5142960" y="4169880"/>
            <a:ext cx="116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2" name="Oval 21"/>
          <p:cNvSpPr/>
          <p:nvPr/>
        </p:nvSpPr>
        <p:spPr>
          <a:xfrm>
            <a:off x="38098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AutoShape 22"/>
          <p:cNvCxnSpPr>
            <a:stCxn id="766" idx="3"/>
            <a:endCxn id="782" idx="0"/>
          </p:cNvCxnSpPr>
          <p:nvPr/>
        </p:nvCxnSpPr>
        <p:spPr>
          <a:xfrm flipH="1">
            <a:off x="4056840" y="500832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4" name="Oval 42"/>
          <p:cNvSpPr/>
          <p:nvPr/>
        </p:nvSpPr>
        <p:spPr>
          <a:xfrm>
            <a:off x="7238880" y="293364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92800" y="2473200"/>
            <a:ext cx="130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 n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added to a heap, it should be initially placed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most 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o maintain the completeness propert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heap ordering property becomes broke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Oval 4"/>
          <p:cNvSpPr/>
          <p:nvPr/>
        </p:nvSpPr>
        <p:spPr>
          <a:xfrm>
            <a:off x="3733920" y="4572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5"/>
          <p:cNvSpPr/>
          <p:nvPr/>
        </p:nvSpPr>
        <p:spPr>
          <a:xfrm>
            <a:off x="20574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6"/>
          <p:cNvSpPr/>
          <p:nvPr/>
        </p:nvSpPr>
        <p:spPr>
          <a:xfrm>
            <a:off x="6858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7"/>
          <p:cNvSpPr/>
          <p:nvPr/>
        </p:nvSpPr>
        <p:spPr>
          <a:xfrm>
            <a:off x="3276720" y="3733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8"/>
          <p:cNvSpPr/>
          <p:nvPr/>
        </p:nvSpPr>
        <p:spPr>
          <a:xfrm>
            <a:off x="1371600" y="3733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9"/>
          <p:cNvSpPr/>
          <p:nvPr/>
        </p:nvSpPr>
        <p:spPr>
          <a:xfrm>
            <a:off x="2362320" y="28954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4" name="AutoShape 10"/>
          <p:cNvCxnSpPr>
            <a:stCxn id="793" idx="3"/>
            <a:endCxn id="792" idx="0"/>
          </p:cNvCxnSpPr>
          <p:nvPr/>
        </p:nvCxnSpPr>
        <p:spPr>
          <a:xfrm flipH="1">
            <a:off x="1637640" y="336996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AutoShape 11"/>
          <p:cNvCxnSpPr>
            <a:stCxn id="793" idx="5"/>
            <a:endCxn id="791" idx="0"/>
          </p:cNvCxnSpPr>
          <p:nvPr/>
        </p:nvCxnSpPr>
        <p:spPr>
          <a:xfrm>
            <a:off x="2817720" y="3369960"/>
            <a:ext cx="726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AutoShape 12"/>
          <p:cNvCxnSpPr>
            <a:stCxn id="791" idx="5"/>
            <a:endCxn id="788" idx="0"/>
          </p:cNvCxnSpPr>
          <p:nvPr/>
        </p:nvCxnSpPr>
        <p:spPr>
          <a:xfrm>
            <a:off x="3732120" y="4208040"/>
            <a:ext cx="269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AutoShape 13"/>
          <p:cNvCxnSpPr>
            <a:stCxn id="792" idx="3"/>
            <a:endCxn id="790" idx="0"/>
          </p:cNvCxnSpPr>
          <p:nvPr/>
        </p:nvCxnSpPr>
        <p:spPr>
          <a:xfrm flipH="1">
            <a:off x="95220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8" name="AutoShape 14"/>
          <p:cNvCxnSpPr>
            <a:stCxn id="792" idx="5"/>
            <a:endCxn id="789" idx="0"/>
          </p:cNvCxnSpPr>
          <p:nvPr/>
        </p:nvCxnSpPr>
        <p:spPr>
          <a:xfrm>
            <a:off x="182736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Oval 15"/>
          <p:cNvSpPr/>
          <p:nvPr/>
        </p:nvSpPr>
        <p:spPr>
          <a:xfrm>
            <a:off x="30492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0" name="AutoShape 16"/>
          <p:cNvCxnSpPr>
            <a:stCxn id="790" idx="3"/>
            <a:endCxn id="799" idx="0"/>
          </p:cNvCxnSpPr>
          <p:nvPr/>
        </p:nvCxnSpPr>
        <p:spPr>
          <a:xfrm flipH="1">
            <a:off x="552240" y="5046840"/>
            <a:ext cx="2116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Oval 17"/>
          <p:cNvSpPr/>
          <p:nvPr/>
        </p:nvSpPr>
        <p:spPr>
          <a:xfrm>
            <a:off x="11430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AutoShape 18"/>
          <p:cNvCxnSpPr>
            <a:stCxn id="790" idx="5"/>
            <a:endCxn id="801" idx="0"/>
          </p:cNvCxnSpPr>
          <p:nvPr/>
        </p:nvCxnSpPr>
        <p:spPr>
          <a:xfrm>
            <a:off x="1141560" y="5046840"/>
            <a:ext cx="249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3" name="Oval 19"/>
          <p:cNvSpPr/>
          <p:nvPr/>
        </p:nvSpPr>
        <p:spPr>
          <a:xfrm>
            <a:off x="289548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4" name="AutoShape 20"/>
          <p:cNvCxnSpPr>
            <a:stCxn id="791" idx="3"/>
            <a:endCxn id="803" idx="0"/>
          </p:cNvCxnSpPr>
          <p:nvPr/>
        </p:nvCxnSpPr>
        <p:spPr>
          <a:xfrm flipH="1">
            <a:off x="3161880" y="420804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5" name="Oval 21"/>
          <p:cNvSpPr/>
          <p:nvPr/>
        </p:nvSpPr>
        <p:spPr>
          <a:xfrm>
            <a:off x="18288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AutoShape 22"/>
          <p:cNvCxnSpPr>
            <a:stCxn id="789" idx="3"/>
            <a:endCxn id="805" idx="0"/>
          </p:cNvCxnSpPr>
          <p:nvPr/>
        </p:nvCxnSpPr>
        <p:spPr>
          <a:xfrm flipH="1">
            <a:off x="2075760" y="5046840"/>
            <a:ext cx="594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7" name="Oval 23"/>
          <p:cNvSpPr/>
          <p:nvPr/>
        </p:nvSpPr>
        <p:spPr>
          <a:xfrm>
            <a:off x="8305920" y="4572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4"/>
          <p:cNvSpPr/>
          <p:nvPr/>
        </p:nvSpPr>
        <p:spPr>
          <a:xfrm>
            <a:off x="66294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5"/>
          <p:cNvSpPr/>
          <p:nvPr/>
        </p:nvSpPr>
        <p:spPr>
          <a:xfrm>
            <a:off x="52578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6"/>
          <p:cNvSpPr/>
          <p:nvPr/>
        </p:nvSpPr>
        <p:spPr>
          <a:xfrm>
            <a:off x="7848720" y="3733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7"/>
          <p:cNvSpPr/>
          <p:nvPr/>
        </p:nvSpPr>
        <p:spPr>
          <a:xfrm>
            <a:off x="5943600" y="3733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8"/>
          <p:cNvSpPr/>
          <p:nvPr/>
        </p:nvSpPr>
        <p:spPr>
          <a:xfrm>
            <a:off x="6934320" y="28954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3" name="AutoShape 29"/>
          <p:cNvCxnSpPr>
            <a:stCxn id="812" idx="3"/>
            <a:endCxn id="811" idx="0"/>
          </p:cNvCxnSpPr>
          <p:nvPr/>
        </p:nvCxnSpPr>
        <p:spPr>
          <a:xfrm flipH="1">
            <a:off x="6209640" y="336996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4" name="AutoShape 30"/>
          <p:cNvCxnSpPr>
            <a:stCxn id="812" idx="5"/>
            <a:endCxn id="810" idx="0"/>
          </p:cNvCxnSpPr>
          <p:nvPr/>
        </p:nvCxnSpPr>
        <p:spPr>
          <a:xfrm>
            <a:off x="7389720" y="3369960"/>
            <a:ext cx="726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5" name="AutoShape 31"/>
          <p:cNvCxnSpPr>
            <a:stCxn id="810" idx="5"/>
            <a:endCxn id="807" idx="0"/>
          </p:cNvCxnSpPr>
          <p:nvPr/>
        </p:nvCxnSpPr>
        <p:spPr>
          <a:xfrm>
            <a:off x="8304120" y="4208040"/>
            <a:ext cx="269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6" name="AutoShape 32"/>
          <p:cNvCxnSpPr>
            <a:stCxn id="811" idx="3"/>
            <a:endCxn id="809" idx="0"/>
          </p:cNvCxnSpPr>
          <p:nvPr/>
        </p:nvCxnSpPr>
        <p:spPr>
          <a:xfrm flipH="1">
            <a:off x="552420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7" name="AutoShape 33"/>
          <p:cNvCxnSpPr>
            <a:stCxn id="811" idx="5"/>
            <a:endCxn id="808" idx="0"/>
          </p:cNvCxnSpPr>
          <p:nvPr/>
        </p:nvCxnSpPr>
        <p:spPr>
          <a:xfrm>
            <a:off x="639936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8" name="Oval 34"/>
          <p:cNvSpPr/>
          <p:nvPr/>
        </p:nvSpPr>
        <p:spPr>
          <a:xfrm>
            <a:off x="487692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5"/>
          <p:cNvCxnSpPr>
            <a:stCxn id="809" idx="3"/>
            <a:endCxn id="818" idx="0"/>
          </p:cNvCxnSpPr>
          <p:nvPr/>
        </p:nvCxnSpPr>
        <p:spPr>
          <a:xfrm flipH="1">
            <a:off x="5124240" y="5046840"/>
            <a:ext cx="2116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0" name="Oval 36"/>
          <p:cNvSpPr/>
          <p:nvPr/>
        </p:nvSpPr>
        <p:spPr>
          <a:xfrm>
            <a:off x="57150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1" name="AutoShape 37"/>
          <p:cNvCxnSpPr>
            <a:stCxn id="809" idx="5"/>
            <a:endCxn id="820" idx="0"/>
          </p:cNvCxnSpPr>
          <p:nvPr/>
        </p:nvCxnSpPr>
        <p:spPr>
          <a:xfrm>
            <a:off x="5713560" y="5046840"/>
            <a:ext cx="249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2" name="Oval 38"/>
          <p:cNvSpPr/>
          <p:nvPr/>
        </p:nvSpPr>
        <p:spPr>
          <a:xfrm>
            <a:off x="746748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AutoShape 39"/>
          <p:cNvCxnSpPr>
            <a:stCxn id="810" idx="3"/>
            <a:endCxn id="822" idx="0"/>
          </p:cNvCxnSpPr>
          <p:nvPr/>
        </p:nvCxnSpPr>
        <p:spPr>
          <a:xfrm flipH="1">
            <a:off x="7733880" y="420804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4" name="Oval 40"/>
          <p:cNvSpPr/>
          <p:nvPr/>
        </p:nvSpPr>
        <p:spPr>
          <a:xfrm>
            <a:off x="64008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AutoShape 41"/>
          <p:cNvCxnSpPr>
            <a:stCxn id="808" idx="3"/>
            <a:endCxn id="824" idx="0"/>
          </p:cNvCxnSpPr>
          <p:nvPr/>
        </p:nvCxnSpPr>
        <p:spPr>
          <a:xfrm flipH="1">
            <a:off x="6647760" y="5046840"/>
            <a:ext cx="594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6" name="Oval 42"/>
          <p:cNvSpPr/>
          <p:nvPr/>
        </p:nvSpPr>
        <p:spPr>
          <a:xfrm>
            <a:off x="7010280" y="541008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7" name="AutoShape 43"/>
          <p:cNvCxnSpPr>
            <a:stCxn id="808" idx="5"/>
            <a:endCxn id="826" idx="0"/>
          </p:cNvCxnSpPr>
          <p:nvPr/>
        </p:nvCxnSpPr>
        <p:spPr>
          <a:xfrm>
            <a:off x="7084800" y="5046840"/>
            <a:ext cx="19260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ubbling up" a n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u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store heap ordering, the newly added element is shifted ("bubbled") up the tree until it reaches its prope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is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percolate up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swapping with its par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bubble-ups are necessary, at mo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Oval 4"/>
          <p:cNvSpPr/>
          <p:nvPr/>
        </p:nvSpPr>
        <p:spPr>
          <a:xfrm>
            <a:off x="3733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5"/>
          <p:cNvSpPr/>
          <p:nvPr/>
        </p:nvSpPr>
        <p:spPr>
          <a:xfrm>
            <a:off x="20574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6"/>
          <p:cNvSpPr/>
          <p:nvPr/>
        </p:nvSpPr>
        <p:spPr>
          <a:xfrm>
            <a:off x="762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7"/>
          <p:cNvSpPr/>
          <p:nvPr/>
        </p:nvSpPr>
        <p:spPr>
          <a:xfrm>
            <a:off x="3352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8"/>
          <p:cNvSpPr/>
          <p:nvPr/>
        </p:nvSpPr>
        <p:spPr>
          <a:xfrm>
            <a:off x="1523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9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AutoShape 10"/>
          <p:cNvCxnSpPr>
            <a:stCxn id="835" idx="3"/>
            <a:endCxn id="834" idx="0"/>
          </p:cNvCxnSpPr>
          <p:nvPr/>
        </p:nvCxnSpPr>
        <p:spPr>
          <a:xfrm flipH="1">
            <a:off x="1790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AutoShape 11"/>
          <p:cNvCxnSpPr>
            <a:stCxn id="835" idx="5"/>
            <a:endCxn id="833" idx="0"/>
          </p:cNvCxnSpPr>
          <p:nvPr/>
        </p:nvCxnSpPr>
        <p:spPr>
          <a:xfrm>
            <a:off x="2817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AutoShape 12"/>
          <p:cNvCxnSpPr>
            <a:stCxn id="833" idx="5"/>
            <a:endCxn id="830" idx="0"/>
          </p:cNvCxnSpPr>
          <p:nvPr/>
        </p:nvCxnSpPr>
        <p:spPr>
          <a:xfrm>
            <a:off x="3808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AutoShape 13"/>
          <p:cNvCxnSpPr>
            <a:stCxn id="834" idx="3"/>
            <a:endCxn id="832" idx="0"/>
          </p:cNvCxnSpPr>
          <p:nvPr/>
        </p:nvCxnSpPr>
        <p:spPr>
          <a:xfrm flipH="1">
            <a:off x="1028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AutoShape 14"/>
          <p:cNvCxnSpPr>
            <a:stCxn id="834" idx="5"/>
            <a:endCxn id="831" idx="0"/>
          </p:cNvCxnSpPr>
          <p:nvPr/>
        </p:nvCxnSpPr>
        <p:spPr>
          <a:xfrm>
            <a:off x="1979280" y="451296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1" name="Oval 15"/>
          <p:cNvSpPr/>
          <p:nvPr/>
        </p:nvSpPr>
        <p:spPr>
          <a:xfrm>
            <a:off x="304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2" name="AutoShape 16"/>
          <p:cNvCxnSpPr>
            <a:stCxn id="832" idx="3"/>
            <a:endCxn id="841" idx="0"/>
          </p:cNvCxnSpPr>
          <p:nvPr/>
        </p:nvCxnSpPr>
        <p:spPr>
          <a:xfrm flipH="1">
            <a:off x="552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3" name="Oval 17"/>
          <p:cNvSpPr/>
          <p:nvPr/>
        </p:nvSpPr>
        <p:spPr>
          <a:xfrm>
            <a:off x="1143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4" name="AutoShape 18"/>
          <p:cNvCxnSpPr>
            <a:stCxn id="832" idx="5"/>
            <a:endCxn id="843" idx="0"/>
          </p:cNvCxnSpPr>
          <p:nvPr/>
        </p:nvCxnSpPr>
        <p:spPr>
          <a:xfrm>
            <a:off x="1217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5" name="Oval 19"/>
          <p:cNvSpPr/>
          <p:nvPr/>
        </p:nvSpPr>
        <p:spPr>
          <a:xfrm>
            <a:off x="2971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6" name="AutoShape 20"/>
          <p:cNvCxnSpPr>
            <a:stCxn id="833" idx="3"/>
            <a:endCxn id="845" idx="0"/>
          </p:cNvCxnSpPr>
          <p:nvPr/>
        </p:nvCxnSpPr>
        <p:spPr>
          <a:xfrm flipH="1">
            <a:off x="3237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Oval 21"/>
          <p:cNvSpPr/>
          <p:nvPr/>
        </p:nvSpPr>
        <p:spPr>
          <a:xfrm>
            <a:off x="1828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AutoShape 22"/>
          <p:cNvCxnSpPr>
            <a:stCxn id="831" idx="3"/>
            <a:endCxn id="847" idx="0"/>
          </p:cNvCxnSpPr>
          <p:nvPr/>
        </p:nvCxnSpPr>
        <p:spPr>
          <a:xfrm flipH="1">
            <a:off x="2075760" y="535104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9" name="Oval 23"/>
          <p:cNvSpPr/>
          <p:nvPr/>
        </p:nvSpPr>
        <p:spPr>
          <a:xfrm>
            <a:off x="2514600" y="571500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0" name="AutoShape 24"/>
          <p:cNvCxnSpPr>
            <a:stCxn id="831" idx="5"/>
            <a:endCxn id="849" idx="0"/>
          </p:cNvCxnSpPr>
          <p:nvPr/>
        </p:nvCxnSpPr>
        <p:spPr>
          <a:xfrm>
            <a:off x="2512800" y="5351400"/>
            <a:ext cx="2689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1" name="AutoShape 25"/>
          <p:cNvSpPr/>
          <p:nvPr/>
        </p:nvSpPr>
        <p:spPr>
          <a:xfrm flipH="1">
            <a:off x="2590920" y="4952880"/>
            <a:ext cx="380880" cy="71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26"/>
          <p:cNvSpPr/>
          <p:nvPr/>
        </p:nvSpPr>
        <p:spPr>
          <a:xfrm flipH="1">
            <a:off x="2286000" y="4114800"/>
            <a:ext cx="38088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7"/>
          <p:cNvSpPr/>
          <p:nvPr/>
        </p:nvSpPr>
        <p:spPr>
          <a:xfrm>
            <a:off x="8305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8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9"/>
          <p:cNvSpPr/>
          <p:nvPr/>
        </p:nvSpPr>
        <p:spPr>
          <a:xfrm>
            <a:off x="5334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30"/>
          <p:cNvSpPr/>
          <p:nvPr/>
        </p:nvSpPr>
        <p:spPr>
          <a:xfrm>
            <a:off x="7924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31"/>
          <p:cNvSpPr/>
          <p:nvPr/>
        </p:nvSpPr>
        <p:spPr>
          <a:xfrm>
            <a:off x="6095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32"/>
          <p:cNvSpPr/>
          <p:nvPr/>
        </p:nvSpPr>
        <p:spPr>
          <a:xfrm>
            <a:off x="6934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9" name="AutoShape 33"/>
          <p:cNvCxnSpPr>
            <a:stCxn id="858" idx="3"/>
            <a:endCxn id="857" idx="0"/>
          </p:cNvCxnSpPr>
          <p:nvPr/>
        </p:nvCxnSpPr>
        <p:spPr>
          <a:xfrm flipH="1">
            <a:off x="6362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0" name="AutoShape 34"/>
          <p:cNvCxnSpPr>
            <a:stCxn id="858" idx="5"/>
            <a:endCxn id="856" idx="0"/>
          </p:cNvCxnSpPr>
          <p:nvPr/>
        </p:nvCxnSpPr>
        <p:spPr>
          <a:xfrm>
            <a:off x="7389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1" name="AutoShape 35"/>
          <p:cNvCxnSpPr>
            <a:stCxn id="856" idx="5"/>
            <a:endCxn id="853" idx="0"/>
          </p:cNvCxnSpPr>
          <p:nvPr/>
        </p:nvCxnSpPr>
        <p:spPr>
          <a:xfrm>
            <a:off x="8380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2" name="AutoShape 36"/>
          <p:cNvCxnSpPr>
            <a:stCxn id="857" idx="3"/>
            <a:endCxn id="855" idx="0"/>
          </p:cNvCxnSpPr>
          <p:nvPr/>
        </p:nvCxnSpPr>
        <p:spPr>
          <a:xfrm flipH="1">
            <a:off x="5600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3" name="AutoShape 37"/>
          <p:cNvCxnSpPr>
            <a:stCxn id="857" idx="5"/>
            <a:endCxn id="854" idx="0"/>
          </p:cNvCxnSpPr>
          <p:nvPr/>
        </p:nvCxnSpPr>
        <p:spPr>
          <a:xfrm>
            <a:off x="6551280" y="451296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4" name="Oval 38"/>
          <p:cNvSpPr/>
          <p:nvPr/>
        </p:nvSpPr>
        <p:spPr>
          <a:xfrm>
            <a:off x="4876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AutoShape 39"/>
          <p:cNvCxnSpPr>
            <a:stCxn id="855" idx="3"/>
            <a:endCxn id="864" idx="0"/>
          </p:cNvCxnSpPr>
          <p:nvPr/>
        </p:nvCxnSpPr>
        <p:spPr>
          <a:xfrm flipH="1">
            <a:off x="5124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6" name="Oval 40"/>
          <p:cNvSpPr/>
          <p:nvPr/>
        </p:nvSpPr>
        <p:spPr>
          <a:xfrm>
            <a:off x="5715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7" name="AutoShape 41"/>
          <p:cNvCxnSpPr>
            <a:stCxn id="855" idx="5"/>
            <a:endCxn id="866" idx="0"/>
          </p:cNvCxnSpPr>
          <p:nvPr/>
        </p:nvCxnSpPr>
        <p:spPr>
          <a:xfrm>
            <a:off x="5789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8" name="Oval 42"/>
          <p:cNvSpPr/>
          <p:nvPr/>
        </p:nvSpPr>
        <p:spPr>
          <a:xfrm>
            <a:off x="7543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AutoShape 43"/>
          <p:cNvCxnSpPr>
            <a:stCxn id="856" idx="3"/>
            <a:endCxn id="868" idx="0"/>
          </p:cNvCxnSpPr>
          <p:nvPr/>
        </p:nvCxnSpPr>
        <p:spPr>
          <a:xfrm flipH="1">
            <a:off x="7809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0" name="Oval 44"/>
          <p:cNvSpPr/>
          <p:nvPr/>
        </p:nvSpPr>
        <p:spPr>
          <a:xfrm>
            <a:off x="6400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1" name="AutoShape 45"/>
          <p:cNvCxnSpPr>
            <a:stCxn id="854" idx="3"/>
            <a:endCxn id="870" idx="0"/>
          </p:cNvCxnSpPr>
          <p:nvPr/>
        </p:nvCxnSpPr>
        <p:spPr>
          <a:xfrm flipH="1">
            <a:off x="6647760" y="535104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2" name="Oval 46"/>
          <p:cNvSpPr/>
          <p:nvPr/>
        </p:nvSpPr>
        <p:spPr>
          <a:xfrm>
            <a:off x="7086600" y="5715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AutoShape 47"/>
          <p:cNvCxnSpPr>
            <a:stCxn id="854" idx="5"/>
            <a:endCxn id="872" idx="0"/>
          </p:cNvCxnSpPr>
          <p:nvPr/>
        </p:nvCxnSpPr>
        <p:spPr>
          <a:xfrm>
            <a:off x="7161120" y="5351040"/>
            <a:ext cx="154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bble-up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the tree state of a min-heap after adding these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6, 50, 11, 25, 42, 20, 104, 76, 19, 55, 88,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133720" y="2971800"/>
            <a:ext cx="4535280" cy="2927520"/>
            <a:chOff x="2133720" y="2971800"/>
            <a:chExt cx="4535280" cy="2927520"/>
          </a:xfrm>
        </p:grpSpPr>
        <p:sp>
          <p:nvSpPr>
            <p:cNvPr id="877" name="Oval 25"/>
            <p:cNvSpPr/>
            <p:nvPr/>
          </p:nvSpPr>
          <p:spPr>
            <a:xfrm>
              <a:off x="61722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26"/>
            <p:cNvSpPr/>
            <p:nvPr/>
          </p:nvSpPr>
          <p:spPr>
            <a:xfrm>
              <a:off x="38466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27"/>
            <p:cNvSpPr/>
            <p:nvPr/>
          </p:nvSpPr>
          <p:spPr>
            <a:xfrm>
              <a:off x="2514600" y="4595760"/>
              <a:ext cx="4986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28"/>
            <p:cNvSpPr/>
            <p:nvPr/>
          </p:nvSpPr>
          <p:spPr>
            <a:xfrm>
              <a:off x="5624640" y="3782880"/>
              <a:ext cx="49824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29"/>
            <p:cNvSpPr/>
            <p:nvPr/>
          </p:nvSpPr>
          <p:spPr>
            <a:xfrm>
              <a:off x="3276720" y="3782880"/>
              <a:ext cx="49680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30"/>
            <p:cNvSpPr/>
            <p:nvPr/>
          </p:nvSpPr>
          <p:spPr>
            <a:xfrm>
              <a:off x="4456080" y="297180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3" name="AutoShape 31"/>
            <p:cNvCxnSpPr>
              <a:stCxn id="882" idx="3"/>
              <a:endCxn id="881" idx="0"/>
            </p:cNvCxnSpPr>
            <p:nvPr/>
          </p:nvCxnSpPr>
          <p:spPr>
            <a:xfrm flipH="1">
              <a:off x="3525480" y="3430440"/>
              <a:ext cx="1003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AutoShape 32"/>
            <p:cNvCxnSpPr>
              <a:stCxn id="882" idx="5"/>
              <a:endCxn id="880" idx="0"/>
            </p:cNvCxnSpPr>
            <p:nvPr/>
          </p:nvCxnSpPr>
          <p:spPr>
            <a:xfrm>
              <a:off x="4879440" y="3430440"/>
              <a:ext cx="994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AutoShape 33"/>
            <p:cNvCxnSpPr>
              <a:stCxn id="880" idx="5"/>
              <a:endCxn id="877" idx="0"/>
            </p:cNvCxnSpPr>
            <p:nvPr/>
          </p:nvCxnSpPr>
          <p:spPr>
            <a:xfrm>
              <a:off x="6049800" y="4243320"/>
              <a:ext cx="3722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AutoShape 34"/>
            <p:cNvCxnSpPr>
              <a:stCxn id="881" idx="3"/>
              <a:endCxn id="879" idx="0"/>
            </p:cNvCxnSpPr>
            <p:nvPr/>
          </p:nvCxnSpPr>
          <p:spPr>
            <a:xfrm flipH="1">
              <a:off x="2763360" y="4243320"/>
              <a:ext cx="5868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7" name="AutoShape 35"/>
            <p:cNvCxnSpPr>
              <a:stCxn id="881" idx="5"/>
              <a:endCxn id="878" idx="0"/>
            </p:cNvCxnSpPr>
            <p:nvPr/>
          </p:nvCxnSpPr>
          <p:spPr>
            <a:xfrm>
              <a:off x="3700440" y="4243320"/>
              <a:ext cx="3960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8" name="Oval 36"/>
            <p:cNvSpPr/>
            <p:nvPr/>
          </p:nvSpPr>
          <p:spPr>
            <a:xfrm>
              <a:off x="213372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7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9" name="AutoShape 37"/>
            <p:cNvCxnSpPr>
              <a:stCxn id="879" idx="3"/>
              <a:endCxn id="888" idx="0"/>
            </p:cNvCxnSpPr>
            <p:nvPr/>
          </p:nvCxnSpPr>
          <p:spPr>
            <a:xfrm flipH="1">
              <a:off x="2364840" y="5054760"/>
              <a:ext cx="2232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0" name="Oval 38"/>
            <p:cNvSpPr/>
            <p:nvPr/>
          </p:nvSpPr>
          <p:spPr>
            <a:xfrm>
              <a:off x="2895480" y="5407200"/>
              <a:ext cx="46224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1" name="AutoShape 39"/>
            <p:cNvCxnSpPr>
              <a:stCxn id="879" idx="5"/>
              <a:endCxn id="890" idx="0"/>
            </p:cNvCxnSpPr>
            <p:nvPr/>
          </p:nvCxnSpPr>
          <p:spPr>
            <a:xfrm>
              <a:off x="2940120" y="5054760"/>
              <a:ext cx="187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Oval 40"/>
            <p:cNvSpPr/>
            <p:nvPr/>
          </p:nvSpPr>
          <p:spPr>
            <a:xfrm>
              <a:off x="510552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3" name="AutoShape 41"/>
            <p:cNvCxnSpPr>
              <a:stCxn id="880" idx="3"/>
              <a:endCxn id="892" idx="0"/>
            </p:cNvCxnSpPr>
            <p:nvPr/>
          </p:nvCxnSpPr>
          <p:spPr>
            <a:xfrm flipH="1">
              <a:off x="5354280" y="4243320"/>
              <a:ext cx="3434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4" name="AutoShape 37"/>
            <p:cNvCxnSpPr>
              <a:stCxn id="878" idx="3"/>
              <a:endCxn id="895" idx="0"/>
            </p:cNvCxnSpPr>
            <p:nvPr/>
          </p:nvCxnSpPr>
          <p:spPr>
            <a:xfrm flipH="1">
              <a:off x="3774600" y="5054400"/>
              <a:ext cx="145440" cy="30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5" name="Oval 26"/>
            <p:cNvSpPr/>
            <p:nvPr/>
          </p:nvSpPr>
          <p:spPr>
            <a:xfrm>
              <a:off x="3525840" y="5383080"/>
              <a:ext cx="496800" cy="516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6" name="AutoShape 39"/>
            <p:cNvCxnSpPr>
              <a:stCxn id="878" idx="5"/>
              <a:endCxn id="897" idx="0"/>
            </p:cNvCxnSpPr>
            <p:nvPr/>
          </p:nvCxnSpPr>
          <p:spPr>
            <a:xfrm>
              <a:off x="4270320" y="5054760"/>
              <a:ext cx="224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7" name="Oval 38"/>
            <p:cNvSpPr/>
            <p:nvPr/>
          </p:nvSpPr>
          <p:spPr>
            <a:xfrm>
              <a:off x="426240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8" name="AutoShape 37"/>
            <p:cNvCxnSpPr>
              <a:stCxn id="892" idx="5"/>
              <a:endCxn id="899" idx="0"/>
            </p:cNvCxnSpPr>
            <p:nvPr/>
          </p:nvCxnSpPr>
          <p:spPr>
            <a:xfrm>
              <a:off x="5529240" y="5054760"/>
              <a:ext cx="18504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9" name="Oval 38"/>
            <p:cNvSpPr/>
            <p:nvPr/>
          </p:nvSpPr>
          <p:spPr>
            <a:xfrm>
              <a:off x="5481720" y="5438880"/>
              <a:ext cx="461880" cy="460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eek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ek on a min-heap is trivial to perfor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ause of heap properties, minimum element is always the ro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1) run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k on a max-heap would be O(1) as well (return max, not m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59260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418608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2971800" y="4788000"/>
            <a:ext cx="46188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7"/>
          <p:cNvSpPr/>
          <p:nvPr/>
        </p:nvSpPr>
        <p:spPr>
          <a:xfrm>
            <a:off x="5257800" y="4032360"/>
            <a:ext cx="46188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8"/>
          <p:cNvSpPr/>
          <p:nvPr/>
        </p:nvSpPr>
        <p:spPr>
          <a:xfrm>
            <a:off x="3657600" y="4032360"/>
            <a:ext cx="4604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9"/>
          <p:cNvSpPr/>
          <p:nvPr/>
        </p:nvSpPr>
        <p:spPr>
          <a:xfrm>
            <a:off x="4406760" y="3276720"/>
            <a:ext cx="4604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8" name="AutoShape 10"/>
          <p:cNvCxnSpPr>
            <a:stCxn id="907" idx="3"/>
            <a:endCxn id="906" idx="0"/>
          </p:cNvCxnSpPr>
          <p:nvPr/>
        </p:nvCxnSpPr>
        <p:spPr>
          <a:xfrm flipH="1">
            <a:off x="3887280" y="3706560"/>
            <a:ext cx="58680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9" name="AutoShape 11"/>
          <p:cNvCxnSpPr>
            <a:stCxn id="907" idx="5"/>
            <a:endCxn id="905" idx="0"/>
          </p:cNvCxnSpPr>
          <p:nvPr/>
        </p:nvCxnSpPr>
        <p:spPr>
          <a:xfrm>
            <a:off x="4800600" y="3706560"/>
            <a:ext cx="6897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0" name="AutoShape 12"/>
          <p:cNvCxnSpPr>
            <a:stCxn id="905" idx="5"/>
            <a:endCxn id="902" idx="0"/>
          </p:cNvCxnSpPr>
          <p:nvPr/>
        </p:nvCxnSpPr>
        <p:spPr>
          <a:xfrm>
            <a:off x="5651640" y="4462200"/>
            <a:ext cx="1735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1" name="AutoShape 13"/>
          <p:cNvCxnSpPr>
            <a:stCxn id="906" idx="3"/>
            <a:endCxn id="904" idx="0"/>
          </p:cNvCxnSpPr>
          <p:nvPr/>
        </p:nvCxnSpPr>
        <p:spPr>
          <a:xfrm flipH="1">
            <a:off x="3203280" y="4462200"/>
            <a:ext cx="5212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2" name="AutoShape 14"/>
          <p:cNvCxnSpPr>
            <a:stCxn id="906" idx="5"/>
            <a:endCxn id="903" idx="0"/>
          </p:cNvCxnSpPr>
          <p:nvPr/>
        </p:nvCxnSpPr>
        <p:spPr>
          <a:xfrm>
            <a:off x="4051440" y="4462200"/>
            <a:ext cx="36720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3" name="Oval 15"/>
          <p:cNvSpPr/>
          <p:nvPr/>
        </p:nvSpPr>
        <p:spPr>
          <a:xfrm>
            <a:off x="2625840" y="5545080"/>
            <a:ext cx="42840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AutoShape 16"/>
          <p:cNvCxnSpPr>
            <a:stCxn id="904" idx="3"/>
            <a:endCxn id="913" idx="0"/>
          </p:cNvCxnSpPr>
          <p:nvPr/>
        </p:nvCxnSpPr>
        <p:spPr>
          <a:xfrm flipH="1">
            <a:off x="2839680" y="5217840"/>
            <a:ext cx="20088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5" name="Oval 17"/>
          <p:cNvSpPr/>
          <p:nvPr/>
        </p:nvSpPr>
        <p:spPr>
          <a:xfrm>
            <a:off x="3351240" y="5545080"/>
            <a:ext cx="42876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6" name="AutoShape 18"/>
          <p:cNvCxnSpPr>
            <a:stCxn id="904" idx="5"/>
            <a:endCxn id="915" idx="0"/>
          </p:cNvCxnSpPr>
          <p:nvPr/>
        </p:nvCxnSpPr>
        <p:spPr>
          <a:xfrm>
            <a:off x="3365280" y="5217840"/>
            <a:ext cx="20052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7" name="Oval 19"/>
          <p:cNvSpPr/>
          <p:nvPr/>
        </p:nvSpPr>
        <p:spPr>
          <a:xfrm>
            <a:off x="493380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8" name="AutoShape 20"/>
          <p:cNvCxnSpPr>
            <a:stCxn id="905" idx="3"/>
            <a:endCxn id="917" idx="0"/>
          </p:cNvCxnSpPr>
          <p:nvPr/>
        </p:nvCxnSpPr>
        <p:spPr>
          <a:xfrm flipH="1">
            <a:off x="5165280" y="4462200"/>
            <a:ext cx="1612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Oval 21"/>
          <p:cNvSpPr/>
          <p:nvPr/>
        </p:nvSpPr>
        <p:spPr>
          <a:xfrm>
            <a:off x="3944880" y="5545080"/>
            <a:ext cx="42876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0" name="AutoShape 22"/>
          <p:cNvCxnSpPr>
            <a:stCxn id="903" idx="3"/>
            <a:endCxn id="919" idx="0"/>
          </p:cNvCxnSpPr>
          <p:nvPr/>
        </p:nvCxnSpPr>
        <p:spPr>
          <a:xfrm flipH="1">
            <a:off x="4158360" y="5217840"/>
            <a:ext cx="9612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removed from a heap, what should we d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The root is the node to remove.  How do we alter the tr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Oval 4"/>
          <p:cNvSpPr/>
          <p:nvPr/>
        </p:nvSpPr>
        <p:spPr>
          <a:xfrm>
            <a:off x="571500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5"/>
          <p:cNvSpPr/>
          <p:nvPr/>
        </p:nvSpPr>
        <p:spPr>
          <a:xfrm>
            <a:off x="40384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6"/>
          <p:cNvSpPr/>
          <p:nvPr/>
        </p:nvSpPr>
        <p:spPr>
          <a:xfrm>
            <a:off x="26668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51814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8"/>
          <p:cNvSpPr/>
          <p:nvPr/>
        </p:nvSpPr>
        <p:spPr>
          <a:xfrm>
            <a:off x="33526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9"/>
          <p:cNvSpPr/>
          <p:nvPr/>
        </p:nvSpPr>
        <p:spPr>
          <a:xfrm>
            <a:off x="4343400" y="2857680"/>
            <a:ext cx="533520" cy="5331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AutoShape 10"/>
          <p:cNvCxnSpPr>
            <a:stCxn id="928" idx="3"/>
            <a:endCxn id="927" idx="0"/>
          </p:cNvCxnSpPr>
          <p:nvPr/>
        </p:nvCxnSpPr>
        <p:spPr>
          <a:xfrm flipH="1">
            <a:off x="3618720" y="333180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AutoShape 11"/>
          <p:cNvCxnSpPr>
            <a:stCxn id="928" idx="5"/>
            <a:endCxn id="926" idx="0"/>
          </p:cNvCxnSpPr>
          <p:nvPr/>
        </p:nvCxnSpPr>
        <p:spPr>
          <a:xfrm>
            <a:off x="4798800" y="333180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AutoShape 12"/>
          <p:cNvCxnSpPr>
            <a:stCxn id="926" idx="5"/>
            <a:endCxn id="923" idx="0"/>
          </p:cNvCxnSpPr>
          <p:nvPr/>
        </p:nvCxnSpPr>
        <p:spPr>
          <a:xfrm>
            <a:off x="5636880" y="416988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2" name="AutoShape 13"/>
          <p:cNvCxnSpPr>
            <a:stCxn id="927" idx="3"/>
            <a:endCxn id="925" idx="0"/>
          </p:cNvCxnSpPr>
          <p:nvPr/>
        </p:nvCxnSpPr>
        <p:spPr>
          <a:xfrm flipH="1">
            <a:off x="293328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3" name="AutoShape 14"/>
          <p:cNvCxnSpPr>
            <a:stCxn id="927" idx="5"/>
            <a:endCxn id="924" idx="0"/>
          </p:cNvCxnSpPr>
          <p:nvPr/>
        </p:nvCxnSpPr>
        <p:spPr>
          <a:xfrm>
            <a:off x="380844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4" name="Oval 15"/>
          <p:cNvSpPr/>
          <p:nvPr/>
        </p:nvSpPr>
        <p:spPr>
          <a:xfrm>
            <a:off x="228600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AutoShape 16"/>
          <p:cNvCxnSpPr>
            <a:stCxn id="925" idx="3"/>
            <a:endCxn id="934" idx="0"/>
          </p:cNvCxnSpPr>
          <p:nvPr/>
        </p:nvCxnSpPr>
        <p:spPr>
          <a:xfrm flipH="1">
            <a:off x="2533320" y="500832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6" name="Oval 17"/>
          <p:cNvSpPr/>
          <p:nvPr/>
        </p:nvSpPr>
        <p:spPr>
          <a:xfrm>
            <a:off x="31240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7" name="AutoShape 18"/>
          <p:cNvCxnSpPr>
            <a:stCxn id="925" idx="5"/>
            <a:endCxn id="936" idx="0"/>
          </p:cNvCxnSpPr>
          <p:nvPr/>
        </p:nvCxnSpPr>
        <p:spPr>
          <a:xfrm>
            <a:off x="3122640" y="500832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8" name="Oval 19"/>
          <p:cNvSpPr/>
          <p:nvPr/>
        </p:nvSpPr>
        <p:spPr>
          <a:xfrm>
            <a:off x="4876920" y="453384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9" name="AutoShape 20"/>
          <p:cNvCxnSpPr>
            <a:stCxn id="926" idx="3"/>
            <a:endCxn id="938" idx="0"/>
          </p:cNvCxnSpPr>
          <p:nvPr/>
        </p:nvCxnSpPr>
        <p:spPr>
          <a:xfrm flipH="1">
            <a:off x="5142960" y="4169880"/>
            <a:ext cx="116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0" name="Oval 21"/>
          <p:cNvSpPr/>
          <p:nvPr/>
        </p:nvSpPr>
        <p:spPr>
          <a:xfrm>
            <a:off x="38098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1" name="AutoShape 22"/>
          <p:cNvCxnSpPr>
            <a:stCxn id="924" idx="3"/>
            <a:endCxn id="940" idx="0"/>
          </p:cNvCxnSpPr>
          <p:nvPr/>
        </p:nvCxnSpPr>
        <p:spPr>
          <a:xfrm flipH="1">
            <a:off x="4056840" y="500832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root is removed from a heap, it should be initially replaced b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most 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o maintain completene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heap ordering property becomes broke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Oval 4"/>
          <p:cNvSpPr/>
          <p:nvPr/>
        </p:nvSpPr>
        <p:spPr>
          <a:xfrm>
            <a:off x="3733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5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685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7"/>
          <p:cNvSpPr/>
          <p:nvPr/>
        </p:nvSpPr>
        <p:spPr>
          <a:xfrm>
            <a:off x="3352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8"/>
          <p:cNvSpPr/>
          <p:nvPr/>
        </p:nvSpPr>
        <p:spPr>
          <a:xfrm>
            <a:off x="1447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9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0" name="AutoShape 10"/>
          <p:cNvCxnSpPr>
            <a:stCxn id="949" idx="3"/>
            <a:endCxn id="948" idx="0"/>
          </p:cNvCxnSpPr>
          <p:nvPr/>
        </p:nvCxnSpPr>
        <p:spPr>
          <a:xfrm flipH="1">
            <a:off x="1713960" y="3525840"/>
            <a:ext cx="7261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1" name="AutoShape 11"/>
          <p:cNvCxnSpPr>
            <a:stCxn id="949" idx="5"/>
            <a:endCxn id="947" idx="0"/>
          </p:cNvCxnSpPr>
          <p:nvPr/>
        </p:nvCxnSpPr>
        <p:spPr>
          <a:xfrm>
            <a:off x="2817360" y="3525840"/>
            <a:ext cx="80244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2" name="AutoShape 12"/>
          <p:cNvCxnSpPr>
            <a:stCxn id="947" idx="5"/>
            <a:endCxn id="944" idx="0"/>
          </p:cNvCxnSpPr>
          <p:nvPr/>
        </p:nvCxnSpPr>
        <p:spPr>
          <a:xfrm>
            <a:off x="3808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AutoShape 13"/>
          <p:cNvCxnSpPr>
            <a:stCxn id="948" idx="3"/>
            <a:endCxn id="946" idx="0"/>
          </p:cNvCxnSpPr>
          <p:nvPr/>
        </p:nvCxnSpPr>
        <p:spPr>
          <a:xfrm flipH="1">
            <a:off x="952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4" name="AutoShape 14"/>
          <p:cNvCxnSpPr>
            <a:stCxn id="948" idx="5"/>
            <a:endCxn id="945" idx="0"/>
          </p:cNvCxnSpPr>
          <p:nvPr/>
        </p:nvCxnSpPr>
        <p:spPr>
          <a:xfrm>
            <a:off x="1902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5" name="Oval 15"/>
          <p:cNvSpPr/>
          <p:nvPr/>
        </p:nvSpPr>
        <p:spPr>
          <a:xfrm>
            <a:off x="304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6" name="AutoShape 16"/>
          <p:cNvCxnSpPr>
            <a:stCxn id="946" idx="3"/>
            <a:endCxn id="955" idx="0"/>
          </p:cNvCxnSpPr>
          <p:nvPr/>
        </p:nvCxnSpPr>
        <p:spPr>
          <a:xfrm flipH="1">
            <a:off x="552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Oval 17"/>
          <p:cNvSpPr/>
          <p:nvPr/>
        </p:nvSpPr>
        <p:spPr>
          <a:xfrm>
            <a:off x="1143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8" name="AutoShape 18"/>
          <p:cNvCxnSpPr>
            <a:stCxn id="946" idx="5"/>
            <a:endCxn id="957" idx="0"/>
          </p:cNvCxnSpPr>
          <p:nvPr/>
        </p:nvCxnSpPr>
        <p:spPr>
          <a:xfrm>
            <a:off x="1141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9" name="Oval 19"/>
          <p:cNvSpPr/>
          <p:nvPr/>
        </p:nvSpPr>
        <p:spPr>
          <a:xfrm>
            <a:off x="2971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0" name="AutoShape 20"/>
          <p:cNvCxnSpPr>
            <a:stCxn id="947" idx="3"/>
            <a:endCxn id="959" idx="0"/>
          </p:cNvCxnSpPr>
          <p:nvPr/>
        </p:nvCxnSpPr>
        <p:spPr>
          <a:xfrm flipH="1">
            <a:off x="3237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1" name="Oval 21"/>
          <p:cNvSpPr/>
          <p:nvPr/>
        </p:nvSpPr>
        <p:spPr>
          <a:xfrm>
            <a:off x="18288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2" name="AutoShape 22"/>
          <p:cNvCxnSpPr>
            <a:stCxn id="945" idx="3"/>
            <a:endCxn id="961" idx="0"/>
          </p:cNvCxnSpPr>
          <p:nvPr/>
        </p:nvCxnSpPr>
        <p:spPr>
          <a:xfrm flipH="1">
            <a:off x="2075760" y="519876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Line 23"/>
          <p:cNvSpPr/>
          <p:nvPr/>
        </p:nvSpPr>
        <p:spPr>
          <a:xfrm>
            <a:off x="213372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4"/>
          <p:cNvSpPr/>
          <p:nvPr/>
        </p:nvSpPr>
        <p:spPr>
          <a:xfrm flipH="1">
            <a:off x="220968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25"/>
          <p:cNvSpPr/>
          <p:nvPr/>
        </p:nvSpPr>
        <p:spPr>
          <a:xfrm>
            <a:off x="8305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26"/>
          <p:cNvSpPr/>
          <p:nvPr/>
        </p:nvSpPr>
        <p:spPr>
          <a:xfrm>
            <a:off x="6629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27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28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29"/>
          <p:cNvSpPr/>
          <p:nvPr/>
        </p:nvSpPr>
        <p:spPr>
          <a:xfrm>
            <a:off x="6019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30"/>
          <p:cNvSpPr/>
          <p:nvPr/>
        </p:nvSpPr>
        <p:spPr>
          <a:xfrm>
            <a:off x="69343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1" name="AutoShape 31"/>
          <p:cNvCxnSpPr>
            <a:stCxn id="970" idx="3"/>
            <a:endCxn id="969" idx="0"/>
          </p:cNvCxnSpPr>
          <p:nvPr/>
        </p:nvCxnSpPr>
        <p:spPr>
          <a:xfrm flipH="1">
            <a:off x="6285960" y="3522240"/>
            <a:ext cx="72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2" name="AutoShape 32"/>
          <p:cNvCxnSpPr>
            <a:stCxn id="970" idx="5"/>
            <a:endCxn id="968" idx="0"/>
          </p:cNvCxnSpPr>
          <p:nvPr/>
        </p:nvCxnSpPr>
        <p:spPr>
          <a:xfrm>
            <a:off x="7389360" y="35222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3" name="AutoShape 33"/>
          <p:cNvCxnSpPr>
            <a:stCxn id="968" idx="5"/>
            <a:endCxn id="965" idx="0"/>
          </p:cNvCxnSpPr>
          <p:nvPr/>
        </p:nvCxnSpPr>
        <p:spPr>
          <a:xfrm>
            <a:off x="8380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4" name="AutoShape 34"/>
          <p:cNvCxnSpPr>
            <a:stCxn id="969" idx="3"/>
            <a:endCxn id="967" idx="0"/>
          </p:cNvCxnSpPr>
          <p:nvPr/>
        </p:nvCxnSpPr>
        <p:spPr>
          <a:xfrm flipH="1">
            <a:off x="5524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5" name="AutoShape 35"/>
          <p:cNvCxnSpPr>
            <a:stCxn id="969" idx="5"/>
            <a:endCxn id="966" idx="0"/>
          </p:cNvCxnSpPr>
          <p:nvPr/>
        </p:nvCxnSpPr>
        <p:spPr>
          <a:xfrm>
            <a:off x="6474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6" name="Oval 36"/>
          <p:cNvSpPr/>
          <p:nvPr/>
        </p:nvSpPr>
        <p:spPr>
          <a:xfrm>
            <a:off x="4876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7" name="AutoShape 37"/>
          <p:cNvCxnSpPr>
            <a:stCxn id="967" idx="3"/>
            <a:endCxn id="976" idx="0"/>
          </p:cNvCxnSpPr>
          <p:nvPr/>
        </p:nvCxnSpPr>
        <p:spPr>
          <a:xfrm flipH="1">
            <a:off x="5124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8" name="Oval 38"/>
          <p:cNvSpPr/>
          <p:nvPr/>
        </p:nvSpPr>
        <p:spPr>
          <a:xfrm>
            <a:off x="5715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9" name="AutoShape 39"/>
          <p:cNvCxnSpPr>
            <a:stCxn id="967" idx="5"/>
            <a:endCxn id="978" idx="0"/>
          </p:cNvCxnSpPr>
          <p:nvPr/>
        </p:nvCxnSpPr>
        <p:spPr>
          <a:xfrm>
            <a:off x="5713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0" name="Oval 40"/>
          <p:cNvSpPr/>
          <p:nvPr/>
        </p:nvSpPr>
        <p:spPr>
          <a:xfrm>
            <a:off x="7543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1" name="AutoShape 41"/>
          <p:cNvCxnSpPr>
            <a:stCxn id="968" idx="3"/>
            <a:endCxn id="980" idx="0"/>
          </p:cNvCxnSpPr>
          <p:nvPr/>
        </p:nvCxnSpPr>
        <p:spPr>
          <a:xfrm flipH="1">
            <a:off x="7809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2" name="Oval 42"/>
          <p:cNvSpPr/>
          <p:nvPr/>
        </p:nvSpPr>
        <p:spPr>
          <a:xfrm>
            <a:off x="6400800" y="5562720"/>
            <a:ext cx="495360" cy="49536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3" name="AutoShape 43"/>
          <p:cNvCxnSpPr>
            <a:stCxn id="966" idx="3"/>
            <a:endCxn id="982" idx="0"/>
          </p:cNvCxnSpPr>
          <p:nvPr/>
        </p:nvCxnSpPr>
        <p:spPr>
          <a:xfrm flipH="1">
            <a:off x="6647760" y="5198760"/>
            <a:ext cx="59400" cy="345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ubbling down" a n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store heap ordering, the new improper root is shifted ("bubbled") down the tree until it reaches its prope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is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percolate down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swapping with its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small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ild  (why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bubble-down are necessary, at mo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Oval 4"/>
          <p:cNvSpPr/>
          <p:nvPr/>
        </p:nvSpPr>
        <p:spPr>
          <a:xfrm>
            <a:off x="37339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0574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6"/>
          <p:cNvSpPr/>
          <p:nvPr/>
        </p:nvSpPr>
        <p:spPr>
          <a:xfrm>
            <a:off x="7621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7"/>
          <p:cNvSpPr/>
          <p:nvPr/>
        </p:nvSpPr>
        <p:spPr>
          <a:xfrm>
            <a:off x="33526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15238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9"/>
          <p:cNvSpPr/>
          <p:nvPr/>
        </p:nvSpPr>
        <p:spPr>
          <a:xfrm>
            <a:off x="2362320" y="32767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2" name="AutoShape 10"/>
          <p:cNvCxnSpPr>
            <a:stCxn id="991" idx="3"/>
            <a:endCxn id="990" idx="0"/>
          </p:cNvCxnSpPr>
          <p:nvPr/>
        </p:nvCxnSpPr>
        <p:spPr>
          <a:xfrm flipH="1">
            <a:off x="1790280" y="3750840"/>
            <a:ext cx="6501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3" name="AutoShape 11"/>
          <p:cNvCxnSpPr>
            <a:stCxn id="991" idx="5"/>
            <a:endCxn id="989" idx="0"/>
          </p:cNvCxnSpPr>
          <p:nvPr/>
        </p:nvCxnSpPr>
        <p:spPr>
          <a:xfrm>
            <a:off x="2817360" y="37508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4" name="AutoShape 12"/>
          <p:cNvCxnSpPr>
            <a:stCxn id="989" idx="5"/>
            <a:endCxn id="986" idx="0"/>
          </p:cNvCxnSpPr>
          <p:nvPr/>
        </p:nvCxnSpPr>
        <p:spPr>
          <a:xfrm>
            <a:off x="3808440" y="45896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5" name="AutoShape 13"/>
          <p:cNvCxnSpPr>
            <a:stCxn id="990" idx="3"/>
            <a:endCxn id="988" idx="0"/>
          </p:cNvCxnSpPr>
          <p:nvPr/>
        </p:nvCxnSpPr>
        <p:spPr>
          <a:xfrm flipH="1">
            <a:off x="1028160" y="4589640"/>
            <a:ext cx="5734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6" name="AutoShape 14"/>
          <p:cNvCxnSpPr>
            <a:stCxn id="990" idx="5"/>
            <a:endCxn id="987" idx="0"/>
          </p:cNvCxnSpPr>
          <p:nvPr/>
        </p:nvCxnSpPr>
        <p:spPr>
          <a:xfrm>
            <a:off x="1979280" y="4589640"/>
            <a:ext cx="3452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7" name="Oval 15"/>
          <p:cNvSpPr/>
          <p:nvPr/>
        </p:nvSpPr>
        <p:spPr>
          <a:xfrm>
            <a:off x="30492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8" name="AutoShape 16"/>
          <p:cNvCxnSpPr>
            <a:stCxn id="988" idx="3"/>
            <a:endCxn id="997" idx="0"/>
          </p:cNvCxnSpPr>
          <p:nvPr/>
        </p:nvCxnSpPr>
        <p:spPr>
          <a:xfrm flipH="1">
            <a:off x="552240" y="54273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9" name="Oval 17"/>
          <p:cNvSpPr/>
          <p:nvPr/>
        </p:nvSpPr>
        <p:spPr>
          <a:xfrm>
            <a:off x="114300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0" name="AutoShape 18"/>
          <p:cNvCxnSpPr>
            <a:stCxn id="988" idx="5"/>
            <a:endCxn id="999" idx="0"/>
          </p:cNvCxnSpPr>
          <p:nvPr/>
        </p:nvCxnSpPr>
        <p:spPr>
          <a:xfrm>
            <a:off x="1217160" y="542736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1" name="Oval 19"/>
          <p:cNvSpPr/>
          <p:nvPr/>
        </p:nvSpPr>
        <p:spPr>
          <a:xfrm>
            <a:off x="29718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2" name="AutoShape 20"/>
          <p:cNvCxnSpPr>
            <a:stCxn id="989" idx="3"/>
            <a:endCxn id="1001" idx="0"/>
          </p:cNvCxnSpPr>
          <p:nvPr/>
        </p:nvCxnSpPr>
        <p:spPr>
          <a:xfrm flipH="1">
            <a:off x="3237840" y="45896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3" name="Oval 21"/>
          <p:cNvSpPr/>
          <p:nvPr/>
        </p:nvSpPr>
        <p:spPr>
          <a:xfrm>
            <a:off x="83059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22"/>
          <p:cNvSpPr/>
          <p:nvPr/>
        </p:nvSpPr>
        <p:spPr>
          <a:xfrm>
            <a:off x="66294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val 23"/>
          <p:cNvSpPr/>
          <p:nvPr/>
        </p:nvSpPr>
        <p:spPr>
          <a:xfrm>
            <a:off x="53341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Oval 24"/>
          <p:cNvSpPr/>
          <p:nvPr/>
        </p:nvSpPr>
        <p:spPr>
          <a:xfrm>
            <a:off x="79246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25"/>
          <p:cNvSpPr/>
          <p:nvPr/>
        </p:nvSpPr>
        <p:spPr>
          <a:xfrm>
            <a:off x="60958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26"/>
          <p:cNvSpPr/>
          <p:nvPr/>
        </p:nvSpPr>
        <p:spPr>
          <a:xfrm>
            <a:off x="6934320" y="32767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9" name="AutoShape 27"/>
          <p:cNvCxnSpPr>
            <a:stCxn id="1008" idx="3"/>
            <a:endCxn id="1007" idx="0"/>
          </p:cNvCxnSpPr>
          <p:nvPr/>
        </p:nvCxnSpPr>
        <p:spPr>
          <a:xfrm flipH="1">
            <a:off x="6362280" y="3750840"/>
            <a:ext cx="6501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0" name="AutoShape 28"/>
          <p:cNvCxnSpPr>
            <a:stCxn id="1008" idx="5"/>
            <a:endCxn id="1006" idx="0"/>
          </p:cNvCxnSpPr>
          <p:nvPr/>
        </p:nvCxnSpPr>
        <p:spPr>
          <a:xfrm>
            <a:off x="7389360" y="37508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1" name="AutoShape 29"/>
          <p:cNvCxnSpPr>
            <a:stCxn id="1006" idx="5"/>
            <a:endCxn id="1003" idx="0"/>
          </p:cNvCxnSpPr>
          <p:nvPr/>
        </p:nvCxnSpPr>
        <p:spPr>
          <a:xfrm>
            <a:off x="8380440" y="45896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2" name="AutoShape 30"/>
          <p:cNvCxnSpPr>
            <a:stCxn id="1007" idx="3"/>
            <a:endCxn id="1005" idx="0"/>
          </p:cNvCxnSpPr>
          <p:nvPr/>
        </p:nvCxnSpPr>
        <p:spPr>
          <a:xfrm flipH="1">
            <a:off x="5600160" y="4589640"/>
            <a:ext cx="5734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3" name="AutoShape 31"/>
          <p:cNvCxnSpPr>
            <a:stCxn id="1007" idx="5"/>
            <a:endCxn id="1004" idx="0"/>
          </p:cNvCxnSpPr>
          <p:nvPr/>
        </p:nvCxnSpPr>
        <p:spPr>
          <a:xfrm>
            <a:off x="6551280" y="4589640"/>
            <a:ext cx="3452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4" name="Oval 32"/>
          <p:cNvSpPr/>
          <p:nvPr/>
        </p:nvSpPr>
        <p:spPr>
          <a:xfrm>
            <a:off x="487692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5" name="AutoShape 33"/>
          <p:cNvCxnSpPr>
            <a:stCxn id="1005" idx="3"/>
            <a:endCxn id="1014" idx="0"/>
          </p:cNvCxnSpPr>
          <p:nvPr/>
        </p:nvCxnSpPr>
        <p:spPr>
          <a:xfrm flipH="1">
            <a:off x="5124240" y="54273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6" name="Oval 34"/>
          <p:cNvSpPr/>
          <p:nvPr/>
        </p:nvSpPr>
        <p:spPr>
          <a:xfrm>
            <a:off x="571500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7" name="AutoShape 35"/>
          <p:cNvCxnSpPr>
            <a:stCxn id="1005" idx="5"/>
            <a:endCxn id="1016" idx="0"/>
          </p:cNvCxnSpPr>
          <p:nvPr/>
        </p:nvCxnSpPr>
        <p:spPr>
          <a:xfrm>
            <a:off x="5789160" y="542736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8" name="Oval 36"/>
          <p:cNvSpPr/>
          <p:nvPr/>
        </p:nvSpPr>
        <p:spPr>
          <a:xfrm>
            <a:off x="75438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9" name="AutoShape 37"/>
          <p:cNvCxnSpPr>
            <a:stCxn id="1006" idx="3"/>
            <a:endCxn id="1018" idx="0"/>
          </p:cNvCxnSpPr>
          <p:nvPr/>
        </p:nvCxnSpPr>
        <p:spPr>
          <a:xfrm flipH="1">
            <a:off x="7809840" y="45896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0" name="AutoShape 38"/>
          <p:cNvSpPr/>
          <p:nvPr/>
        </p:nvSpPr>
        <p:spPr>
          <a:xfrm flipH="1" flipV="1">
            <a:off x="2133000" y="3885480"/>
            <a:ext cx="53316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39"/>
          <p:cNvSpPr/>
          <p:nvPr/>
        </p:nvSpPr>
        <p:spPr>
          <a:xfrm flipH="1" flipV="1">
            <a:off x="1371600" y="4723560"/>
            <a:ext cx="5335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40"/>
          <p:cNvSpPr/>
          <p:nvPr/>
        </p:nvSpPr>
        <p:spPr>
          <a:xfrm flipV="1">
            <a:off x="914400" y="5485680"/>
            <a:ext cx="22860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bble-down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min-heap shown below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the state of the heap tree after remove has been called 3 times, and which elements are returned by the remov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133720" y="2971800"/>
            <a:ext cx="4535280" cy="2927520"/>
            <a:chOff x="2133720" y="2971800"/>
            <a:chExt cx="4535280" cy="2927520"/>
          </a:xfrm>
        </p:grpSpPr>
        <p:sp>
          <p:nvSpPr>
            <p:cNvPr id="1026" name="Oval 25"/>
            <p:cNvSpPr/>
            <p:nvPr/>
          </p:nvSpPr>
          <p:spPr>
            <a:xfrm>
              <a:off x="61722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26"/>
            <p:cNvSpPr/>
            <p:nvPr/>
          </p:nvSpPr>
          <p:spPr>
            <a:xfrm>
              <a:off x="38466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27"/>
            <p:cNvSpPr/>
            <p:nvPr/>
          </p:nvSpPr>
          <p:spPr>
            <a:xfrm>
              <a:off x="2514600" y="4595760"/>
              <a:ext cx="4986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28"/>
            <p:cNvSpPr/>
            <p:nvPr/>
          </p:nvSpPr>
          <p:spPr>
            <a:xfrm>
              <a:off x="5624640" y="3782880"/>
              <a:ext cx="49824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29"/>
            <p:cNvSpPr/>
            <p:nvPr/>
          </p:nvSpPr>
          <p:spPr>
            <a:xfrm>
              <a:off x="3276720" y="3782880"/>
              <a:ext cx="49680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30"/>
            <p:cNvSpPr/>
            <p:nvPr/>
          </p:nvSpPr>
          <p:spPr>
            <a:xfrm>
              <a:off x="4456080" y="297180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2" name="AutoShape 31"/>
            <p:cNvCxnSpPr>
              <a:stCxn id="1031" idx="3"/>
              <a:endCxn id="1030" idx="0"/>
            </p:cNvCxnSpPr>
            <p:nvPr/>
          </p:nvCxnSpPr>
          <p:spPr>
            <a:xfrm flipH="1">
              <a:off x="3525480" y="3430440"/>
              <a:ext cx="1003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3" name="AutoShape 32"/>
            <p:cNvCxnSpPr>
              <a:stCxn id="1031" idx="5"/>
              <a:endCxn id="1029" idx="0"/>
            </p:cNvCxnSpPr>
            <p:nvPr/>
          </p:nvCxnSpPr>
          <p:spPr>
            <a:xfrm>
              <a:off x="4879440" y="3430440"/>
              <a:ext cx="994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4" name="AutoShape 33"/>
            <p:cNvCxnSpPr>
              <a:stCxn id="1029" idx="5"/>
              <a:endCxn id="1026" idx="0"/>
            </p:cNvCxnSpPr>
            <p:nvPr/>
          </p:nvCxnSpPr>
          <p:spPr>
            <a:xfrm>
              <a:off x="6049800" y="4243320"/>
              <a:ext cx="3722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5" name="AutoShape 34"/>
            <p:cNvCxnSpPr>
              <a:stCxn id="1030" idx="3"/>
              <a:endCxn id="1028" idx="0"/>
            </p:cNvCxnSpPr>
            <p:nvPr/>
          </p:nvCxnSpPr>
          <p:spPr>
            <a:xfrm flipH="1">
              <a:off x="2763360" y="4243320"/>
              <a:ext cx="5868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6" name="AutoShape 35"/>
            <p:cNvCxnSpPr>
              <a:stCxn id="1030" idx="5"/>
              <a:endCxn id="1027" idx="0"/>
            </p:cNvCxnSpPr>
            <p:nvPr/>
          </p:nvCxnSpPr>
          <p:spPr>
            <a:xfrm>
              <a:off x="3700440" y="4243320"/>
              <a:ext cx="3960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7" name="Oval 36"/>
            <p:cNvSpPr/>
            <p:nvPr/>
          </p:nvSpPr>
          <p:spPr>
            <a:xfrm>
              <a:off x="213372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7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8" name="AutoShape 37"/>
            <p:cNvCxnSpPr>
              <a:stCxn id="1028" idx="3"/>
              <a:endCxn id="1037" idx="0"/>
            </p:cNvCxnSpPr>
            <p:nvPr/>
          </p:nvCxnSpPr>
          <p:spPr>
            <a:xfrm flipH="1">
              <a:off x="2364840" y="5054760"/>
              <a:ext cx="2232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9" name="Oval 38"/>
            <p:cNvSpPr/>
            <p:nvPr/>
          </p:nvSpPr>
          <p:spPr>
            <a:xfrm>
              <a:off x="2895480" y="5407200"/>
              <a:ext cx="46224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0" name="AutoShape 39"/>
            <p:cNvCxnSpPr>
              <a:stCxn id="1028" idx="5"/>
              <a:endCxn id="1039" idx="0"/>
            </p:cNvCxnSpPr>
            <p:nvPr/>
          </p:nvCxnSpPr>
          <p:spPr>
            <a:xfrm>
              <a:off x="2940120" y="5054760"/>
              <a:ext cx="187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1" name="Oval 40"/>
            <p:cNvSpPr/>
            <p:nvPr/>
          </p:nvSpPr>
          <p:spPr>
            <a:xfrm>
              <a:off x="510552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2" name="AutoShape 41"/>
            <p:cNvCxnSpPr>
              <a:stCxn id="1029" idx="3"/>
              <a:endCxn id="1041" idx="0"/>
            </p:cNvCxnSpPr>
            <p:nvPr/>
          </p:nvCxnSpPr>
          <p:spPr>
            <a:xfrm flipH="1">
              <a:off x="5354280" y="4243320"/>
              <a:ext cx="3434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3" name="AutoShape 37"/>
            <p:cNvCxnSpPr>
              <a:stCxn id="1027" idx="3"/>
              <a:endCxn id="1044" idx="0"/>
            </p:cNvCxnSpPr>
            <p:nvPr/>
          </p:nvCxnSpPr>
          <p:spPr>
            <a:xfrm flipH="1">
              <a:off x="3774600" y="5054400"/>
              <a:ext cx="145440" cy="30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4" name="Oval 26"/>
            <p:cNvSpPr/>
            <p:nvPr/>
          </p:nvSpPr>
          <p:spPr>
            <a:xfrm>
              <a:off x="3525840" y="5383080"/>
              <a:ext cx="496800" cy="516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5" name="AutoShape 39"/>
            <p:cNvCxnSpPr>
              <a:stCxn id="1027" idx="5"/>
              <a:endCxn id="1046" idx="0"/>
            </p:cNvCxnSpPr>
            <p:nvPr/>
          </p:nvCxnSpPr>
          <p:spPr>
            <a:xfrm>
              <a:off x="4270320" y="5054760"/>
              <a:ext cx="224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6" name="Oval 38"/>
            <p:cNvSpPr/>
            <p:nvPr/>
          </p:nvSpPr>
          <p:spPr>
            <a:xfrm>
              <a:off x="426240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7" name="AutoShape 37"/>
            <p:cNvCxnSpPr>
              <a:stCxn id="1041" idx="5"/>
              <a:endCxn id="1048" idx="0"/>
            </p:cNvCxnSpPr>
            <p:nvPr/>
          </p:nvCxnSpPr>
          <p:spPr>
            <a:xfrm>
              <a:off x="5529240" y="5054760"/>
              <a:ext cx="18504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8" name="Oval 38"/>
            <p:cNvSpPr/>
            <p:nvPr/>
          </p:nvSpPr>
          <p:spPr>
            <a:xfrm>
              <a:off x="5481720" y="5438880"/>
              <a:ext cx="461880" cy="460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storing a set in an unfilled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n't really matter what order the elements appear in a set, so long as they can be added and searched quick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ould make a good ordering for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store them in the next available index, as in a list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array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486240" y="40719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eap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ough a heap is conceptually a binary tre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it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ee, when implementing 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ctually can "cheat" and ju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e an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dex of root = 1  (leave 0 empty to simplify the ma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ny nod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left   = 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right = 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 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rray representa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elegant and efficient (O(1)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common tree 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48769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eapPQ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iority queue using a min-heap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IntPriorityQue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ements IntPriorityQueu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eapIntPriorityQueu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lp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we will treat the array as a complete tree/heap, and walk up/down between parents/children, these methods are helpfu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lpers for navigating indexes up/down the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    { return index/2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 { return index*2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{ return index*2 + 1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Par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 return index &gt; 1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Lef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eftChild(index) &lt;=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Righ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ightChild(index) &lt;=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[] a, int index1, int index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emp = a[index1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ndex1] = a[index2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ndex2] = te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the code to add an element to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Oval 4"/>
          <p:cNvSpPr/>
          <p:nvPr/>
        </p:nvSpPr>
        <p:spPr>
          <a:xfrm>
            <a:off x="3733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5"/>
          <p:cNvSpPr/>
          <p:nvPr/>
        </p:nvSpPr>
        <p:spPr>
          <a:xfrm>
            <a:off x="20574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6"/>
          <p:cNvSpPr/>
          <p:nvPr/>
        </p:nvSpPr>
        <p:spPr>
          <a:xfrm>
            <a:off x="762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7"/>
          <p:cNvSpPr/>
          <p:nvPr/>
        </p:nvSpPr>
        <p:spPr>
          <a:xfrm>
            <a:off x="3352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8"/>
          <p:cNvSpPr/>
          <p:nvPr/>
        </p:nvSpPr>
        <p:spPr>
          <a:xfrm>
            <a:off x="1523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9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4" name="AutoShape 10"/>
          <p:cNvCxnSpPr>
            <a:stCxn id="1063" idx="3"/>
            <a:endCxn id="1062" idx="0"/>
          </p:cNvCxnSpPr>
          <p:nvPr/>
        </p:nvCxnSpPr>
        <p:spPr>
          <a:xfrm flipH="1">
            <a:off x="1790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5" name="AutoShape 11"/>
          <p:cNvCxnSpPr>
            <a:stCxn id="1063" idx="5"/>
            <a:endCxn id="1061" idx="0"/>
          </p:cNvCxnSpPr>
          <p:nvPr/>
        </p:nvCxnSpPr>
        <p:spPr>
          <a:xfrm>
            <a:off x="2817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6" name="AutoShape 12"/>
          <p:cNvCxnSpPr>
            <a:stCxn id="1061" idx="5"/>
            <a:endCxn id="1058" idx="0"/>
          </p:cNvCxnSpPr>
          <p:nvPr/>
        </p:nvCxnSpPr>
        <p:spPr>
          <a:xfrm>
            <a:off x="3808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7" name="AutoShape 13"/>
          <p:cNvCxnSpPr>
            <a:stCxn id="1062" idx="3"/>
            <a:endCxn id="1060" idx="0"/>
          </p:cNvCxnSpPr>
          <p:nvPr/>
        </p:nvCxnSpPr>
        <p:spPr>
          <a:xfrm flipH="1">
            <a:off x="1028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8" name="AutoShape 14"/>
          <p:cNvCxnSpPr>
            <a:stCxn id="1062" idx="5"/>
            <a:endCxn id="1059" idx="0"/>
          </p:cNvCxnSpPr>
          <p:nvPr/>
        </p:nvCxnSpPr>
        <p:spPr>
          <a:xfrm>
            <a:off x="1979280" y="451296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9" name="Oval 15"/>
          <p:cNvSpPr/>
          <p:nvPr/>
        </p:nvSpPr>
        <p:spPr>
          <a:xfrm>
            <a:off x="304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0" name="AutoShape 16"/>
          <p:cNvCxnSpPr>
            <a:stCxn id="1060" idx="3"/>
            <a:endCxn id="1069" idx="0"/>
          </p:cNvCxnSpPr>
          <p:nvPr/>
        </p:nvCxnSpPr>
        <p:spPr>
          <a:xfrm flipH="1">
            <a:off x="552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1" name="Oval 17"/>
          <p:cNvSpPr/>
          <p:nvPr/>
        </p:nvSpPr>
        <p:spPr>
          <a:xfrm>
            <a:off x="1143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AutoShape 18"/>
          <p:cNvCxnSpPr>
            <a:stCxn id="1060" idx="5"/>
            <a:endCxn id="1071" idx="0"/>
          </p:cNvCxnSpPr>
          <p:nvPr/>
        </p:nvCxnSpPr>
        <p:spPr>
          <a:xfrm>
            <a:off x="1217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3" name="Oval 19"/>
          <p:cNvSpPr/>
          <p:nvPr/>
        </p:nvSpPr>
        <p:spPr>
          <a:xfrm>
            <a:off x="2971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4" name="AutoShape 20"/>
          <p:cNvCxnSpPr>
            <a:stCxn id="1061" idx="3"/>
            <a:endCxn id="1073" idx="0"/>
          </p:cNvCxnSpPr>
          <p:nvPr/>
        </p:nvCxnSpPr>
        <p:spPr>
          <a:xfrm flipH="1">
            <a:off x="3237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5" name="Oval 21"/>
          <p:cNvSpPr/>
          <p:nvPr/>
        </p:nvSpPr>
        <p:spPr>
          <a:xfrm>
            <a:off x="1828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6" name="AutoShape 22"/>
          <p:cNvCxnSpPr>
            <a:stCxn id="1059" idx="3"/>
            <a:endCxn id="1075" idx="0"/>
          </p:cNvCxnSpPr>
          <p:nvPr/>
        </p:nvCxnSpPr>
        <p:spPr>
          <a:xfrm flipH="1">
            <a:off x="2075760" y="535104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7" name="Oval 23"/>
          <p:cNvSpPr/>
          <p:nvPr/>
        </p:nvSpPr>
        <p:spPr>
          <a:xfrm>
            <a:off x="2514600" y="571500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AutoShape 24"/>
          <p:cNvCxnSpPr>
            <a:stCxn id="1059" idx="5"/>
            <a:endCxn id="1077" idx="0"/>
          </p:cNvCxnSpPr>
          <p:nvPr/>
        </p:nvCxnSpPr>
        <p:spPr>
          <a:xfrm>
            <a:off x="2512800" y="5351400"/>
            <a:ext cx="2689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9" name="AutoShape 25"/>
          <p:cNvSpPr/>
          <p:nvPr/>
        </p:nvSpPr>
        <p:spPr>
          <a:xfrm flipH="1">
            <a:off x="2590920" y="4952880"/>
            <a:ext cx="380880" cy="71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26"/>
          <p:cNvSpPr/>
          <p:nvPr/>
        </p:nvSpPr>
        <p:spPr>
          <a:xfrm flipH="1">
            <a:off x="2286000" y="4114800"/>
            <a:ext cx="38088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27"/>
          <p:cNvSpPr/>
          <p:nvPr/>
        </p:nvSpPr>
        <p:spPr>
          <a:xfrm>
            <a:off x="8305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28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29"/>
          <p:cNvSpPr/>
          <p:nvPr/>
        </p:nvSpPr>
        <p:spPr>
          <a:xfrm>
            <a:off x="5334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30"/>
          <p:cNvSpPr/>
          <p:nvPr/>
        </p:nvSpPr>
        <p:spPr>
          <a:xfrm>
            <a:off x="7924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31"/>
          <p:cNvSpPr/>
          <p:nvPr/>
        </p:nvSpPr>
        <p:spPr>
          <a:xfrm>
            <a:off x="6095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32"/>
          <p:cNvSpPr/>
          <p:nvPr/>
        </p:nvSpPr>
        <p:spPr>
          <a:xfrm>
            <a:off x="6934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7" name="AutoShape 33"/>
          <p:cNvCxnSpPr>
            <a:stCxn id="1086" idx="3"/>
            <a:endCxn id="1085" idx="0"/>
          </p:cNvCxnSpPr>
          <p:nvPr/>
        </p:nvCxnSpPr>
        <p:spPr>
          <a:xfrm flipH="1">
            <a:off x="6362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8" name="AutoShape 34"/>
          <p:cNvCxnSpPr>
            <a:stCxn id="1086" idx="5"/>
            <a:endCxn id="1084" idx="0"/>
          </p:cNvCxnSpPr>
          <p:nvPr/>
        </p:nvCxnSpPr>
        <p:spPr>
          <a:xfrm>
            <a:off x="7389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9" name="AutoShape 35"/>
          <p:cNvCxnSpPr>
            <a:stCxn id="1084" idx="5"/>
            <a:endCxn id="1081" idx="0"/>
          </p:cNvCxnSpPr>
          <p:nvPr/>
        </p:nvCxnSpPr>
        <p:spPr>
          <a:xfrm>
            <a:off x="8380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0" name="AutoShape 36"/>
          <p:cNvCxnSpPr>
            <a:stCxn id="1085" idx="3"/>
            <a:endCxn id="1083" idx="0"/>
          </p:cNvCxnSpPr>
          <p:nvPr/>
        </p:nvCxnSpPr>
        <p:spPr>
          <a:xfrm flipH="1">
            <a:off x="5600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1" name="AutoShape 37"/>
          <p:cNvCxnSpPr>
            <a:stCxn id="1085" idx="5"/>
            <a:endCxn id="1082" idx="0"/>
          </p:cNvCxnSpPr>
          <p:nvPr/>
        </p:nvCxnSpPr>
        <p:spPr>
          <a:xfrm>
            <a:off x="6551280" y="451296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2" name="Oval 38"/>
          <p:cNvSpPr/>
          <p:nvPr/>
        </p:nvSpPr>
        <p:spPr>
          <a:xfrm>
            <a:off x="4876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3" name="AutoShape 39"/>
          <p:cNvCxnSpPr>
            <a:stCxn id="1083" idx="3"/>
            <a:endCxn id="1092" idx="0"/>
          </p:cNvCxnSpPr>
          <p:nvPr/>
        </p:nvCxnSpPr>
        <p:spPr>
          <a:xfrm flipH="1">
            <a:off x="5124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4" name="Oval 40"/>
          <p:cNvSpPr/>
          <p:nvPr/>
        </p:nvSpPr>
        <p:spPr>
          <a:xfrm>
            <a:off x="5715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5" name="AutoShape 41"/>
          <p:cNvCxnSpPr>
            <a:stCxn id="1083" idx="5"/>
            <a:endCxn id="1094" idx="0"/>
          </p:cNvCxnSpPr>
          <p:nvPr/>
        </p:nvCxnSpPr>
        <p:spPr>
          <a:xfrm>
            <a:off x="5789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6" name="Oval 42"/>
          <p:cNvSpPr/>
          <p:nvPr/>
        </p:nvSpPr>
        <p:spPr>
          <a:xfrm>
            <a:off x="7543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7" name="AutoShape 43"/>
          <p:cNvCxnSpPr>
            <a:stCxn id="1084" idx="3"/>
            <a:endCxn id="1096" idx="0"/>
          </p:cNvCxnSpPr>
          <p:nvPr/>
        </p:nvCxnSpPr>
        <p:spPr>
          <a:xfrm flipH="1">
            <a:off x="7809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8" name="Oval 44"/>
          <p:cNvSpPr/>
          <p:nvPr/>
        </p:nvSpPr>
        <p:spPr>
          <a:xfrm>
            <a:off x="6400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9" name="AutoShape 45"/>
          <p:cNvCxnSpPr>
            <a:stCxn id="1082" idx="3"/>
            <a:endCxn id="1098" idx="0"/>
          </p:cNvCxnSpPr>
          <p:nvPr/>
        </p:nvCxnSpPr>
        <p:spPr>
          <a:xfrm flipH="1">
            <a:off x="6647760" y="535104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0" name="Oval 46"/>
          <p:cNvSpPr/>
          <p:nvPr/>
        </p:nvSpPr>
        <p:spPr>
          <a:xfrm>
            <a:off x="7086600" y="5715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1" name="AutoShape 47"/>
          <p:cNvCxnSpPr>
            <a:stCxn id="1082" idx="5"/>
            <a:endCxn id="1100" idx="0"/>
          </p:cNvCxnSpPr>
          <p:nvPr/>
        </p:nvCxnSpPr>
        <p:spPr>
          <a:xfrm>
            <a:off x="7161120" y="5351040"/>
            <a:ext cx="154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size + 1] = value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as rightmost lea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bubble up" as necessary to fix ord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size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Parent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arent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index] &lt; elements[parent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parent(index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ing a h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our array heap runs out of spa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enlarge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enlarging hash sets, we needed to carefully rehash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must we do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e can simply copy the dat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o a larger array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1"/>
          <a:stretch/>
        </p:blipFill>
        <p:spPr>
          <a:xfrm>
            <a:off x="3809880" y="2647800"/>
            <a:ext cx="48769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add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ize to enlarge the heap if necess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ize == elements.length - 1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= Arrays.copyOf(element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* elements.leng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pee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code to retrieve the minimum element in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Oval 27"/>
          <p:cNvSpPr/>
          <p:nvPr/>
        </p:nvSpPr>
        <p:spPr>
          <a:xfrm>
            <a:off x="57150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28"/>
          <p:cNvSpPr/>
          <p:nvPr/>
        </p:nvSpPr>
        <p:spPr>
          <a:xfrm>
            <a:off x="41148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 29"/>
          <p:cNvSpPr/>
          <p:nvPr/>
        </p:nvSpPr>
        <p:spPr>
          <a:xfrm>
            <a:off x="27432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30"/>
          <p:cNvSpPr/>
          <p:nvPr/>
        </p:nvSpPr>
        <p:spPr>
          <a:xfrm>
            <a:off x="5334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31"/>
          <p:cNvSpPr/>
          <p:nvPr/>
        </p:nvSpPr>
        <p:spPr>
          <a:xfrm>
            <a:off x="35053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Oval 32"/>
          <p:cNvSpPr/>
          <p:nvPr/>
        </p:nvSpPr>
        <p:spPr>
          <a:xfrm>
            <a:off x="4343400" y="28195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7" name="AutoShape 33"/>
          <p:cNvCxnSpPr>
            <a:stCxn id="1116" idx="3"/>
            <a:endCxn id="1115" idx="0"/>
          </p:cNvCxnSpPr>
          <p:nvPr/>
        </p:nvCxnSpPr>
        <p:spPr>
          <a:xfrm flipH="1">
            <a:off x="3771360" y="329364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8" name="AutoShape 34"/>
          <p:cNvCxnSpPr>
            <a:stCxn id="1116" idx="5"/>
            <a:endCxn id="1114" idx="0"/>
          </p:cNvCxnSpPr>
          <p:nvPr/>
        </p:nvCxnSpPr>
        <p:spPr>
          <a:xfrm>
            <a:off x="4798800" y="32936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9" name="AutoShape 35"/>
          <p:cNvCxnSpPr>
            <a:stCxn id="1114" idx="5"/>
            <a:endCxn id="1111" idx="0"/>
          </p:cNvCxnSpPr>
          <p:nvPr/>
        </p:nvCxnSpPr>
        <p:spPr>
          <a:xfrm>
            <a:off x="5789520" y="41324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0" name="AutoShape 36"/>
          <p:cNvCxnSpPr>
            <a:stCxn id="1115" idx="3"/>
            <a:endCxn id="1113" idx="0"/>
          </p:cNvCxnSpPr>
          <p:nvPr/>
        </p:nvCxnSpPr>
        <p:spPr>
          <a:xfrm flipH="1">
            <a:off x="3009600" y="41324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1" name="AutoShape 37"/>
          <p:cNvCxnSpPr>
            <a:stCxn id="1115" idx="5"/>
            <a:endCxn id="1112" idx="0"/>
          </p:cNvCxnSpPr>
          <p:nvPr/>
        </p:nvCxnSpPr>
        <p:spPr>
          <a:xfrm>
            <a:off x="3960360" y="41324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2" name="Oval 38"/>
          <p:cNvSpPr/>
          <p:nvPr/>
        </p:nvSpPr>
        <p:spPr>
          <a:xfrm>
            <a:off x="228600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3" name="AutoShape 39"/>
          <p:cNvCxnSpPr>
            <a:stCxn id="1113" idx="3"/>
            <a:endCxn id="1122" idx="0"/>
          </p:cNvCxnSpPr>
          <p:nvPr/>
        </p:nvCxnSpPr>
        <p:spPr>
          <a:xfrm flipH="1">
            <a:off x="2533320" y="49701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4" name="Oval 40"/>
          <p:cNvSpPr/>
          <p:nvPr/>
        </p:nvSpPr>
        <p:spPr>
          <a:xfrm>
            <a:off x="312408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5" name="AutoShape 41"/>
          <p:cNvCxnSpPr>
            <a:stCxn id="1113" idx="5"/>
            <a:endCxn id="1124" idx="0"/>
          </p:cNvCxnSpPr>
          <p:nvPr/>
        </p:nvCxnSpPr>
        <p:spPr>
          <a:xfrm>
            <a:off x="3198960" y="4970160"/>
            <a:ext cx="173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6" name="Oval 42"/>
          <p:cNvSpPr/>
          <p:nvPr/>
        </p:nvSpPr>
        <p:spPr>
          <a:xfrm>
            <a:off x="495288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7" name="AutoShape 43"/>
          <p:cNvCxnSpPr>
            <a:stCxn id="1114" idx="3"/>
            <a:endCxn id="1126" idx="0"/>
          </p:cNvCxnSpPr>
          <p:nvPr/>
        </p:nvCxnSpPr>
        <p:spPr>
          <a:xfrm flipH="1">
            <a:off x="5219280" y="41324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8" name="Oval 44"/>
          <p:cNvSpPr/>
          <p:nvPr/>
        </p:nvSpPr>
        <p:spPr>
          <a:xfrm>
            <a:off x="380988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9" name="AutoShape 45"/>
          <p:cNvCxnSpPr>
            <a:stCxn id="1112" idx="3"/>
            <a:endCxn id="1128" idx="0"/>
          </p:cNvCxnSpPr>
          <p:nvPr/>
        </p:nvCxnSpPr>
        <p:spPr>
          <a:xfrm flipH="1">
            <a:off x="4056840" y="497016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0" name="Oval 46"/>
          <p:cNvSpPr/>
          <p:nvPr/>
        </p:nvSpPr>
        <p:spPr>
          <a:xfrm>
            <a:off x="4495680" y="53341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1" name="AutoShape 47"/>
          <p:cNvCxnSpPr>
            <a:stCxn id="1112" idx="5"/>
            <a:endCxn id="1130" idx="0"/>
          </p:cNvCxnSpPr>
          <p:nvPr/>
        </p:nvCxnSpPr>
        <p:spPr>
          <a:xfrm>
            <a:off x="4570200" y="4970160"/>
            <a:ext cx="154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pee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s the minimum element in this priority que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condition: queue is not emp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lements[1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code to remove the minimum element in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Oval 4"/>
          <p:cNvSpPr/>
          <p:nvPr/>
        </p:nvSpPr>
        <p:spPr>
          <a:xfrm>
            <a:off x="3733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5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6"/>
          <p:cNvSpPr/>
          <p:nvPr/>
        </p:nvSpPr>
        <p:spPr>
          <a:xfrm>
            <a:off x="685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7"/>
          <p:cNvSpPr/>
          <p:nvPr/>
        </p:nvSpPr>
        <p:spPr>
          <a:xfrm>
            <a:off x="3352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8"/>
          <p:cNvSpPr/>
          <p:nvPr/>
        </p:nvSpPr>
        <p:spPr>
          <a:xfrm>
            <a:off x="1447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9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2" name="AutoShape 10"/>
          <p:cNvCxnSpPr>
            <a:stCxn id="1141" idx="3"/>
            <a:endCxn id="1140" idx="0"/>
          </p:cNvCxnSpPr>
          <p:nvPr/>
        </p:nvCxnSpPr>
        <p:spPr>
          <a:xfrm flipH="1">
            <a:off x="1713960" y="3525840"/>
            <a:ext cx="7261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3" name="AutoShape 11"/>
          <p:cNvCxnSpPr>
            <a:stCxn id="1141" idx="5"/>
            <a:endCxn id="1139" idx="0"/>
          </p:cNvCxnSpPr>
          <p:nvPr/>
        </p:nvCxnSpPr>
        <p:spPr>
          <a:xfrm>
            <a:off x="2817360" y="3525840"/>
            <a:ext cx="80244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4" name="AutoShape 12"/>
          <p:cNvCxnSpPr>
            <a:stCxn id="1139" idx="5"/>
            <a:endCxn id="1136" idx="0"/>
          </p:cNvCxnSpPr>
          <p:nvPr/>
        </p:nvCxnSpPr>
        <p:spPr>
          <a:xfrm>
            <a:off x="3808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5" name="AutoShape 13"/>
          <p:cNvCxnSpPr>
            <a:stCxn id="1140" idx="3"/>
            <a:endCxn id="1138" idx="0"/>
          </p:cNvCxnSpPr>
          <p:nvPr/>
        </p:nvCxnSpPr>
        <p:spPr>
          <a:xfrm flipH="1">
            <a:off x="952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6" name="AutoShape 14"/>
          <p:cNvCxnSpPr>
            <a:stCxn id="1140" idx="5"/>
            <a:endCxn id="1137" idx="0"/>
          </p:cNvCxnSpPr>
          <p:nvPr/>
        </p:nvCxnSpPr>
        <p:spPr>
          <a:xfrm>
            <a:off x="1902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7" name="Oval 15"/>
          <p:cNvSpPr/>
          <p:nvPr/>
        </p:nvSpPr>
        <p:spPr>
          <a:xfrm>
            <a:off x="304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8" name="AutoShape 16"/>
          <p:cNvCxnSpPr>
            <a:stCxn id="1138" idx="3"/>
            <a:endCxn id="1147" idx="0"/>
          </p:cNvCxnSpPr>
          <p:nvPr/>
        </p:nvCxnSpPr>
        <p:spPr>
          <a:xfrm flipH="1">
            <a:off x="552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9" name="Oval 17"/>
          <p:cNvSpPr/>
          <p:nvPr/>
        </p:nvSpPr>
        <p:spPr>
          <a:xfrm>
            <a:off x="1143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0" name="AutoShape 18"/>
          <p:cNvCxnSpPr>
            <a:stCxn id="1138" idx="5"/>
            <a:endCxn id="1149" idx="0"/>
          </p:cNvCxnSpPr>
          <p:nvPr/>
        </p:nvCxnSpPr>
        <p:spPr>
          <a:xfrm>
            <a:off x="1141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1" name="Oval 19"/>
          <p:cNvSpPr/>
          <p:nvPr/>
        </p:nvSpPr>
        <p:spPr>
          <a:xfrm>
            <a:off x="2971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AutoShape 20"/>
          <p:cNvCxnSpPr>
            <a:stCxn id="1139" idx="3"/>
            <a:endCxn id="1151" idx="0"/>
          </p:cNvCxnSpPr>
          <p:nvPr/>
        </p:nvCxnSpPr>
        <p:spPr>
          <a:xfrm flipH="1">
            <a:off x="3237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3" name="Oval 21"/>
          <p:cNvSpPr/>
          <p:nvPr/>
        </p:nvSpPr>
        <p:spPr>
          <a:xfrm>
            <a:off x="18288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4" name="AutoShape 22"/>
          <p:cNvCxnSpPr>
            <a:stCxn id="1137" idx="3"/>
            <a:endCxn id="1153" idx="0"/>
          </p:cNvCxnSpPr>
          <p:nvPr/>
        </p:nvCxnSpPr>
        <p:spPr>
          <a:xfrm flipH="1">
            <a:off x="2075760" y="519876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5" name="Line 23"/>
          <p:cNvSpPr/>
          <p:nvPr/>
        </p:nvSpPr>
        <p:spPr>
          <a:xfrm>
            <a:off x="213372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24"/>
          <p:cNvSpPr/>
          <p:nvPr/>
        </p:nvSpPr>
        <p:spPr>
          <a:xfrm flipH="1">
            <a:off x="220968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25"/>
          <p:cNvSpPr/>
          <p:nvPr/>
        </p:nvSpPr>
        <p:spPr>
          <a:xfrm>
            <a:off x="8305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26"/>
          <p:cNvSpPr/>
          <p:nvPr/>
        </p:nvSpPr>
        <p:spPr>
          <a:xfrm>
            <a:off x="6629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27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28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29"/>
          <p:cNvSpPr/>
          <p:nvPr/>
        </p:nvSpPr>
        <p:spPr>
          <a:xfrm>
            <a:off x="6019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30"/>
          <p:cNvSpPr/>
          <p:nvPr/>
        </p:nvSpPr>
        <p:spPr>
          <a:xfrm>
            <a:off x="69343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3" name="AutoShape 31"/>
          <p:cNvCxnSpPr>
            <a:stCxn id="1162" idx="3"/>
            <a:endCxn id="1161" idx="0"/>
          </p:cNvCxnSpPr>
          <p:nvPr/>
        </p:nvCxnSpPr>
        <p:spPr>
          <a:xfrm flipH="1">
            <a:off x="6285960" y="3522240"/>
            <a:ext cx="72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4" name="AutoShape 32"/>
          <p:cNvCxnSpPr>
            <a:stCxn id="1162" idx="5"/>
            <a:endCxn id="1160" idx="0"/>
          </p:cNvCxnSpPr>
          <p:nvPr/>
        </p:nvCxnSpPr>
        <p:spPr>
          <a:xfrm>
            <a:off x="7389360" y="35222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5" name="AutoShape 33"/>
          <p:cNvCxnSpPr>
            <a:stCxn id="1160" idx="5"/>
            <a:endCxn id="1157" idx="0"/>
          </p:cNvCxnSpPr>
          <p:nvPr/>
        </p:nvCxnSpPr>
        <p:spPr>
          <a:xfrm>
            <a:off x="8380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6" name="AutoShape 34"/>
          <p:cNvCxnSpPr>
            <a:stCxn id="1161" idx="3"/>
            <a:endCxn id="1159" idx="0"/>
          </p:cNvCxnSpPr>
          <p:nvPr/>
        </p:nvCxnSpPr>
        <p:spPr>
          <a:xfrm flipH="1">
            <a:off x="5524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7" name="AutoShape 35"/>
          <p:cNvCxnSpPr>
            <a:stCxn id="1161" idx="5"/>
            <a:endCxn id="1158" idx="0"/>
          </p:cNvCxnSpPr>
          <p:nvPr/>
        </p:nvCxnSpPr>
        <p:spPr>
          <a:xfrm>
            <a:off x="6474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8" name="Oval 36"/>
          <p:cNvSpPr/>
          <p:nvPr/>
        </p:nvSpPr>
        <p:spPr>
          <a:xfrm>
            <a:off x="4876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9" name="AutoShape 37"/>
          <p:cNvCxnSpPr>
            <a:stCxn id="1159" idx="3"/>
            <a:endCxn id="1168" idx="0"/>
          </p:cNvCxnSpPr>
          <p:nvPr/>
        </p:nvCxnSpPr>
        <p:spPr>
          <a:xfrm flipH="1">
            <a:off x="5124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0" name="Oval 38"/>
          <p:cNvSpPr/>
          <p:nvPr/>
        </p:nvSpPr>
        <p:spPr>
          <a:xfrm>
            <a:off x="5715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AutoShape 39"/>
          <p:cNvCxnSpPr>
            <a:stCxn id="1159" idx="5"/>
            <a:endCxn id="1170" idx="0"/>
          </p:cNvCxnSpPr>
          <p:nvPr/>
        </p:nvCxnSpPr>
        <p:spPr>
          <a:xfrm>
            <a:off x="5713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2" name="Oval 40"/>
          <p:cNvSpPr/>
          <p:nvPr/>
        </p:nvSpPr>
        <p:spPr>
          <a:xfrm>
            <a:off x="7543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3" name="AutoShape 41"/>
          <p:cNvCxnSpPr>
            <a:stCxn id="1160" idx="3"/>
            <a:endCxn id="1172" idx="0"/>
          </p:cNvCxnSpPr>
          <p:nvPr/>
        </p:nvCxnSpPr>
        <p:spPr>
          <a:xfrm flipH="1">
            <a:off x="7809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4" name="Oval 42"/>
          <p:cNvSpPr/>
          <p:nvPr/>
        </p:nvSpPr>
        <p:spPr>
          <a:xfrm>
            <a:off x="6400800" y="5562720"/>
            <a:ext cx="495360" cy="49536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AutoShape 43"/>
          <p:cNvCxnSpPr>
            <a:stCxn id="1158" idx="3"/>
            <a:endCxn id="1174" idx="0"/>
          </p:cNvCxnSpPr>
          <p:nvPr/>
        </p:nvCxnSpPr>
        <p:spPr>
          <a:xfrm flipH="1">
            <a:off x="6647760" y="5198760"/>
            <a:ext cx="59400" cy="345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array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store the elements in an unfilled array, 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rather than order of inser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You can do an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 binary search to find elements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and to find the proper index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; 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still need to shift elements right/left to make room, which is O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 on averag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486240" y="24717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condition: queue is not emp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ult = elements[1];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ast leaf -&gt; ro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1] = elements[size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1;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bubble down" to fix ord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LeftChild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ft = leftChild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ight = rightChild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hild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hasRightChild(index)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right] &lt; elements[left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ild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index] &gt; elements[child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chil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chil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 PQ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our own implementation of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we only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our set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sets as an ADT by creating a Se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 are:  add, peek (at min), remove (mi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/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PQ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modify our priority queue so it can store any type of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with past collections, we will use Java generics (a type parameter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/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HeapPQ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odify our heap priority class to use generics as usual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PriorityQueu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ements PriorityQueue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eapPriorityQueu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E[]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ew Objec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rder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size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Parent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arent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  <a:ea typeface="Courier New"/>
              </a:rPr>
              <a:t>elements[index] &lt; elements[parent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  <a:ea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parent(index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Even chang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 call does not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Java cannot be sure that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h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ps rely on being able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ir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 not work with objects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ome types as having an ordering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other languages, we can enable &lt;, &gt; wit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perator overloa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ies a notion of equality (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but also &lt; and &gt;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otal orde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ll elements can be arranged in A ≤ B ≤ C ≤ ...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face provides a natur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parabl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2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Comparable&lt;T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T ot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c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8680" indent="0">
              <a:spcBef>
                <a:spcPts val="6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implement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unded typ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upper bound; accepts the given supertype or any of its sub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ks for multiple superclass/interfac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B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sup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wer bound; accepts the given supertype or any of its super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08440" indent="-208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be instantiated with any animal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N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xtends Anim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st&lt;Bluebird&gt; nest = new Nest&lt;Bluebird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ed HeapPQ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apPriorityQueue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&lt;E extends Comparable&lt;E&gt;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s PriorityQueue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[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HeapPriorityQueu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E[]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ew Objec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E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...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index]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.compareTo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parent]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) &lt; 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ap(..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rdering and Compa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strang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lly ide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client adds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ore it at index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the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this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 / drawbacks of this approach?  How to work around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7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52680" y="29289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64960" y="5257800"/>
          <a:ext cx="8650080" cy="1095120"/>
        </p:xfrm>
        <a:graphic>
          <a:graphicData uri="http://schemas.openxmlformats.org/drawingml/2006/table">
            <a:tbl>
              <a:tblPr/>
              <a:tblGrid>
                <a:gridCol w="736560"/>
                <a:gridCol w="392040"/>
                <a:gridCol w="393840"/>
                <a:gridCol w="392040"/>
                <a:gridCol w="393480"/>
                <a:gridCol w="392400"/>
                <a:gridCol w="392040"/>
                <a:gridCol w="393480"/>
                <a:gridCol w="392400"/>
                <a:gridCol w="393480"/>
                <a:gridCol w="392040"/>
                <a:gridCol w="393840"/>
                <a:gridCol w="392040"/>
                <a:gridCol w="416160"/>
                <a:gridCol w="392040"/>
                <a:gridCol w="396720"/>
                <a:gridCol w="393840"/>
                <a:gridCol w="395280"/>
                <a:gridCol w="393480"/>
                <a:gridCol w="416160"/>
                <a:gridCol w="39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's the "natural" order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implements Comparable&lt;Rectangl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x, y, width,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ectangle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...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"natural ordering" of rectangl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x, breaking ties by 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width, breaking ties by heigh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area?  By perime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rectangles have any "natural" order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ght we want to arrange rectangles into some order anywa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ator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 first, T secon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external object that specifies a comparison function over some other typ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define multiple orderings for the same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define a specific ordering(s) for a type even if there is no obvious "natural" ordering for that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externally define an ordering for a class that, for whatever reason, you are not able to modify to make it Comparab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is part of the Java class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is final and can't be exten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from another library or author, that you don't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ator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AreaCompa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mplements Comparator&lt;Rectang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ompare in ascending order by area (Wx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ectangle r1, Rectangle r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Area() - r2.getArea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XYCompa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mplements Comparator&lt;Rectang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ompare by ascending x,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ectangle r1, Rectangle r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1.getX() != r2.getX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X() - r2.get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Y() - r2.getY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mpa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arator&lt;Rectangle&gt; comp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RectangleAreaComparato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&lt;Rectangle&gt; set = new TreeSet&lt;Rectangle&gt;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eue&lt;Rectangle&gt; pq = new PriorityQueue&lt;Rectangle&gt;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,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 methods can accep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sort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binarySearch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max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min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sort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are provided to revers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Comparator Collections.reverseOrd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Comparator Collections.reverseOrder(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and Compa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heap priority queue currently relies 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atural ordering of its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eapPriorityQue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 extends Comparable&lt;E&gt;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 PriorityQueue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eapPriorityQueue() {...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llow other orderings, we can add a constructor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o clients can arrange  elements in any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eapPriorityQueue(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Comparator&lt;E&gt; 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...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Comparato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stores strings in a priority queue and reads them back out in ascending or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y 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wo strings are the same length, break the ti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y ABC 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&lt;String&gt; pq = new PriorityQueue&lt;String&gt;(..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you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mee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madam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si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hello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goodby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pq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pq.remove()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r you meet hello madam goodby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Comparato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llowing comparator class to organize the strin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ngthCompa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 Comparator&lt;String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compar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1.length() != s2.length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lengths are unequal, compare by 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1.length() - s2.length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reak ties by ABC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1.compareTo(s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&lt;String&gt; pq = new PriorityQueue&lt;String&gt;(100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LengthComparator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o sort an array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lements by turning the array into a heap, then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will come ou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put them into a new sorted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2" name="Picture 5" descr="&#13;Fig_21.20.pct                                                  0006D1AB_x0008_Porkchop                       B3B4845B:"/>
          <p:cNvPicPr/>
          <p:nvPr/>
        </p:nvPicPr>
        <p:blipFill>
          <a:blip r:embed="rId1"/>
          <a:srcRect l="52580" t="0" r="0" b="17677"/>
          <a:stretch/>
        </p:blipFill>
        <p:spPr>
          <a:xfrm>
            <a:off x="4876920" y="3489480"/>
            <a:ext cx="3962160" cy="281592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4" descr="&#13;Fig_21-17.pct                                                  00069570_x0008_Porkchop                       B3B4845B:"/>
          <p:cNvPicPr/>
          <p:nvPr/>
        </p:nvPicPr>
        <p:blipFill>
          <a:blip r:embed="rId2"/>
          <a:srcRect l="0" t="0" r="52234" b="17812"/>
          <a:stretch/>
        </p:blipFill>
        <p:spPr>
          <a:xfrm>
            <a:off x="304920" y="3524400"/>
            <a:ext cx="3886200" cy="2757240"/>
          </a:xfrm>
          <a:prstGeom prst="rect">
            <a:avLst/>
          </a:prstGeom>
          <a:ln w="0">
            <a:noFill/>
          </a:ln>
        </p:spPr>
      </p:pic>
      <p:sp>
        <p:nvSpPr>
          <p:cNvPr id="1214" name=""/>
          <p:cNvSpPr/>
          <p:nvPr/>
        </p:nvSpPr>
        <p:spPr>
          <a:xfrm>
            <a:off x="4267080" y="48006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sort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apS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&lt;Integer&gt; pq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HeapPriorityQueue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n :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a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pq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correct and runs in O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time but wastes memor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makes an entire copy of the arr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internal heap of the priority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e perform a heap sort without making a cop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ing the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e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self as a max-heap, whose data starts at 0 (not 1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ctually in heap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f you repeatedly "bubble down" eac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n-lea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, starting from the last one, you will eventually have a proper hea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alid max-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eatedly until the heap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make it so that when an element is "removed", it is moved to the end of the array instead of completely evicted from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are done, voila!  The array is sor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47Z</dcterms:modified>
  <cp:revision>607</cp:revision>
  <dc:subject/>
  <dc:title>CSE 142 Python Slides</dc:title>
</cp:coreProperties>
</file>