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160D-3D57-45DC-922C-A8027F73A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"ArrayList&lt;Integer&gt;" as just all being one atomic token representing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BB86-1FE2-4945-8117-33407FB77D5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struc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must specif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to store lists of different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arning abou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 Spec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is a huge web page containing documentation about every Java class and it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k to the API Specs is on the course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[] name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names[0] = "Jessic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 s = names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something to each value that star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 whether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equal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,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f primitive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you specify when crea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n object type; it cannot be a primitiv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e can still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imitive types by using special class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thei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app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90920" y="1295280"/>
          <a:ext cx="3997080" cy="197640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887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full of number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all the numbers as a list,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average of the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highest and lowest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out all of the even numbers (ones divisible by 2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solve this problem using an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or why no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 are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's size()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cau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62040" y="5410080"/>
          <a:ext cx="393840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60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0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10, 20, 30, 40, ..., 10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0, 40, 60, 80, 10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 as a parameter and pla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ter each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an array list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makes it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, assuming that every other ele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removes the stars (undoing what was don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sorted array lists of integers as parameters and returns a new list that contains only the elements that are found in both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lis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returns the li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You don't know how many words the file will h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create an array of the appropriate siz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 parts of the problem are more difficult to sol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kily, there are other ways to store data besides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storing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can have an array, list, or other collection as a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our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double[] gr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ArrayList&lt;String&gt; studentNam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ours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s = new double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Names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ach object stores a collection of data insid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test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a = "alic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b = "bob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a.compareTo(b) &lt;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3710160"/>
          <a:ext cx="8153280" cy="2766960"/>
        </p:xfrm>
        <a:graphic>
          <a:graphicData uri="http://schemas.openxmlformats.org/drawingml/2006/table">
            <a:tbl>
              <a:tblPr/>
              <a:tblGrid>
                <a:gridCol w="3047760"/>
                <a:gridCol w="510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=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=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!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!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n array or list of strings with Java's included binary search method because it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a = {"al", "bob", "cari", "dan", "mike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nde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, "dan"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 for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s : 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al, bob, cari, dan, mike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dering our own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binary search or m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rbitrary types, because Java doesn't know how to order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compiles but crashes when we ru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 TreeSet&lt;HtmlTa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t java.util.TreeSet.add(TreeSet.java:2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10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th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to define a natural ordering function for it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before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after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s considered "equal"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f you want multiple orderings, use a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stead (see Ch. 13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Comparable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Comparable&lt;Point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nt compareTo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x &l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x &g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l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small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g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larg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 and same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traction tr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btracting related numeric values produces the right result for what you w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Point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!= other.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- other.x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ifferent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- other.y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ame x; compa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de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=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=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0">
              <a:spcBef>
                <a:spcPts val="24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-16272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TE: This trick doesn't work for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s   (but se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Math.signum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legation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fields are comparable (such as strings), use thei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employee name, e.g. "Jim" &lt; "Susa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Employe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name.compareTo(other.getNam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is related to the ordering, use that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date, e.g. "09/19" &gt; "04/01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Dat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toString().compareTo(other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stores data;  a.k.a. "data structur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s stored are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collections maintain an ordering; some allow duplic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 operation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arch)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found in the Java class librar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ority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ollections are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from HTML Validator compa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ags by their elements, alphabetically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same element, opening tags come before closing ta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&lt;b&gt;&lt;/b&gt;&lt;i&gt;&lt;b&gt;&lt;/b&gt;&lt;br/&gt;&lt;/i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new TreeSet&lt;HtmlTa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r"));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r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false)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ta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&lt;b&gt;, &lt;/b&gt;, &lt;body&gt;, &lt;/body&gt;, &lt;br/&gt;, &lt;i&gt;, &lt;/i&gt;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tmlTa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mplements Comparable&lt;HtmlTag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mpares tags by their element ("body" before "head"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reaking ties with opening tags before closing t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&lt; 0 for less, 0 for equal, &gt; 0 for grea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 int compareTo(HtmlTag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 = element.compareTo(other.getEleme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mpare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ifferent tags; use String's compareTo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mp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ame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isOpenTag == 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ctly the same kind of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e=open, I=close; I am af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=open, he=close; I am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storing an ordered sequence of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lement is accessible by a 0-bas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h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number of elements that have been ad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can be added to the front, back, or else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a list can be represented a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dea of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creating an array of boxes, create an object that represents a "list" of items.  (initially an empty lis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items to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behavior is to add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bject keeps track of the element values that have been added to it, their order, indexes, and its tota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k of an "array list" as an automatically resizing arra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ly, the list is implemented using an array and a size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(10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371600"/>
          <a:ext cx="8382240" cy="477684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5400" y="1407960"/>
          <a:ext cx="8975520" cy="4840560"/>
        </p:xfrm>
        <a:graphic>
          <a:graphicData uri="http://schemas.openxmlformats.org/drawingml/2006/table">
            <a:tbl>
              <a:tblPr/>
              <a:tblGrid>
                <a:gridCol w="2654280"/>
                <a:gridCol w="632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list to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t the end of the list, or inserts them at the given inde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value is found somewhere in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this list contains every element from given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other lis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st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the contents of the list 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st index value is found in list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ds and removes the given value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found in the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Lis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sub-portion of the list betwe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exclus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in this list as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0Z</dcterms:modified>
  <cp:revision>117</cp:revision>
  <dc:subject/>
  <dc:title>CSE 142 Python Slides</dc:title>
</cp:coreProperties>
</file>