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2C2D-9E3B-42C5-BE33-B22116C1C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21FE-0CD8-4C09-A747-F9F5EDA755F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3Z</dcterms:modified>
  <cp:revision>125</cp:revision>
  <dc:subject/>
  <dc:title>CSE 142 Python Slides</dc:title>
</cp:coreProperties>
</file>