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55ED6-807D-4463-B6B8-6FA504279BF0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39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3032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java.sun.com/j2se/1.4.2/docs/api/java/util/Arrays.html#binarySearch(int[],%20int)" TargetMode="External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Appendix B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vaDoc Com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pyright (c) Pearson 2013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Javadoc and privat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vate internal methods do not need Javadoc commen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/** ... a Javadoc comment ... */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remove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inde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 ... 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Helper does the real work of remov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the item at the given index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void removeHelper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inde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index; i &lt; size - 1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ementData[i] = elementData[i + 1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ementData[size - 1] = 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ize--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ivate members do not appear in the generated HTML pag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ustom Javadoc tag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vadoc doesn't have tags for pre/post, but you can add the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y default, these tags won't show up in the generated HTML.  But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328680" y="1981080"/>
          <a:ext cx="8434440" cy="3345120"/>
        </p:xfrm>
        <a:graphic>
          <a:graphicData uri="http://schemas.openxmlformats.org/drawingml/2006/table">
            <a:tbl>
              <a:tblPr/>
              <a:tblGrid>
                <a:gridCol w="3763800"/>
                <a:gridCol w="4670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a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440" indent="-14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@pre 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ndi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440" indent="-14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or @preconditio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256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tes a precondition in API documentation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256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bes a condition that must be true for the method to perform its functiona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7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440" indent="-14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@post 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ndi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440" indent="-14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or @postconditio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256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tes a postcondition in API documentation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256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bes a condition that is guaranteed to be true at the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n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of the method's functionality, so long as all preconditions were true at the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r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of the meth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pplying custom tag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-2793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rom Terminal: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avadoc -d doc/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-tag pre:cm:"Precondition:"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-tag post:cm:"Postcondition:" *.jav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 Eclipse: Project  →  Generate Javadoc...  → Next → Next →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 the "Extra Javadoc options" box, typ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tag pre:cm:"Precondition:" -tag post:cm:"Postcondition:"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generated Java API web page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ill now be able to display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ags properly!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5715000" y="3962520"/>
            <a:ext cx="3124080" cy="2590560"/>
            <a:chOff x="5715000" y="3962520"/>
            <a:chExt cx="3124080" cy="2590560"/>
          </a:xfrm>
        </p:grpSpPr>
        <p:pic>
          <p:nvPicPr>
            <p:cNvPr id="109" name="" descr=""/>
            <p:cNvPicPr/>
            <p:nvPr/>
          </p:nvPicPr>
          <p:blipFill>
            <a:blip r:embed="rId1"/>
            <a:stretch/>
          </p:blipFill>
          <p:spPr>
            <a:xfrm>
              <a:off x="5715000" y="3962520"/>
              <a:ext cx="3124080" cy="25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6263280" y="6050160"/>
              <a:ext cx="853560" cy="3070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ore custom Javadoc tag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204840" y="1319040"/>
          <a:ext cx="8763120" cy="3176280"/>
        </p:xfrm>
        <a:graphic>
          <a:graphicData uri="http://schemas.openxmlformats.org/drawingml/2006/table">
            <a:tbl>
              <a:tblPr/>
              <a:tblGrid>
                <a:gridCol w="4230720"/>
                <a:gridCol w="4532400"/>
              </a:tblGrid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a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@modifies 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bject(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256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 more specific postcondition; describes any state of this object or other object(s) that may be changed by a call to this meth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@effects 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bject(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256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 more specific postcondition; describes any promises this method makes about the final state in which it will leave some other object(s) when it is done run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ogramming by contrac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gramming by contract (design by contract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Defining formal, precise and verifiable interface specifications for software components, which extend the ordinary definition of abstract data types with preconditions, postconditions and invaria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key questions that the designer must repeatedly ask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does this code expect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does it guarante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does it maintain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11021" r="0" b="10888"/>
          <a:stretch/>
        </p:blipFill>
        <p:spPr>
          <a:xfrm>
            <a:off x="5867280" y="4191120"/>
            <a:ext cx="251460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econdi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econd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Something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ssumed to be tru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the start of a cal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turns the element at the given index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</a:t>
            </a:r>
            <a:r>
              <a:rPr b="1" i="1" lang="en-US" sz="2000" spc="-1" strike="noStrike">
                <a:solidFill>
                  <a:srgbClr val="008000"/>
                </a:solidFill>
                <a:latin typeface="Courier New"/>
              </a:rPr>
              <a:t>Precondition: 0 &lt;= index &lt; siz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int index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elementData[index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ng a precondition doesn't "solve" the problem of users passing improper indexes, but it at least documents our decision and warns the client what not to do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295280" y="3767040"/>
          <a:ext cx="6553080" cy="1185840"/>
        </p:xfrm>
        <a:graphic>
          <a:graphicData uri="http://schemas.openxmlformats.org/drawingml/2006/table">
            <a:tbl>
              <a:tblPr/>
              <a:tblGrid>
                <a:gridCol w="893520"/>
                <a:gridCol w="565200"/>
                <a:gridCol w="563760"/>
                <a:gridCol w="566640"/>
                <a:gridCol w="563400"/>
                <a:gridCol w="568440"/>
                <a:gridCol w="566640"/>
                <a:gridCol w="567000"/>
                <a:gridCol w="566640"/>
                <a:gridCol w="565200"/>
                <a:gridCol w="566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hoosing precondi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s of poorly chosen precondi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ng the obviou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-163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e:  String s is a string!   The computer has enough memory to run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aking up for a lazy or poor implementation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-163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pow:  Exponent can't be negative; can only do positive powe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-163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list.isSorted:  List shouldn't contain any duplicates because our code messes up in that case and returns the wrong answ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ngs that clients cannot check, avoid, or ensur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-163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stack.push:  Stack's internal array capacity must be &gt;= stack siz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-163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a download: If it starts, the whole file will arrive successful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lient must be able to check the preconditions of a method before calling i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econdition viola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ally, if a client violates a precondition, (by default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objec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does not specif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hat will happe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t makes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no promise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at the method will work successfull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ght do not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ght return an unusual value or "error" value   (null, 0, -1, "", etc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ght throw an 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ght get stuck in an infinite loo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ght leave the object in a corrupt state, save the wrong fil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What is the best way to handle a precondition violation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pproach 1: return erro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ndle a precondition violation by returning a special valu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// Returns the element at the given index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recondition: 0 &lt;= index &lt; siz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int index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index &lt; 0 || index &gt;= siz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return -1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elementData[index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s this a good or bad approach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77680" indent="-1674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d.  The -1 returned is indistinguishable from a -1 in the actual dat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77680" indent="-1674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d.  The client might not notice the error and won't fix their bug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pproach 2: excep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ndle a precondition violation by throwing an excep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// Returns the element at the given index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recondition: 0 &lt;= index &lt; siz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int index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index &lt; 0 || index &gt;= siz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throw new IndexOutOfBoundsException(index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elementData[index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fail-fa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Client learns about the problem immediately and can fix it.  Passing a bad value usually indicates a bug in the client, so this is goo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Javadoc commen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Courier New"/>
              </a:rPr>
              <a:t>/**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2200" spc="-1" strike="noStrike">
                <a:solidFill>
                  <a:srgbClr val="006600"/>
                </a:solidFill>
                <a:latin typeface="Courier New"/>
              </a:rPr>
              <a:t>* </a:t>
            </a:r>
            <a:r>
              <a:rPr b="1" i="1" lang="en-US" sz="2200" spc="-1" strike="noStrike">
                <a:solidFill>
                  <a:srgbClr val="006600"/>
                </a:solidFill>
                <a:latin typeface="Tahoma"/>
              </a:rPr>
              <a:t>description of class/method/field/etc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2200" spc="-1" strike="noStrike">
                <a:solidFill>
                  <a:srgbClr val="006600"/>
                </a:solidFill>
                <a:latin typeface="Courier New"/>
              </a:rPr>
              <a:t>*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2200" spc="-1" strike="noStrike">
                <a:solidFill>
                  <a:srgbClr val="006600"/>
                </a:solidFill>
                <a:latin typeface="Courier New"/>
              </a:rPr>
              <a:t>* @</a:t>
            </a:r>
            <a:r>
              <a:rPr b="1" i="1" lang="en-US" sz="2200" spc="-1" strike="noStrike">
                <a:solidFill>
                  <a:srgbClr val="006600"/>
                </a:solidFill>
                <a:latin typeface="Tahoma"/>
              </a:rPr>
              <a:t>tag</a:t>
            </a:r>
            <a:r>
              <a:rPr b="0" lang="en-US" sz="22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1" i="1" lang="en-US" sz="2200" spc="-1" strike="noStrike">
                <a:solidFill>
                  <a:srgbClr val="006600"/>
                </a:solidFill>
                <a:latin typeface="Tahoma"/>
              </a:rPr>
              <a:t>attribut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2200" spc="-1" strike="noStrike">
                <a:solidFill>
                  <a:srgbClr val="006600"/>
                </a:solidFill>
                <a:latin typeface="Courier New"/>
              </a:rPr>
              <a:t>* @</a:t>
            </a:r>
            <a:r>
              <a:rPr b="1" i="1" lang="en-US" sz="2200" spc="-1" strike="noStrike">
                <a:solidFill>
                  <a:srgbClr val="006600"/>
                </a:solidFill>
                <a:latin typeface="Tahoma"/>
              </a:rPr>
              <a:t>tag</a:t>
            </a:r>
            <a:r>
              <a:rPr b="0" lang="en-US" sz="22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1" i="1" lang="en-US" sz="2200" spc="-1" strike="noStrike">
                <a:solidFill>
                  <a:srgbClr val="006600"/>
                </a:solidFill>
                <a:latin typeface="Tahoma"/>
              </a:rPr>
              <a:t>attribut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2200" spc="-1" strike="noStrike">
                <a:solidFill>
                  <a:srgbClr val="006600"/>
                </a:solidFill>
                <a:latin typeface="Courier New"/>
              </a:rPr>
              <a:t>* 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2200" spc="-1" strike="noStrike">
                <a:solidFill>
                  <a:srgbClr val="006600"/>
                </a:solidFill>
                <a:latin typeface="Courier New"/>
              </a:rPr>
              <a:t>* @</a:t>
            </a:r>
            <a:r>
              <a:rPr b="1" i="1" lang="en-US" sz="2200" spc="-1" strike="noStrike">
                <a:solidFill>
                  <a:srgbClr val="006600"/>
                </a:solidFill>
                <a:latin typeface="Tahoma"/>
              </a:rPr>
              <a:t>tag</a:t>
            </a:r>
            <a:r>
              <a:rPr b="0" lang="en-US" sz="22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1" i="1" lang="en-US" sz="2200" spc="-1" strike="noStrike">
                <a:solidFill>
                  <a:srgbClr val="006600"/>
                </a:solidFill>
                <a:latin typeface="Tahoma"/>
              </a:rPr>
              <a:t>attribut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2200" spc="-1" strike="noStrike">
                <a:solidFill>
                  <a:srgbClr val="006600"/>
                </a:solidFill>
                <a:latin typeface="Courier New"/>
              </a:rPr>
              <a:t>*/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Javadoc comment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Special comment syntax for describing detailed specifications of Java classes and metho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ut on class headers, methods, constructors, public fields, 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enefit: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ols can turn Javadoc comments into HTML spec pag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clipse and other editors have useful built-in Javadoc suppor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Main drawback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omments can become bulky and harder to rea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ceptions in the contrac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ava.util.Stac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: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E pop(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moves the object on top of this stack and returns i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turns: The object at the top of this stack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rows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mptyStackExcep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- if stack is empt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preconditions are things the stack assumes to be tru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as far as the client knows, that are not checked by the stack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client violates a precondition, stack could do anything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this case the stack documents a predictable behavior (throw) in response to the empty stack condi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o we say tha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the exception is part of the contra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you change it (say, to retur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, you have changed the contrac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7831080" y="1271520"/>
            <a:ext cx="1103400" cy="14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econditions and privat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vate internal methods do not usually test precondi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// Helper does the real work of removing an it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void removeHelper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inde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66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6600"/>
                </a:solidFill>
                <a:latin typeface="Courier New"/>
              </a:rPr>
              <a:t>// should I check 0 &lt;= index &lt; size here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index; i &lt; size - 1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ementData[i] = elementData[i + 1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ementData[size - 1] = 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ize--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no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ince the method can only be called internally, the class author can make sure to call it only when the preconditions hol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any check at all is made, make it 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sser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statemen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3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3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econdition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-21780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search on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[]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:  from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1"/>
              </a:rPr>
              <a:t>Java API</a:t>
            </a:r>
            <a:br>
              <a:rPr sz="2400"/>
            </a:br>
            <a:br>
              <a:rPr sz="8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"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Searches the specified array of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s for the specified value using the binary search algorithm. The array </a:t>
            </a:r>
            <a:r>
              <a:rPr b="1" i="1" lang="en-US" sz="1800" spc="-1" strike="noStrike">
                <a:solidFill>
                  <a:srgbClr val="333399"/>
                </a:solidFill>
                <a:latin typeface="Tahoma"/>
              </a:rPr>
              <a:t>must</a:t>
            </a:r>
            <a:r>
              <a:rPr b="0" i="1" lang="en-US" sz="1800" spc="-1" strike="noStrike">
                <a:solidFill>
                  <a:srgbClr val="333399"/>
                </a:solidFill>
                <a:latin typeface="Tahoma"/>
              </a:rPr>
              <a:t> be sorted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(as by the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sort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 method, above) prior to making this call. If it is not sorted, the results are undefined.  ..."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doesn't Sun just check whether the array is sorted?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dea #1:  If it isn't sorted, sort i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dea #2:  If it isn't sorted, throw an exceptio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rt is costly (takes O(n log n) or worse;  search is O(log n)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ecking to see if the array is sorted is costly (O(n)); omitting this check and assuming it to be true makes binary search run much fast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rt modifies the input array; binarySearch would have a side effec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-16380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 how do we catch bugs where the client violates this precondition?  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hecking precondi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sser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logical statement that can be made about a program at a point in time and is expected to be tru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"At this point in the code, it should be the case that x &gt; 0.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va and other languages supply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sser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tat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ssert statements can be en/disabled; they are off by defaul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ssertions check your basic assumptions that should never fail;  they uncover things that should not have happened!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example, verify preconditions when testing/debugging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an assertion fails, this is considered an error on the part of the developer and should be fixed immediatel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ceptions in the contract are more comm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ostcondi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ostcond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Something your meth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romises will be tru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the end of its execution, if all preconditions were true at the start of the cal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// Makes sure that this list's internal array is la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// enough to store the given number of element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// Precondition: capacity &gt;= 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ostcondition: elementData.length &gt;= capac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ensureCapacity(int capacity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 (capacity &gt; elementData.length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ementData = Arrays.copyOf(elementData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 * elementData.length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your method states a postcondition, clients should be able to rely on that statement being true after they call the metho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Javadoc tag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 method or construct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 class head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96920" y="1816200"/>
          <a:ext cx="8762760" cy="2770200"/>
        </p:xfrm>
        <a:graphic>
          <a:graphicData uri="http://schemas.openxmlformats.org/drawingml/2006/table">
            <a:tbl>
              <a:tblPr/>
              <a:tblGrid>
                <a:gridCol w="4230720"/>
                <a:gridCol w="45320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a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440" indent="-14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@param 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ame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bes a parame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440" indent="-14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@return 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bes what value will be return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@throws 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xceptionType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a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bes an exception that may be thrown (and what would cause it to be throw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{@code 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ourcecod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or showing Java code in the com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{@inheritDoc}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llows a subclass method to copy Javadoc comments from the superclass ver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6" name=""/>
          <p:cNvGraphicFramePr/>
          <p:nvPr/>
        </p:nvGraphicFramePr>
        <p:xfrm>
          <a:off x="196920" y="5199120"/>
          <a:ext cx="8762760" cy="1125360"/>
        </p:xfrm>
        <a:graphic>
          <a:graphicData uri="http://schemas.openxmlformats.org/drawingml/2006/table">
            <a:tbl>
              <a:tblPr/>
              <a:tblGrid>
                <a:gridCol w="4230360"/>
                <a:gridCol w="4532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a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@author 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uthor of a 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440" indent="-14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@version 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mb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lass's version number, in any form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Javadoc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/**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* Each BankAccount object models the account information for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* a single user of Fells Wargo bank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* @author James T. Kirk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* @version 1.4 (Aug 9 2008)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*/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public class BankAccount {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    </a:t>
            </a: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/** The standard interest rate on all accounts. */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public static final double INTEREST_RATE = 0.03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    </a:t>
            </a: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/**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     </a:t>
            </a: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* Deducts the given amount of money from this account'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     </a:t>
            </a: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* balance, if possible, and returns whether the money wa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     </a:t>
            </a: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* deducted successfully (true if so, false if not)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     </a:t>
            </a: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* If the account does not contain sufficient funds to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     </a:t>
            </a: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* make this withdrawal, no funds are withdraw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     </a:t>
            </a: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     </a:t>
            </a: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* @param amount the amount of money to be withdrawn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     </a:t>
            </a: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* @return true if amount was withdrawn, else false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     </a:t>
            </a: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* @throws IllegalArgumentException if amount is negative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     </a:t>
            </a: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*/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public boolean withdraw(double amount) {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Javadoc output as HTML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860400"/>
                <a:tab algn="l" pos="1143000"/>
                <a:tab algn="l" pos="1432080"/>
                <a:tab algn="l" pos="1774800"/>
                <a:tab algn="l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va has tools to convert Javadoc comments into web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860400"/>
                <a:tab algn="l" pos="1143000"/>
                <a:tab algn="l" pos="1432080"/>
                <a:tab algn="l" pos="1774800"/>
                <a:tab algn="l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rom Terminal: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javadoc -d doc/ *.jav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860400"/>
                <a:tab algn="l" pos="1143000"/>
                <a:tab algn="l" pos="1432080"/>
                <a:tab algn="l" pos="1774800"/>
                <a:tab algn="l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clipse has this built in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ject  →  Generate Javadoc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860400"/>
                <a:tab algn="l" pos="1143000"/>
                <a:tab algn="l" pos="1432080"/>
                <a:tab algn="l" pos="1774800"/>
                <a:tab algn="l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860400"/>
                <a:tab algn="l" pos="1143000"/>
                <a:tab algn="l" pos="1432080"/>
                <a:tab algn="l" pos="1774800"/>
                <a:tab algn="l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actual Java API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ec web pages ar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generated from Sun'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Javadoc comments on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ir own source cod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495680" y="3313080"/>
            <a:ext cx="4448160" cy="30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Javadoc HTML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ava.util.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terface source co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/**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* Returns the element at the specified pos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* in this list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* </a:t>
            </a: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&lt;p&gt;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This method is </a:t>
            </a: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&lt;em&gt;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not</a:t>
            </a: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&lt;/em&gt;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guaranteed to ru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* in constant time. In some implementations it ma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* run in time proportional to the element positio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* @param index index of element to return; must b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*         non-negative and less than size of this li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* @return the element at the specified pos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* @throws IndexOutOfBoundsException if the index i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*         out of rang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*         ({@code index &lt; 0 || index &gt;= this.size()}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*/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int index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tice that HTML tags may be embedded inside the commen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Javadoc enums, constan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class constant or enumeration value can be commente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/**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* An instrument section of a symphony orchestr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* @author John Willia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*/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enum OrchestraSection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/** Woodwinds, such as flute, clarinet, and oboe. */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OODWIND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/** Brass instruments, such as trumpet. */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RASS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/** Percussion instruments, such as cymbals. */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ERCUSSION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/** Stringed instruments, such as violin and cello. */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Using @param/retur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't repeat yourself or write vacuous comme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/** Takes an index and element and adds the element ther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* </a:t>
            </a: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@param index index to us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* </a:t>
            </a: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@param element element to ad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*/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boolea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int index, E element) { 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/** Inserts the specified element at the specifi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* position in this list.  Shifts the element currently at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* that position (if any) and any subsequent elements t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* the right (adds one to their indices).  Returns whether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* the add was successful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* </a:t>
            </a: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@param index index at which the element is to be insert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* </a:t>
            </a: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@param element element to be inserted at the given inde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* </a:t>
            </a: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@return true if added successfully; false if no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* @throws IndexOutOfBoundsException if index out of rang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*         ({@code index &lt; 0 || index &gt; size()}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*/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boolea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int index, E element) { 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Your Javadoc is your spec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ever you write a class to be used by clients, you should write full Javadoc comments for all of its public behavi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constitutes your specification to all clients for your clas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You can post the generated HTML files publicly for clients to view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mmon distribution of a library of classe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binari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.class files, often packaged into an archiv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ecifica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Javadoc .html files, or a public URL to view the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clipse uses Javadoc for auto-completio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Javadoc comments fo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a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sed API eleme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anything that is non-private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638680" y="4724280"/>
            <a:ext cx="3100680" cy="18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Marty Stepp</cp:lastModifiedBy>
  <dcterms:modified xsi:type="dcterms:W3CDTF">2013-04-20T07:04:02Z</dcterms:modified>
  <cp:revision>609</cp:revision>
  <dc:subject/>
  <dc:title>CSE 142 Python Slides</dc:title>
</cp:coreProperties>
</file>