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AD96-9703-41E5-9625-9DFEAC84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670B-D34E-4B8E-9668-33DBA4B5D16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7Z</dcterms:modified>
  <cp:revision>98</cp:revision>
  <dc:subject/>
  <dc:title>CSE 142 Python Slides</dc:title>
</cp:coreProperties>
</file>