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87B1-5541-4A70-8972-54C499E5D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5DE5-4C1F-48DE-B238-82F48C490D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: You can base your knowledge of variable B on variable A if B's value is related to A'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slide, we know things about next, so we also know things about prev at certain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DE56-FD53-4086-849D-85A841163FC8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5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Logic and Indefinite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egories of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finite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xecutes a known number of ti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oops we have seen are definite loop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t "hello" 10 tim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 all the prime numbers up to an integer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t each odd number between 5 and 127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efinite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ne where the number of times its body repeats is not known in adva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mpt the user until they type a non-negative numb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t random numbers until a prime number is prin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at until the user has types "q" to qu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peatedly executes i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dy as long as a logical test is tr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 = 1;    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num &lt;= 200) {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 = num * 2;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upd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utput:  1 2 4 8 16 32 64 12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4" descr="while"/>
          <p:cNvPicPr/>
          <p:nvPr/>
        </p:nvPicPr>
        <p:blipFill>
          <a:blip r:embed="rId1"/>
          <a:stretch/>
        </p:blipFill>
        <p:spPr>
          <a:xfrm>
            <a:off x="6553080" y="1471680"/>
            <a:ext cx="2459160" cy="23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inds the first factor of 91, other than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 = 9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factor =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 (n % factor !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ctor++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First factor is " + factor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utput:  First factor is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better th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cause we don't know how many times we will need to increment to find the fa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nti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value that signals the end of user input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entinel loo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peats until a sentinel value is se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Write a program that prompts the user for numbers until the user types 0, then outputs their su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n this case, 0 is the sentinel value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sum is 6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ntinel 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sentinel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's wrong with this solu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ber = 1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dummy value", anything but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0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numbe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anging the sentinel valu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your program to use a sentinel value of -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log of executio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2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total is 8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anging the sentinel valu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see the problem, change the sentinel's value to -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ber = 1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dummy value", anything but -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numbe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the solution produces the wrong output.  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 total was 7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problem with our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code uses a pattern like th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um =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ile (input is not the sentine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mpt for input; read in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dd input to the su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the last pass, the sentinel -1 is added to the su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mpt for input; read input (-1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a50021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a50021"/>
                </a:solidFill>
                <a:latin typeface="Tahoma"/>
              </a:rPr>
              <a:t>add input (-1) to the su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a fencepost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rea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umbers, but only sum the firs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1 of th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fencepos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um =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prompt for input; read input.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8080"/>
                </a:solidFill>
                <a:latin typeface="Tahoma"/>
              </a:rPr>
              <a:t>// place a "post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ile (input is not the sentine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add input to the sum.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8080"/>
                </a:solidFill>
                <a:latin typeface="Tahoma"/>
              </a:rPr>
              <a:t>// place a "wire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mpt for input; read input.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8080"/>
                </a:solidFill>
                <a:latin typeface="Tahoma"/>
              </a:rPr>
              <a:t>// place a "post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inel loops often utilize a fencepost "loop-and-a-half" style solution by pulling some code out of the lo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rrect sentinel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ull one prompt/read ("post") out of the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ystem.out.print("Enter a number (-1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nt 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-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m = sum + number;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moved to top of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-1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deceptive problem..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Numb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prints each number from 1 to a given maximum, separated by comma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e ca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pri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ntinel as a consta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blic static final int SENTINEL = -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ull one prompt/read ("post") out of the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" +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ENTINE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ENTINE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number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moved to top of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" +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ENTINE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andom numbe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generates pseudo-random numb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found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ck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Number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.nextInt(10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0-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2666880"/>
          <a:ext cx="8809200" cy="1792440"/>
        </p:xfrm>
        <a:graphic>
          <a:graphicData uri="http://schemas.openxmlformats.org/drawingml/2006/table">
            <a:tbl>
              <a:tblPr/>
              <a:tblGrid>
                <a:gridCol w="1959120"/>
                <a:gridCol w="6850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In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andom inte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In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andom integer in the range [0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 other words, 0 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1 inclus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Doubl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andom real number in the range [0.0, 1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ating random nu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usage: to get a random number from 1 t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.nextInt(20) + 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-20 inclusi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get a number in arbitrary range [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 inclusiv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nextInt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ize of r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+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i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ze of rang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is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-240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A random integer between 4 and 10 inclusiv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.nextInt(7) + 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the following declaration, how would you ge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andom number between 1 and 47 inclusi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1 = rand.nextInt(47) +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andom number between 23 and 30 inclusi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2 = rand.nextInt(8) + 2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andom even number between 4 and 12 inclusi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3 = rand.nextInt(5) * 2 + 4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other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tween 0.0 - 1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Get a random GPA value between 1.5 and 4.0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randomGpa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.nextDoubl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 2.5 + 1.5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set of possible values can be mapped to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de to randomly play Rock-Paper-Scissor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 = rand.nextIn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r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Rock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r == 1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Paper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 ==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Scissor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simulates rolling of two 6-sided dice until their combined result comes up as 7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 + 4 = 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 + 5 = 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 + 6 = 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+ 1 =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4 + 3 =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ou won after 5 trie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olls two dice until a sum of 7 is reach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Dic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tries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sum != 7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oll the dice o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oll1 = rand.nextInt(6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oll2 = rand.nextInt(6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= roll1 + roll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roll1 + " + " + roll2 + " = " + sum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ies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won after " + tries + " tries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plays an adding g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k user to solve random adding problems with 2-5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user gets 1 point for a correct answer, 0 for incorr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rogram stops after 3 incorrect answ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+ 10 + 3 + 10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 + 2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 + 6 + 7 + 9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ong! The answer was 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+ 9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ong! The answer was 1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+ 9 + 9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 + 1 + 7 + 2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+ 2 + 10 + 9 + 7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ong! The answer was 3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 earned 4 total poi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sks the user to do adding problems and scores the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AddingGam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lay until user gets 3 wro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oints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wrong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wrong &lt; 3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result = play(console, rand)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lay one g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esult &gt;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ints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ong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earned " + points + " total poi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solu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max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 + ", 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max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, " + 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Builds one addition problem and presents it to the us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eturns 1 point if you get it right, 0 if wrong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play(Scanner console, Random rand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 the operands being added, and sum the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operands = rand.nextInt(4) + 2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um = rand.nextInt(10) +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sum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2; i &lt;= operands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 = rand.nextInt(10) +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+= n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 + " + 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 =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ead user's guess and report whether it was corre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guess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guess == sum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Wrong! The answer was " + 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o/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forms its test at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each repeti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uarantees that the loop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{}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ody will run at least o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while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Example: prompt until correct password is ty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phra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Type your password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hrase = console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while (!phrase.equals("abracadabra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3" descr="do_while"/>
          <p:cNvPicPr/>
          <p:nvPr/>
        </p:nvPicPr>
        <p:blipFill>
          <a:blip r:embed="rId1"/>
          <a:stretch/>
        </p:blipFill>
        <p:spPr>
          <a:xfrm>
            <a:off x="7385040" y="2178000"/>
            <a:ext cx="15336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o/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odify the previous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Dic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program to use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 + 4 = 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 + 5 = 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 + 6 = 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+ 1 =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4 + 3 =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ou won after 5 trie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good fit for our pas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nti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o/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olls two dice until a sum of 7 is reache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ic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tries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um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roll1 = rand.nextInt(6) + 1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ne rol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roll2 = rand.nextInt(6) +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= roll1 + roll2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roll1 + " + " + roll2 + " = " + sum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ies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while (sum != 7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won after " + tries + " tries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yp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thods that are te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thods return logical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all to such a method is used a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a loop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Type your first name: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startsWith("Dr.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Will you marry me?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endsWith("Esq.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And I am Ted 'Theodore' Logan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st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contains("Prof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When are your office hours?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equalsIgnoreCase("STUART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Let's talk about meta!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8160" y="1371600"/>
          <a:ext cx="9067680" cy="2690640"/>
        </p:xfrm>
        <a:graphic>
          <a:graphicData uri="http://schemas.openxmlformats.org/drawingml/2006/table">
            <a:tbl>
              <a:tblPr/>
              <a:tblGrid>
                <a:gridCol w="3038400"/>
                <a:gridCol w="6029280"/>
              </a:tblGrid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IgnoreCas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, ignoring upper vs. lower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art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he given string is found within this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logical type whose values a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-2358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ogical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ctually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xpress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-2358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s legal t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as a parame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from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l a method that return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use it as a t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 minor   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age &lt; 21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 isProf  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ame.contains("Prof"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 lovesCSE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allow only CSE-loving students over 2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inor || isProf || !lovesC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Can't enter the club!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is 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ful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capture a complex logical test result and use it la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write a method that does a complex test and returns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es code more read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pass around the result of a logical test (as param/retur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goodAge    = age &gt;= 12 &amp;&amp; age &lt; 2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goodHeight = height &gt;= 78 &amp;&amp; height &lt; 84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rich       = salary &gt;= 100000.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goodAge &amp;&amp; goodHeight) || ric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Okay, let's go out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t's not you, it's me...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sPrime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factors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% i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ctors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factors =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s to methods return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used as t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Prime(57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 post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prin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umbers but need on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1 comm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building a fence with wires separated by po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use a flawed algorithm that repeatedly places a post + wire, the last post will have an extra dangling wire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for (length of fenc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place a p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place some wi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4" name="Group 4"/>
          <p:cNvGrpSpPr/>
          <p:nvPr/>
        </p:nvGrpSpPr>
        <p:grpSpPr>
          <a:xfrm>
            <a:off x="2286000" y="4876920"/>
            <a:ext cx="4952520" cy="990360"/>
            <a:chOff x="2286000" y="4876920"/>
            <a:chExt cx="4952520" cy="990360"/>
          </a:xfrm>
        </p:grpSpPr>
        <p:grpSp>
          <p:nvGrpSpPr>
            <p:cNvPr id="95" name="Group 5"/>
            <p:cNvGrpSpPr/>
            <p:nvPr/>
          </p:nvGrpSpPr>
          <p:grpSpPr>
            <a:xfrm>
              <a:off x="2286000" y="4876920"/>
              <a:ext cx="990360" cy="990360"/>
              <a:chOff x="2286000" y="4876920"/>
              <a:chExt cx="990360" cy="9903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22860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" name="Group 7"/>
              <p:cNvGrpSpPr/>
              <p:nvPr/>
            </p:nvGrpSpPr>
            <p:grpSpPr>
              <a:xfrm>
                <a:off x="2514600" y="5029200"/>
                <a:ext cx="761760" cy="380160"/>
                <a:chOff x="2514600" y="5029200"/>
                <a:chExt cx="761760" cy="380160"/>
              </a:xfrm>
            </p:grpSpPr>
            <p:sp>
              <p:nvSpPr>
                <p:cNvPr id="98" name="Rectangle 8"/>
                <p:cNvSpPr/>
                <p:nvPr/>
              </p:nvSpPr>
              <p:spPr>
                <a:xfrm>
                  <a:off x="25146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Rectangle 9"/>
                <p:cNvSpPr/>
                <p:nvPr/>
              </p:nvSpPr>
              <p:spPr>
                <a:xfrm>
                  <a:off x="25146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" name="Group 10"/>
            <p:cNvGrpSpPr/>
            <p:nvPr/>
          </p:nvGrpSpPr>
          <p:grpSpPr>
            <a:xfrm>
              <a:off x="3276360" y="4876920"/>
              <a:ext cx="990360" cy="990360"/>
              <a:chOff x="3276360" y="4876920"/>
              <a:chExt cx="990360" cy="990360"/>
            </a:xfrm>
          </p:grpSpPr>
          <p:sp>
            <p:nvSpPr>
              <p:cNvPr id="101" name="Rectangle 11"/>
              <p:cNvSpPr/>
              <p:nvPr/>
            </p:nvSpPr>
            <p:spPr>
              <a:xfrm>
                <a:off x="327636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" name="Group 12"/>
              <p:cNvGrpSpPr/>
              <p:nvPr/>
            </p:nvGrpSpPr>
            <p:grpSpPr>
              <a:xfrm>
                <a:off x="3504960" y="5029200"/>
                <a:ext cx="761760" cy="380160"/>
                <a:chOff x="3504960" y="5029200"/>
                <a:chExt cx="761760" cy="380160"/>
              </a:xfrm>
            </p:grpSpPr>
            <p:sp>
              <p:nvSpPr>
                <p:cNvPr id="103" name="Rectangle 13"/>
                <p:cNvSpPr/>
                <p:nvPr/>
              </p:nvSpPr>
              <p:spPr>
                <a:xfrm>
                  <a:off x="350496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14"/>
                <p:cNvSpPr/>
                <p:nvPr/>
              </p:nvSpPr>
              <p:spPr>
                <a:xfrm>
                  <a:off x="350496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" name="Group 15"/>
            <p:cNvGrpSpPr/>
            <p:nvPr/>
          </p:nvGrpSpPr>
          <p:grpSpPr>
            <a:xfrm>
              <a:off x="4267080" y="4876920"/>
              <a:ext cx="990360" cy="990360"/>
              <a:chOff x="4267080" y="4876920"/>
              <a:chExt cx="990360" cy="990360"/>
            </a:xfrm>
          </p:grpSpPr>
          <p:sp>
            <p:nvSpPr>
              <p:cNvPr id="106" name="Rectangle 16"/>
              <p:cNvSpPr/>
              <p:nvPr/>
            </p:nvSpPr>
            <p:spPr>
              <a:xfrm>
                <a:off x="426708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" name="Group 17"/>
              <p:cNvGrpSpPr/>
              <p:nvPr/>
            </p:nvGrpSpPr>
            <p:grpSpPr>
              <a:xfrm>
                <a:off x="4495680" y="5029200"/>
                <a:ext cx="761760" cy="380160"/>
                <a:chOff x="4495680" y="5029200"/>
                <a:chExt cx="761760" cy="380160"/>
              </a:xfrm>
            </p:grpSpPr>
            <p:sp>
              <p:nvSpPr>
                <p:cNvPr id="108" name="Rectangle 18"/>
                <p:cNvSpPr/>
                <p:nvPr/>
              </p:nvSpPr>
              <p:spPr>
                <a:xfrm>
                  <a:off x="449568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Rectangle 19"/>
                <p:cNvSpPr/>
                <p:nvPr/>
              </p:nvSpPr>
              <p:spPr>
                <a:xfrm>
                  <a:off x="449568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" name="Group 20"/>
            <p:cNvGrpSpPr/>
            <p:nvPr/>
          </p:nvGrpSpPr>
          <p:grpSpPr>
            <a:xfrm>
              <a:off x="5257800" y="4876920"/>
              <a:ext cx="990360" cy="990360"/>
              <a:chOff x="5257800" y="4876920"/>
              <a:chExt cx="990360" cy="990360"/>
            </a:xfrm>
          </p:grpSpPr>
          <p:sp>
            <p:nvSpPr>
              <p:cNvPr id="111" name="Rectangle 21"/>
              <p:cNvSpPr/>
              <p:nvPr/>
            </p:nvSpPr>
            <p:spPr>
              <a:xfrm>
                <a:off x="52578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Group 22"/>
              <p:cNvGrpSpPr/>
              <p:nvPr/>
            </p:nvGrpSpPr>
            <p:grpSpPr>
              <a:xfrm>
                <a:off x="5486400" y="5029200"/>
                <a:ext cx="761760" cy="380160"/>
                <a:chOff x="5486400" y="5029200"/>
                <a:chExt cx="761760" cy="380160"/>
              </a:xfrm>
            </p:grpSpPr>
            <p:sp>
              <p:nvSpPr>
                <p:cNvPr id="113" name="Rectangle 23"/>
                <p:cNvSpPr/>
                <p:nvPr/>
              </p:nvSpPr>
              <p:spPr>
                <a:xfrm>
                  <a:off x="54864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Rectangle 24"/>
                <p:cNvSpPr/>
                <p:nvPr/>
              </p:nvSpPr>
              <p:spPr>
                <a:xfrm>
                  <a:off x="54864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" name="Group 25"/>
            <p:cNvGrpSpPr/>
            <p:nvPr/>
          </p:nvGrpSpPr>
          <p:grpSpPr>
            <a:xfrm>
              <a:off x="6248160" y="4876920"/>
              <a:ext cx="990360" cy="990360"/>
              <a:chOff x="6248160" y="4876920"/>
              <a:chExt cx="990360" cy="990360"/>
            </a:xfrm>
          </p:grpSpPr>
          <p:sp>
            <p:nvSpPr>
              <p:cNvPr id="116" name="Rectangle 26"/>
              <p:cNvSpPr/>
              <p:nvPr/>
            </p:nvSpPr>
            <p:spPr>
              <a:xfrm>
                <a:off x="624816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" name="Group 27"/>
              <p:cNvGrpSpPr/>
              <p:nvPr/>
            </p:nvGrpSpPr>
            <p:grpSpPr>
              <a:xfrm>
                <a:off x="6476760" y="5029200"/>
                <a:ext cx="761760" cy="380160"/>
                <a:chOff x="6476760" y="5029200"/>
                <a:chExt cx="761760" cy="380160"/>
              </a:xfrm>
            </p:grpSpPr>
            <p:sp>
              <p:nvSpPr>
                <p:cNvPr id="118" name="Rectangle 28"/>
                <p:cNvSpPr/>
                <p:nvPr/>
              </p:nvSpPr>
              <p:spPr>
                <a:xfrm>
                  <a:off x="647676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Rectangle 29"/>
                <p:cNvSpPr/>
                <p:nvPr/>
              </p:nvSpPr>
              <p:spPr>
                <a:xfrm>
                  <a:off x="647676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 our "rhyme" / "alliterate" program to use boolean methods to test for rhyming and alliter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ype two words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Bare bl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y rhym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y alliterat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ym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rhym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literat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alliterat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hyme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s2.length() &gt;= 2 &amp;&amp; s1.endsWith(s2.substring(s2.length() - 2)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start with the same letter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alliter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s1.startsWith(s2.substring(0, 1)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oolean Zen", part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s new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ten test if a resul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isPrime(57) == tr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ba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this is unnecessary and redundant.  Preferr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sPrime(57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o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pattern can be used for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e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isPrime(57) == fa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ba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!isPrime(57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o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oolean Zen", part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ten have 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n1 % 2 != 0 &amp;&amp; n2 % 2 != 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the code above is unnecessarily verbos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 w/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We could store the result of the logical test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 tes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1 % 2 != 0 &amp;&amp; n2 % 2 != 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est ==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est == 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ice: Whatev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, we want to return tha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e want to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e want to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 w/ "Boolean Zen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ervation: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un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ore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lu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s value is exactly what you want to return.  So return that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test = (n1 % 2 != 0 &amp;&amp; n2 % 2 != 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tes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ven shorter ver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on't even need the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just perform the test and return its result in one ste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(n1 % 2 != 0 &amp;&amp; n2 % 2 != 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oolean Zen" templ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sPrim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version utilizes Boolean Z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sPrime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factors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% i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ctors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factors == 2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f n has 2 factors,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our Rhyme program to use Boolean Z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Ze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Type two words: 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word1 = console.next().toLowerCase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word2 = console.next().toLowerCase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ym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rhym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literat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alliterat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rhym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s2.length() &gt;= 2 &amp;&amp; s1.endsWith(s2.substring(s2.length() - 2)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start with the same letter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alliter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s1.startsWith(s2.substring(0, 1)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Short-circuit" evalu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stops evaluating a test if it knows the answ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stops early if any part of the tes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stops early if any part of the tes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test will crash if s2's length is less than 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rhyme(String s1, String s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1.endsWith(s2.substring(s2.length() - 2)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&amp;&a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1.length() &gt;= 2 &amp;&amp; s2.length() &gt;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test will not crash; it stops if length &lt; 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rhyme(String s1, String s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1.length() &gt;= 2 &amp;&amp; s2.length() &gt;= 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&amp;&amp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1.endsWith(s2.substring(s2.length() - 2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statement outside the loop to place the initial "post.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so called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fencepost loo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a "loop-and-a-half" solu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lace a p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for (length of fence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- 1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lace some wi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lace a p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2286000" y="4876920"/>
            <a:ext cx="4191120" cy="990360"/>
            <a:chOff x="2286000" y="4876920"/>
            <a:chExt cx="4191120" cy="990360"/>
          </a:xfrm>
        </p:grpSpPr>
        <p:grpSp>
          <p:nvGrpSpPr>
            <p:cNvPr id="123" name="Group 5"/>
            <p:cNvGrpSpPr/>
            <p:nvPr/>
          </p:nvGrpSpPr>
          <p:grpSpPr>
            <a:xfrm>
              <a:off x="2286000" y="4876920"/>
              <a:ext cx="990360" cy="990360"/>
              <a:chOff x="2286000" y="4876920"/>
              <a:chExt cx="990360" cy="990360"/>
            </a:xfrm>
          </p:grpSpPr>
          <p:sp>
            <p:nvSpPr>
              <p:cNvPr id="124" name="Rectangle 6"/>
              <p:cNvSpPr/>
              <p:nvPr/>
            </p:nvSpPr>
            <p:spPr>
              <a:xfrm>
                <a:off x="22860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" name="Group 7"/>
              <p:cNvGrpSpPr/>
              <p:nvPr/>
            </p:nvGrpSpPr>
            <p:grpSpPr>
              <a:xfrm>
                <a:off x="2514600" y="5029200"/>
                <a:ext cx="761760" cy="380160"/>
                <a:chOff x="2514600" y="5029200"/>
                <a:chExt cx="761760" cy="380160"/>
              </a:xfrm>
            </p:grpSpPr>
            <p:sp>
              <p:nvSpPr>
                <p:cNvPr id="126" name="Rectangle 8"/>
                <p:cNvSpPr/>
                <p:nvPr/>
              </p:nvSpPr>
              <p:spPr>
                <a:xfrm>
                  <a:off x="25146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Rectangle 9"/>
                <p:cNvSpPr/>
                <p:nvPr/>
              </p:nvSpPr>
              <p:spPr>
                <a:xfrm>
                  <a:off x="25146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" name="Group 10"/>
            <p:cNvGrpSpPr/>
            <p:nvPr/>
          </p:nvGrpSpPr>
          <p:grpSpPr>
            <a:xfrm>
              <a:off x="3276720" y="4876920"/>
              <a:ext cx="990360" cy="990360"/>
              <a:chOff x="3276720" y="4876920"/>
              <a:chExt cx="990360" cy="990360"/>
            </a:xfrm>
          </p:grpSpPr>
          <p:sp>
            <p:nvSpPr>
              <p:cNvPr id="129" name="Rectangle 11"/>
              <p:cNvSpPr/>
              <p:nvPr/>
            </p:nvSpPr>
            <p:spPr>
              <a:xfrm>
                <a:off x="327672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Group 12"/>
              <p:cNvGrpSpPr/>
              <p:nvPr/>
            </p:nvGrpSpPr>
            <p:grpSpPr>
              <a:xfrm>
                <a:off x="3505320" y="5029200"/>
                <a:ext cx="761760" cy="380160"/>
                <a:chOff x="3505320" y="5029200"/>
                <a:chExt cx="761760" cy="380160"/>
              </a:xfrm>
            </p:grpSpPr>
            <p:sp>
              <p:nvSpPr>
                <p:cNvPr id="131" name="Rectangle 13"/>
                <p:cNvSpPr/>
                <p:nvPr/>
              </p:nvSpPr>
              <p:spPr>
                <a:xfrm>
                  <a:off x="350532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Rectangle 14"/>
                <p:cNvSpPr/>
                <p:nvPr/>
              </p:nvSpPr>
              <p:spPr>
                <a:xfrm>
                  <a:off x="350532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5"/>
            <p:cNvGrpSpPr/>
            <p:nvPr/>
          </p:nvGrpSpPr>
          <p:grpSpPr>
            <a:xfrm>
              <a:off x="4267440" y="4876920"/>
              <a:ext cx="990360" cy="990360"/>
              <a:chOff x="4267440" y="4876920"/>
              <a:chExt cx="990360" cy="990360"/>
            </a:xfrm>
          </p:grpSpPr>
          <p:sp>
            <p:nvSpPr>
              <p:cNvPr id="134" name="Rectangle 16"/>
              <p:cNvSpPr/>
              <p:nvPr/>
            </p:nvSpPr>
            <p:spPr>
              <a:xfrm>
                <a:off x="426744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" name="Group 17"/>
              <p:cNvGrpSpPr/>
              <p:nvPr/>
            </p:nvGrpSpPr>
            <p:grpSpPr>
              <a:xfrm>
                <a:off x="4496040" y="5029200"/>
                <a:ext cx="761760" cy="380160"/>
                <a:chOff x="4496040" y="5029200"/>
                <a:chExt cx="761760" cy="380160"/>
              </a:xfrm>
            </p:grpSpPr>
            <p:sp>
              <p:nvSpPr>
                <p:cNvPr id="136" name="Rectangle 18"/>
                <p:cNvSpPr/>
                <p:nvPr/>
              </p:nvSpPr>
              <p:spPr>
                <a:xfrm>
                  <a:off x="449604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9"/>
                <p:cNvSpPr/>
                <p:nvPr/>
              </p:nvSpPr>
              <p:spPr>
                <a:xfrm>
                  <a:off x="449604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20"/>
            <p:cNvGrpSpPr/>
            <p:nvPr/>
          </p:nvGrpSpPr>
          <p:grpSpPr>
            <a:xfrm>
              <a:off x="5257800" y="4876920"/>
              <a:ext cx="990360" cy="990360"/>
              <a:chOff x="5257800" y="4876920"/>
              <a:chExt cx="990360" cy="990360"/>
            </a:xfrm>
          </p:grpSpPr>
          <p:sp>
            <p:nvSpPr>
              <p:cNvPr id="139" name="Rectangle 21"/>
              <p:cNvSpPr/>
              <p:nvPr/>
            </p:nvSpPr>
            <p:spPr>
              <a:xfrm>
                <a:off x="52578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" name="Group 22"/>
              <p:cNvGrpSpPr/>
              <p:nvPr/>
            </p:nvGrpSpPr>
            <p:grpSpPr>
              <a:xfrm>
                <a:off x="5486400" y="5029200"/>
                <a:ext cx="761760" cy="380160"/>
                <a:chOff x="5486400" y="5029200"/>
                <a:chExt cx="761760" cy="380160"/>
              </a:xfrm>
            </p:grpSpPr>
            <p:sp>
              <p:nvSpPr>
                <p:cNvPr id="141" name="Rectangle 23"/>
                <p:cNvSpPr/>
                <p:nvPr/>
              </p:nvSpPr>
              <p:spPr>
                <a:xfrm>
                  <a:off x="54864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24"/>
                <p:cNvSpPr/>
                <p:nvPr/>
              </p:nvSpPr>
              <p:spPr>
                <a:xfrm>
                  <a:off x="54864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" name="Rectangle 25"/>
            <p:cNvSpPr/>
            <p:nvPr/>
          </p:nvSpPr>
          <p:spPr>
            <a:xfrm>
              <a:off x="6248520" y="4876920"/>
              <a:ext cx="228600" cy="99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 Morgan's Law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 Morgan's La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ules used to negate boolean te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when you want the opposite of an existing te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685800" y="2317680"/>
          <a:ext cx="7756560" cy="1065240"/>
        </p:xfrm>
        <a:graphic>
          <a:graphicData uri="http://schemas.openxmlformats.org/drawingml/2006/table">
            <a:tbl>
              <a:tblPr/>
              <a:tblGrid>
                <a:gridCol w="2965320"/>
                <a:gridCol w="3024360"/>
                <a:gridCol w="1766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iginal 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gated 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tern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&amp;&amp;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a || !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a &amp;&amp;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||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a &amp;&amp; !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a ||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457200" y="4622760"/>
          <a:ext cx="8229600" cy="1244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iginal 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gated 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x == 7 &amp;&amp; y &gt; 3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x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!=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7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||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y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&lt;=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3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practice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Vow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whether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vowel (a, e, i, o, or u), case-insensit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Vowel("q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Vowel("A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Vowel("e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 the above method into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NonVow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whether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y character except a vow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NonVowel("q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NonVowel("A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NonVowel("e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practice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nlightened version.  I have seen the true way (and false wa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Vowel(String 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.equalsIgnoreCase("a") || s.equalsIgnoreCase("e") |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.equalsIgnoreCase("i") || s.equalsIgnoreCase("o") |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.equalsIgnoreCase("u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nlightened "Boolean Zen" vers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NonVowel(String 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!s.equalsIgnoreCase("a") &amp;&amp; !s.equalsIgnoreCase("e"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!s.equalsIgnoreCase("i") &amp;&amp; !s.equalsIgnoreCase("o"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!s.equalsIgnoreCase("u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r, return !isVowel(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en to return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with loops and return values can be trick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and where should the method return its resul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v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 and uses it to draw up to ten lotto numbers from 1-3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ny of the numbers is a lucky 7, the method should stop and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If none of the ten are 7 it should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should print each number as it is draw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 29 18 29 11 3 30 17 19 2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first cal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9 5 29 4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7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econd cal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10 lotto numbers; returns true if one is 7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seven(Random ra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 = rand.nextInt(30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if (num == 7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always returns immediately after the first rol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wrong if that roll isn't a 7; we need to keep roll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ing at the right ti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10 lotto numbers; returns true if one is 7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seven(Random ra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 = rand.nextInt(30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99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f (num == 7) {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und lucky 7; can exit n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8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false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if we get here, there was no 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mmediately if 7 is foun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7 isn't found, the loop continues drawing lotto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ll ten aren't 7, the loop ends and we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gitS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integer parameter and returns the sum of its digi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that the number is non-negati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igitSum(2910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2+9+1+0+7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nt: Us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perator to extract a digit from a numb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digitSum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Math.abs(n)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handle negat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(n % 10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dd last dig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n / 10;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move last dig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um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return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AnOddDigi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an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 of an integer is od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AnOddDigit(4822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1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AnOddDigit(2448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DigitsO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eve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 of an integer is od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DigitsOdd(135319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DigitsOdd(917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AllVowe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eve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 i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vowe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AllVowels("eIeIo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AllVowels("oi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nk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problems are available in our Practice-It! system unde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return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hasAnOddDigit(int n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 !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% 2 != 0) {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heck whether last digit is od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allDigitsOdd(int n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 !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% 2 == 0) {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heck whether last digit is ev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AllVowels(String 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letter = s.substring(i, 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isVowel(letter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method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26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System.out.print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 &lt;= max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", " + i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)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ternate solution: Either first or last "post" can be taken o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&lt;= max - 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+ ", 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System.out.println(max);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ogical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gical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ser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tatement that is either true or fal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va was created in 1995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ky is purp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3 is a prime numb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0 is greater than 2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x divided by 2 equals 7.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(depends on the value of x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ssertion might be false ("The sky is purple" above), but it is still an assertion because it is a true/false stat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soning about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you have the following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x &gt; 3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--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++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do you know abou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value at the three po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&gt; 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Always?  Sometimes?  Nev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s in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make assertions about our code and ask whether they are true at various points in the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Valid answers are ALWAYS, NEVER, or SOMETIME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"Type a nonnegative number: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number = console.nextDoubl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A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number &lt; 0.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B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"Negative; try again: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 = console.nextDoubl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C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D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7134120" y="2317680"/>
            <a:ext cx="2057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SOMETIM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ALWAY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SOMETIM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NEV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soning about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ght after a variable is initialized, its value is know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x &gt; 0?  ALWAY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eneral you know nothing about parameters'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ystery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a == 10?  SOMETIM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inside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tc., you may know someth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ystery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a &lt;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a == 10?  NEV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s and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start of a loop's body, the loop's test must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y &lt; 10?  ALWAY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a loop, the loop's test must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y &lt; 10?  NEV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ide a loop's body, the loop's test may becom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++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y &lt; 10?  SOMETIM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Sometimes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gs that cause a variable's value to be unknow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often leads to "sometimes" answer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from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a number from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arameter's initial value to a meth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 can reach a part of the program both with the answer being "yes" and the answer being "no", then the correct answer is "sometimes"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're unsure, "Sometimes" is a good gue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 example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ystery(int x, int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z = 0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x &gt;=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x - y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x !=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 = z *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z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478400" y="3809880"/>
          <a:ext cx="4665600" cy="2286000"/>
        </p:xfrm>
        <a:graphic>
          <a:graphicData uri="http://schemas.openxmlformats.org/drawingml/2006/table">
            <a:tbl>
              <a:tblPr/>
              <a:tblGrid>
                <a:gridCol w="922320"/>
                <a:gridCol w="114120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 &lt;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 ==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z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4473720" y="3809880"/>
          <a:ext cx="4665600" cy="2292480"/>
        </p:xfrm>
        <a:graphic>
          <a:graphicData uri="http://schemas.openxmlformats.org/drawingml/2006/table">
            <a:tbl>
              <a:tblPr/>
              <a:tblGrid>
                <a:gridCol w="922320"/>
                <a:gridCol w="114120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Text Box 41"/>
          <p:cNvSpPr/>
          <p:nvPr/>
        </p:nvSpPr>
        <p:spPr>
          <a:xfrm>
            <a:off x="4114800" y="259092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Which of the following assertion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rue at which point(s) in the code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hoose ALWAYS, NEVER, or SOME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mystery(Scanner consol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rev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ext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A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ext !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ext == prev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ev = nex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4478400" y="3809880"/>
          <a:ext cx="4665600" cy="2286000"/>
        </p:xfrm>
        <a:graphic>
          <a:graphicData uri="http://schemas.openxmlformats.org/drawingml/2006/table">
            <a:tbl>
              <a:tblPr/>
              <a:tblGrid>
                <a:gridCol w="921960"/>
                <a:gridCol w="114156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rev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 == pr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4473720" y="3809880"/>
          <a:ext cx="4665600" cy="229248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14120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Text Box 41"/>
          <p:cNvSpPr/>
          <p:nvPr/>
        </p:nvSpPr>
        <p:spPr>
          <a:xfrm>
            <a:off x="4114800" y="259092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Which of the following assertion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rue at which point(s) in the code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hoose ALWAYS, NEVER, or SOME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 example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ssumes y &gt;= 0, and returns x^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pow(int x, int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rod =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y &gt;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y % 2 =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x * 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= y /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od = prod * 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pro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5257800" y="3124080"/>
          <a:ext cx="3352680" cy="307836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288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&gt;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% 2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Text Box 41"/>
          <p:cNvSpPr/>
          <p:nvPr/>
        </p:nvSpPr>
        <p:spPr>
          <a:xfrm>
            <a:off x="4114800" y="205740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Which of the following assertion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rue at which point(s) in the code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hoose ALWAYS, NEVER, or SOME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5257800" y="3124080"/>
          <a:ext cx="3352680" cy="307656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288800"/>
              </a:tblGrid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&gt;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% 2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your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Numb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a new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Prim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prints al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im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s up to a ma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Primes(50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2, 3, 5, 7, 11, 13, 17, 19, 23, 29, 31, 37, 41, 43, 47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maximum is less than 2, print no out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help you, 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untF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ich returns the number of factors of a given integ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Factors(20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ue to factors 1, 2, 4, 5, 10, 2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s all prime numbers up to the given max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printPrimes(int max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max &gt;= 2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2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3; i &lt;= max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countFactors(i) == 2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, " + i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eturns how many factors the given number ha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i is a factor of numb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17Z</dcterms:modified>
  <cp:revision>124</cp:revision>
  <dc:subject/>
  <dc:title>CSE 142 Python Slides</dc:title>
</cp:coreProperties>
</file>