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E688-1947-42BD-9919-1F8C665B8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looping over a collection while modifyi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not destroying a stack while examining it (write 1st version that destroys stack, 2nd version puts it ba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ing each element once i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ouldn't want me to just throw your exam in the garbage as I read it, would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2975-0767-4D68-9BE7-2EBF0862058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n input file of exam scores in reverse ABC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eilding      Janet      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te         Steven     8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dd          Kim        5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shev        Sylvia     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o print the exam scores in ABC order using a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're asked to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ack of integers and returns the largest integer in the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olution is seemingly correc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s.size() &gt;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is correct, but what is wrong with th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estroys the stack in figuring out its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fix this, you must save and restore the stack's cont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&lt;Integer&gt; backup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max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!backup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.push(backup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trieves elements in the order they were ad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-In, First-Out ("F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order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rtion but don't have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an only add to the end of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, and can only examine/remo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ront of the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queue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enqueue): Add an element to the b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dequeue): Remov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1914480"/>
            <a:ext cx="3352680" cy="204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0200" y="4114800"/>
            <a:ext cx="48574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ng sys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int jobs to send to the pri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ograms / processes to be ru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network data packets to se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ing a line of customers or cli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ing a queue of computations to be performed in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ople on an escalator or waiting in a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rs at a gas station (or on an assembly lin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Queu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eue&lt;Integer&gt; q = new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17)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ront [42, -3, 17] 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q.remove(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MPORTA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When constructing a queue you must use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nstead of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77240" indent="-148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has to do with a topic we'll discuss later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295280"/>
          <a:ext cx="8321760" cy="2374920"/>
        </p:xfrm>
        <a:graphic>
          <a:graphicData uri="http://schemas.openxmlformats.org/drawingml/2006/table">
            <a:tbl>
              <a:tblPr/>
              <a:tblGrid>
                <a:gridCol w="1717920"/>
                <a:gridCol w="660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at back of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value from front of queue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ront value from queue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4343400" y="4191120"/>
            <a:ext cx="914040" cy="380880"/>
            <a:chOff x="4343400" y="4191120"/>
            <a:chExt cx="914040" cy="380880"/>
          </a:xfrm>
        </p:grpSpPr>
        <p:sp>
          <p:nvSpPr>
            <p:cNvPr id="132" name=""/>
            <p:cNvSpPr/>
            <p:nvPr/>
          </p:nvSpPr>
          <p:spPr>
            <a:xfrm flipV="1">
              <a:off x="434340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0060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02884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 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with stacks, must pull contents out of queue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idiom: Examining each element exactly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ize = q.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cluding possibly re-adding it to the que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do we need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xing 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mix stacks and queues to achieve certain eff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verse the order of the elements of a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&lt;Integer&gt; q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3);         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1, 2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Q -&gt; 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push(q.remov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 -&gt; Q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s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q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3, 2, 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exam score program so that it reads the exam scores into a queue and prints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, filter out any exams where the student got a score of 1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perform your previous code of reversing and printing the remaining stud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integers as a parameter and replaces every element of the queue with two copies of that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2, 3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1, 2, 2, 3, 3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strings as a parameter and appends the queue's contents to itself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, c, b, a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tfix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mathematical expression but with the operators written after the operands rather than bef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1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2 * 3 + 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2 3 * + 4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ed by many kinds of fancy calcula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parenthe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an = character to evaluate on a calcul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stfixEvalu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ostfix expression string, evaluates it, and returns the res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operands are integers; legal operator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FixEvaluate("5 2 4 * + 7 -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fix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: Use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nd, push it onto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 the last two operands off of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the operator to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sh the result onto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're done, the one remaining stack element is the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5 2 4 * + 7 -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76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909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505320" y="472932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4197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4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248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valuates the given prefix expression and returns its resul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string represents a legal postfix ex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stfixEvaluate(String expressio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express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Int()) {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nd (integ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ush(input.nextI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operator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operator.equals("+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+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-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-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*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*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/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motiv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 do few things, but they do them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6880" y="337356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40640" y="59580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33760" y="4724280"/>
            <a:ext cx="5384880" cy="1602000"/>
            <a:chOff x="3533760" y="4724280"/>
            <a:chExt cx="5384880" cy="1602000"/>
          </a:xfrm>
        </p:grpSpPr>
        <p:sp>
          <p:nvSpPr>
            <p:cNvPr id="161" name=""/>
            <p:cNvSpPr/>
            <p:nvPr/>
          </p:nvSpPr>
          <p:spPr>
            <a:xfrm>
              <a:off x="5667480" y="5958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3533760" y="4724280"/>
              <a:ext cx="538488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909800"/>
          <a:ext cx="8382240" cy="441468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at given index, shifting subsequent values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perations are most/least efficient, and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we will examine two specialty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reverse of th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sam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6880" y="377208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40640" y="63565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67480" y="572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33760" y="4621320"/>
            <a:ext cx="53848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data types (ADT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know exactly how a stack or queue is implemented, and we don't need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just need to understand the idea of the collection and what operations it can perfor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(Stacks are usually implemented with arrays; queues are often implemented using another structure called a linked list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based on the principle of adding elements and retrieving them in the opposit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-In, First-Out ("L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are stored in order of insertion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not think of them as having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can only add/remove/examin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added (the "to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stack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s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dd an element to the 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mov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15200" y="1981080"/>
            <a:ext cx="1386000" cy="2000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267080"/>
            <a:ext cx="2495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languages and compil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calls are placed onto a stack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call=push, return=pop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s use stacks to evaluate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up related pairs of th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 out whether a string is a palindro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ine a file to see if its bra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other operators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 "infix" expressions to "postfix" or "prefix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phisticated algorith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arching through a maze with "backtracking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programs use an "undo stack" of previous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781680" y="2346480"/>
          <a:ext cx="2092320" cy="1539720"/>
        </p:xfrm>
        <a:graphic>
          <a:graphicData uri="http://schemas.openxmlformats.org/drawingml/2006/table">
            <a:tbl>
              <a:tblPr/>
              <a:tblGrid>
                <a:gridCol w="1076400"/>
                <a:gridCol w="10159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a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1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17);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ottom [42, -3, 17] t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.pop())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other methods, but we forbid you to use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90480" y="1371600"/>
          <a:ext cx="7691400" cy="2739960"/>
        </p:xfrm>
        <a:graphic>
          <a:graphicData uri="http://schemas.openxmlformats.org/drawingml/2006/table">
            <a:tbl>
              <a:tblPr/>
              <a:tblGrid>
                <a:gridCol w="1869840"/>
                <a:gridCol w="582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ck&lt;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tructs a new stack with elements of typ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on top of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p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op value from stack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op value from stack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 limitations/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: You cannot loop over a stack in the usual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get(i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you must pull contents out of the stack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idiom: Removing each element until the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543040"/>
            <a:ext cx="5410080" cy="990360"/>
            <a:chOff x="914400" y="2543040"/>
            <a:chExt cx="5410080" cy="990360"/>
          </a:xfrm>
        </p:grpSpPr>
        <p:sp>
          <p:nvSpPr>
            <p:cNvPr id="114" name=""/>
            <p:cNvSpPr/>
            <p:nvPr/>
          </p:nvSpPr>
          <p:spPr>
            <a:xfrm>
              <a:off x="914400" y="2619000"/>
              <a:ext cx="54100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14400" y="2543040"/>
              <a:ext cx="54100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13Z</dcterms:modified>
  <cp:revision>155</cp:revision>
  <dc:subject/>
  <dc:title>CSE 142 Python Slides</dc:title>
</cp:coreProperties>
</file>