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B0ED-0F73-4ED0-A4D0-6A0589112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A27E-5B6B-4103-8035-E66F07BF93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basically not possible to write a swap method that accepts two 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p can't escape from itself to modify the outside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rt of like the villains in the holodeck on Star Trek; they can wreak havoc in their holo-world, but they can't leave and attack the real Enterprise outsid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This is also the reason that it works when you pass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raphics 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s a parameter to a method, because it is drawing with the same pen object onto the same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probably won't reach this in lecture; it's here just in c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time: Curve the scores; add a fixed number to each sco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ut don't allow a curved score to exceed the max of 100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ime purposes, I will begin with the code already written to open the file and read each sc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2E32-C89F-4491-BBDF-B2F1A4F7A99B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7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array el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numbers = new int[8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1]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4] = 9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6] =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numbers[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x] = 4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numbers[6]] = 11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use numbers[6] as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14400" y="4038480"/>
          <a:ext cx="1428840" cy="52056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52280" y="5410080"/>
          <a:ext cx="1447920" cy="52056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umb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914400" y="4038480"/>
          <a:ext cx="1428840" cy="52056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752480" y="4876920"/>
          <a:ext cx="5308560" cy="10411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752480" y="4876920"/>
          <a:ext cx="5308560" cy="10411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f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common to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oops to access array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8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numbers[i] + "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output: 0 4 11 0 44 0 0 2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we assign each element a value in a loo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8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i] = 2 * 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981080" y="5130720"/>
          <a:ext cx="530856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ength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fiel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rray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ield stores its number of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lengt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umbers.leng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numbers[i] + " 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utput: 0 2 4 6 8 10 12 1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does not use parentheses like a String'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length(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4600" indent="-26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expressions refer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ast element of any array?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iddle elemen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eather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n array to solve the weather proble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days' temperatures?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1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2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4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5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6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7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5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temp = 44.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4 days were above aver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eather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8240" y="1294920"/>
            <a:ext cx="89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s temperatures from the user, computes average and # days above average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class Weather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How many days' temperatures? 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days = console.nextInt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nt[] temps = new int[days];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array to store days' temperature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 (int i = 0; i &lt; days; i++) {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/store each day's temperatur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Day " + (i + 1) + "'s high temp: 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emps[i] = console.nextInt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um += temps[i]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average = (double) sum / days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count = 0;              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see if each day is above averag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 (int i = 0; i &lt; days; i++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emps[i]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&gt; average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port result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f("Average temp = %.1f\n", average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count + " days above average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ick array initializ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]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int[] numbers = {12, 49, -2, 26, 5, 17, -6}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when you know what the array's elements will b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 figures out the size by counting the val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209680" y="297180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Array mystery"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avers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xamination of each element of an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element values are stored in the following array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 = {1, 7, 5, 6, 4, 14, 11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a[i] &gt; a[i + 1]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[i + 1] = a[i + 1] *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179800" y="497844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179800" y="497844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mitations of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not resize an existing arr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 = new int[4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a.length = 10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not compare array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1 = {42, -7, 1, 15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2 = {42, -7, 1, 15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a1 == a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... }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alse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a1.equals(a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... }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alse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rray does not know how to print itsel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1 = {42, -7, 1, 15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1);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[I@98f8c4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packag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useful static methods for manipulating array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6440" indent="-226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6320" y="2209680"/>
          <a:ext cx="8991360" cy="3409920"/>
        </p:xfrm>
        <a:graphic>
          <a:graphicData uri="http://schemas.openxmlformats.org/drawingml/2006/table">
            <a:tbl>
              <a:tblPr/>
              <a:tblGrid>
                <a:gridCol w="3809880"/>
                <a:gridCol w="5181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index of the given value in a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rt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array (or &lt; 0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py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ng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new copy of an arr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two arrays contain same elements in the same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ts every element to the given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nges the elements into sorted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string representing the array, such a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[10, 30, -25, 17]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s.toSt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.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epts an array as a parameter and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ation of its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e = {0, 2, 4, 6, 8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[1] = e[3] + e[4]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e is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s.toString(e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 is [0, 14, 4, 6, 8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n we solve this problem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program (input underlined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days' temperatures?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1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2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4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5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6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7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5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temp = 44.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4 days were above aver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Picture 4" descr="CLOUDS&amp;RAIN"/>
          <p:cNvPicPr/>
          <p:nvPr/>
        </p:nvPicPr>
        <p:blipFill>
          <a:blip r:embed="rId1"/>
          <a:stretch/>
        </p:blipFill>
        <p:spPr>
          <a:xfrm>
            <a:off x="6629400" y="2057400"/>
            <a:ext cx="203976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eather ques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weather program to print the following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days' temperatures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1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2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4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5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6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7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temp = 44.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4 days were above aver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Temperatures: [45, 44, 39, 48, 37, 46, 53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Two coldest days: 37, 3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Two hottest days: 53, 4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eather answ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28240" y="1294920"/>
            <a:ext cx="89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s temperatures from the user, computes average and # days above average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class Weather2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[] temps = new int[days];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array to store days' temperature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...   </a:t>
            </a:r>
            <a:r>
              <a:rPr b="0" i="1" lang="en-US" sz="1300" spc="-1" strike="noStrike">
                <a:solidFill>
                  <a:srgbClr val="000000"/>
                </a:solidFill>
                <a:latin typeface="Courier New"/>
              </a:rPr>
              <a:t>(same as Weather program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port result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f("Average temp = %.1f\n", average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count + " days above average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Temperatures: 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rrays.toString(temps)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rrays.sort(temps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Two coldest days: " + temps[0] + ", " + temps[1]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Two hottest days: " + temps[temps.length - 1] +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", " + temps[temps.length - 2]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rrays as paramete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wapping 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3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wap a with b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a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b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a50021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 + " " +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wrong with this code?  What is its outpu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d code should be replaced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nt temp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a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b = temp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versal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code that reverses the elements of an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example, if the array initially stor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11, 42, -5, 27, 0, 89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after your reversal code, it should sto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89, 0, 27, -5, 42, 1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de should work for an array of any siz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nt: think about swapping various elements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lgorithm id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ap pairs of elements from the edges;  work inwar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676520" y="2333520"/>
          <a:ext cx="4647960" cy="790560"/>
        </p:xfrm>
        <a:graphic>
          <a:graphicData uri="http://schemas.openxmlformats.org/drawingml/2006/table">
            <a:tbl>
              <a:tblPr/>
              <a:tblGrid>
                <a:gridCol w="968040"/>
                <a:gridCol w="614520"/>
                <a:gridCol w="610920"/>
                <a:gridCol w="614160"/>
                <a:gridCol w="614880"/>
                <a:gridCol w="610920"/>
                <a:gridCol w="61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 flipV="1">
            <a:off x="297180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01992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676520" y="2333520"/>
          <a:ext cx="4647960" cy="790560"/>
        </p:xfrm>
        <a:graphic>
          <a:graphicData uri="http://schemas.openxmlformats.org/drawingml/2006/table">
            <a:tbl>
              <a:tblPr/>
              <a:tblGrid>
                <a:gridCol w="968040"/>
                <a:gridCol w="614520"/>
                <a:gridCol w="610920"/>
                <a:gridCol w="614160"/>
                <a:gridCol w="614880"/>
                <a:gridCol w="610920"/>
                <a:gridCol w="61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676520" y="2333520"/>
          <a:ext cx="4647960" cy="790560"/>
        </p:xfrm>
        <a:graphic>
          <a:graphicData uri="http://schemas.openxmlformats.org/drawingml/2006/table">
            <a:tbl>
              <a:tblPr/>
              <a:tblGrid>
                <a:gridCol w="968040"/>
                <a:gridCol w="614520"/>
                <a:gridCol w="610920"/>
                <a:gridCol w="614160"/>
                <a:gridCol w="614880"/>
                <a:gridCol w="610920"/>
                <a:gridCol w="61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 flipV="1">
            <a:off x="358128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41008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19112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80060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676520" y="2333520"/>
          <a:ext cx="4647960" cy="790560"/>
        </p:xfrm>
        <a:graphic>
          <a:graphicData uri="http://schemas.openxmlformats.org/drawingml/2006/table">
            <a:tbl>
              <a:tblPr/>
              <a:tblGrid>
                <a:gridCol w="968040"/>
                <a:gridCol w="614520"/>
                <a:gridCol w="610920"/>
                <a:gridCol w="614160"/>
                <a:gridCol w="614880"/>
                <a:gridCol w="610920"/>
                <a:gridCol w="61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's wrong with this cod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[11, 42, -5, 27, 0, 89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everse the arr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numbers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temp = numbers[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[i] = numbers[numbers.length - 1 - 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[numbers.length - 1 - i] = temp;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oop goes too far and un-reverses the array!  Fixed versio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umbers.length / 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temp = numbers[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[i] = numbers[numbers.length - 1 - 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[numbers.length - 1 - i] = temp;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verse ques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rn your array reversal code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pt the array of integers to reverse as a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{11, 42, -5, 27, 0, 89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verse(number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write methods that accept arrays as parameter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ll we need to return the new array contents after reversal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eter (declare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[]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Returns the average of the given array of numb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double average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nt[] numb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+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uble) sum / numbers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don't specify the array's length (but you can examine it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eter (cal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array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MyProgram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figure out the average TA IQ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iq = {126, 84, 149, 167, 95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avg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q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Average IQ = " + av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ce that you don't writ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hen passing the arr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y the problem is ha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need each input value tw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ompute the average (a cumulative su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ount how many were above aver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ould read each value into a variable... but w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't know how many days are needed until the program ru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't know how many variables to decl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need a way to declare many variables in one ste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(declare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[]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Returns a new array with two copies of each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Example: [1, 4, 0, 7] -&gt; [1, 1, 4, 4, 0, 0, 7, 7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nt[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stutter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resul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new int[2 * numbers.length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[2 * i]    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[2 * i + 1]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esul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(cal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[]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 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MyProgram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iq = {126, 84, 149, 167, 95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nt[] stuttere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stutter(iq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Arrays.toString(stuttered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[126, 126, 84, 84, 149, 149, 167, 167, 95, 95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ferenc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539280" y="3016080"/>
            <a:ext cx="790596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6705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78F6-A3BA-4D0D-A876-85017F8FEACE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wap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 follow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work?  Why or why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3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wap a with b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swap(a,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 + " " +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static void swap(int a, int b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temp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 = temp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alu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ehavior where values are copied when assigned, passed as parameters, or return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primitive types in Java use value semantic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one variable is assigned to another, its value is copi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ing the value of one variable does not affect oth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y = 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5, y =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17;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5, y = 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8;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8, y = 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Reference semantics (objects)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ferenc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ehavior where variables actually store the address of an object in memo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one variable is assigned to another, the object is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pied; both variables refer to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ame 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ing the value of one variabl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i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fect oth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a1 = {4, 15, 8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a2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fer to same array as a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2[0] = 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s.toString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[7, 15, 8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276720" y="5359320"/>
          <a:ext cx="253656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276720" y="5359320"/>
          <a:ext cx="253656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8" name=""/>
          <p:cNvGrpSpPr/>
          <p:nvPr/>
        </p:nvGrpSpPr>
        <p:grpSpPr>
          <a:xfrm>
            <a:off x="533520" y="5803920"/>
            <a:ext cx="2523960" cy="444600"/>
            <a:chOff x="533520" y="5803920"/>
            <a:chExt cx="2523960" cy="444600"/>
          </a:xfrm>
        </p:grpSpPr>
        <p:sp>
          <p:nvSpPr>
            <p:cNvPr id="199" name=""/>
            <p:cNvSpPr/>
            <p:nvPr/>
          </p:nvSpPr>
          <p:spPr>
            <a:xfrm>
              <a:off x="533520" y="580392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1679760" y="5819760"/>
              <a:ext cx="1377720" cy="380880"/>
              <a:chOff x="1679760" y="5819760"/>
              <a:chExt cx="1377720" cy="380880"/>
            </a:xfrm>
          </p:grpSpPr>
          <p:sp>
            <p:nvSpPr>
              <p:cNvPr id="201" name=""/>
              <p:cNvSpPr/>
              <p:nvPr/>
            </p:nvSpPr>
            <p:spPr>
              <a:xfrm>
                <a:off x="2067120" y="6010200"/>
                <a:ext cx="99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679760" y="5819760"/>
                <a:ext cx="380880" cy="380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6171840" y="5791320"/>
            <a:ext cx="2438280" cy="444240"/>
            <a:chOff x="6171840" y="5791320"/>
            <a:chExt cx="2438280" cy="444240"/>
          </a:xfrm>
        </p:grpSpPr>
        <p:sp>
          <p:nvSpPr>
            <p:cNvPr id="204" name=""/>
            <p:cNvSpPr/>
            <p:nvPr/>
          </p:nvSpPr>
          <p:spPr>
            <a:xfrm>
              <a:off x="7467480" y="5791320"/>
              <a:ext cx="114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ahoma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6171840" y="5829120"/>
              <a:ext cx="1295280" cy="380520"/>
              <a:chOff x="6171840" y="5829120"/>
              <a:chExt cx="1295280" cy="380520"/>
            </a:xfrm>
          </p:grpSpPr>
          <p:sp>
            <p:nvSpPr>
              <p:cNvPr id="206" name=""/>
              <p:cNvSpPr/>
              <p:nvPr/>
            </p:nvSpPr>
            <p:spPr>
              <a:xfrm flipH="1">
                <a:off x="6171840" y="6019200"/>
                <a:ext cx="914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086240" y="5829120"/>
                <a:ext cx="380880" cy="380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s and objects use reference semantics.  Wh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fficiency.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pying large objects slows down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haring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t's useful to share an object's data among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 panel1 = new DrawingPanel(80, 5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ingPanel panel2 = panel1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ame wind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anel2.setBackground(Color.CYA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724280" y="4495680"/>
            <a:ext cx="1981440" cy="140652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1981080" y="4584600"/>
            <a:ext cx="2286000" cy="444600"/>
            <a:chOff x="1981080" y="4584600"/>
            <a:chExt cx="2286000" cy="444600"/>
          </a:xfrm>
        </p:grpSpPr>
        <p:sp>
          <p:nvSpPr>
            <p:cNvPr id="212" name=""/>
            <p:cNvSpPr/>
            <p:nvPr/>
          </p:nvSpPr>
          <p:spPr>
            <a:xfrm>
              <a:off x="1981080" y="458460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05320" y="480060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49640" y="460836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981080" y="5423040"/>
            <a:ext cx="2286000" cy="444240"/>
            <a:chOff x="1981080" y="5423040"/>
            <a:chExt cx="2286000" cy="444240"/>
          </a:xfrm>
        </p:grpSpPr>
        <p:sp>
          <p:nvSpPr>
            <p:cNvPr id="216" name=""/>
            <p:cNvSpPr/>
            <p:nvPr/>
          </p:nvSpPr>
          <p:spPr>
            <a:xfrm>
              <a:off x="1981080" y="542304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3505320" y="5486040"/>
              <a:ext cx="76176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49640" y="54468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289640" y="5056200"/>
            <a:ext cx="1676520" cy="11905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jects as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n object is passed as a parameter, the object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ied.  The parameter refers to the same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parameter is modified, i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i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fect the original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window = new DrawingPanel(80, 5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indow.setBackground(Color.YELLOW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(window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example(DrawingPanel pane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nel.setBackground(Color.CYA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7283520" y="5045040"/>
            <a:ext cx="1695240" cy="12034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029360" y="3581280"/>
            <a:ext cx="0" cy="520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029360" y="358128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029360" y="410220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48320" y="5267160"/>
            <a:ext cx="0" cy="520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48320" y="526716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48320" y="578808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91320" y="5267160"/>
            <a:ext cx="590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419720" y="5356080"/>
            <a:ext cx="2514600" cy="444240"/>
            <a:chOff x="4419720" y="5356080"/>
            <a:chExt cx="2514600" cy="444240"/>
          </a:xfrm>
        </p:grpSpPr>
        <p:sp>
          <p:nvSpPr>
            <p:cNvPr id="231" name=""/>
            <p:cNvSpPr/>
            <p:nvPr/>
          </p:nvSpPr>
          <p:spPr>
            <a:xfrm>
              <a:off x="4419720" y="535608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43600" y="5571720"/>
              <a:ext cx="99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87920" y="537984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7029360" y="3581280"/>
            <a:ext cx="1631880" cy="1143000"/>
            <a:chOff x="7029360" y="3581280"/>
            <a:chExt cx="1631880" cy="1143000"/>
          </a:xfrm>
        </p:grpSpPr>
        <p:sp>
          <p:nvSpPr>
            <p:cNvPr id="235" name=""/>
            <p:cNvSpPr/>
            <p:nvPr/>
          </p:nvSpPr>
          <p:spPr>
            <a:xfrm>
              <a:off x="7029360" y="3581280"/>
              <a:ext cx="1143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8457840" y="3886200"/>
              <a:ext cx="1908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280360" y="360216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 pass by refer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s are passed as parameters b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fere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anges made in the method are also seen by the call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iq = {126, 167, 95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crease(iq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rrays.toString(iq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increas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[] 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a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[i] = a[i] *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252, 334, 190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5486400" y="5054760"/>
          <a:ext cx="3429000" cy="1041120"/>
        </p:xfrm>
        <a:graphic>
          <a:graphicData uri="http://schemas.openxmlformats.org/drawingml/2006/table">
            <a:tbl>
              <a:tblPr/>
              <a:tblGrid>
                <a:gridCol w="1182960"/>
                <a:gridCol w="749160"/>
                <a:gridCol w="747720"/>
                <a:gridCol w="749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7827840" y="3581280"/>
            <a:ext cx="55404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5486400" y="5054760"/>
          <a:ext cx="3429000" cy="1041120"/>
        </p:xfrm>
        <a:graphic>
          <a:graphicData uri="http://schemas.openxmlformats.org/drawingml/2006/table">
            <a:tbl>
              <a:tblPr/>
              <a:tblGrid>
                <a:gridCol w="1182960"/>
                <a:gridCol w="749160"/>
                <a:gridCol w="747720"/>
                <a:gridCol w="749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2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3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1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243" name=""/>
          <p:cNvGrpSpPr/>
          <p:nvPr/>
        </p:nvGrpSpPr>
        <p:grpSpPr>
          <a:xfrm>
            <a:off x="7238880" y="3505320"/>
            <a:ext cx="1371600" cy="1739880"/>
            <a:chOff x="7238880" y="3505320"/>
            <a:chExt cx="1371600" cy="1739880"/>
          </a:xfrm>
        </p:grpSpPr>
        <p:sp>
          <p:nvSpPr>
            <p:cNvPr id="244" name=""/>
            <p:cNvSpPr/>
            <p:nvPr/>
          </p:nvSpPr>
          <p:spPr>
            <a:xfrm>
              <a:off x="7238880" y="3505320"/>
              <a:ext cx="9144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7"/>
            <p:cNvSpPr/>
            <p:nvPr/>
          </p:nvSpPr>
          <p:spPr>
            <a:xfrm flipH="1">
              <a:off x="8229240" y="3757680"/>
              <a:ext cx="193680" cy="14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29240" y="356868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657600" y="5486400"/>
            <a:ext cx="1980720" cy="444600"/>
            <a:chOff x="3657600" y="5486400"/>
            <a:chExt cx="1980720" cy="444600"/>
          </a:xfrm>
        </p:grpSpPr>
        <p:sp>
          <p:nvSpPr>
            <p:cNvPr id="248" name=""/>
            <p:cNvSpPr/>
            <p:nvPr/>
          </p:nvSpPr>
          <p:spPr>
            <a:xfrm>
              <a:off x="3657600" y="5486400"/>
              <a:ext cx="102672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48"/>
            <p:cNvSpPr/>
            <p:nvPr/>
          </p:nvSpPr>
          <p:spPr>
            <a:xfrm>
              <a:off x="4952880" y="570240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667040" y="5521320"/>
              <a:ext cx="38052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verse ques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rn your array reversal code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pt the array of integers to reverse as a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{11, 42, -5, 27, 0, 89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verse(number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verse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umbers.length / 2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i] = numbers[numbers.length - 1 - 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numbers.length - 1 - i] = temp;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bject that stores many values of the same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lem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One value in an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0-based integer to access an element from an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050840" y="325116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6" name="Group 55"/>
          <p:cNvGrpSpPr/>
          <p:nvPr/>
        </p:nvGrpSpPr>
        <p:grpSpPr>
          <a:xfrm>
            <a:off x="1553760" y="4394160"/>
            <a:ext cx="6341400" cy="856080"/>
            <a:chOff x="1553760" y="4394160"/>
            <a:chExt cx="6341400" cy="856080"/>
          </a:xfrm>
        </p:grpSpPr>
        <p:grpSp>
          <p:nvGrpSpPr>
            <p:cNvPr id="97" name="Group 56"/>
            <p:cNvGrpSpPr/>
            <p:nvPr/>
          </p:nvGrpSpPr>
          <p:grpSpPr>
            <a:xfrm>
              <a:off x="1553760" y="4394160"/>
              <a:ext cx="1374120" cy="856080"/>
              <a:chOff x="1553760" y="4394160"/>
              <a:chExt cx="1374120" cy="856080"/>
            </a:xfrm>
          </p:grpSpPr>
          <p:sp>
            <p:nvSpPr>
              <p:cNvPr id="98" name="Line 57"/>
              <p:cNvSpPr/>
              <p:nvPr/>
            </p:nvSpPr>
            <p:spPr>
              <a:xfrm flipV="1">
                <a:off x="220968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Text Box 58"/>
              <p:cNvSpPr/>
              <p:nvPr/>
            </p:nvSpPr>
            <p:spPr>
              <a:xfrm>
                <a:off x="155376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ement 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59"/>
            <p:cNvGrpSpPr/>
            <p:nvPr/>
          </p:nvGrpSpPr>
          <p:grpSpPr>
            <a:xfrm>
              <a:off x="3763800" y="4394160"/>
              <a:ext cx="1374120" cy="856080"/>
              <a:chOff x="3763800" y="4394160"/>
              <a:chExt cx="1374120" cy="856080"/>
            </a:xfrm>
          </p:grpSpPr>
          <p:sp>
            <p:nvSpPr>
              <p:cNvPr id="101" name="Line 60"/>
              <p:cNvSpPr/>
              <p:nvPr/>
            </p:nvSpPr>
            <p:spPr>
              <a:xfrm flipV="1">
                <a:off x="441972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 Box 61"/>
              <p:cNvSpPr/>
              <p:nvPr/>
            </p:nvSpPr>
            <p:spPr>
              <a:xfrm>
                <a:off x="376380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ement 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62"/>
            <p:cNvGrpSpPr/>
            <p:nvPr/>
          </p:nvGrpSpPr>
          <p:grpSpPr>
            <a:xfrm>
              <a:off x="6521040" y="4394160"/>
              <a:ext cx="1374120" cy="856080"/>
              <a:chOff x="6521040" y="4394160"/>
              <a:chExt cx="1374120" cy="856080"/>
            </a:xfrm>
          </p:grpSpPr>
          <p:sp>
            <p:nvSpPr>
              <p:cNvPr id="104" name="Line 63"/>
              <p:cNvSpPr/>
              <p:nvPr/>
            </p:nvSpPr>
            <p:spPr>
              <a:xfrm flipV="1">
                <a:off x="717696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64"/>
              <p:cNvSpPr/>
              <p:nvPr/>
            </p:nvSpPr>
            <p:spPr>
              <a:xfrm>
                <a:off x="652104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ement 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eter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arrays of integers and two indexes and swaps the elements at those inde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(a1, 1, 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1));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// [12, 56, 3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ap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two arrays of integers as parameters and swaps their entire cont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 that the two arrays are the same length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2 = {20, 50, 80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All(a1, a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1));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// [20, 50, 8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2));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// [12, 34, 56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eter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waps the values at the given two index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wap(int[] a, int i, int j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a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i] = a[j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j] = temp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waps the entire contents of a1 with those of a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wapAll(int[] a1, int[] a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1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a1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1[i] = a2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2[i] = temp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er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two arrays of integers and returns a new array containing all elements of the first array followed by all elements of the secon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2 = {7, 8, 9, 10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a3 = merge(a1, a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3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[12, 34, 56, 7, 8, 9, 1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erge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merges 3 arrays similar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2 = {7, 8, 9, 10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3 = {444, 222, -1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a4 = merge3(a1, a2, a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4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[12, 34, 56, 7, 8, 9, 10, 444, 222, -1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answer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turns a new array containing all elements of a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followed by all elements of a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[] merge(int[] a1, int[] a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result = new int[a1.length + a2.length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1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i] = a1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2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1.length + 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 = a2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answ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a new array containing all elements of a1,a2,a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[] merge3(int[] a1, int[] a2, int[] a3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4 = new int[a1.length + a2.length + a3.length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a1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4[i] = a1[i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a2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4[a1.length + i] = a2[i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a3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4[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1.length + a2.length + 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] = a3[i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4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horter version that calls merg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[] merge3(int[] a1, int[] a2, int[] a3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rge(merge(a1, a2), a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rrays for tallyin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multi-counter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stFrequentDig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the digit value that occurs most frequently in a numb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The number 669260267 contain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 0, two 2s, four 6es, one 7, and one 9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ostFrequentDigit(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66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2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2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7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6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re is a tie, return the digit with the lower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ostFrequentDigit(571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520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3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multi-counter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ould declare 10 counter variables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counter0, counter1, counter2, counter3, counter4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er5, counter6, counter7, counter8, counter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a better solution is to use an array of size 1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 at index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ll store the counter for digit valu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for 669260267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build such an array?  And how does it hel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219320" y="444492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reating an array of tall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ssume n = 66926026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counts = new int[1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luck off a digit and add to proper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igit = n %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s[digit]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990720" y="4495680"/>
          <a:ext cx="641664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ally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digit value that occurs most frequently in 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Breaks ties by choosing the smaller valu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mostFrequentDigit(int n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counts = new int[10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digit = n % 10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luck off a digit and tally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s[digit]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ind the most frequently occurring dig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bestIndex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 counts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ounts[i] &gt; counts[bestIndex]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stIndex = i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bestInde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decla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285840">
              <a:spcBef>
                <a:spcPts val="601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]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new int[1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74760" indent="-285840">
              <a:spcBef>
                <a:spcPts val="601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62120" y="4216320"/>
          <a:ext cx="641664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histogram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a file of integer exam scores, such 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6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7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6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a program that will print a histogram of stars indicating the number of students who earned each unique exam sco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5: 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6: **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7: 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8: 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1: 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histogram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ads a file of test scores and shows a histogram of score distribu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Histogram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midterm.txt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[] counts = new int[101];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unters of test scores 0 - 100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while (input.hasNextInt()) {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ad file into counts array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core = input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unts[score]++;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if score is 87, then counts[87]+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counts.length; i++) {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int star histogram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unts[i]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&gt; 0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i + ":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j = 0; j &lt;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unts[i]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j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ction attendance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 a file of section attendan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ee next sl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ynyyynayayynyyyayanyyyaynayyayyanayyyanyay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yyanyyyyayanaayyanayyyananayayaynyayayynyny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yayaynyyayyanynnyyyayyanayaynannnyyayyayayn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920" indent="-2509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produce the following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points: [20, 17, 19, 16, 13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grades: [100.0, 85.0, 95.0, 80.0, 65.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points: [17, 20, 16, 16, 1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grades: [85.0, 100.0, 80.0, 80.0, 50.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points: [17, 18, 17, 20, 16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grades: [85.0, 90.0, 85.0, 100.0, 80.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s earn 3 points for each section attended up to 2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588240" indent="-226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line represents a sec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ine consists of 9 weeks' worth of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week has 5 characters because there are 5 stud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thin each week, each character represents one stud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ans the student was abs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+0 poi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ans they attended but didn't do the problem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+2 poi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ans they attended and did the problem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+3 poi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ction input fi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76320" y="2347920"/>
          <a:ext cx="8705880" cy="1125360"/>
        </p:xfrm>
        <a:graphic>
          <a:graphicData uri="http://schemas.openxmlformats.org/drawingml/2006/table">
            <a:tbl>
              <a:tblPr/>
              <a:tblGrid>
                <a:gridCol w="1663920"/>
                <a:gridCol w="704196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ynyyynayayynyyyayanyyyaynayyayyanayyyanyay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yanyyyyayanaayyanayyyananayayaynyayayynyny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yayaynyyayyanynnyyyayyanayaynannnyyayyayay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76320" y="1971720"/>
          <a:ext cx="8705880" cy="507960"/>
        </p:xfrm>
        <a:graphic>
          <a:graphicData uri="http://schemas.openxmlformats.org/drawingml/2006/table">
            <a:tbl>
              <a:tblPr/>
              <a:tblGrid>
                <a:gridCol w="1663920"/>
                <a:gridCol w="704196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   2    3    4    5    6    7    8   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76320" y="1541520"/>
          <a:ext cx="8705880" cy="507960"/>
        </p:xfrm>
        <a:graphic>
          <a:graphicData uri="http://schemas.openxmlformats.org/drawingml/2006/table">
            <a:tbl>
              <a:tblPr/>
              <a:tblGrid>
                <a:gridCol w="1663920"/>
                <a:gridCol w="704196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ud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34512345123451234512345123451234512345123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Rectangle 15"/>
          <p:cNvSpPr/>
          <p:nvPr/>
        </p:nvSpPr>
        <p:spPr>
          <a:xfrm>
            <a:off x="1828800" y="2403360"/>
            <a:ext cx="6858000" cy="3272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828800" y="2405160"/>
            <a:ext cx="6858000" cy="326880"/>
            <a:chOff x="1828800" y="2405160"/>
            <a:chExt cx="6858000" cy="326880"/>
          </a:xfrm>
        </p:grpSpPr>
        <p:sp>
          <p:nvSpPr>
            <p:cNvPr id="288" name="Rectangle 15"/>
            <p:cNvSpPr/>
            <p:nvPr/>
          </p:nvSpPr>
          <p:spPr>
            <a:xfrm>
              <a:off x="18288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5"/>
            <p:cNvSpPr/>
            <p:nvPr/>
          </p:nvSpPr>
          <p:spPr>
            <a:xfrm>
              <a:off x="25905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5"/>
            <p:cNvSpPr/>
            <p:nvPr/>
          </p:nvSpPr>
          <p:spPr>
            <a:xfrm>
              <a:off x="33526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5"/>
            <p:cNvSpPr/>
            <p:nvPr/>
          </p:nvSpPr>
          <p:spPr>
            <a:xfrm>
              <a:off x="41148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5"/>
            <p:cNvSpPr/>
            <p:nvPr/>
          </p:nvSpPr>
          <p:spPr>
            <a:xfrm>
              <a:off x="48765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5"/>
            <p:cNvSpPr/>
            <p:nvPr/>
          </p:nvSpPr>
          <p:spPr>
            <a:xfrm>
              <a:off x="56386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64008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5"/>
            <p:cNvSpPr/>
            <p:nvPr/>
          </p:nvSpPr>
          <p:spPr>
            <a:xfrm>
              <a:off x="71625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5"/>
            <p:cNvSpPr/>
            <p:nvPr/>
          </p:nvSpPr>
          <p:spPr>
            <a:xfrm>
              <a:off x="79246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5"/>
            <p:cNvSpPr/>
            <p:nvPr/>
          </p:nvSpPr>
          <p:spPr>
            <a:xfrm>
              <a:off x="77724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5"/>
            <p:cNvSpPr/>
            <p:nvPr/>
          </p:nvSpPr>
          <p:spPr>
            <a:xfrm>
              <a:off x="76197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5"/>
            <p:cNvSpPr/>
            <p:nvPr/>
          </p:nvSpPr>
          <p:spPr>
            <a:xfrm>
              <a:off x="74674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5"/>
            <p:cNvSpPr/>
            <p:nvPr/>
          </p:nvSpPr>
          <p:spPr>
            <a:xfrm>
              <a:off x="73152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5"/>
            <p:cNvSpPr/>
            <p:nvPr/>
          </p:nvSpPr>
          <p:spPr>
            <a:xfrm>
              <a:off x="62481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5"/>
            <p:cNvSpPr/>
            <p:nvPr/>
          </p:nvSpPr>
          <p:spPr>
            <a:xfrm>
              <a:off x="60958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5"/>
            <p:cNvSpPr/>
            <p:nvPr/>
          </p:nvSpPr>
          <p:spPr>
            <a:xfrm>
              <a:off x="59436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5"/>
            <p:cNvSpPr/>
            <p:nvPr/>
          </p:nvSpPr>
          <p:spPr>
            <a:xfrm>
              <a:off x="57909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5"/>
            <p:cNvSpPr/>
            <p:nvPr/>
          </p:nvSpPr>
          <p:spPr>
            <a:xfrm>
              <a:off x="47242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5"/>
            <p:cNvSpPr/>
            <p:nvPr/>
          </p:nvSpPr>
          <p:spPr>
            <a:xfrm>
              <a:off x="45720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5"/>
            <p:cNvSpPr/>
            <p:nvPr/>
          </p:nvSpPr>
          <p:spPr>
            <a:xfrm>
              <a:off x="44193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5"/>
            <p:cNvSpPr/>
            <p:nvPr/>
          </p:nvSpPr>
          <p:spPr>
            <a:xfrm>
              <a:off x="42670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5"/>
            <p:cNvSpPr/>
            <p:nvPr/>
          </p:nvSpPr>
          <p:spPr>
            <a:xfrm>
              <a:off x="32004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5"/>
            <p:cNvSpPr/>
            <p:nvPr/>
          </p:nvSpPr>
          <p:spPr>
            <a:xfrm>
              <a:off x="30477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5"/>
            <p:cNvSpPr/>
            <p:nvPr/>
          </p:nvSpPr>
          <p:spPr>
            <a:xfrm>
              <a:off x="28954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5"/>
            <p:cNvSpPr/>
            <p:nvPr/>
          </p:nvSpPr>
          <p:spPr>
            <a:xfrm>
              <a:off x="27432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5"/>
            <p:cNvSpPr/>
            <p:nvPr/>
          </p:nvSpPr>
          <p:spPr>
            <a:xfrm>
              <a:off x="19810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5"/>
            <p:cNvSpPr/>
            <p:nvPr/>
          </p:nvSpPr>
          <p:spPr>
            <a:xfrm>
              <a:off x="21333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5"/>
            <p:cNvSpPr/>
            <p:nvPr/>
          </p:nvSpPr>
          <p:spPr>
            <a:xfrm>
              <a:off x="22860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5"/>
            <p:cNvSpPr/>
            <p:nvPr/>
          </p:nvSpPr>
          <p:spPr>
            <a:xfrm>
              <a:off x="24382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590920" y="2405160"/>
            <a:ext cx="5333400" cy="326880"/>
            <a:chOff x="2590920" y="2405160"/>
            <a:chExt cx="5333400" cy="326880"/>
          </a:xfrm>
        </p:grpSpPr>
        <p:sp>
          <p:nvSpPr>
            <p:cNvPr id="318" name="Rectangle 15"/>
            <p:cNvSpPr/>
            <p:nvPr/>
          </p:nvSpPr>
          <p:spPr>
            <a:xfrm>
              <a:off x="3352680" y="2405160"/>
              <a:ext cx="76140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5"/>
            <p:cNvSpPr/>
            <p:nvPr/>
          </p:nvSpPr>
          <p:spPr>
            <a:xfrm>
              <a:off x="411444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5"/>
            <p:cNvSpPr/>
            <p:nvPr/>
          </p:nvSpPr>
          <p:spPr>
            <a:xfrm>
              <a:off x="487656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5"/>
            <p:cNvSpPr/>
            <p:nvPr/>
          </p:nvSpPr>
          <p:spPr>
            <a:xfrm>
              <a:off x="5638680" y="2405160"/>
              <a:ext cx="76140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5"/>
            <p:cNvSpPr/>
            <p:nvPr/>
          </p:nvSpPr>
          <p:spPr>
            <a:xfrm>
              <a:off x="640044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5"/>
            <p:cNvSpPr/>
            <p:nvPr/>
          </p:nvSpPr>
          <p:spPr>
            <a:xfrm>
              <a:off x="716256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5"/>
            <p:cNvSpPr/>
            <p:nvPr/>
          </p:nvSpPr>
          <p:spPr>
            <a:xfrm>
              <a:off x="259092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25" name=""/>
          <p:cNvGraphicFramePr/>
          <p:nvPr/>
        </p:nvGraphicFramePr>
        <p:xfrm>
          <a:off x="76320" y="2363760"/>
          <a:ext cx="8705880" cy="1125720"/>
        </p:xfrm>
        <a:graphic>
          <a:graphicData uri="http://schemas.openxmlformats.org/drawingml/2006/table">
            <a:tbl>
              <a:tblPr/>
              <a:tblGrid>
                <a:gridCol w="1663920"/>
                <a:gridCol w="704196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tion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tion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tion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ction attendance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Sections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sections.txt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ection = 1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tring line = input.nextLine();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ocess one section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points = new int[5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line.length()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tudent = i % 5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earned = 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line.charAt(i) == 'y') {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 == 'y' or 'n' or 'a'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arned = 3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 else if (line.charAt(i) == 'n'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arned = 2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s[student] = Math.min(20, points[student] + earned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[] grades = new double[5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points.length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grades[i] = 100.0 * points[i] / 20.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ection " + sectio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tudent points: " + Arrays.toString(points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tudent grades: " + Arrays.toString(grades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ection++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ata transform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many problems we transform data between for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 digits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unt of each digit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ost frequent dig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each transformation is computed/stored as an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structure, a transformation is often put in its own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we map between data and array inde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224"/>
              </a:spcBef>
              <a:tabLst>
                <a:tab algn="l" pos="0"/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posi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store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 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lue we read at index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al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if input value i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store it at array index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plicit mapp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cou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J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t index 0, cou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X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t index 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rcis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dify our Sections program to use static methods that use arrays as parameters and retur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/return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program reads a file representing which students attended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which discussion sections and produces output of the students'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section attendance and scores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Sections2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sections.txt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ection = 1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ocess one section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points = countPoints(line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[] grades = computeGrades(points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sults(section, points, grades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ection++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oduces all output about a particular sec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results(int section, int[] points, double[] grade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ection " + sectio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tudent scores: " + Arrays.toString(points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tudent grades: " + Arrays.toString(grades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/return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mputes the points earned for each student for a particular sec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int[] countPoints(String line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points = new int[5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line.length()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tudent = i % 5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earned = 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line.charAt(i) == 'y') {     // c == 'y'  or  c == 'n'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arned = 3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 else if (line.charAt(i) == 'n'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arned = 2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s[student] = Math.min(20, points[student] + earned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points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mputes the percentage for each student for a particular sec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double[] computeGrades(int[] point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[] grades = new double[5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points.length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grades[i] = 100.0 * points[i] / 20.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grades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declaration, con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ength can be any integer expres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2 * 3 + 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data = new int[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 % 5 + 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initially gets a "zero-equivalent" val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073240" y="3846600"/>
          <a:ext cx="4937040" cy="2325600"/>
        </p:xfrm>
        <a:graphic>
          <a:graphicData uri="http://schemas.openxmlformats.org/drawingml/2006/table">
            <a:tbl>
              <a:tblPr/>
              <a:tblGrid>
                <a:gridCol w="2079360"/>
                <a:gridCol w="285768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fault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 other ob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means, "no object"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el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 =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modif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0] = 27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3] = -6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0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3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lt;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Element 3 is negative.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355760" y="503856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355760" y="502920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 of other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[] results = new double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s[2] = 3.4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s[4] = -0.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[] tests = new boolean[6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ests[3] = tru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828800" y="2514600"/>
          <a:ext cx="4073400" cy="812520"/>
        </p:xfrm>
        <a:graphic>
          <a:graphicData uri="http://schemas.openxmlformats.org/drawingml/2006/table">
            <a:tbl>
              <a:tblPr/>
              <a:tblGrid>
                <a:gridCol w="874800"/>
                <a:gridCol w="600120"/>
                <a:gridCol w="600120"/>
                <a:gridCol w="637920"/>
                <a:gridCol w="600120"/>
                <a:gridCol w="760320"/>
              </a:tblGrid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-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828800" y="5075280"/>
          <a:ext cx="5540400" cy="792000"/>
        </p:xfrm>
        <a:graphic>
          <a:graphicData uri="http://schemas.openxmlformats.org/drawingml/2006/table">
            <a:tbl>
              <a:tblPr/>
              <a:tblGrid>
                <a:gridCol w="874800"/>
                <a:gridCol w="777960"/>
                <a:gridCol w="777600"/>
                <a:gridCol w="777960"/>
                <a:gridCol w="776160"/>
                <a:gridCol w="777960"/>
                <a:gridCol w="77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-of-boun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al indexes: betwee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ray's length -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or writing any index outside this range will throw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dexOutOfBounds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data = new int[1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data[0]);       // ok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data[9]);       // ok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data[-1]);      //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data[10]);      //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127160" y="497844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28Z</dcterms:modified>
  <cp:revision>126</cp:revision>
  <dc:subject/>
  <dc:title>CSE 142 Python Slides</dc:title>
</cp:coreProperties>
</file>