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5.xml.rels" ContentType="application/vnd.openxmlformats-package.relationships+xml"/>
  <Override PartName="/ppt/notesSlides/_rels/notesSlide39.xml.rels" ContentType="application/vnd.openxmlformats-package.relationships+xml"/>
  <Override PartName="/ppt/notesSlides/notesSlide39.xml" ContentType="application/vnd.openxmlformats-officedocument.presentationml.notesSlide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76AFC-39EE-4C46-B774-E7A7B3CDCA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esting variation: Output only the *unique* rearrangements.  For example, permute("GOOGLE") has two Os, but swapping them in order produces the same string, which shouldn't appear twice in the outp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esting variation: Output only the *unique* rearrangements.  For example, permute("GOOGLE") has two Os, but swapping them in order produces the same string, which shouldn't appear twice in the outp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F3921-C4E8-4A81-8777-3EA501B6B5DB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12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u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basic ca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are the cases to consider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a very easy number of stars to print without a loop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Stars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n == 1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; just print one 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andling more ca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ling additional cases, with no loops (in a bad way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Stars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 == 1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; just print one 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 == 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 == 3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 == 4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andling more cases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ing advantage of the repeated pattern (somewhat better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Stars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 == 1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; just print one 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n == 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Stars(1);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ints "*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n == 3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Stars(2);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ints "**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n == 4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Stars(3);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ints "***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sing recursion properl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ensing the recursive cases into a single c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Stars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 == 1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; just print one 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case; print one more 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Stars(n - 1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Recursion Zen"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al, even simpler, base case is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0, not 1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Stars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 ==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; just end the line of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case; print one more 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Stars(n - 1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ecursion Ze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The art of properly identifying the best set of cases for a recursive algorithm and expressing them elegantly.</a:t>
            </a:r>
            <a:br>
              <a:rPr sz="2200"/>
            </a:br>
            <a:br>
              <a:rPr sz="8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A CSE 143 informal term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ursive trac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the following recursive metho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int mystery(int n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n &lt; 1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n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a = n / 10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b = n % 10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ystery(a + b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the result of the following call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ystery(648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recursive tr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mystery(648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a = 648 / 10;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6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b = 648 % 10;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 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mystery(a + b);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mystery(72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mystery(72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a = 72 / 10;  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b = 72 % 10;  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mystery(a + b);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mystery(9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mystery(9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9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87480" y="1289160"/>
            <a:ext cx="7456320" cy="457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38080" y="3124080"/>
            <a:ext cx="6629400" cy="266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143000" y="4876920"/>
            <a:ext cx="213372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ursive tracing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the following recursive metho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int mystery(int n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n &lt; 1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(10 * n) + n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a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ystery(n / 10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b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ystery(n % 10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(100 * a) + b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the result of the following call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ystery(348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recursive trace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mystery(34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a = mystery(34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a = mystery(3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155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(10 * 3) + 3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3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b = mystery(4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155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(10 * 4) + 4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4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(100 * 33) + 44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334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b = mystery(8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(10 * 8) + 8;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8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(100 * 3344) + 88;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</a:t>
            </a:r>
            <a:r>
              <a:rPr b="1" lang="en-US" sz="2200" spc="-1" strike="noStrike" u="sng">
                <a:solidFill>
                  <a:srgbClr val="008000"/>
                </a:solidFill>
                <a:uFillTx/>
                <a:latin typeface="Courier New"/>
              </a:rPr>
              <a:t>33448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this method really doing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914400" y="2127240"/>
            <a:ext cx="5410080" cy="180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4662360"/>
            <a:ext cx="5410080" cy="3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230480" y="2467080"/>
            <a:ext cx="4006800" cy="35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28680" y="3181320"/>
            <a:ext cx="4006800" cy="35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7480" y="1289160"/>
            <a:ext cx="7151400" cy="457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recursive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ccepts an integer base and exponent and returns the base raised to that expon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w(3, 4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8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lve the problem recursively and without using loop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urs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curs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he definition of an operation in terms of itself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lving a problem using recursion depends on solving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maller occurrences of the same proble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cursive programm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Writing methods that call themselves to solve problems recursive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equally powerful substitute for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ter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loop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articularly well-suited to solving certain types of problem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ow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base ^ exponen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econdition: exponent &gt;=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pow(int base, int exponen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exponent == 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; any number to 0th power is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case:  x^y = x * x^(y-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base * pow(base, exponent - 1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 optimiz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ce the following mathematical propert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ahoma"/>
              </a:rPr>
              <a:t>12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531441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lang="en-US" sz="2200" spc="-1" strike="noStrike">
                <a:solidFill>
                  <a:srgbClr val="333399"/>
                </a:solidFill>
                <a:latin typeface="Tahoma"/>
              </a:rPr>
              <a:t>9</a:t>
            </a:r>
            <a:r>
              <a:rPr b="0" lang="en-US" sz="2200" spc="-1" strike="noStrike" baseline="30000">
                <a:solidFill>
                  <a:srgbClr val="800000"/>
                </a:solidFill>
                <a:latin typeface="Tahoma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(</a:t>
            </a:r>
            <a:r>
              <a:rPr b="0" lang="en-US" sz="2200" spc="-1" strike="noStrike">
                <a:solidFill>
                  <a:srgbClr val="333399"/>
                </a:solidFill>
                <a:latin typeface="Tahoma"/>
              </a:rPr>
              <a:t>3</a:t>
            </a:r>
            <a:r>
              <a:rPr b="0" lang="en-US" sz="2200" spc="-1" strike="noStrike" baseline="30000">
                <a:solidFill>
                  <a:srgbClr val="333399"/>
                </a:solidFill>
                <a:latin typeface="Tahom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200" spc="-1" strike="noStrike" baseline="30000">
                <a:solidFill>
                  <a:srgbClr val="800000"/>
                </a:solidFill>
                <a:latin typeface="Tahoma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01"/>
              </a:spcBef>
              <a:buNone/>
              <a:tabLst>
                <a:tab algn="l" pos="0"/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531441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(</a:t>
            </a:r>
            <a:r>
              <a:rPr b="0" lang="en-US" sz="2200" spc="-1" strike="noStrike">
                <a:solidFill>
                  <a:srgbClr val="333399"/>
                </a:solidFill>
                <a:latin typeface="Tahoma"/>
              </a:rPr>
              <a:t>9</a:t>
            </a:r>
            <a:r>
              <a:rPr b="0" lang="en-US" sz="2200" spc="-1" strike="noStrike" baseline="30000">
                <a:solidFill>
                  <a:srgbClr val="333399"/>
                </a:solidFill>
                <a:latin typeface="Tahom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((</a:t>
            </a:r>
            <a:r>
              <a:rPr b="0" lang="en-US" sz="2200" spc="-1" strike="noStrike">
                <a:solidFill>
                  <a:srgbClr val="333399"/>
                </a:solidFill>
                <a:latin typeface="Tahoma"/>
              </a:rPr>
              <a:t>3</a:t>
            </a:r>
            <a:r>
              <a:rPr b="0" lang="en-US" sz="2200" spc="-1" strike="noStrike" baseline="30000">
                <a:solidFill>
                  <a:srgbClr val="333399"/>
                </a:solidFill>
                <a:latin typeface="Tahom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200" spc="-1" strike="noStrike" baseline="30000">
                <a:solidFill>
                  <a:srgbClr val="800000"/>
                </a:solidFill>
                <a:latin typeface="Tahoma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does this "trick" work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can we incorporate this optimization into ou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the benefit of this trick if the method already work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ow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olut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base ^ exponen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econdition: exponent &gt;=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pow(int base, int exponen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exponent == 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; any number to 0th power is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else if (exponent % 2 == 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case 1:  x^y = (x^2)^(y/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return pow(base * base, exponent / 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}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case 2:  x^y = x * x^(y-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base * pow(base, exponent - 1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recursive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Bin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integer and prints that number's representation in binary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base 2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Binary(7)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rints 11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Binary(12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rints 110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Binary(42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rints 10101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rite the method recursively and without using any loop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2057400" y="3835440"/>
          <a:ext cx="5045040" cy="888840"/>
        </p:xfrm>
        <a:graphic>
          <a:graphicData uri="http://schemas.openxmlformats.org/drawingml/2006/table">
            <a:tbl>
              <a:tblPr/>
              <a:tblGrid>
                <a:gridCol w="777960"/>
                <a:gridCol w="460440"/>
                <a:gridCol w="453960"/>
                <a:gridCol w="630360"/>
                <a:gridCol w="460080"/>
                <a:gridCol w="460440"/>
                <a:gridCol w="430200"/>
                <a:gridCol w="457200"/>
                <a:gridCol w="457200"/>
                <a:gridCol w="4572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l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se analysi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ursion is about solving a small piece of a large proble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01"/>
              </a:spcBef>
              <a:buNone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69743 in binary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 we know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yth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about its representation in binary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0">
              <a:spcBef>
                <a:spcPts val="499"/>
              </a:spcBef>
              <a:buNone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se analysi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is/are easy numbers to print in binary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we express a larger number in terms of a smaller number(s)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0">
              <a:spcBef>
                <a:spcPts val="499"/>
              </a:spcBef>
              <a:buNone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0">
              <a:spcBef>
                <a:spcPts val="499"/>
              </a:spcBef>
              <a:buNone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uppose we are examining some arbitrary intege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's binary representation i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1001010101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N / 2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's binary representation i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100101010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N % 2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's binary representation i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rintBinary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ints the given integer's binary representa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econdition: n &gt;=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Binary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 &lt; 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; same as base 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case; break number apa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Binary(n / 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Binary(n % 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we eliminate the precondition and deal with negative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rintBinary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olut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ints the given integer's binary representa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Binary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f (n &lt; 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case for negative numb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System.out.print("-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printBinary(-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} el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f (n &lt; 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; same as base 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case; break number apa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Binary(n / 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Binary(n % 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recursive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sPalindro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ccept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return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 it reads the same forwards as backwar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Palindrome("madam"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Palindrome("racecar"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Palindrome("step on no pets"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Palindrome("able was I ere I saw elba"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Palindrome("Java"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Palindrome("rotater"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Palindrome("byebye"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Palindrome("notion"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rue if the given string read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forwards as backward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rivially true for empty or 1-letter string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boolean isPalindrome(String 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s.length() &lt; 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true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r first = s.charAt(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r last  = s.charAt(s.length() - 1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first != las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     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c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middle = s.substring(1, s.length() - 1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isPalindrome(middl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rue if the given string read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forwards as backward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rivially true for empty or 1-letter string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boolean isPalindrome(String 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s.length() &lt; 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true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.charAt(0) == s.charAt(s.length() - 1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amp;&amp;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sPalindrome(s.substring(1, s.length() - 1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y learn recursion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"cultural experience" - A different way of thinking of probl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solve some kinds of problems better than it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ads to elegant, simplistic, short code (when used wel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y programming languages ("functional" languages such as Scheme, ML, and Haskell) use recursion exclusively  (no loo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key component of the rest of our assignments in CSE 14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recursive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verseLin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 fil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prints the lines of the file in reverse ord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201"/>
              </a:spcBef>
              <a:buNone/>
              <a:tabLst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 input file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pected console 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oses are red,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e belong to you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iolets are blue.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l my ba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l my ba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iolets are b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e belong to you.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oses are red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are the cases to consider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can we solve a small part of the problem at a tim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is a file that is very easy to revers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2743200"/>
            <a:ext cx="327636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419720" y="40384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versal pseudo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sing the lines of a fi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d a line L from the fil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int the rest of the lines in reverse or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int the line L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5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If only we had a way to reverse the rest of the lines of the file...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versal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reverseLines(Scanner input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input.hasNextLine()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cursive ca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line = input.nextLin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verseLines(input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lin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 is the base cas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429000" y="2743200"/>
            <a:ext cx="2363760" cy="24382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064920" y="534816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57120" y="534816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put fi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1600" y="5727600"/>
            <a:ext cx="2649600" cy="97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oses are re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iolets are bl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ll my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re belong to y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036480" y="5727600"/>
            <a:ext cx="2649600" cy="97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re belong to y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ll my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iolets are bl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oses are re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racing our algorith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ll stac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he method invocations running at any one ti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verseLines(new Scanner("poem.txt"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76320" y="2286000"/>
            <a:ext cx="8991360" cy="16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reverseLines(Scanner input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input.hasNextLine(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line = input.nextLine();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"Roses are red,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verseLines(inpu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lin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320" y="2895480"/>
            <a:ext cx="8991360" cy="16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reverseLines(Scanner input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input.hasNextLine(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line = input.nextLine();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"Violets are blue.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verseLines(inpu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lin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6320" y="3470400"/>
            <a:ext cx="8991360" cy="16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reverseLines(Scanner input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input.hasNextLine(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line = input.nextLine();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"All my base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verseLines(inpu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lin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6320" y="4079880"/>
            <a:ext cx="8991360" cy="16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reverseLines(Scanner input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input.hasNextLine(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line = input.nextLine();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"Are belong to you.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verseLines(inpu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lin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6320" y="4670280"/>
            <a:ext cx="8991360" cy="119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reverseLines(Scanner input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input.hasNextLine()) {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6320" y="5867280"/>
            <a:ext cx="3045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46945E-018 4.44444E-006 L 3.46945E-018 0.03333 E">
                                      <p:cBhvr>
                                        <p:cTn id="219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46945E-018 0.03333 L 3.46945E-018 0.06666 E">
                                      <p:cBhvr>
                                        <p:cTn id="229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46945E-018 0.06666 L 3.46945E-018 0.1 E">
                                      <p:cBhvr>
                                        <p:cTn id="239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0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1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2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3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4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raw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ccept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arameter and prints information about that fi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represents a normal file, just print its nam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represents a directory, print its name and information about every file/directory inside it, indent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se14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andou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llabus.do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ecture_schedule.x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o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-sortedintli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rrayIntList.jav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ortedIntList.jav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dex.htm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yle.c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ecursive dat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A directory can contain other directori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Fi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 (from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i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ackage) represen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file or directory on the dis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304920" y="2362320"/>
          <a:ext cx="8542080" cy="4038120"/>
        </p:xfrm>
        <a:graphic>
          <a:graphicData uri="http://schemas.openxmlformats.org/drawingml/2006/table">
            <a:tbl>
              <a:tblPr/>
              <a:tblGrid>
                <a:gridCol w="2549160"/>
                <a:gridCol w="5992920"/>
              </a:tblGrid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structor/meth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il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rin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reate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il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object representing file with given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nRead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whether file is able to be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elete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moves file from dis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xists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hether this file exists on dis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Name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file's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Directory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whether this object represents a direct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ength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number of bytes in f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istFiles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a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ile[]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representing files in this direct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nameTo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l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hanges name of f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ublic/private pai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not vary the indentation without an extra parame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crawl(File f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, String inde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ten the parameters we need for our recursion do not match those the client will want to p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these cases, we instead write a pair of method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)  a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non-recursive one with the parameters the client wa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)  a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privat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recursive one with the parameters we really ne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ints information about this fil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and (if it is a directory) any files insid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public static void crawl(File f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crawl(f, ""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call private recursive help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helper to implement crawl/indent behavio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privat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void crawl(File f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, String inde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ndent +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.getName(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f.isDirectory(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case; print contained files/di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File subFile : f.listFiles(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awl(subFile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, indent + "    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Recursive Backtracking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: Permuta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ermu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 string as a parameter and outputs all possible rearrangements of the letters in that string.  The arrangements may be output in any ord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ermute("MARTY"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s the following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quence of lin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3990960" y="2666880"/>
          <a:ext cx="4772160" cy="3946320"/>
        </p:xfrm>
        <a:graphic>
          <a:graphicData uri="http://schemas.openxmlformats.org/drawingml/2006/table">
            <a:tbl>
              <a:tblPr/>
              <a:tblGrid>
                <a:gridCol w="795600"/>
                <a:gridCol w="795240"/>
                <a:gridCol w="795240"/>
                <a:gridCol w="795240"/>
                <a:gridCol w="795600"/>
                <a:gridCol w="795240"/>
              </a:tblGrid>
              <a:tr h="397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R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Y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Y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A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A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T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T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Y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Y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A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R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R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Y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Y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A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A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R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R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T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R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T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Y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Y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M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M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T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T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Y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Y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M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M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R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R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Y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Y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M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M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R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R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T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T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A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A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T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T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Y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Y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M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M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T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T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Y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Y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M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M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A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A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Y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Y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M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M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A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A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T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T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A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R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R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Y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Y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M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M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R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R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Y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Y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M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M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A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A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Y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Y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M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M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A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A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R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R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A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A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R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R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T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M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M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R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R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T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T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M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M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A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A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T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T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M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M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A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A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R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R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To a student in the front row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many students total are directly behind you in your "column" of the classroo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have poor vision, so you can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e only the people right next to you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 you can't just look back and cou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you are allowed to ask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questions of the person next to you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can we solve this problem?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recursively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867280" y="2844720"/>
            <a:ext cx="316260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amining the probl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nk of each permutation as a set of choices o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cis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ich character do I want to place firs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ich character do I want to place second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olution spac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set of all possible sets of decisions to explo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want to generate all possible sequences of decis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(each possible first letter)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(each possible second letter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 (each possible third letter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5170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5170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int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51704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is called a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epth-first searc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cision tre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3446640" y="1295280"/>
          <a:ext cx="2408040" cy="812880"/>
        </p:xfrm>
        <a:graphic>
          <a:graphicData uri="http://schemas.openxmlformats.org/drawingml/2006/table">
            <a:tbl>
              <a:tblPr/>
              <a:tblGrid>
                <a:gridCol w="1079280"/>
                <a:gridCol w="13287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hos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f2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vai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f2f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R T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"/>
          <p:cNvSpPr/>
          <p:nvPr/>
        </p:nvSpPr>
        <p:spPr>
          <a:xfrm flipH="1">
            <a:off x="3657600" y="213372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2741760" y="2387520"/>
          <a:ext cx="1404720" cy="406440"/>
        </p:xfrm>
        <a:graphic>
          <a:graphicData uri="http://schemas.openxmlformats.org/drawingml/2006/table">
            <a:tbl>
              <a:tblPr/>
              <a:tblGrid>
                <a:gridCol w="379080"/>
                <a:gridCol w="102564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R T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1598760" y="3174840"/>
          <a:ext cx="1404720" cy="406440"/>
        </p:xfrm>
        <a:graphic>
          <a:graphicData uri="http://schemas.openxmlformats.org/drawingml/2006/table">
            <a:tbl>
              <a:tblPr/>
              <a:tblGrid>
                <a:gridCol w="610920"/>
                <a:gridCol w="7938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 T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9" name=""/>
          <p:cNvSpPr/>
          <p:nvPr/>
        </p:nvSpPr>
        <p:spPr>
          <a:xfrm flipH="1">
            <a:off x="2360520" y="2819520"/>
            <a:ext cx="914400" cy="35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574560" y="3936960"/>
          <a:ext cx="1404720" cy="406440"/>
        </p:xfrm>
        <a:graphic>
          <a:graphicData uri="http://schemas.openxmlformats.org/drawingml/2006/table">
            <a:tbl>
              <a:tblPr/>
              <a:tblGrid>
                <a:gridCol w="847800"/>
                <a:gridCol w="556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152280" y="4699080"/>
          <a:ext cx="1405080" cy="406440"/>
        </p:xfrm>
        <a:graphic>
          <a:graphicData uri="http://schemas.openxmlformats.org/drawingml/2006/table">
            <a:tbl>
              <a:tblPr/>
              <a:tblGrid>
                <a:gridCol w="1074960"/>
                <a:gridCol w="33012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R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152280" y="5537160"/>
          <a:ext cx="1484280" cy="406440"/>
        </p:xfrm>
        <a:graphic>
          <a:graphicData uri="http://schemas.openxmlformats.org/drawingml/2006/table">
            <a:tbl>
              <a:tblPr/>
              <a:tblGrid>
                <a:gridCol w="1268280"/>
                <a:gridCol w="216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R T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3241800" y="3174840"/>
          <a:ext cx="1409400" cy="406440"/>
        </p:xfrm>
        <a:graphic>
          <a:graphicData uri="http://schemas.openxmlformats.org/drawingml/2006/table">
            <a:tbl>
              <a:tblPr/>
              <a:tblGrid>
                <a:gridCol w="615600"/>
                <a:gridCol w="7938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T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4913280" y="3174840"/>
          <a:ext cx="1404720" cy="406440"/>
        </p:xfrm>
        <a:graphic>
          <a:graphicData uri="http://schemas.openxmlformats.org/drawingml/2006/table">
            <a:tbl>
              <a:tblPr/>
              <a:tblGrid>
                <a:gridCol w="606240"/>
                <a:gridCol w="7984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R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6594480" y="3174840"/>
          <a:ext cx="1406520" cy="406440"/>
        </p:xfrm>
        <a:graphic>
          <a:graphicData uri="http://schemas.openxmlformats.org/drawingml/2006/table">
            <a:tbl>
              <a:tblPr/>
              <a:tblGrid>
                <a:gridCol w="606600"/>
                <a:gridCol w="799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R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7510320" y="2362320"/>
          <a:ext cx="1405080" cy="406440"/>
        </p:xfrm>
        <a:graphic>
          <a:graphicData uri="http://schemas.openxmlformats.org/drawingml/2006/table">
            <a:tbl>
              <a:tblPr/>
              <a:tblGrid>
                <a:gridCol w="336600"/>
                <a:gridCol w="106848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R T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" name=""/>
          <p:cNvSpPr/>
          <p:nvPr/>
        </p:nvSpPr>
        <p:spPr>
          <a:xfrm>
            <a:off x="4648320" y="2133720"/>
            <a:ext cx="28191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03520" y="2819520"/>
            <a:ext cx="0" cy="35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84760" y="2819520"/>
            <a:ext cx="1295280" cy="35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189320" y="2819520"/>
            <a:ext cx="2362320" cy="35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1522080" y="358128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327400" y="3936960"/>
          <a:ext cx="1414440" cy="406440"/>
        </p:xfrm>
        <a:graphic>
          <a:graphicData uri="http://schemas.openxmlformats.org/drawingml/2006/table">
            <a:tbl>
              <a:tblPr/>
              <a:tblGrid>
                <a:gridCol w="847800"/>
                <a:gridCol w="56664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4037040" y="3936960"/>
          <a:ext cx="1415880" cy="406440"/>
        </p:xfrm>
        <a:graphic>
          <a:graphicData uri="http://schemas.openxmlformats.org/drawingml/2006/table">
            <a:tbl>
              <a:tblPr/>
              <a:tblGrid>
                <a:gridCol w="847440"/>
                <a:gridCol w="568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4" name=""/>
          <p:cNvSpPr/>
          <p:nvPr/>
        </p:nvSpPr>
        <p:spPr>
          <a:xfrm>
            <a:off x="2360520" y="3581280"/>
            <a:ext cx="6098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817720" y="3581280"/>
            <a:ext cx="1447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828800" y="4699080"/>
          <a:ext cx="1405080" cy="406440"/>
        </p:xfrm>
        <a:graphic>
          <a:graphicData uri="http://schemas.openxmlformats.org/drawingml/2006/table">
            <a:tbl>
              <a:tblPr/>
              <a:tblGrid>
                <a:gridCol w="1074960"/>
                <a:gridCol w="33012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R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"/>
          <p:cNvSpPr/>
          <p:nvPr/>
        </p:nvSpPr>
        <p:spPr>
          <a:xfrm flipH="1">
            <a:off x="838080" y="43434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371600" y="4343400"/>
            <a:ext cx="11430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38080" y="5105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1905120" y="5537160"/>
          <a:ext cx="1484280" cy="406440"/>
        </p:xfrm>
        <a:graphic>
          <a:graphicData uri="http://schemas.openxmlformats.org/drawingml/2006/table">
            <a:tbl>
              <a:tblPr/>
              <a:tblGrid>
                <a:gridCol w="1268280"/>
                <a:gridCol w="216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R Y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1" name=""/>
          <p:cNvSpPr/>
          <p:nvPr/>
        </p:nvSpPr>
        <p:spPr>
          <a:xfrm>
            <a:off x="2590920" y="5105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3962520" y="4699080"/>
          <a:ext cx="1404720" cy="406440"/>
        </p:xfrm>
        <a:graphic>
          <a:graphicData uri="http://schemas.openxmlformats.org/drawingml/2006/table">
            <a:tbl>
              <a:tblPr/>
              <a:tblGrid>
                <a:gridCol w="1074600"/>
                <a:gridCol w="33012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Y 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3962520" y="5537160"/>
          <a:ext cx="1484280" cy="406440"/>
        </p:xfrm>
        <a:graphic>
          <a:graphicData uri="http://schemas.openxmlformats.org/drawingml/2006/table">
            <a:tbl>
              <a:tblPr/>
              <a:tblGrid>
                <a:gridCol w="1268280"/>
                <a:gridCol w="216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Y R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5638680" y="4699080"/>
          <a:ext cx="1405080" cy="406440"/>
        </p:xfrm>
        <a:graphic>
          <a:graphicData uri="http://schemas.openxmlformats.org/drawingml/2006/table">
            <a:tbl>
              <a:tblPr/>
              <a:tblGrid>
                <a:gridCol w="1074960"/>
                <a:gridCol w="33012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Y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"/>
          <p:cNvSpPr/>
          <p:nvPr/>
        </p:nvSpPr>
        <p:spPr>
          <a:xfrm flipH="1">
            <a:off x="4648320" y="43434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81480" y="4343400"/>
            <a:ext cx="11430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648320" y="5105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5715000" y="5537160"/>
          <a:ext cx="1484280" cy="406440"/>
        </p:xfrm>
        <a:graphic>
          <a:graphicData uri="http://schemas.openxmlformats.org/drawingml/2006/table">
            <a:tbl>
              <a:tblPr/>
              <a:tblGrid>
                <a:gridCol w="1268280"/>
                <a:gridCol w="216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Y T 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9" name=""/>
          <p:cNvSpPr/>
          <p:nvPr/>
        </p:nvSpPr>
        <p:spPr>
          <a:xfrm>
            <a:off x="6400800" y="5105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6629400" y="3962520"/>
          <a:ext cx="1415880" cy="406440"/>
        </p:xfrm>
        <a:graphic>
          <a:graphicData uri="http://schemas.openxmlformats.org/drawingml/2006/table">
            <a:tbl>
              <a:tblPr/>
              <a:tblGrid>
                <a:gridCol w="847800"/>
                <a:gridCol w="5680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Y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1" name=""/>
          <p:cNvSpPr/>
          <p:nvPr/>
        </p:nvSpPr>
        <p:spPr>
          <a:xfrm flipH="1">
            <a:off x="7195680" y="3581280"/>
            <a:ext cx="119160" cy="33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001000" y="35812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623440" y="380988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696280" y="342900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324680" y="342900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591760" y="266688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061080" y="419112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404480" y="426708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acktrack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acktrack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general algorithm for finding solution(s) to a computational problem by trying partial solutions and then abandoning them ("backtracking") if they are not suitab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"brute force" algorithmic technique  (tries all paths; not clever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ten (but not always) implemented recursivel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pplication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ducing all permutations of a set of valu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arsing languag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ames: anagrams, crosswords, word jumbles, 8 quee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binatorics and logic programm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acktracking algorith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general pseudo-code algorithm for backtracking problem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ore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oic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re are no more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hoice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make:  stop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ls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ke a single choice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m the set of choic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Remove </a:t>
            </a:r>
            <a:r>
              <a:rPr b="1" lang="en-US" sz="1800" spc="-1" strike="noStrike">
                <a:solidFill>
                  <a:srgbClr val="808080"/>
                </a:solidFill>
                <a:latin typeface="Tahoma"/>
              </a:rPr>
              <a:t>C</a:t>
            </a: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 from the set of </a:t>
            </a:r>
            <a:r>
              <a:rPr b="1" lang="en-US" sz="1800" spc="-1" strike="noStrike">
                <a:solidFill>
                  <a:srgbClr val="808080"/>
                </a:solidFill>
                <a:latin typeface="Tahoma"/>
              </a:rPr>
              <a:t>choices</a:t>
            </a: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ore the rem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o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-make choice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Backtrack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acktracking strategi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olving a backtracking problem, ask these ques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are the "choices" in this problem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is the "base case"?  (How do I know when I'm out of choices?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I "make" a choic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 I need to create additional variables to remember my choice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 I need to modify the values of existing variable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I explore the rest of the choice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 I need to remove the made choice from the list of choice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ce I'm done exploring the rest, what should I do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I "un-make" a choic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ermutations revisite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ermu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 string as a parameter and outputs all possible rearrangements of the letters in that string.  The arrangements may be output in any ord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ermute("MARTY"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s the following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quence of lin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3990960" y="2666880"/>
          <a:ext cx="4772160" cy="3946320"/>
        </p:xfrm>
        <a:graphic>
          <a:graphicData uri="http://schemas.openxmlformats.org/drawingml/2006/table">
            <a:tbl>
              <a:tblPr/>
              <a:tblGrid>
                <a:gridCol w="795600"/>
                <a:gridCol w="795240"/>
                <a:gridCol w="795240"/>
                <a:gridCol w="795240"/>
                <a:gridCol w="795600"/>
                <a:gridCol w="795240"/>
              </a:tblGrid>
              <a:tr h="397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R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Y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Y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A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A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T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T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Y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Y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A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R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R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Y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Y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A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A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R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R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T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R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T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Y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Y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M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M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T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T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Y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Y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M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M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R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R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Y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Y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M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M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R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R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T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T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A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A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T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T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Y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Y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M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M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T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T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Y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Y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M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M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A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A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Y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Y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M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M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A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A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T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T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A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R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R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Y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Y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M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M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R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R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Y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Y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M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M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A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A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Y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Y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M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M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A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A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R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R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A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A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R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R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T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M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M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R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R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T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T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M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M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A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A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T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T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M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M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A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A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R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R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Outputs all permutations of the given string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public static void permute(String s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permute(s, ""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private static void permute(String s, String chosen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if (s.length() == 0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base case: no choices left to be mad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chosen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recursive case: choose each possible next letter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for (int i = 0; i &lt; s.length(); i++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char c = s.charAt(i);            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choos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 = s.substring(0, i) + s.substring(i + 1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chosen += c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permute(s, chosen);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explor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 = s.substring(0, i) + c + s.substring(i + 1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chosen =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chosen.substring(0, chosen.length() - 1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                                    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un-choos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Outputs all permutations of the given string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public static void permute(String s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permute(s, ""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private static void permute(String s, String chosen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if (s.length() == 0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base case: no choices left to be mad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chosen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recursive case: choose each possible next letter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for (int i = 0; i &lt; s.length(); i++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tring ch = s.substring(i, i + 1);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choos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tring rest = s.substring(0, i) +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remov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.substring(i + 1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permute(rest, chosen + ch);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explor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    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(don't need to "un-choose" becaus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        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 we used temp variables)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: Combina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bina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 string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an intege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as parameters and outputs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letter words that can be formed from unique letters in that string.  The arrangements may be output in any ord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mbinations("GOOGLE", 3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s the sequence of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ines at righ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simplify the problem, you may assum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at the string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ntains at leas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k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nique charact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7238880" y="2987640"/>
          <a:ext cx="1371600" cy="356544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</a:tblGrid>
              <a:tr h="357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G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L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O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O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E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G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L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itial attemp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combinations(String s, int length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mbinations(s, "", length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 static void combinations(String s, String chosen, int length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length == 0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ystem.out.println(chosen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base case: no choices lef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0; i &lt; s.length()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ch = s.substring(i, i + 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!chosen.contains(ch)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rest = s.substring(0, i) + s.substring(i + 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mbinations(rest, chosen + ch, length - 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em: Prints same string multiple tim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idea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ursion is all about breaking a big problem into smaller occurrences of that same proble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person can solve a small part of the proble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is a small version of the problem that would be easy to answer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information from a neighbor might help m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32328"/>
          <a:stretch/>
        </p:blipFill>
        <p:spPr>
          <a:xfrm>
            <a:off x="4030560" y="3514680"/>
            <a:ext cx="4808520" cy="33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combinations(String s, int length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&lt;String&gt; all = new TreeSet&lt;String&gt;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mbinations(s, "",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l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, length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(String comb : all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ystem.out.println(comb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 static void combinations(String s, String chosen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&lt;String&gt; al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, int length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length == 0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ll.add(chosen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    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base case: no choices lef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0; i &lt; s.length()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ch = s.substring(i, i + 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!chosen.contains(ch)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rest = s.substring(0, i) + s.substring(i + 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mbinations(rest, chosen + ch, all, length - 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: Domino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ame of dominoes is played with sma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ack tiles, each having 2 numbers of do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0-6.  Players line up tiles to match do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n a 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min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the follow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first()  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first dots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second() 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second dots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ring toString()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e.g. "(3|5)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sCha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take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dominoes and a starting/ending dot value, and returns whether the dominoes can be made into a chain that starts/ends with those valu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chain's start/end are the same, the answer is alway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6858000" y="1085760"/>
            <a:ext cx="22860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omino chai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se we have the following domino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link them into a chain from 1 to 3 as follow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ice that the 3|5 domino had to be flipp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"link" one domino into a "chain" from 6 to 2 as follow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rcRect l="20178" t="28004" r="20919" b="64408"/>
          <a:stretch/>
        </p:blipFill>
        <p:spPr>
          <a:xfrm>
            <a:off x="1752480" y="1827360"/>
            <a:ext cx="5694480" cy="56664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2"/>
          <a:srcRect l="33505" t="55928" r="34433" b="36644"/>
          <a:stretch/>
        </p:blipFill>
        <p:spPr>
          <a:xfrm>
            <a:off x="2978280" y="3936960"/>
            <a:ext cx="3117600" cy="55872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3"/>
          <a:srcRect l="44182" t="47288" r="45044" b="45606"/>
          <a:stretch/>
        </p:blipFill>
        <p:spPr>
          <a:xfrm>
            <a:off x="4038480" y="5535720"/>
            <a:ext cx="1060560" cy="5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client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util.*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for ArrayLi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SolveDominoes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[(1|4), (2|6), (4|5), (1|5), (3|5)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&lt;Domino&gt; dominoes = new ArrayList&lt;Domino&gt;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minoes.add(new Domino(1, 4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minoes.add(new Domino(2, 6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minoes.add(new Domino(4, 5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minoes.add(new Domino(1, 5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minoes.add(new Domino(3, 5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asChain(dominoes, 5, 5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tr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asChain(dominoes, 1, 5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tr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asChain(dominoes, 1, 3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tr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asChain(dominoes, 1, 6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fal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asChain(dominoes, 1, 2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fal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asChai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List&lt;Domino&gt; dominoes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start, int end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asChai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List&lt;Domino&gt; dominoes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start, int end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start == end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true;             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base ca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dominoes.size()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mino d = dominoes.remove(i)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choo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d.first() == start) {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explo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asChain(dominoes, d.second(), end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d.second() == star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asChain(dominoes, d.first(), end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minoes.add(i, d);  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un-choo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: Print chai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variation of you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sCha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that also prints the chain of dominoes that it finds, if an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Chain(dominoes, 1, 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(1|4), (4|5), (5|3)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boolean hasChain(List&lt;Domino&gt; dominoes, int start, int end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ack&lt;Domino&gt; chosen = new Stack&lt;Domino&gt;(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asChain(dominoes, chosen, start, end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static boolean hasChain(List&lt;Domino&gt; dominoes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tack&lt;Domino&gt; chos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, int start, int end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start == end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ystem.out.println(chosen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rue;                   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</a:rPr>
              <a:t>// base cas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 (int i = 0; i &lt; dominoes.size(); i++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mino d = dominoes.remove(i);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</a:rPr>
              <a:t>// choos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d.first() == start) {  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</a:rPr>
              <a:t>// explor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hosen.push(d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hasChain(dominoes, chosen, d.second(), end)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hosen.pop(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if (d.second() == start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.flip(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hosen.push(d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hasChain(dominoes, chosen, d.second(), end)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hosen.pop(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minoes.add(i, d);        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</a:rPr>
              <a:t>// un-choos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"8 Queens" probl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the problem of trying to place 8 queens on a chess board such that no queen can attack another que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are the "choices"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we "make" or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"un-make" a choic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we know when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stop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4267080" y="2209680"/>
          <a:ext cx="4724280" cy="4267080"/>
        </p:xfrm>
        <a:graphic>
          <a:graphicData uri="http://schemas.openxmlformats.org/drawingml/2006/table">
            <a:tbl>
              <a:tblPr/>
              <a:tblGrid>
                <a:gridCol w="590400"/>
                <a:gridCol w="590760"/>
                <a:gridCol w="590400"/>
                <a:gridCol w="590400"/>
                <a:gridCol w="590760"/>
                <a:gridCol w="590400"/>
                <a:gridCol w="590760"/>
                <a:gridCol w="5904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78" name=""/>
          <p:cNvGrpSpPr/>
          <p:nvPr/>
        </p:nvGrpSpPr>
        <p:grpSpPr>
          <a:xfrm>
            <a:off x="4495320" y="2431800"/>
            <a:ext cx="4419720" cy="3810240"/>
            <a:chOff x="4495320" y="2431800"/>
            <a:chExt cx="4419720" cy="3810240"/>
          </a:xfrm>
        </p:grpSpPr>
        <p:sp>
          <p:nvSpPr>
            <p:cNvPr id="279" name=""/>
            <p:cNvSpPr/>
            <p:nvPr/>
          </p:nvSpPr>
          <p:spPr>
            <a:xfrm flipV="1">
              <a:off x="5714640" y="2431800"/>
              <a:ext cx="0" cy="1447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714640" y="4260960"/>
              <a:ext cx="0" cy="1981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867280" y="4108320"/>
              <a:ext cx="30477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4495320" y="4108320"/>
              <a:ext cx="1143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 flipV="1">
              <a:off x="4495320" y="2965320"/>
              <a:ext cx="106668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4495320" y="4260960"/>
              <a:ext cx="1066680" cy="990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943240" y="4260960"/>
              <a:ext cx="2133720" cy="1981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5943240" y="2431800"/>
              <a:ext cx="1524240" cy="1447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aive algorith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(each square on board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lace a queen ther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ry to place the rest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 the queen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n-place the quee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large is th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lution space for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algorithm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4 * 63 * 62 *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3676680" y="1676520"/>
          <a:ext cx="5315040" cy="4790520"/>
        </p:xfrm>
        <a:graphic>
          <a:graphicData uri="http://schemas.openxmlformats.org/drawingml/2006/table">
            <a:tbl>
              <a:tblPr/>
              <a:tblGrid>
                <a:gridCol w="590760"/>
                <a:gridCol w="590400"/>
                <a:gridCol w="590760"/>
                <a:gridCol w="590400"/>
                <a:gridCol w="590400"/>
                <a:gridCol w="590760"/>
                <a:gridCol w="590400"/>
                <a:gridCol w="590760"/>
                <a:gridCol w="59040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etter algorithm idea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servation: In a work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lution, exactly 1 que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appear in eac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w and 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colum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define a "choice"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be valid placement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 a queen in a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articular colum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large is th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lution space now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 * 8 * 8 *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3676680" y="1676520"/>
          <a:ext cx="5315040" cy="4790520"/>
        </p:xfrm>
        <a:graphic>
          <a:graphicData uri="http://schemas.openxmlformats.org/drawingml/2006/table">
            <a:tbl>
              <a:tblPr/>
              <a:tblGrid>
                <a:gridCol w="590760"/>
                <a:gridCol w="590400"/>
                <a:gridCol w="590760"/>
                <a:gridCol w="590400"/>
                <a:gridCol w="590400"/>
                <a:gridCol w="590760"/>
                <a:gridCol w="590400"/>
                <a:gridCol w="590760"/>
                <a:gridCol w="59040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ursive algorith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people behind m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re is someone behind me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k him/her how many people are behind him/h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they respond with a value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then I will answe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+ 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re is nobody behind me, I will answer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0" t="0" r="0" b="32658"/>
          <a:stretch/>
        </p:blipFill>
        <p:spPr>
          <a:xfrm>
            <a:off x="4038480" y="3591000"/>
            <a:ext cx="472608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se we hav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ar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with the follow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olveQuee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ar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s a parameter and tries to place 8 queens on it safe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r method should stop exploring if it finds a solu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147600" y="1971720"/>
          <a:ext cx="8890200" cy="2676600"/>
        </p:xfrm>
        <a:graphic>
          <a:graphicData uri="http://schemas.openxmlformats.org/drawingml/2006/table">
            <a:tbl>
              <a:tblPr/>
              <a:tblGrid>
                <a:gridCol w="5918400"/>
                <a:gridCol w="2971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34596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/Constru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ar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int siz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struct empty boa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boolean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Saf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int row, int colum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if queen can be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afely placed 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void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lac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int row, int colum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lace queen 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void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mov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int row, int colum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move queen from 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String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oStrin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xt display of boa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earches for a solution to the 8 queens problem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with this board, reporting the first result foun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solveQueens(Board board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!explore(board, 1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No solution found.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One solution is as follows: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board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, cont'd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cursively searches for a solution to 8 queens on thi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board, starting with the given column, returning true if a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olution is found and storing that solution in the boar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PRE: queens have been safely placed in columns 1 to (col-1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explore(Board board, int co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col &gt; board.size(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true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base case: all columns are plac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cursive case: place a queen in this colum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row = 1; row &lt;= board.size(); row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board.isSafe(row, col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ard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l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row, col);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choo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plor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board, col + 1)) {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explo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true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olution fou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row, col);  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un-choo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false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o solution fou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ursion and ca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recursive algorithm involves at least 2 ca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ase cas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A simple occurrence that can be answered directl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ecursive cas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A more complex occurrence of the problem that cannot be directly answered, but can instead be described in terms of smaller occurrences of the same proble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me recursive algorithms have more than one base or recursive case, but all have at least one of each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crucial part of recursive programming is identifying these cas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other recursive task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can we remove exactly half of the M&amp;M's in a large bowl, without dumping them all out or being able to count the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f multiple people help out with solving the problem?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each person do a small part of the work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a number of M&amp;M'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at it is easy to double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en if you can't count?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What is a "base case"?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724280" y="3886200"/>
            <a:ext cx="3962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ursion in Java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the following method to print a line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haract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ints a line containing the given number of st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econdition: n &gt;=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Stars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n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nd the line of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recursive version of this method (that calls itself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lve the problem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without using any loop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int: Your solution should print just one star at a tim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3:01Z</dcterms:modified>
  <cp:revision>314</cp:revision>
  <dc:subject/>
  <dc:title>CSE 142 Python Slides</dc:title>
</cp:coreProperties>
</file>