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9EB1-4E88-46B0-A0F8-1E3F0D69F82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ing a Collection Clas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I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3760" indent="-2037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r front is hard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see book ch 7.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i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earby elements to make room for the new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: The order in which you traverse the array matter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64832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; i &gt; index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-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ndex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32338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64832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the following methods nex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an element from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ain, we need to shift elements in the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, it's a left-shif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what order should we process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ndexes should we proces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ptional (why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ning out of sp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hould we do if the client adds more than 10 el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15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 an 11th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23623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6320" y="4757760"/>
          <a:ext cx="8980200" cy="1185840"/>
        </p:xfrm>
        <a:graphic>
          <a:graphicData uri="http://schemas.openxmlformats.org/drawingml/2006/table">
            <a:tbl>
              <a:tblPr/>
              <a:tblGrid>
                <a:gridCol w="782280"/>
                <a:gridCol w="507960"/>
                <a:gridCol w="322560"/>
                <a:gridCol w="322200"/>
                <a:gridCol w="322200"/>
                <a:gridCol w="322200"/>
                <a:gridCol w="460440"/>
                <a:gridCol w="322200"/>
                <a:gridCol w="322200"/>
                <a:gridCol w="322200"/>
                <a:gridCol w="322560"/>
                <a:gridCol w="5079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venie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he first index an element is found, or -1 if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list has no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the list contains the given int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we ne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we already ha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methods provide convenience to the client of 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size() =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indexOf(42) &gt;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contains(42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some new features to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 A method that allows client programs to print a list'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 A constructor that accepts an initial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By writing these we will recall some features of objects in Java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ing lists: You may be tempted to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"list is " + list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(of unknown size) full of integers and prints the integers in the reverse order to how they occurred in the file.  Consider example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.t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run with this file, your program's output would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new constructor that accepts a capacity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nstructors are very similar.  Can we avoid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reference to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(the object on which a method/constructor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constructo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another construc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e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int capacity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 = new int[capacity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(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alls (int) constru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ze vs. capacit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if the client tries to access an element that is past the size but within the capacity (bounds) of the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get(7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list of size 5  (capacity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Currently the list allows this and returns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is good or bad?  What (if anything) should we do about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s is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really "solve" the problem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actually enforce the precondi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d precondition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e following way to handle viol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"Bad index! " + 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-1 is no better than returning 0  (could be a legal val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 very strong deterrent to the client  (esp. GU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exceptions (4.5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he program to immediately crash with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exception typ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ithmeticException, ArrayIndexOutOfBoundsException, FileNotFoundException, IllegalArgumentException, IllegalStateException, IOException, NoSuchElementException, NullPointerException, RuntimeException, UnsupportedOperationExcep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anyone ev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ant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gram to cras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et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res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state preconditions and throw exceptions as appropri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ouble in size until large enoug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using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nums = new int[100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 a really big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size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input.nextInt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d each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       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to the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 - 1; i &gt;= 0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i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 rever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testing progr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programs are written specifically to test oth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ot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want to give it to others, we must make sure it works adequately well fir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ient program with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constructs several lists, adds elements to them, and calls the various other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ps for te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test every possible input, parameter valu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a sing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has 2^32 different possible valu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must think of a limited set of tests likely to expose bu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boundary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itive, zero, negative numb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ight at the edge of an array or collection's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empty cases and error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, -1, null;  an empty list or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rray or collection that contains nu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helping methods in your test program to shorte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testing ti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c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u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est shouldn't just call methods and print results; it shoul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e method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ir results to a known correct expected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are the same, report that the test "passed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differ, report that the test "failed" along with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behavior in comb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ually works, but fails after you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happens if I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multiple calls;  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ails the second time on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1 = {5, 2, 7, 8, 4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2 = {2, 7, 42, 8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3 = {7, 42, 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1, a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2, a3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new int[] {1, 2, 3, 4, 5}, new int[] {2, 3, 42, 4}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elper(int[] elements, int[] expecte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IntList list = new ArrayIntList(element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lement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elements[i]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list.size()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2, 4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xpected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ist.get(i) != expected[i]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fail; expect " + Arrays.toString(expected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 ", actual " + 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ish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the following featur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onstant for the default list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tter encapsulation and protection of implementation detai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etter way to print list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const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lobal, unchangeable value in a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to store and give names to important values used in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cuments an important value;  easier to find and change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will often store constants related to tha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AX_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IN_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GR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fault array length for new ArrayInt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int DEFAULT_CAPACITY = 1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Helper"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few useful "helper"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Re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, int min, int ma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rote them to help us implement other requir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want clients to call these methods; they are inter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top clients from calling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ivat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vat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 its own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ed, similar to 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bject can call the method on itself, but clients cannot call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"helper" methods that clients shouldn't directly tou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oid checkIndex(int index, int min, int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min || index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s = new int[10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need to store an unknown number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can be used for this, but we must count 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e values at indexes [0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1] are releva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using an array to store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ther operations might we want to run on lists of valu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constructor accepts an integ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time an integer is added, the list will actually ad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 of copies of that integ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u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tterIntList list = new StutterIntLis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7);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2, 5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getStretch()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4" descr="employee_manuals"/>
          <p:cNvPicPr/>
          <p:nvPr/>
        </p:nvPicPr>
        <p:blipFill>
          <a:blip r:embed="rId1"/>
          <a:stretch/>
        </p:blipFill>
        <p:spPr>
          <a:xfrm>
            <a:off x="2286000" y="3962520"/>
            <a:ext cx="46483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wyers, Secretaries, etc. have similar behavior to the abo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to implement those classes without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copy of each method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utoma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is required to override a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4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 (bet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version makes sure that Lawyers always make $5K more than Employees, even if the Employee's salary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sup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String nam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name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llows a subclass constructor to call a superclas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uctors are not inherited; If you extend a class, you must write all the constructors you want your subclass to 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tutterIntLis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tends ArrayInt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, int capacity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capacity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index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Stretch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bclasses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iveRaise(double amou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alary += amoun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; salary is priv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ed private fields/methods cannot be directly accessed by subclasses.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The subclass has the field, but it can't touch i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allow a subclass to access/modify these field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possible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value, int inde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mov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inde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fin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implement these operations as methods that accept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and i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long with other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since the behavior and data are so closely related, it makes more sense to put them together into an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object can store an array of elements and a size, and can have methods for manipulating the list of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ote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hides details of how the list work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tected fields/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cted fiel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itself,  and its sub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by other classes in the same "package"  (discussed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allowing selective access to inner class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hould be able to treat both lists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rface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/arrays, fix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can create variables of that type, accept them as parameters, return them, or create arrays by cas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generic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ArrayList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f (elementData[i] ==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ementData[i].equals(value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testing objects of type E for equality, mus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lass that implements a list us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call i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'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be the number of elements added to it so f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list be used?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linked list nod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ListNode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dat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ListNode&lt;E&gt; nex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 generic linked list, the node class must also accept the typ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Array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inked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end of a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 to end of list, just store element and increase siz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middle or end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24Z</dcterms:modified>
  <cp:revision>86</cp:revision>
  <dc:subject/>
  <dc:title>CSE 142 Python Slides</dc:title>
</cp:coreProperties>
</file>