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4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charts/chart1.xml" ContentType="application/vnd.openxmlformats-officedocument.drawingml.char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xMode val="edge"/>
          <c:yMode val="edge"/>
          <c:x val="0.019999212629424"/>
          <c:y val="0.0199460107978404"/>
          <c:w val="0.696941065312389"/>
          <c:h val="0.939787042591482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PhD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2"/>
                <c:pt idx="0">
                  <c:v>Computer science</c:v>
                </c:pt>
                <c:pt idx="1">
                  <c:v>Biological science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2"/>
                <c:pt idx="0">
                  <c:v>861</c:v>
                </c:pt>
                <c:pt idx="1">
                  <c:v>5855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Master's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2"/>
                <c:pt idx="0">
                  <c:v>Computer science</c:v>
                </c:pt>
                <c:pt idx="1">
                  <c:v>Biological science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2"/>
                <c:pt idx="0">
                  <c:v>14529</c:v>
                </c:pt>
                <c:pt idx="1">
                  <c:v>6325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Bachelor's</c:v>
                </c:pt>
              </c:strCache>
            </c:strRef>
          </c:tx>
          <c:spPr>
            <a:solidFill>
              <a:srgbClr val="ffd320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2"/>
                <c:pt idx="0">
                  <c:v>Computer science</c:v>
                </c:pt>
                <c:pt idx="1">
                  <c:v>Biological science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2"/>
                <c:pt idx="0">
                  <c:v>37388</c:v>
                </c:pt>
                <c:pt idx="1">
                  <c:v>64904</c:v>
                </c:pt>
              </c:numCache>
            </c:numRef>
          </c:val>
        </c:ser>
        <c:ser>
          <c:idx val="3"/>
          <c:order val="3"/>
          <c:tx>
            <c:strRef>
              <c:f>label 3</c:f>
              <c:strCache>
                <c:ptCount val="1"/>
                <c:pt idx="0">
                  <c:v>Projected Job Openings</c:v>
                </c:pt>
              </c:strCache>
            </c:strRef>
          </c:tx>
          <c:spPr>
            <a:solidFill>
              <a:srgbClr val="579d1c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2"/>
                <c:pt idx="0">
                  <c:v>Computer science</c:v>
                </c:pt>
                <c:pt idx="1">
                  <c:v>Biological science</c:v>
                </c:pt>
              </c:strCache>
            </c:strRef>
          </c:cat>
          <c:val>
            <c:numRef>
              <c:f>3</c:f>
              <c:numCache>
                <c:formatCode>General</c:formatCode>
                <c:ptCount val="2"/>
                <c:pt idx="0">
                  <c:v>142900</c:v>
                </c:pt>
                <c:pt idx="1">
                  <c:v>6000</c:v>
                </c:pt>
              </c:numCache>
            </c:numRef>
          </c:val>
        </c:ser>
        <c:gapWidth val="100"/>
        <c:overlap val="0"/>
        <c:axId val="45892569"/>
        <c:axId val="61590503"/>
      </c:barChart>
      <c:catAx>
        <c:axId val="45892569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2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590503"/>
        <c:crossesAt val="0"/>
        <c:auto val="1"/>
        <c:lblAlgn val="ctr"/>
        <c:lblOffset val="100"/>
        <c:noMultiLvlLbl val="0"/>
      </c:catAx>
      <c:valAx>
        <c:axId val="6159050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#,##0\ ;&quot; (&quot;#,##0\);\-#\ ;@\ 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2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892569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layout>
        <c:manualLayout>
          <c:xMode val="edge"/>
          <c:yMode val="edge"/>
          <c:x val="0.736978859100036"/>
          <c:y val="0.306988602279544"/>
        </c:manualLayout>
      </c:layout>
      <c:overlay val="0"/>
      <c:spPr>
        <a:noFill/>
        <a:ln w="0">
          <a:noFill/>
        </a:ln>
      </c:spPr>
      <c:txPr>
        <a:bodyPr/>
        <a:lstStyle/>
        <a:p>
          <a:pPr>
            <a:defRPr b="0" sz="15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0"/>
    <c:dispBlanksAs val="gap"/>
  </c:chart>
  <c:spPr>
    <a:solidFill>
      <a:srgbClr val="ffffff"/>
    </a:solidFill>
    <a:ln w="0">
      <a:noFill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1AFD6-44B5-41D3-89BA-5283C9F53F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6B1D2-DCBD-4127-BC08-C33B5488F6CC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39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3032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hapter 1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roduction to Java Programm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pyright (c) Pearson 2013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ructure of a Java progra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statemen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statemen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statemen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very executable Java program consists of a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class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that contains a 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method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named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at contains the 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statements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(commands) to be execut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3068640" y="1146240"/>
            <a:ext cx="3529800" cy="398880"/>
            <a:chOff x="3068640" y="1146240"/>
            <a:chExt cx="3529800" cy="398880"/>
          </a:xfrm>
        </p:grpSpPr>
        <p:sp>
          <p:nvSpPr>
            <p:cNvPr id="129" name=""/>
            <p:cNvSpPr/>
            <p:nvPr/>
          </p:nvSpPr>
          <p:spPr>
            <a:xfrm>
              <a:off x="3834720" y="1146240"/>
              <a:ext cx="276372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2600" indent="-28260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class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: a progra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3068640" y="1247760"/>
              <a:ext cx="93024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2743200" y="3316320"/>
            <a:ext cx="5852520" cy="779760"/>
            <a:chOff x="2743200" y="3316320"/>
            <a:chExt cx="5852520" cy="779760"/>
          </a:xfrm>
        </p:grpSpPr>
        <p:sp>
          <p:nvSpPr>
            <p:cNvPr id="132" name=""/>
            <p:cNvSpPr/>
            <p:nvPr/>
          </p:nvSpPr>
          <p:spPr>
            <a:xfrm>
              <a:off x="3136320" y="3697200"/>
              <a:ext cx="545940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2600" indent="-28260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statement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: a command to be execut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 flipV="1">
              <a:off x="2743200" y="3316320"/>
              <a:ext cx="4572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3468600" y="2028960"/>
            <a:ext cx="5783040" cy="1084680"/>
            <a:chOff x="3468600" y="2028960"/>
            <a:chExt cx="5783040" cy="1084680"/>
          </a:xfrm>
        </p:grpSpPr>
        <p:sp>
          <p:nvSpPr>
            <p:cNvPr id="135" name=""/>
            <p:cNvSpPr/>
            <p:nvPr/>
          </p:nvSpPr>
          <p:spPr>
            <a:xfrm>
              <a:off x="3468600" y="2409840"/>
              <a:ext cx="5783040" cy="70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314360" indent="-131436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method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: a named group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of statem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 flipV="1">
              <a:off x="4190760" y="2028960"/>
              <a:ext cx="45684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urier New"/>
              </a:rPr>
              <a:t>System.out.printl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 statement that prints a line of output on the conso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ronounced "print-linn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metimes called a "println statement" for shor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wo ways to use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System.out.println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System.out.println("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tex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rints the given message as outpu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rints a blank line of outpu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Names and identifi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You must give your program a nam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GB" sz="2200" spc="-1" strike="noStrike">
                <a:solidFill>
                  <a:srgbClr val="003399"/>
                </a:solidFill>
                <a:latin typeface="Courier New"/>
              </a:rPr>
              <a:t>GangstaRap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Naming convention: capitalize each word (e.g.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MyClassName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Your program's file must match exactly (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GangstaRap.java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-1692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cludes capitalization (Java is "case-sensitive"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identifier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: A name given to an item in your progra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ust start with a letter or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_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or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$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ubsequent characters can be any of those or a numb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-169200">
              <a:spcBef>
                <a:spcPts val="451"/>
              </a:spcBef>
              <a:buClr>
                <a:srgbClr val="00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Tahoma"/>
              </a:rPr>
              <a:t>legal:</a:t>
            </a:r>
            <a:r>
              <a:rPr b="0" lang="en-GB" sz="20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3399"/>
                </a:solidFill>
                <a:latin typeface="Courier New"/>
              </a:rPr>
              <a:t>_myName   TheCure   ANSWER_IS_42   $bling$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-169200">
              <a:spcBef>
                <a:spcPts val="451"/>
              </a:spcBef>
              <a:buClr>
                <a:srgbClr val="8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Tahoma"/>
              </a:rPr>
              <a:t>illegal:</a:t>
            </a:r>
            <a:r>
              <a:rPr b="0" lang="en-GB" sz="2000" spc="-1" strike="noStrike">
                <a:solidFill>
                  <a:srgbClr val="8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Courier New"/>
              </a:rPr>
              <a:t>me+u      49ers     side-swipe     Ph.D'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Keywor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keyword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: An identifier that you cannot use because it already has a reserved meaning in Jav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abstract    default    if           private      thi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boolean     do         implements   protected    throw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break       double     import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throw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byte        else       instanceof   return       transi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ase        extends    int          short        tr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atch       final      interface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har        finally    long         strictfp     volati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float      native       super        whi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onst       for        new          swi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ontinue    goto       package      synchron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yntax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syntax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: The set of legal structures and commands that can be used in a particular languag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Every basic Java statement ends with a semicolon 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The contents of a class or method occur between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syntax error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compiler error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): A problem in the structure of a program that causes the compiler to fai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issing semicol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Too many or too few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brac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Illegal identifier for class nam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Class and file names do not match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yntax error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Courier New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public class Hello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Courier New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p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Courier New"/>
              </a:rPr>
              <a:t>oo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Courier New"/>
              </a:rPr>
              <a:t>3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  System.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Courier New"/>
              </a:rPr>
              <a:t>ow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.println("Hello, world!")_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Courier New"/>
              </a:rPr>
              <a:t>4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Courier New"/>
              </a:rPr>
              <a:t>5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iler outpu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Hello.java:</a:t>
            </a:r>
            <a:r>
              <a:rPr b="1" lang="en-GB" sz="1800" spc="-1" strike="noStrike">
                <a:solidFill>
                  <a:srgbClr val="003399"/>
                </a:solidFill>
                <a:latin typeface="Courier New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: &lt;identifier&gt; expect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oo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^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Hello.java:</a:t>
            </a:r>
            <a:r>
              <a:rPr b="1" lang="en-GB" sz="1800" spc="-1" strike="noStrike">
                <a:solidFill>
                  <a:srgbClr val="003399"/>
                </a:solidFill>
                <a:latin typeface="Courier New"/>
              </a:rPr>
              <a:t>3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: ';' expect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^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2 erro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The compiler shows the line number where it found the erro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The error messages can be tough to understand!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String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string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: A sequence of characters to be print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tarts and ends with a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quote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charact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quotes do not appear in the outpu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Examples:</a:t>
            </a:r>
            <a:br>
              <a:rPr sz="2200"/>
            </a:br>
            <a:br>
              <a:rPr sz="900"/>
            </a:b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"hello"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"This is a string.  It's very long!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stric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y not span multiple lines.</a:t>
            </a:r>
            <a:br>
              <a:rPr sz="2200"/>
            </a:br>
            <a:br>
              <a:rPr sz="800"/>
            </a:br>
            <a:r>
              <a:rPr b="0" lang="en-GB" sz="2000" spc="-1" strike="noStrike">
                <a:solidFill>
                  <a:srgbClr val="800000"/>
                </a:solidFill>
                <a:latin typeface="Courier New"/>
              </a:rPr>
              <a:t>"This is not</a:t>
            </a:r>
            <a:br>
              <a:rPr sz="2000"/>
            </a:br>
            <a:r>
              <a:rPr b="0" lang="en-GB" sz="2000" spc="-1" strike="noStrike">
                <a:solidFill>
                  <a:srgbClr val="800000"/>
                </a:solidFill>
                <a:latin typeface="Courier New"/>
              </a:rPr>
              <a:t>a legal String.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y not contain a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character.</a:t>
            </a:r>
            <a:br>
              <a:rPr sz="2200"/>
            </a:br>
            <a:br>
              <a:rPr sz="800"/>
            </a:br>
            <a:r>
              <a:rPr b="0" lang="en-GB" sz="2000" spc="-1" strike="noStrike">
                <a:solidFill>
                  <a:srgbClr val="800000"/>
                </a:solidFill>
                <a:latin typeface="Courier New"/>
              </a:rPr>
              <a:t>"This is not a "legal" String either.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scape sequenc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escape sequence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: A special sequence of characters used to represent certain special characters in a string.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\t   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tab charact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\n   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new line charact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\"   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quotation mark charact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\\   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ackslash charact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br>
              <a:rPr sz="2200"/>
            </a:b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System.out.println("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\\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hello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\n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how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\t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are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\"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you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\"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?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\\\\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");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Output: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\hello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how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are "you"?\\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Ques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hat is the output of the following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statement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System.out.println("\ta\tb\tc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System.out.println("\\\\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System.out.println("'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System.out.println("\"\"\"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System.out.println("C:\nin\the downward spiral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rite a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statement to produce this outpu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/ \ // \\ /// \\\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sw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utput of each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statemen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a       b       c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\\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""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C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in      he downward spira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statement to produce the line of outpu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System.out.println("/ \\ // \\\\ /// \\\\\\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hat is computer science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 Sc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study of theoretical foundations of information and computation and their implementation and application in computer systems.  -- Wikipedi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68680" indent="0"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any subfield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68680" indent="-165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aphics, Computer 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68680" indent="-165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ificial Intellig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68680" indent="-165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cientific Compu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68680" indent="-165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bot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68680" indent="-165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bases, Data Mi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68680" indent="-165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ational Linguistics, Natural Language Processing  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 Engine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verlap with CS and EE; emphasizes hardwar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Ques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hat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statements will generate this outpu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This program prints 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quote from the Gettysburg Addres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"Four score and seven years ago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our 'fore fathers' brought forth 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this continent a new nation.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hat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statements will generate this outpu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A "quoted" String 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'much' better if you lear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the rules of "escape sequences.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Also, "" represents an empty String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Don't forget: use \" instead of " 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'' is not the same as 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sw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statements to generate the outpu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"This program prints a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"quote from the Gettysburg Address.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"\"Four score and seven years ago,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"our 'fore fathers' brought forth on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"this continent a new nation.\"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statements to generate the outpu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System.out.println("A \"quoted\" String is")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System.out.println("'much' better if you learn")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System.out.println("the rules of \"escape sequences.\"")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System.out.println("Also, \"\" represents an empty String.")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System.out.println("Don't forget: use \\\" instead of \" !")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System.out.println("'' is not the same as \"")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Commen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comment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: A note written in source code by the programmer to describe or clarify the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Comments are not executed when your program run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200" spc="-1" strike="noStrike">
                <a:solidFill>
                  <a:srgbClr val="008080"/>
                </a:solidFill>
                <a:latin typeface="Courier New"/>
              </a:rPr>
              <a:t>//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comment text, on one line</a:t>
            </a:r>
            <a:br>
              <a:rPr sz="2200"/>
            </a:br>
            <a:r>
              <a:rPr b="1" i="1" lang="en-GB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or,</a:t>
            </a:r>
            <a:br>
              <a:rPr sz="2200"/>
            </a:br>
            <a:r>
              <a:rPr b="1" lang="en-GB" sz="2200" spc="-1" strike="noStrike">
                <a:solidFill>
                  <a:srgbClr val="008080"/>
                </a:solidFill>
                <a:latin typeface="Courier New"/>
              </a:rPr>
              <a:t>/*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comment text; may span multiple lines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2200" spc="-1" strike="noStrike">
                <a:solidFill>
                  <a:srgbClr val="008080"/>
                </a:solidFill>
                <a:latin typeface="Courier New"/>
              </a:rPr>
              <a:t>*/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6666"/>
                </a:solidFill>
                <a:latin typeface="Courier New"/>
              </a:rPr>
              <a:t>// This is a one-line commen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6666"/>
                </a:solidFill>
                <a:latin typeface="Courier New"/>
              </a:rPr>
              <a:t>/* This is a very lo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6666"/>
                </a:solidFill>
                <a:latin typeface="Courier New"/>
              </a:rPr>
              <a:t>   </a:t>
            </a:r>
            <a:r>
              <a:rPr b="1" lang="en-GB" sz="2200" spc="-1" strike="noStrike">
                <a:solidFill>
                  <a:srgbClr val="006666"/>
                </a:solidFill>
                <a:latin typeface="Courier New"/>
              </a:rPr>
              <a:t>multi-line comment. */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Using commen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here to place commen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t the top of each file (a "comment header"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t the start of every method (seen later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to explain complex pieces of cod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ments are useful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Understanding larger, more complex program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ultiple programmers working together, who must understand each other's cod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Comments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66"/>
                </a:solidFill>
                <a:latin typeface="Courier New"/>
              </a:rPr>
              <a:t>/* Suzy Student, CS 101, Fall 201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66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6666"/>
                </a:solidFill>
                <a:latin typeface="Courier New"/>
              </a:rPr>
              <a:t>This program prints lyrics about ... something. */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ublic class BaWitDaBa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66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6666"/>
                </a:solidFill>
                <a:latin typeface="Courier New"/>
              </a:rPr>
              <a:t>// first vers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"Bawitdaba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"da bang a dang diggy diggy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6666"/>
                </a:solidFill>
                <a:latin typeface="Courier New"/>
              </a:rPr>
              <a:t>// second vers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"diggy said the boogy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"said up jump the boogy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Static methods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rcRect l="1923" t="2389" r="3037" b="1964"/>
          <a:stretch/>
        </p:blipFill>
        <p:spPr>
          <a:xfrm>
            <a:off x="6477120" y="2876400"/>
            <a:ext cx="2365200" cy="238140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Algorithm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algorithm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: A list of steps for solving a proble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xample algorithm: "Bake sugar cookies"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Tahoma"/>
              </a:rPr>
              <a:t>Mix the dry ingredien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Tahoma"/>
              </a:rPr>
              <a:t>Cream the butter and suga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Tahoma"/>
              </a:rPr>
              <a:t>Beat in the egg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Tahoma"/>
              </a:rPr>
              <a:t>Stir in the dry ingredien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Tahoma"/>
              </a:rPr>
              <a:t>Set the oven temperatur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Tahoma"/>
              </a:rPr>
              <a:t>Set the tim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Tahoma"/>
              </a:rPr>
              <a:t>Place the cookies into the ove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Tahoma"/>
              </a:rPr>
              <a:t>Allow the cookies to bak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Tahoma"/>
              </a:rPr>
              <a:t>Spread frosting and sprinkles onto the cooki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oblems with algorithm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ack of struct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Many tiny steps; tough to rememb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dundanc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Consider making a double batch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90000"/>
              </a:lnSpc>
              <a:spcBef>
                <a:spcPts val="499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Tahoma"/>
              </a:rPr>
              <a:t>Mix the dry ingredient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90000"/>
              </a:lnSpc>
              <a:spcBef>
                <a:spcPts val="499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Tahoma"/>
              </a:rPr>
              <a:t>Cream the butter and suga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90000"/>
              </a:lnSpc>
              <a:spcBef>
                <a:spcPts val="499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Tahoma"/>
              </a:rPr>
              <a:t>Beat in the egg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90000"/>
              </a:lnSpc>
              <a:spcBef>
                <a:spcPts val="499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Tahoma"/>
              </a:rPr>
              <a:t>Stir in the dry ingredient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Tahoma"/>
              </a:rPr>
              <a:t>Set the oven temperatur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Tahoma"/>
              </a:rPr>
              <a:t>Set the tim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Tahoma"/>
              </a:rPr>
              <a:t>Place the first batch of cookies into the ove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Tahoma"/>
              </a:rPr>
              <a:t>Allow the cookies to bak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Tahoma"/>
              </a:rPr>
              <a:t>Set the tim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Tahoma"/>
              </a:rPr>
              <a:t>Place the second batch of cookies into the ove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Tahoma"/>
              </a:rPr>
              <a:t>Allow the cookies to bak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90000"/>
              </a:lnSpc>
              <a:spcBef>
                <a:spcPts val="499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Tahoma"/>
              </a:rPr>
              <a:t>Mix ingredients for frosting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90000"/>
              </a:lnSpc>
              <a:spcBef>
                <a:spcPts val="499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Structured algorithm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-21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structured algorithm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: Split into coherent task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Tahoma"/>
              </a:rPr>
              <a:t>1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Tahoma"/>
              </a:rPr>
              <a:t>Make the cookie batt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lnSpc>
                <a:spcPct val="90000"/>
              </a:lnSpc>
              <a:spcBef>
                <a:spcPts val="451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Tahoma"/>
              </a:rPr>
              <a:t>Mix the dry ingredient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lnSpc>
                <a:spcPct val="90000"/>
              </a:lnSpc>
              <a:spcBef>
                <a:spcPts val="451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Tahoma"/>
              </a:rPr>
              <a:t>Cream the butter and suga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lnSpc>
                <a:spcPct val="90000"/>
              </a:lnSpc>
              <a:spcBef>
                <a:spcPts val="451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Tahoma"/>
              </a:rPr>
              <a:t>Beat in the egg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lnSpc>
                <a:spcPct val="90000"/>
              </a:lnSpc>
              <a:spcBef>
                <a:spcPts val="451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Tahoma"/>
              </a:rPr>
              <a:t>Stir in the dry ingredient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0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Tahoma"/>
              </a:rPr>
              <a:t>2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Tahoma"/>
              </a:rPr>
              <a:t>Bake the cooki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lnSpc>
                <a:spcPct val="90000"/>
              </a:lnSpc>
              <a:spcBef>
                <a:spcPts val="451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Tahoma"/>
              </a:rPr>
              <a:t>Set the oven temperatur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lnSpc>
                <a:spcPct val="90000"/>
              </a:lnSpc>
              <a:spcBef>
                <a:spcPts val="451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Tahoma"/>
              </a:rPr>
              <a:t>Set the tim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lnSpc>
                <a:spcPct val="90000"/>
              </a:lnSpc>
              <a:spcBef>
                <a:spcPts val="451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Tahoma"/>
              </a:rPr>
              <a:t>Place the cookies into the ove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lnSpc>
                <a:spcPct val="90000"/>
              </a:lnSpc>
              <a:spcBef>
                <a:spcPts val="451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Tahoma"/>
              </a:rPr>
              <a:t>Allow the cookies to bak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0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Tahoma"/>
              </a:rPr>
              <a:t>3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Tahoma"/>
              </a:rPr>
              <a:t>Add frosting and sprinkl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lnSpc>
                <a:spcPct val="90000"/>
              </a:lnSpc>
              <a:spcBef>
                <a:spcPts val="451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Tahoma"/>
              </a:rPr>
              <a:t>Mix the ingredients for the frosting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lnSpc>
                <a:spcPct val="90000"/>
              </a:lnSpc>
              <a:spcBef>
                <a:spcPts val="451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Tahoma"/>
              </a:rPr>
              <a:t>Spread frosting and sprinkles onto the cooki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moving redundanc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well-structured algorithm can describe repeated tasks with less redundanc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 u="sng">
                <a:solidFill>
                  <a:srgbClr val="000000"/>
                </a:solidFill>
                <a:uFillTx/>
                <a:latin typeface="Tahoma"/>
              </a:rPr>
              <a:t>1</a:t>
            </a:r>
            <a:r>
              <a:rPr b="0" lang="en-GB" sz="2200" spc="-1" strike="noStrike" u="sng">
                <a:solidFill>
                  <a:srgbClr val="000000"/>
                </a:solidFill>
                <a:uFillTx/>
                <a:latin typeface="Tahoma"/>
              </a:rPr>
              <a:t> Make the cookie batt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90000"/>
              </a:lnSpc>
              <a:spcBef>
                <a:spcPts val="451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Tahoma"/>
              </a:rPr>
              <a:t>Mix the dry ingredien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90000"/>
              </a:lnSpc>
              <a:spcBef>
                <a:spcPts val="451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 u="sng">
                <a:solidFill>
                  <a:srgbClr val="003399"/>
                </a:solidFill>
                <a:uFillTx/>
                <a:latin typeface="Tahoma"/>
              </a:rPr>
              <a:t>2a</a:t>
            </a:r>
            <a:r>
              <a:rPr b="0" lang="en-GB" sz="2200" spc="-1" strike="noStrike" u="sng">
                <a:solidFill>
                  <a:srgbClr val="003399"/>
                </a:solidFill>
                <a:uFillTx/>
                <a:latin typeface="Tahoma"/>
              </a:rPr>
              <a:t> Bake the cookies (first batch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90000"/>
              </a:lnSpc>
              <a:spcBef>
                <a:spcPts val="451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Tahoma"/>
              </a:rPr>
              <a:t>Set the oven temperatur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90000"/>
              </a:lnSpc>
              <a:spcBef>
                <a:spcPts val="451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Tahoma"/>
              </a:rPr>
              <a:t>Set the tim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90000"/>
              </a:lnSpc>
              <a:spcBef>
                <a:spcPts val="451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 u="sng">
                <a:solidFill>
                  <a:srgbClr val="003399"/>
                </a:solidFill>
                <a:uFillTx/>
                <a:latin typeface="Tahoma"/>
              </a:rPr>
              <a:t>2b</a:t>
            </a:r>
            <a:r>
              <a:rPr b="0" lang="en-GB" sz="2200" spc="-1" strike="noStrike" u="sng">
                <a:solidFill>
                  <a:srgbClr val="003399"/>
                </a:solidFill>
                <a:uFillTx/>
                <a:latin typeface="Tahoma"/>
              </a:rPr>
              <a:t> Bake the cookies (second batch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 u="sng">
                <a:solidFill>
                  <a:srgbClr val="000000"/>
                </a:solidFill>
                <a:uFillTx/>
                <a:latin typeface="Tahoma"/>
              </a:rPr>
              <a:t>3</a:t>
            </a:r>
            <a:r>
              <a:rPr b="0" lang="en-GB" sz="2200" spc="-1" strike="noStrike" u="sng">
                <a:solidFill>
                  <a:srgbClr val="000000"/>
                </a:solidFill>
                <a:uFillTx/>
                <a:latin typeface="Tahoma"/>
              </a:rPr>
              <a:t> Decorate the cooki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90000"/>
              </a:lnSpc>
              <a:spcBef>
                <a:spcPts val="451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CS job marke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1" name="Object 2"/>
          <p:cNvGraphicFramePr/>
          <p:nvPr/>
        </p:nvGraphicFramePr>
        <p:xfrm>
          <a:off x="766800" y="1523880"/>
          <a:ext cx="8300880" cy="43214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92" name="Text Box 3"/>
          <p:cNvSpPr/>
          <p:nvPr/>
        </p:nvSpPr>
        <p:spPr>
          <a:xfrm>
            <a:off x="642960" y="6086520"/>
            <a:ext cx="78804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Verdana"/>
                <a:ea typeface="Times New Roman"/>
              </a:rPr>
              <a:t>SOURCES: Tabulated by National Science Foundation/Division of Science Resources Statistics; data from Department of Education/National Center for Education Statistics:  Integrated Postsecondary Education Data System Completions Survey; and NSF/SRS: Su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A program with redundanc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ublic class BakeCookies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Mix the dry ingredients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Cream the butter and sugar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Beat in the eggs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Stir in the dry ingredients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System.out.println("Set the oven temperature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System.out.println("Set the timer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System.out.println("Place a batch of cookies into the oven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System.out.println("Allow the cookies to bake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System.out.println("Set the oven temperature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System.out.println("Set the timer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System.out.println("Place a batch of cookies into the oven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System.out.println("Allow the cookies to bake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Mix ingredients for frosting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Spread frosting and sprinkles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Static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static method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: A named group of stateme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notes the </a:t>
            </a:r>
            <a:r>
              <a:rPr b="0" i="1" lang="en-GB" sz="2000" spc="-1" strike="noStrike">
                <a:solidFill>
                  <a:srgbClr val="000000"/>
                </a:solidFill>
                <a:latin typeface="Tahoma"/>
              </a:rPr>
              <a:t>structure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of a pro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iminates </a:t>
            </a:r>
            <a:r>
              <a:rPr b="0" i="1" lang="en-GB" sz="2000" spc="-1" strike="noStrike">
                <a:solidFill>
                  <a:srgbClr val="000000"/>
                </a:solidFill>
                <a:latin typeface="Tahoma"/>
              </a:rPr>
              <a:t>redundancy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by code re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procedural decomposition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: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dividing a problem into method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riting a static method is like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dding a new command to Jav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5943600" y="1928880"/>
            <a:ext cx="3048120" cy="4572000"/>
            <a:chOff x="5943600" y="1928880"/>
            <a:chExt cx="3048120" cy="4572000"/>
          </a:xfrm>
        </p:grpSpPr>
        <p:sp>
          <p:nvSpPr>
            <p:cNvPr id="181" name=""/>
            <p:cNvSpPr/>
            <p:nvPr/>
          </p:nvSpPr>
          <p:spPr>
            <a:xfrm>
              <a:off x="5943600" y="1928880"/>
              <a:ext cx="3048120" cy="4572000"/>
            </a:xfrm>
            <a:prstGeom prst="rect">
              <a:avLst/>
            </a:prstGeom>
            <a:solidFill>
              <a:srgbClr val="f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82600" indent="-28260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clas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095880" y="2330280"/>
              <a:ext cx="2743200" cy="1423800"/>
            </a:xfrm>
            <a:prstGeom prst="rect">
              <a:avLst/>
            </a:prstGeom>
            <a:solidFill>
              <a:srgbClr val="cc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2600" indent="-28260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Verdana"/>
                  <a:ea typeface="Times New Roman"/>
                </a:rPr>
                <a:t>method 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28560" indent="-231840">
                <a:lnSpc>
                  <a:spcPct val="60000"/>
                </a:lnSpc>
                <a:spcBef>
                  <a:spcPts val="1250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state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28560" indent="-231840">
                <a:lnSpc>
                  <a:spcPct val="60000"/>
                </a:lnSpc>
                <a:spcBef>
                  <a:spcPts val="1250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state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28560" indent="-231840">
                <a:lnSpc>
                  <a:spcPct val="60000"/>
                </a:lnSpc>
                <a:spcBef>
                  <a:spcPts val="1250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state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095880" y="3833640"/>
              <a:ext cx="2743200" cy="1082160"/>
            </a:xfrm>
            <a:prstGeom prst="rect">
              <a:avLst/>
            </a:prstGeom>
            <a:solidFill>
              <a:srgbClr val="cc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2600" indent="-28260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Verdana"/>
                  <a:ea typeface="Times New Roman"/>
                </a:rPr>
                <a:t>method 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28560" indent="-231840">
                <a:lnSpc>
                  <a:spcPct val="60000"/>
                </a:lnSpc>
                <a:spcBef>
                  <a:spcPts val="1250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state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28560" indent="-231840">
                <a:lnSpc>
                  <a:spcPct val="60000"/>
                </a:lnSpc>
                <a:spcBef>
                  <a:spcPts val="1250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state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095880" y="4997520"/>
              <a:ext cx="2743200" cy="1423800"/>
            </a:xfrm>
            <a:prstGeom prst="rect">
              <a:avLst/>
            </a:prstGeom>
            <a:solidFill>
              <a:srgbClr val="cc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2600" indent="-28260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Verdana"/>
                  <a:ea typeface="Times New Roman"/>
                </a:rPr>
                <a:t>method 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28560" indent="-231840">
                <a:lnSpc>
                  <a:spcPct val="60000"/>
                </a:lnSpc>
                <a:spcBef>
                  <a:spcPts val="1250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state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28560" indent="-231840">
                <a:lnSpc>
                  <a:spcPct val="60000"/>
                </a:lnSpc>
                <a:spcBef>
                  <a:spcPts val="1250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state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28560" indent="-231840">
                <a:lnSpc>
                  <a:spcPct val="60000"/>
                </a:lnSpc>
                <a:spcBef>
                  <a:spcPts val="1250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state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Using static methods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1. Design the algorith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Look at the structure, and which commands are repeat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Decide what are the important overall task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Declare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(write down) the metho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rrange statements into groups and give each group a nam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Call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(run) the metho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The program's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method executes the other methods to perform the overall task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Design of an algorith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// This program displays a delicious recipe for baking cookie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ublic class BakeCookies2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// Step 1: Make the cake batter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Mix the dry ingredients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Cream the butter and sugar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Beat in the eggs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Stir in the dry ingredients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// Step 2a: Bake cookies (first batch)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System.out.println("Set the oven temperature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System.out.println("Set the timer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System.out.println("Place a batch of cookies into the oven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System.out.println("Allow the cookies to bake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// Step 2b: Bake cookies (second batch)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System.out.println("Set the oven temperature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System.out.println("Set the timer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System.out.println("Place a batch of cookies into the oven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System.out.println("Allow the cookies to bake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// Step 3: Decorate the cookie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Mix ingredients for frosting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Spread frosting and sprinkles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152280" y="1294920"/>
            <a:ext cx="8994960" cy="511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Gives your method a name so it can be exec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yntax:</a:t>
            </a:r>
            <a:br>
              <a:rPr sz="2400"/>
            </a:br>
            <a:br>
              <a:rPr sz="800"/>
            </a:br>
            <a:br>
              <a:rPr sz="800"/>
            </a:b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public static void 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() {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statemen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statemen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...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statemen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150"/>
              </a:spcBef>
              <a:buClr>
                <a:srgbClr val="000000"/>
              </a:buClr>
              <a:buFont typeface="Tahoma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br>
              <a:rPr sz="2400"/>
            </a:br>
            <a:br>
              <a:rPr sz="800"/>
            </a:b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public static void printWarning() {</a:t>
            </a:r>
            <a:br>
              <a:rPr sz="2200"/>
            </a:br>
            <a:r>
              <a:rPr b="0" lang="en-GB" sz="1900" spc="-1" strike="noStrike">
                <a:solidFill>
                  <a:srgbClr val="000000"/>
                </a:solidFill>
                <a:latin typeface="Courier New"/>
              </a:rPr>
              <a:t>    System.out.println("This product causes cancer");</a:t>
            </a:r>
            <a:br>
              <a:rPr sz="1900"/>
            </a:br>
            <a:r>
              <a:rPr b="0" lang="en-GB" sz="1900" spc="-1" strike="noStrike">
                <a:solidFill>
                  <a:srgbClr val="000000"/>
                </a:solidFill>
                <a:latin typeface="Courier New"/>
              </a:rPr>
              <a:t>    System.out.println("in lab rats and humans.");</a:t>
            </a:r>
            <a:br>
              <a:rPr sz="1900"/>
            </a:b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Declaring a metho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Calling a metho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Executes the method's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You can call the same method many times if you lik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printWarning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This product causes canc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in lab rats and human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ogram with static metho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ublic class FreshPrinc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ap();                 </a:t>
            </a: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// Calling (running) the rap metho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ap();                 </a:t>
            </a: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// Calling the rap method agai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// This method prints the lyrics to my favorite song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ublic static void rap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Now this is the story all about how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My life got flipped turned upside-down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Now this is the story all about how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My life got flipped turned upside-dow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Now this is the story all about how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My life got flipped turned upside-dow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Final cookie progra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// This program displays a delicious recipe for baking cookie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ublic class BakeCookies3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makeBatter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bake();       </a:t>
            </a: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// 1st batch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bake();       </a:t>
            </a: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// 2nd batch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decorate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Courier New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// Step 1: Make the cake batter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ublic static void makeBatter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Mix the dry ingredients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Cream the butter and sugar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Beat in the eggs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Stir in the dry ingredients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// Step 2: Bake a batch of cookie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ublic static void bake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Set the oven temperature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Set the timer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Place a batch of cookies into the oven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Allow the cookies to bake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// Step 3: Decorate the cookie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ublic static void decorate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Mix ingredients for frosting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Spread frosting and sprinkles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Methods calling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6127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ublic class MethodsExampl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essage1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message2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"Done with main.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ublic static void message1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"This is message1.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ublic static void message2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"This is message2.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message1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"Done with message2.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lnSpc>
                <a:spcPct val="6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is is message1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is is message2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is is message1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ne with message2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ne with mai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hen a method is called, the program's exec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"jumps" into that method, executing its statements, the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"jumps" back to the point where the method was call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public class MethodsExample {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700" spc="-1" strike="noStrike">
                <a:solidFill>
                  <a:srgbClr val="000000"/>
                </a:solidFill>
                <a:latin typeface="Courier New"/>
              </a:rPr>
              <a:t>message1()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700" spc="-1" strike="noStrike">
                <a:solidFill>
                  <a:srgbClr val="000000"/>
                </a:solidFill>
                <a:latin typeface="Courier New"/>
              </a:rPr>
              <a:t>message2()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System.out.println("Done with main.")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743200" y="3244680"/>
            <a:ext cx="6324480" cy="719280"/>
            <a:chOff x="2743200" y="3244680"/>
            <a:chExt cx="6324480" cy="719280"/>
          </a:xfrm>
        </p:grpSpPr>
        <p:sp>
          <p:nvSpPr>
            <p:cNvPr id="201" name=""/>
            <p:cNvSpPr/>
            <p:nvPr/>
          </p:nvSpPr>
          <p:spPr>
            <a:xfrm>
              <a:off x="3978000" y="3244680"/>
              <a:ext cx="5089680" cy="719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ublic static void message1() {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   </a:t>
              </a: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ystem.out.println("This is message1.")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743200" y="3512880"/>
              <a:ext cx="1752480" cy="3636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 flipV="1">
              <a:off x="2743200" y="3664800"/>
              <a:ext cx="1295280" cy="1126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2514240" y="4160880"/>
            <a:ext cx="6553440" cy="1401840"/>
            <a:chOff x="2514240" y="4160880"/>
            <a:chExt cx="6553440" cy="1401840"/>
          </a:xfrm>
        </p:grpSpPr>
        <p:sp>
          <p:nvSpPr>
            <p:cNvPr id="205" name=""/>
            <p:cNvSpPr/>
            <p:nvPr/>
          </p:nvSpPr>
          <p:spPr>
            <a:xfrm>
              <a:off x="3965400" y="4160880"/>
              <a:ext cx="5102280" cy="1401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ublic static void message2() {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   </a:t>
              </a: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ystem.out.println("This is message2.")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   </a:t>
              </a:r>
              <a:r>
                <a:rPr b="1" lang="en-GB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essage1()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   </a:t>
              </a: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ystem.out.println("Done with message2.")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590560" y="4237200"/>
              <a:ext cx="1828800" cy="22860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 flipV="1">
              <a:off x="2514240" y="4313160"/>
              <a:ext cx="1523880" cy="106704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3962520" y="4827600"/>
            <a:ext cx="5105160" cy="1594080"/>
            <a:chOff x="3962520" y="4827600"/>
            <a:chExt cx="5105160" cy="1594080"/>
          </a:xfrm>
        </p:grpSpPr>
        <p:sp>
          <p:nvSpPr>
            <p:cNvPr id="209" name=""/>
            <p:cNvSpPr/>
            <p:nvPr/>
          </p:nvSpPr>
          <p:spPr>
            <a:xfrm>
              <a:off x="3962520" y="5702400"/>
              <a:ext cx="5105160" cy="719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ublic static void message1() {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   </a:t>
              </a: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ystem.out.println("This is message1.")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>
              <a:off x="4489200" y="4827600"/>
              <a:ext cx="380880" cy="114300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 flipV="1">
              <a:off x="4108320" y="4827600"/>
              <a:ext cx="533160" cy="144792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Control flow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hat is programming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program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: A set of instruction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o be carried out by a comput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program execution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: The act of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arrying out the instructions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ntained in a progra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programming language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: A systematic set of rules used to describe computations in a format that is editable by huma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This textbook teaches programming in a language named Java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1327" t="810" r="0" b="0"/>
          <a:stretch/>
        </p:blipFill>
        <p:spPr>
          <a:xfrm>
            <a:off x="6477120" y="1523880"/>
            <a:ext cx="2120760" cy="17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hen to use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ce statements into a static method i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statements are related structurally, and/o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statements are repeat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should not create static methods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 individual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statemen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nly blank lines. (Put blank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 i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nrelated or weakly related statements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Consider splitting them into two smaller methods.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rawing complex figures with static method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atic methods ques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program to print these figures using metho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+--------+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|  STOP  |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+--------+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Development strateg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+--------+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|  STOP  |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+--------+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"/>
          <p:cNvSpPr/>
          <p:nvPr/>
        </p:nvSpPr>
        <p:spPr>
          <a:xfrm>
            <a:off x="2362320" y="1905120"/>
            <a:ext cx="6476760" cy="23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First version (unstructured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Create an empty program an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i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metho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Copy the expected output into it, surrounding each line with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ystem.out.printl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synta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Run it to verify the outpu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ogram version 1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Figures1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 ______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/      \\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/        \\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\\        /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\\______/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\\        /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\\______/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+--------+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 ______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/      \\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/        \\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|  STOP  |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\\        /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\\______/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 ______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/      \\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/        \\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+--------+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Development strategy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+--------+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|  STOP  |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+--------+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"/>
          <p:cNvSpPr/>
          <p:nvPr/>
        </p:nvSpPr>
        <p:spPr>
          <a:xfrm>
            <a:off x="2362320" y="1905120"/>
            <a:ext cx="6476760" cy="19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Second version (structured, with redundancy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Identify the structure of the outpu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Divide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i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method into static methods based on this stru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533520" y="5638680"/>
            <a:ext cx="1218960" cy="762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33520" y="4114800"/>
            <a:ext cx="1218960" cy="1219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33520" y="2995560"/>
            <a:ext cx="1218960" cy="685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33520" y="1828800"/>
            <a:ext cx="1218960" cy="990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utput structur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+--------+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|  STOP  |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+--------+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"/>
          <p:cNvSpPr/>
          <p:nvPr/>
        </p:nvSpPr>
        <p:spPr>
          <a:xfrm>
            <a:off x="2362320" y="1905120"/>
            <a:ext cx="6476760" cy="40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The structure of the outpu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initial "egg" fig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second "teacup" fig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third "stop sign" fig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fourth "hat" fig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This structure can be represented by method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g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eaC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op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ogram version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Figures2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gg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eaCup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opSign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at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static void egg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 ______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/      \\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/        \\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\\        /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\\______/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static void teaCup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\\        /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\\______/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+--------+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ogram version 2, cont'd.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static void stopSign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 ______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/      \\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/        \\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|  STOP  |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\\        /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\\______/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static void hat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 ______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/      \\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/        \\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+--------+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Development strategy 3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+--------+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|  STOP  |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+--------+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"/>
          <p:cNvSpPr/>
          <p:nvPr/>
        </p:nvSpPr>
        <p:spPr>
          <a:xfrm>
            <a:off x="2362320" y="1905120"/>
            <a:ext cx="6476760" cy="19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Third version (structured, without redundancy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Identify redundancy in the output, and create methods to eliminate as much as possi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Add comments to the progr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ogramming languag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12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ome influential on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2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2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FORTRA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12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cience / engineer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2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COBO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12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siness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2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LISP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12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ogic and A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2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12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 simple langu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710240" y="1295280"/>
            <a:ext cx="38242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609480" y="6275520"/>
            <a:ext cx="1067040" cy="152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09480" y="3473280"/>
            <a:ext cx="1067040" cy="152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09480" y="4876920"/>
            <a:ext cx="1067040" cy="4572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09480" y="3016080"/>
            <a:ext cx="1067040" cy="4572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9480" y="2368440"/>
            <a:ext cx="1067040" cy="4572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09480" y="4038480"/>
            <a:ext cx="1067040" cy="6098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9480" y="5675400"/>
            <a:ext cx="1067040" cy="5904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09480" y="1758960"/>
            <a:ext cx="1067040" cy="6094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utput redundanc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"/>
          <p:cNvSpPr/>
          <p:nvPr/>
        </p:nvSpPr>
        <p:spPr>
          <a:xfrm>
            <a:off x="2362320" y="2286000"/>
            <a:ext cx="6400800" cy="35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The redundancy in the outpu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egg top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reused on stop sign, 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egg bottom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reused on teacup, stop 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divider line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used on teacup, 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This redundancy can be fixed by method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ggT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ggBot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+--------+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|  STOP  |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+--------+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ogram version 3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Suzy Student, CSE 138, Spring 209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Prints several figures, with methods for structure and redundanc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Figures3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gg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eaCup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opSign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hat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Draws the top half of an an egg figur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static void eggTop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 ______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/      \\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/        \\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Draws the bottom half of an egg figur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static void eggBottom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\\        /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\\______/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Draws a complete egg figur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egg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ggTop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ggBottom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ogram version 3, cont'd.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Draws a teacup figur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teaCup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ggBottom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ine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Draws a stop sign figur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stopSign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ggTop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|  STOP  |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ggBottom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Draws a figure that looks sort of like a hat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hat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ggTop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ine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Draws a line of dashe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static void line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+--------+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ome modern languag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6720" indent="-216720">
              <a:lnSpc>
                <a:spcPct val="114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procedural language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 programs are a series of command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41880" indent="-216720">
              <a:lnSpc>
                <a:spcPct val="114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sc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1970)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signed for edu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1880" indent="-216720">
              <a:lnSpc>
                <a:spcPct val="114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1972)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w-level operating systems and device driv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1880" indent="0">
              <a:lnSpc>
                <a:spcPct val="114000"/>
              </a:lnSpc>
              <a:spcBef>
                <a:spcPts val="176"/>
              </a:spcBef>
              <a:buNone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216720" indent="-216720">
              <a:lnSpc>
                <a:spcPct val="114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functional programmin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 functions map inputs to outpu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41880" indent="-216720">
              <a:lnSpc>
                <a:spcPct val="114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Lis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1958) /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chem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1975),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1973),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Haskel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1990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1880" indent="0">
              <a:lnSpc>
                <a:spcPct val="114000"/>
              </a:lnSpc>
              <a:spcBef>
                <a:spcPts val="176"/>
              </a:spcBef>
              <a:buNone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216720" indent="-216720">
              <a:lnSpc>
                <a:spcPct val="114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object-oriented language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 programs use interacting "objects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41880" indent="-216720">
              <a:lnSpc>
                <a:spcPct val="114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malltal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1980): first major object-oriented langu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1880" indent="-216720">
              <a:lnSpc>
                <a:spcPct val="114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++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1985)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"object-oriented" improvements to 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8360" indent="-157680">
              <a:lnSpc>
                <a:spcPct val="114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uccessful in industry; used to build major OSes such as Window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41880" indent="-216720">
              <a:lnSpc>
                <a:spcPct val="114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Jav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1995)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signed for embedded systems, web apps/serv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8360" indent="-157680">
              <a:lnSpc>
                <a:spcPct val="114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uns on many platforms (Windows, Mac, Linux, cell phones...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08360" indent="-157680">
              <a:lnSpc>
                <a:spcPct val="114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language taught in this textboo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asic Java programs with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 statement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pile/run a progra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Write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65000" indent="-4190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code 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or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 source code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: The set of instructions in a program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65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Compile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65000" indent="-41904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compile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: Translate a program from one language to anoth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65000" indent="-4190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byte code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: The Java compiler converts your code into a format named </a:t>
            </a:r>
            <a:r>
              <a:rPr b="0" i="1" lang="en-GB" sz="2200" spc="-1" strike="noStrike">
                <a:solidFill>
                  <a:srgbClr val="000000"/>
                </a:solidFill>
                <a:latin typeface="Tahoma"/>
              </a:rPr>
              <a:t>byte code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hat runs on many computer typ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6500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u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execute) i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65000" indent="-4190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output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: The messages printed to the user by a program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5" name="Group 12"/>
          <p:cNvGrpSpPr/>
          <p:nvPr/>
        </p:nvGrpSpPr>
        <p:grpSpPr>
          <a:xfrm>
            <a:off x="458640" y="5059440"/>
            <a:ext cx="1646280" cy="1646280"/>
            <a:chOff x="458640" y="5059440"/>
            <a:chExt cx="1646280" cy="1646280"/>
          </a:xfrm>
        </p:grpSpPr>
        <p:sp>
          <p:nvSpPr>
            <p:cNvPr id="106" name="Rectangle 13"/>
            <p:cNvSpPr/>
            <p:nvPr/>
          </p:nvSpPr>
          <p:spPr>
            <a:xfrm>
              <a:off x="458640" y="5059440"/>
              <a:ext cx="1646280" cy="1646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14"/>
            <p:cNvSpPr/>
            <p:nvPr/>
          </p:nvSpPr>
          <p:spPr>
            <a:xfrm>
              <a:off x="482760" y="5106960"/>
              <a:ext cx="1600200" cy="69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8000"/>
                </a:lnSpc>
                <a:spcBef>
                  <a:spcPts val="499"/>
                </a:spcBef>
                <a:tabLst>
                  <a:tab algn="l" pos="0"/>
                  <a:tab algn="l" pos="723960"/>
                  <a:tab algn="l" pos="1447920"/>
                  <a:tab algn="l" pos="21718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ource cod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8" name="Picture 15" descr=""/>
            <p:cNvPicPr/>
            <p:nvPr/>
          </p:nvPicPr>
          <p:blipFill>
            <a:blip r:embed="rId1"/>
            <a:stretch/>
          </p:blipFill>
          <p:spPr>
            <a:xfrm>
              <a:off x="838080" y="5592600"/>
              <a:ext cx="889200" cy="962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9" name=""/>
          <p:cNvGrpSpPr/>
          <p:nvPr/>
        </p:nvGrpSpPr>
        <p:grpSpPr>
          <a:xfrm>
            <a:off x="2104560" y="5057640"/>
            <a:ext cx="3151800" cy="1646280"/>
            <a:chOff x="2104560" y="5057640"/>
            <a:chExt cx="3151800" cy="1646280"/>
          </a:xfrm>
        </p:grpSpPr>
        <p:pic>
          <p:nvPicPr>
            <p:cNvPr id="110" name="Picture 6" descr=""/>
            <p:cNvPicPr/>
            <p:nvPr/>
          </p:nvPicPr>
          <p:blipFill>
            <a:blip r:embed="rId2"/>
            <a:stretch/>
          </p:blipFill>
          <p:spPr>
            <a:xfrm>
              <a:off x="2695680" y="5980320"/>
              <a:ext cx="342720" cy="34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Text Box 8"/>
            <p:cNvSpPr/>
            <p:nvPr/>
          </p:nvSpPr>
          <p:spPr>
            <a:xfrm>
              <a:off x="2318040" y="5446800"/>
              <a:ext cx="1067760" cy="39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8000"/>
                </a:lnSpc>
                <a:spcBef>
                  <a:spcPts val="499"/>
                </a:spcBef>
                <a:tabLst>
                  <a:tab algn="l" pos="0"/>
                  <a:tab algn="l" pos="723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ompi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" name="Group 16"/>
            <p:cNvGrpSpPr/>
            <p:nvPr/>
          </p:nvGrpSpPr>
          <p:grpSpPr>
            <a:xfrm>
              <a:off x="3610080" y="5057640"/>
              <a:ext cx="1646280" cy="1646280"/>
              <a:chOff x="3610080" y="5057640"/>
              <a:chExt cx="1646280" cy="1646280"/>
            </a:xfrm>
          </p:grpSpPr>
          <p:pic>
            <p:nvPicPr>
              <p:cNvPr id="113" name="Picture 17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7200" y="5597280"/>
                <a:ext cx="930240" cy="90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" name="Rectangle 18"/>
              <p:cNvSpPr/>
              <p:nvPr/>
            </p:nvSpPr>
            <p:spPr>
              <a:xfrm>
                <a:off x="3610080" y="5057640"/>
                <a:ext cx="1646280" cy="1646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buClr>
                    <a:srgbClr val="800080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Text Box 19"/>
              <p:cNvSpPr/>
              <p:nvPr/>
            </p:nvSpPr>
            <p:spPr>
              <a:xfrm>
                <a:off x="3787920" y="5105160"/>
                <a:ext cx="1288800" cy="1038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8000"/>
                  </a:lnSpc>
                  <a:spcBef>
                    <a:spcPts val="499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ahoma"/>
                    <a:ea typeface="Times New Roman"/>
                  </a:rPr>
                  <a:t>byte cod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3000"/>
                  </a:lnSpc>
                  <a:spcBef>
                    <a:spcPts val="499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16" name="Straight Arrow Connector 37"/>
            <p:cNvCxnSpPr/>
            <p:nvPr/>
          </p:nvCxnSpPr>
          <p:spPr>
            <a:xfrm>
              <a:off x="2104560" y="5879880"/>
              <a:ext cx="1505880" cy="3960"/>
            </a:xfrm>
            <a:prstGeom prst="straightConnector1">
              <a:avLst/>
            </a:prstGeom>
            <a:ln w="9360">
              <a:solidFill>
                <a:srgbClr val="1d778d"/>
              </a:solidFill>
              <a:miter/>
              <a:tailEnd len="med" type="arrow" w="med"/>
            </a:ln>
          </p:spPr>
        </p:cxnSp>
      </p:grpSp>
      <p:grpSp>
        <p:nvGrpSpPr>
          <p:cNvPr id="117" name=""/>
          <p:cNvGrpSpPr/>
          <p:nvPr/>
        </p:nvGrpSpPr>
        <p:grpSpPr>
          <a:xfrm>
            <a:off x="5257800" y="5051520"/>
            <a:ext cx="3886200" cy="1235160"/>
            <a:chOff x="5257800" y="5051520"/>
            <a:chExt cx="3886200" cy="1235160"/>
          </a:xfrm>
        </p:grpSpPr>
        <p:pic>
          <p:nvPicPr>
            <p:cNvPr id="118" name="Picture 7" descr=""/>
            <p:cNvPicPr/>
            <p:nvPr/>
          </p:nvPicPr>
          <p:blipFill>
            <a:blip r:embed="rId4"/>
            <a:stretch/>
          </p:blipFill>
          <p:spPr>
            <a:xfrm>
              <a:off x="5819760" y="5982120"/>
              <a:ext cx="257040" cy="25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Text Box 9"/>
            <p:cNvSpPr/>
            <p:nvPr/>
          </p:nvSpPr>
          <p:spPr>
            <a:xfrm>
              <a:off x="5428080" y="5448600"/>
              <a:ext cx="577080" cy="39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8000"/>
                </a:lnSpc>
                <a:spcBef>
                  <a:spcPts val="499"/>
                </a:spcBef>
                <a:tabLst>
                  <a:tab algn="l" pos="0"/>
                  <a:tab algn="l" pos="723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ru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 Box 10"/>
            <p:cNvSpPr/>
            <p:nvPr/>
          </p:nvSpPr>
          <p:spPr>
            <a:xfrm>
              <a:off x="7452000" y="5051520"/>
              <a:ext cx="988560" cy="39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8000"/>
                </a:lnSpc>
                <a:spcBef>
                  <a:spcPts val="499"/>
                </a:spcBef>
                <a:tabLst>
                  <a:tab algn="l" pos="0"/>
                  <a:tab algn="l" pos="723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outpu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1" name="Picture 35" descr="hello.PNG"/>
            <p:cNvPicPr/>
            <p:nvPr/>
          </p:nvPicPr>
          <p:blipFill>
            <a:blip r:embed="rId5"/>
            <a:srcRect l="0" t="0" r="13648" b="0"/>
            <a:stretch/>
          </p:blipFill>
          <p:spPr>
            <a:xfrm>
              <a:off x="6734160" y="5448600"/>
              <a:ext cx="2409840" cy="83808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122" name="Straight Arrow Connector 39"/>
            <p:cNvCxnSpPr/>
            <p:nvPr/>
          </p:nvCxnSpPr>
          <p:spPr>
            <a:xfrm>
              <a:off x="5257800" y="5881680"/>
              <a:ext cx="1505520" cy="3960"/>
            </a:xfrm>
            <a:prstGeom prst="straightConnector1">
              <a:avLst/>
            </a:prstGeom>
            <a:ln w="9360">
              <a:solidFill>
                <a:srgbClr val="1d778d"/>
              </a:solidFill>
              <a:miter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Java progra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public class Hello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System.out.println("Hello, world!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System.out.println("This program produces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System.out.println("four lines of output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ts outpu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Hello, world!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This program produc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four lines of outpu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console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: Text box into which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he program's output is print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867280" y="4775040"/>
            <a:ext cx="3276720" cy="17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Marty Stepp</cp:lastModifiedBy>
  <dcterms:modified xsi:type="dcterms:W3CDTF">2013-03-28T21:51:48Z</dcterms:modified>
  <cp:revision>117</cp:revision>
  <dc:subject/>
  <dc:title>CSE 142 Python Slides</dc:title>
</cp:coreProperties>
</file>