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03B78-7A49-4D3D-9EFF-F92C73F56B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on of looping over a collection while modifying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on of not destroying a stack while examining it (write 1st version that destroys stack, 2nd version puts it bac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ogy: trays of food at the sizz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ining each element once is lik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wouldn't want me to just throw your exam in the garbage as I read it, would you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ogy: trays of food at the sizz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0625C-62A2-43FD-B581-38260899902B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14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cks and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an input file of exam scores in reverse ABC ord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eilding      Janet      8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te         Steven     8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odd          Kim        5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ashev        Sylvia     9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code to print the exam scores in ABC order using a stac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f we want to further process the exams after printing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ahoma"/>
              </a:rPr>
              <a:t>What happened to my stack?</a:t>
            </a:r>
            <a:endParaRPr b="1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se we're asked to 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 Stack of integers and returns the largest integer in the stac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following solution is seemingly correc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Precondition: s.size() &gt; 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x(Stack&lt;Integer&gt; 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maxValue = s.pop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!s.isEmpty()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next = s.pop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xValue = Math.max(maxValue, next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maxValue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lgorithm is correct, but what is wrong with the cod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ahoma"/>
              </a:rPr>
              <a:t>What happened to my stack?</a:t>
            </a:r>
            <a:endParaRPr b="1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de destroys the stack in figuring out its answ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fix this, you must save and restore the stack's content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x(Stack&lt;Integer&gt; 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ck&lt;Integer&gt; backup = new Stack&lt;Integer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maxValue = s.pop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ackup.push(max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!s.isEmpty()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next = s.pop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ackup.push(next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xValue = Math.max(maxValue, next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hile (!backup.isEmpty()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.push(backup.pop(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maxValue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Queu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194400" indent="-194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queu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Retrieves elements in the order they were add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-234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rst-In, First-Out ("FIFO"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-234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lements are stored in order of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sertion but don't have index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-234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ient can only add to the end of th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queue, and can only examine/remov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front of the que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194400" indent="-194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queue opera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-234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enqueue): Add an element to the back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-234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dequeue): Remove the front eleme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-234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ee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Examine the front eleme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791320" y="1914480"/>
            <a:ext cx="3352680" cy="20448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210200" y="4114800"/>
            <a:ext cx="485748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Queues in computer scie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ng system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queue of print jobs to send to the prin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queue of programs / processes to be ru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queue of network data packets to sen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m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eling a line of customers or cli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oring a queue of computations to be performed in ord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world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eople on an escalator or waiting in a li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rs at a gas station (or on an assembly lin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gramming with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Queu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196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31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1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1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1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1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1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13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Queue&lt;Integer&gt; q = new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LinkedLi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Integer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313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q.add(4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313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q.add(-3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313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q.add(17);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front [42, -3, 17] b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31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313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q.remove()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4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96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3136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MPORTA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When constructing a queue you must use a new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instead of a new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77240" indent="-148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has to do with a topic we'll discuss later calle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interfa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57200" y="1295280"/>
          <a:ext cx="8321760" cy="2374920"/>
        </p:xfrm>
        <a:graphic>
          <a:graphicData uri="http://schemas.openxmlformats.org/drawingml/2006/table">
            <a:tbl>
              <a:tblPr/>
              <a:tblGrid>
                <a:gridCol w="1717920"/>
                <a:gridCol w="6603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laces given value at back of que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value from front of queue and returns i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hrows a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oSuchElementExcepti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queue is emp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eek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front value from queue without removing i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ull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queue is emp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iz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number of elements in que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sEmpty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queue has no elem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31" name=""/>
          <p:cNvGrpSpPr/>
          <p:nvPr/>
        </p:nvGrpSpPr>
        <p:grpSpPr>
          <a:xfrm>
            <a:off x="4343400" y="4191120"/>
            <a:ext cx="914040" cy="380880"/>
            <a:chOff x="4343400" y="4191120"/>
            <a:chExt cx="914040" cy="380880"/>
          </a:xfrm>
        </p:grpSpPr>
        <p:sp>
          <p:nvSpPr>
            <p:cNvPr id="132" name=""/>
            <p:cNvSpPr/>
            <p:nvPr/>
          </p:nvSpPr>
          <p:spPr>
            <a:xfrm flipV="1">
              <a:off x="4343400" y="4191120"/>
              <a:ext cx="2286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4800600" y="41911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 flipV="1">
              <a:off x="5028840" y="4191120"/>
              <a:ext cx="2286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Queue idio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with stacks, must pull contents out of queue to view the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!q.isEmpty()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o something with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q.remov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other idiom: Examining each element exactly on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size = q.siz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0; i &lt; size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o something with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q.remov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including possibly re-adding it to the queu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y do we need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variabl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ixing stacks and queu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often mix stacks and queues to achieve certain eff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Reverse the order of the elements of a que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&lt;Integer&gt; q = new LinkedList&lt;Integer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.add(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.add(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.add(3);           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[1, 2, 3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ck&lt;Integer&gt; s = new Stack&lt;Integer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!q.isEmpty()) {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Q -&gt; 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.push(q.remove(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!s.isEmpty()) {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S -&gt; Q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.add(s.pop(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q);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[3, 2, 1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our exam score program so that it reads the exam scores into a queue and prints the que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ext, filter out any exams where the student got a score of 10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perform your previous code of reversing and printing the remaining studen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if we want to further process the exams after printing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ut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 queue of integers as a parameter and replaces every element of the queue with two copies of that el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ont [1, 2, 3] back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ecome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ont [1, 1, 2, 2, 3, 3] back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irr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 queue of strings as a parameter and appends the queue's contents to itself in reverse ord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ont [a, b, c] back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ecome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ont [a, b, c, c, b, a] back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untime Efficiency (13.2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measure of the use of computing resources by co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be relative to speed (time), memory (space), etc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st commonly refers to run tim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e the follow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y single Java statement takes the same amount of time to ru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method call's runtime is measured by the total of the statements inside the method's bod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loop's runtime, if the loop repeats N times, is N times the runtime of the statements in its bod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ck/queue 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303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ostfix expressio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mathematical expression but with the operators written after the operands rather than befor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03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 + 1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ecome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1 1 +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03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 + 2 * 3 + 4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ecome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1 2 3 * + 4 +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303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03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upported by many kinds of fancy calculator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03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ever need to use parenthes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03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ever need to use an = character to evaluate on a calculat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03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03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303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stfixEvalu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 postfix expression string, evaluates it, and returns the resul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03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 operands are integers; legal operators ar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303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03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stFixEvaluate("5 2 4 * + 7 -"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03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ostfix algorith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lgorithm: Use a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you see an operand, push it onto the stack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you see an operator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p the last two operands off of the stac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ply the operator to th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sh the result onto the stac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you're done, the one remaining stack element is the resul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5 2 4 * + 7 -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762120" y="4724280"/>
          <a:ext cx="685800" cy="197640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1676520" y="4724280"/>
          <a:ext cx="685800" cy="197640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2590920" y="4724280"/>
          <a:ext cx="685800" cy="197640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3505320" y="4729320"/>
          <a:ext cx="685800" cy="197640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4419720" y="4724280"/>
          <a:ext cx="685800" cy="197640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5334120" y="4724280"/>
          <a:ext cx="685800" cy="197640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6248520" y="4724280"/>
          <a:ext cx="685800" cy="197640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Evaluates the given prefix expression and returns its resul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Precondition: string represents a legal postfix express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int postfixEvaluate(String expression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ack&lt;Integer&gt; s = new Stack&lt;Integer&gt;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input = new Scanner(expression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input.hasNext(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input.hasNextInt()) {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n operand (integ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.push(input.nextInt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         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n opera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operator = input.nex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operand2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.pop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operand1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.pop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operator.equals("+"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.push(operand1 + operand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operator.equals("-"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.push(operand1 - operand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operator.equals("*"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.push(operand1 * operand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.push(operand1 / operand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.pop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ck/queue motiv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times it is good to have a collection that is less powerful, but is optimized to perform certain operations very quick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cks and queues do few things, but they do them efficient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26880" y="3373560"/>
            <a:ext cx="2797200" cy="26049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340640" y="5958000"/>
            <a:ext cx="7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3533760" y="4724280"/>
            <a:ext cx="5384880" cy="1602000"/>
            <a:chOff x="3533760" y="4724280"/>
            <a:chExt cx="5384880" cy="1602000"/>
          </a:xfrm>
        </p:grpSpPr>
        <p:sp>
          <p:nvSpPr>
            <p:cNvPr id="161" name=""/>
            <p:cNvSpPr/>
            <p:nvPr/>
          </p:nvSpPr>
          <p:spPr>
            <a:xfrm>
              <a:off x="5667480" y="5958000"/>
              <a:ext cx="86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que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2" name="" descr=""/>
            <p:cNvPicPr/>
            <p:nvPr/>
          </p:nvPicPr>
          <p:blipFill>
            <a:blip r:embed="rId2"/>
            <a:stretch/>
          </p:blipFill>
          <p:spPr>
            <a:xfrm>
              <a:off x="3533760" y="4724280"/>
              <a:ext cx="5384880" cy="1216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80880" y="1909800"/>
          <a:ext cx="8382240" cy="4414680"/>
        </p:xfrm>
        <a:graphic>
          <a:graphicData uri="http://schemas.openxmlformats.org/drawingml/2006/table">
            <a:tbl>
              <a:tblPr/>
              <a:tblGrid>
                <a:gridCol w="2916360"/>
                <a:gridCol w="5465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ppends value at end of 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serts given value at given index, shifting subsequent values r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lear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all elements of the 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dexOf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first index where given value is found in list (-1 if not foun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get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value at given 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/returns value at given index, shifting subsequent values 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t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places value at given index with given 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iz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number of elements in 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oString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a string representation of the 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uch a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[3, 42, -7, 15]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operations are most/least efficient, and why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cks and queu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times it is good to have a collection that is less powerful, but is optimized to perform certain operations very quick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day we will examine two specialty collec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c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Retrieves elements in the reverse of the order they were add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queu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Retrieves elements in the same order they were add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26880" y="3772080"/>
            <a:ext cx="2797200" cy="26049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340640" y="6356520"/>
            <a:ext cx="7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67480" y="57294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533760" y="4621320"/>
            <a:ext cx="5384880" cy="12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bstract data types (ADTs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bstract data type (ADT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specification of a collection of data and the operations that can be performed on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scribe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ha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 collection does, no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ho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t does 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don't know exactly how a stack or queue is implemented, and we don't need 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just need to understand the idea of the collection and what operations it can perfor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808080"/>
                </a:solidFill>
                <a:latin typeface="Tahoma"/>
              </a:rPr>
              <a:t>(Stacks are usually implemented with arrays; queues are often implemented using another structure called a linked list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ck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c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collection based on the principle of adding elements and retrieving them in the opposite ord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ast-In, First-Out ("LIFO"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elements are stored in order of insertion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we do not think of them as having index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lient can only add/remove/examin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last element added (the "top"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stack opera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us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Add an element to the top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o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Remove the top eleme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ee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Examine the top eleme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315200" y="1981080"/>
            <a:ext cx="1386000" cy="20005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095880" y="4267080"/>
            <a:ext cx="249552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cks in computer scie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ming languages and compil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thod calls are placed onto a stack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(call=push, return=pop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ilers use stacks to evaluate express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tching up related pairs of thing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nd out whether a string is a palindrom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ine a file to see if its brace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other operators matc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vert "infix" expressions to "postfix" or "prefix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phisticated algorithm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arching through a maze with "backtracking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ny programs use an "undo stack" of previous oper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781680" y="2346480"/>
          <a:ext cx="2092320" cy="1539720"/>
        </p:xfrm>
        <a:graphic>
          <a:graphicData uri="http://schemas.openxmlformats.org/drawingml/2006/table">
            <a:tbl>
              <a:tblPr/>
              <a:tblGrid>
                <a:gridCol w="1076400"/>
                <a:gridCol w="1015920"/>
              </a:tblGrid>
              <a:tr h="64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ethod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 v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cal va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rame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ethod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 v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cal va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rame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ethod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 v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cal va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rame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ass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tack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016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ck&lt;Integer&gt; s = new Stack&lt;Integer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.push(4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.push(-3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.push(17);          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ottom [42, -3, 17] to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s.pop());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1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0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-2430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c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has other methods, but we forbid you to use the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90480" y="1371600"/>
          <a:ext cx="7691400" cy="2739960"/>
        </p:xfrm>
        <a:graphic>
          <a:graphicData uri="http://schemas.openxmlformats.org/drawingml/2006/table">
            <a:tbl>
              <a:tblPr/>
              <a:tblGrid>
                <a:gridCol w="1869840"/>
                <a:gridCol w="58215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tack&lt;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nstructs a new stack with elements of type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ush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laces given value on top of sta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op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top value from stack and returns i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hrow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mptyStackExcepti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stack is emp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eek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op value from stack without removing i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hrow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mptyStackExcepti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stack is emp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iz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number of elements in sta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sEmpty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stack has no elem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ck limitations/idio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ember: You cannot loop over a stack in the usual wa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ck&lt;Integer&gt; s = new Stack&lt;Integer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0; i &lt; s.size()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o something wit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.get(i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you must pull contents out of the stack to view the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mon idiom: Removing each element until the stack is empt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!s.isEmpty()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o something with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.pop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914400" y="2543040"/>
            <a:ext cx="5410080" cy="990360"/>
            <a:chOff x="914400" y="2543040"/>
            <a:chExt cx="5410080" cy="990360"/>
          </a:xfrm>
        </p:grpSpPr>
        <p:sp>
          <p:nvSpPr>
            <p:cNvPr id="114" name=""/>
            <p:cNvSpPr/>
            <p:nvPr/>
          </p:nvSpPr>
          <p:spPr>
            <a:xfrm>
              <a:off x="914400" y="2619000"/>
              <a:ext cx="541008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914400" y="2543040"/>
              <a:ext cx="5410080" cy="990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3:13Z</dcterms:modified>
  <cp:revision>155</cp:revision>
  <dc:subject/>
  <dc:title>CSE 142 Python Slides</dc:title>
</cp:coreProperties>
</file>