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62C4-0375-4BF4-B7FC-620FF30C1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2BB7-482B-4DAB-800E-FA61042BE50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0Z</dcterms:modified>
  <cp:revision>117</cp:revision>
  <dc:subject/>
  <dc:title>CSE 142 Python Slides</dc:title>
</cp:coreProperties>
</file>