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464E-C8DC-493F-860E-926ACE6AEB5F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indprod.com/jgloss/exception.html" TargetMode="External"/><Relationship Id="rId2" Type="http://schemas.openxmlformats.org/officeDocument/2006/relationships/hyperlink" Target="http://mindprod.com/jgloss/exception.html" TargetMode="External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ppendix C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Java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, and then wha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rocess(String st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Integer.parseInt(st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NumberFormatException nf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Invalid number: " + st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ways to handle an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ry the operation that fail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-prompt the user for new in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a nice error mess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it the progr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 nothing (!)   (why? when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 objects have these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adFil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I/O error: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.getMessag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04920" y="1905120"/>
          <a:ext cx="8534160" cy="1904760"/>
        </p:xfrm>
        <a:graphic>
          <a:graphicData uri="http://schemas.openxmlformats.org/drawingml/2006/table">
            <a:tbl>
              <a:tblPr/>
              <a:tblGrid>
                <a:gridCol w="4800600"/>
                <a:gridCol w="3733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Messag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describing the err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ception's type and 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Cau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StackTrac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StackTrac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 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sign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ective Java Tip #57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xceptions only for exceptional condi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uthor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ger.parse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got this wro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rings that are not legal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are common (not "exceptional"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What should they have done instead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an we avoid this one?  Not really.  :-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Integer.parseInt(str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NumberFormatException nf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gnoring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ective Java Tip #65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n't ignore excep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empt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is (a common) poor sty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ten done to get code to compile or hide an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adFile(filenam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IOException e) </a:t>
            </a: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{}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do nothing on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t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inimu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print out the exception so you know it happen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.printStackTrace();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just in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086600" y="1219320"/>
            <a:ext cx="1841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 multiple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tch more than one kind of exception in the same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 exception is thrown, the matching catch block (if any) is u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multip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s match, the most specific match is chos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s extend from a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30592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common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421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ithmetic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Overflow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Cas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NotFound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eNotSupported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urrentModification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ptyStack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llegalArgumen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llegalState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exOutOfBounds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rupted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O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OFException, FileNotFoundException, InterruptedIOException, MalformedURLException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2480" y="1295280"/>
            <a:ext cx="4421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06240" indent="-270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 NotSerializableException, SocketException, SSLException, UnknownHostException, Zip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r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lformedURL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gativeArraySize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SuchElemen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llPointer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tocol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time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Elemen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supportedOperation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also:</a:t>
            </a:r>
            <a:br>
              <a:rPr sz="2000"/>
            </a:b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mindprod.com/jgloss/exception.htm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atch a general exception to handle any sub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input = new Scanner(new File("foo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ly, you can state that a method throws any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foo()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throws 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there any disadvantages of doing s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ing with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FileNotFoundException fnf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file not found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IOException io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any other I/O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Exception 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any other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cket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match the second bloc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ithmetic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match the third bloc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o should catch i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that is able to handle the error properly should be the code that catches the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times this is not the top method on the stac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 → showGUI() → click() → readFile() → FileNotFoundException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method should handle the exception, and wh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 → new PokerGame()  → new Player() → loadHistory() → Integer.parseInt() -&gt; NumberFormat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method should handle the exception, and wh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mitive data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6320" y="1371600"/>
          <a:ext cx="8915040" cy="4848120"/>
        </p:xfrm>
        <a:graphic>
          <a:graphicData uri="http://schemas.openxmlformats.org/drawingml/2006/table">
            <a:tbl>
              <a:tblPr/>
              <a:tblGrid>
                <a:gridCol w="1679400"/>
                <a:gridCol w="1679760"/>
                <a:gridCol w="1613520"/>
                <a:gridCol w="1681200"/>
                <a:gridCol w="22611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ind of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mory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bit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28 .. 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byte)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racte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teg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\u0000 .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\uFF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'a'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'\u2603'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lo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l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.4e38 .. 3.4e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.14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.1e7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l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.8e308 .. 1.8e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.1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6.022e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..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4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1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x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l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6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..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42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1874109487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h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..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short) 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"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common practice to throw exceptions on unexpected erro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eposit(double am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mount &lt; 0.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ow new IllegalArgumentExcepti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lance += am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throw rather than just ignoring the negative valu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not return a special error code, such 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ood throwing sty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xception can accep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 for a message describing what went wro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the string returned b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Messa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eposit(double am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mount &lt; 0.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 new IllegalArgumentException(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negative deposit: " + am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lance += am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J Tip #63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clude failure-capture information in detail messag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ll the caller what went wrong, to help them fix th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enting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r method throw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ain this in the com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e the types of exceptions thrown and under what condi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Places the given amount of money into this accoun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/ Throws an IllegalArgumentException on negative deposi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eposit(double am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mount &lt; 0.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 new IllegalArgumentException(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negative deposit: " + amou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lance += am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J Tip #62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cument all exceptions thrown by each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ient must know this in order to avoid or catch the excep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ecke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has two major kinds of excep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ecked exception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s that MUST be handled by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/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(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use) or else the program will not comp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nt for serious problems that the caller ought to deal wit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classe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inheritance tre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untime exception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s that don't have to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ed; if not handled, the program hal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nt for smaller errors or programmer erro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classe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untimeExcep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tre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stakes that could have been avoided by a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for null or 0,  check if a file exists,  check array's bounds,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629400" y="3157560"/>
            <a:ext cx="220968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throws clau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336699"/>
                </a:solidFill>
                <a:latin typeface="Courier New"/>
              </a:rPr>
              <a:t>throws </a:t>
            </a:r>
            <a:r>
              <a:rPr b="1" lang="en-US" sz="2200" spc="-1" strike="noStrike">
                <a:solidFill>
                  <a:srgbClr val="3366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use in a method header claiming it may cause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eded when a method may throw an uncaught checked excep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processFile(String 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rows FileNotFound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means one of two possibilit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cessFi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tself might throw an excep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cessFi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ight call some sub-method that throws an exception, and it is choosing not to catch it (rather, to re-throw it out to the caller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iting an exception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J Tip #61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row exceptions appropriate to the abstra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no provided exception class is quite right for your app's kind of error, you should write your ow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Courier New"/>
              </a:rPr>
              <a:t>// Thrown when the user tries to play after the game is over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class GameOverException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xtends RuntimeExceptio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rivate String winner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GameOverException(String message, String winner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super(message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his.winner = winner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String getWinner(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turn winner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Courier New"/>
              </a:rPr>
              <a:t>// in Game class..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f (!inProgress()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throw new GameOverExceptio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"Game already ended", winner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ecked exceptions suck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J Tip #59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void unnecessary use of checked excep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ecked exceptions are (arguably) a wart in the Java langu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should be the client's decision whether or not to catch excep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writing your own exception classes, exte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untime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o that it doesn't need to be caught unless the client wants to do s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ases still require throwing checked exceptions  (e.g. file I/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lay() throws Exception { 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lay() throws RuntimeException {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bet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lay()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throws MP3Excep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P3Exception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xtends RuntimeExcep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 ...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redundan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rocess(OutputStream ou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read from out;  might th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out.clos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out.clos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Caught IOException: "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e.getMessage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ose code appears redundantly in both plac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't move it out below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/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beca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self could throw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O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finally bloc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finall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 to run after the try or catch finis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nal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often used for common "clean-up"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... read from out;  might th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Caught IOException: "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e.getMessage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nall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.clos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lock is optional;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/finall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lso leg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s and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als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, which represent serious Java probl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ve common super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tch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but you probably shouldn'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2714760"/>
            <a:ext cx="77724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switch stat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olean 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ault: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if it isn't one of the above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lternative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be used on integral types  (e.g.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 case can end with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or if neither is present, it will "fall through" into the code for the next c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421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Method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WT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Format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eptionInInitializer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llegalAccess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iation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al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age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ClassDefFound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SuchField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22480" y="1295280"/>
            <a:ext cx="4421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SuchMethod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OfMemory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ckOverflow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satisfiedLink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supportedClassVersion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ify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rtualMachine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ogical Assertion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(assert)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s in Jav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53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ssert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dition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ssert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dition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ssa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ing asser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enableassertion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ClassNa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or tell your editor/IDE to enable the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ertion code is zero-cost when disabled;  very importan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C/C++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sse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compile-time th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Java, you can selectively en/disable assertions at run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 statemen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Returns index of n in a, or -1 if not foun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a is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binarySearch(int[] a, 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ssert isSorted(a) : "Array must be sorted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Returns true if the given array is sor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Sor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i] &gt; a[i + 1]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numerated Typ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(enum)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ti-pattern: int consta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Card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ublic static final int CLUBS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ublic static final int DIAMONDS =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ublic static final int HEARTS =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ublic static final int SPADES =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sui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Suit(int sui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suit = sui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ants to represent sui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riation (also bad): 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for the same purpos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numerated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type of objects with a fixed set of constant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enum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placed into its own .java fi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 h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that are real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;  Java's are objec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enum Sui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UBS, DIAMONDS, HEARTS, SPAD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ective Java Tip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instead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a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"The advantages of 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types over 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constants are compelling.  Enums are far more readable, safer, and more powerful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an enum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eced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roughly equal to the following short clas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final class Suit extends Enum&lt;Suit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Suit CLUBS    = new Sui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Suit DIAMONDS = new Sui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Suit HEARTS   = new Sui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Suit SPADES   = new Sui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Suit() {}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no more can be ma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can an enum do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t as the type of a variable, field, parameter, or retu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Card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uit sui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e them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why don't we need 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it == Suit.CLUB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e them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by order of decl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compareTo(Card othe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uit != other.sui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it.compareTo(other.suit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num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8600" y="1347840"/>
          <a:ext cx="8686800" cy="2585880"/>
        </p:xfrm>
        <a:graphic>
          <a:graphicData uri="http://schemas.openxmlformats.org/drawingml/2006/table">
            <a:tbl>
              <a:tblPr/>
              <a:tblGrid>
                <a:gridCol w="3657600"/>
                <a:gridCol w="5029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 compareTo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3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l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u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ypes are Comparable by order of decla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 equals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3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 needed;  can just us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 nam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3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quivalent to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 ordinal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3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n enum's 0-based number by order of declaration  (first is 0, then 1, then 2, ..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28600" y="4224240"/>
          <a:ext cx="8686800" cy="1185840"/>
        </p:xfrm>
        <a:graphic>
          <a:graphicData uri="http://schemas.openxmlformats.org/drawingml/2006/table">
            <a:tbl>
              <a:tblPr/>
              <a:tblGrid>
                <a:gridCol w="3657600"/>
                <a:gridCol w="5029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stati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alueOf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verts a string into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u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stati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[] values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 array of all values of your enum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atching Exception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complex enu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numerated type can have fields, methods, and construc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enum Coin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NNY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, NICKEL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, DIM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, QUART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5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Coi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.cents = c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Cents()  { return cents;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perDollar() { return 100 / cents;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toString() {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"NICKEL (5c)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uper.toString() + " (" + cents + "c)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ackag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pack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of related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also "contain" sub-packa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ub-packag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have similar nam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are not actually contained insi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es not conta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of Java pack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roup related classes togeth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amespa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avoid name colli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vide a layer of access / prot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keep pieces of a project down to a manageable 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53804" t="10646" r="2340" b="49980"/>
          <a:stretch/>
        </p:blipFill>
        <p:spPr>
          <a:xfrm>
            <a:off x="6705720" y="1573200"/>
            <a:ext cx="21333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ckages and director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directory (fold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0">
              <a:spcBef>
                <a:spcPts val="550"/>
              </a:spcBef>
              <a:buNone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packag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.b.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hould reside in this f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/b/c/D.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relative to the root of your projec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"root" directory of the package hierarchy is determined by you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lass p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the directory from whi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as ru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4114800" cy="89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pat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 p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location(s) in which Java looks for class fi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urrent "working directory" from which you ran javac / jav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ther fold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R archiv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R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set class path manually when running java at command li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 -cp /home/stepp/libs:/foo/bar/jbl My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ackage decla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package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kage pacman.model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Ghost extends Sprite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prite.j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hould go in fold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man/mod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orting a pack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mport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ackage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.*;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urier New"/>
              </a:rPr>
              <a:t>// all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kage pacman.gu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pacman.model.*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PacManGui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host blinky = new Ghost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ManGu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st import the model package in order to use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orting a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mport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ackage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lass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;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urier New"/>
              </a:rPr>
              <a:t>// one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kage pacman.gu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pacman.model.Sprit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PacManGui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host blinky = new Ghost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ing single classes has high preceden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 impor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*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 same-named class in the current dir will overri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 impor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t will no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imp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mport static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ackage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lass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.*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static java.lang.Math.*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angle = sin(PI / 2) + ln(E * E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import allows you to refer to the members of another class without writing that class's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used rarely and only with classes whose contents are entirely static "utility"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ring to pack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ckage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util.Scanner console 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 java.util.Scanner(java.lang.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a type from any package without importing it if you write its full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this is useful to disambiguate similar na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awt.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.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, explicitly import one of the clas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representing an err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ther languages don't have this concep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represent errors by returning error cod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null, -1, false, etc.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 exceptions better?  What are their benefit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ro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cause an exception to occ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some actions that commonly throw exception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handle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 exception is thrown and no code catches it, the program's execution will stop and an error trace will be prin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exception is caught, the program can continue runn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934320" y="1406520"/>
            <a:ext cx="190476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default pack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ation units (files) that do not declare a package are put into a default, unnamed, pack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in the default pack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not be impor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not be used by classes in other pack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editors discourage the use of the default pack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java.lang is implicitly imported in all programs by defaul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lang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ckage acce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provides the following access modifi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Visible to all other clas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Visible only to current class (and any nested type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Visible to the current class, any of its subclasses, and any other types within the same pack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ault (package): Visible to the current class and any other types within the same pack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give a member default scope, do not write a modifi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pacman.model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prit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points;      </a:t>
            </a:r>
            <a:r>
              <a:rPr b="0" lang="en-US" sz="2000" spc="-1" strike="noStrike">
                <a:solidFill>
                  <a:srgbClr val="009999"/>
                </a:solidFill>
                <a:latin typeface="Courier New"/>
              </a:rPr>
              <a:t>// visible to pacman.model.*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;     </a:t>
            </a:r>
            <a:r>
              <a:rPr b="0" lang="en-US" sz="2000" spc="-1" strike="noStrike">
                <a:solidFill>
                  <a:srgbClr val="009999"/>
                </a:solidFill>
                <a:latin typeface="Courier New"/>
              </a:rPr>
              <a:t>// visible to pacman.model.*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e that throws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viding by ze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1 / x);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Arithmetic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ing to dereference a null variab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ull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translate(2, -3); 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NullPointer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ing to interpret input in the wrong w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NumberForma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err = Integer.parseInt("hi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 a non-existent f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FileNotFound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 = new Scanner(new File("notHere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avoid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many cases, the best plan is to try to avoid excep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better to check first than try/catch without ch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x != 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1 / 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 file = new File("notHere.txt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file.exists()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 = new Scanner(fil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an we avoid this on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err = </a:t>
            </a: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Integer.parseInt(str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executes.  If the given exception occurs,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stops running; it jump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and runs th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 = new Scanner(new File(filename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catch (FileNotFoundException 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and catch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any time, your program has an activ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ll st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exception is thrown,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VM looks up the call stack unt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finds a method with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tch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lock for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one is found, control jump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ack to that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none is found, the program crash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s allo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-local error hand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thod many levels up the stack can handle a deep err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770440" y="1981080"/>
            <a:ext cx="2916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4-20T07:05:57Z</dcterms:modified>
  <cp:revision>612</cp:revision>
  <dc:subject/>
  <dc:title>CSE 142 Python Slides</dc:title>
</cp:coreProperties>
</file>