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B26A-05C2-49DE-BF98-EBD2E4A9A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057D-89E9-42F7-98E2-DC6FD78952B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8Z</dcterms:modified>
  <cp:revision>122</cp:revision>
  <dc:subject/>
  <dc:title>CSE 142 Python Slides</dc:title>
</cp:coreProperties>
</file>