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1.png" ContentType="image/png"/>
  <Override PartName="/ppt/media/image68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2.png" ContentType="image/png"/>
  <Override PartName="/ppt/media/image23.png" ContentType="image/png"/>
  <Override PartName="/ppt/media/image16.jpeg" ContentType="image/jpeg"/>
  <Override PartName="/ppt/media/image67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74.jpeg" ContentType="image/jpeg"/>
  <Override PartName="/ppt/media/image72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0C0E-8A28-4396-BBCE-EF0642C9A19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impleFrame2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Foreground(Color.WHIT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ocation(new Point(10, 5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195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ages, continu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to load an im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olkit tk = Toolkit.getDefaultToolki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 img = tk.getImage("myimage.jpg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diaTracker mt = new MediaTracker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addImage(img, 0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y ID will 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waitForAl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nterruptedException ie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ediou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ggest making a helper method to load and return one im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mage loadImag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imation with Tim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mers—Wh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1920" y="1584000"/>
            <a:ext cx="899172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an action multiple ti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imations in our GUI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delays and pauses when required / des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imer is an example of a "callback" -- your code starts the timer, then later at a specified time, the timer activates, causing an event in you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17258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avax.swing.Tim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Timer(int ms_delay, ActionListener al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fire an actionPerformed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_del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llisecon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imer to begin ticking; the first tick happens after the initial delay, and the rest occur separated by the timer's dela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op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ps timer from tick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arts timer, causing it to wait its initial delay and then begin firing at its delay 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additional listeners to be fired as the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Running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rue when timer is ticking (has been started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the delay between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nitial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a one-time delay to occur before ticking star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epeats(boolean b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to false to make timer fire only o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is code could be used to move a shape to the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cross the scre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ELAY = 1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updater = new ActionListen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Panel.repa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r tim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im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ELAY, upda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have the following properties that you can get/s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320" y="1865160"/>
          <a:ext cx="8991360" cy="415440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close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 should happen when frame is 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DefaultCloseOperation, setDefaultCloseOp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n the window's title 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IconImage, setIcon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ayoutMana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the frame should position its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ayout, set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window can be res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sizable, set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's title bar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Title, set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1295280"/>
          <a:ext cx="8991360" cy="502272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Background, set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interacted w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Enabled, set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 used to display any text on the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nt, set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reground, set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 position of component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ocation, set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of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ize, set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erred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that the component wants to 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eferredSize, setPreferred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seen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Visible, set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ing compon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components in Java form an inheritance hierarch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.awt.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Contai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x.swing.J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But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ab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JMenu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Ar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Wind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doing GUI programming, always import these packag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GUI: AWT and S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's initial idea: create a set of classes/methods that can be used to write a multi-platform GUI (Abstract Windowing Toolkit,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W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not powerful enough; limited; a bit clunky to 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edition (JDK v1.2)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ewer library written from the ground up that allows much more powerful graphics and GUI co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back: Both exist in Java now; easy to get them mixed up; still have to use both sometim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frame is a graphical window that can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e used to hold other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String titl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ates a frame with an optional tit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Title(String tex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ts the given text in the frame’s title b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DefaultCloseOperation(int o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kes the frame perform the given action when it closes.  Common value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Frame.EXIT_ON_CLO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ces the given component or container inside the fr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How would we add more than one component to the frame?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Cal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make a frame appear on screen after creating i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Fra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22100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Butto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ab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most common component—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button is a clickable onscreen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gion that the user interacts wit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 perform a single com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text label is simply a string of tex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splayed on screen in a graphical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gram.  Labels often give infor-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tion or describe oth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Button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abel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button / label with the given string as its tex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showing on the button / labe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button / label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01000" y="2209680"/>
            <a:ext cx="990720" cy="439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17887" r="27418" b="0"/>
          <a:stretch/>
        </p:blipFill>
        <p:spPr>
          <a:xfrm>
            <a:off x="5029200" y="1066680"/>
            <a:ext cx="41148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Fiel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Ar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1080" y="1295280"/>
            <a:ext cx="86504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field is like a label, except that the tex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 it can be edited and modified by the user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xt fields are commonly used for user inpu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ere the user types information in the fiel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d the program reads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area is a multi-line text fie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Field(int colum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Area(int lines, int colum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text field the given number of columns (letters) wid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currently in the fie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field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42177"/>
          <a:stretch/>
        </p:blipFill>
        <p:spPr>
          <a:xfrm>
            <a:off x="6553080" y="1295280"/>
            <a:ext cx="2286000" cy="106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24480" y="4560840"/>
            <a:ext cx="25146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program attempts to show 2 butt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mponentsExample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300, 1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1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Text("I'm a butto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Background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2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Text("Click me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Background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85768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eceding program added two buttons to the frame, but only one appeared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you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ed inside frames and other graphical containers that decides the position and size of the components inside the contai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fault layout manager sizes each component added to occupy the full window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38960" y="1841400"/>
            <a:ext cx="247644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aphical input and output with JOptionPan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orrect the program's appearance by changing the fram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yout manag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layout by call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on the frame and passing a layout manager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see several layout managers la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use one call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sizes each component to its preferred size and positions them in left-to-right row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following line is added to the preceding program just before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s appearance will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86280" y="5829480"/>
            <a:ext cx="2857320" cy="95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 events w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Liste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ent-driven programm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's execution is indetermin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screen components ca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occur when they are clicked / interacted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can be handled, causing the program to respond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iv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execution thru events (an "event-driven" progr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Ev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util.Event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AW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Tex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Componen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Focus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Window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Inpu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Key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Mouse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tion events: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ctionEv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mmon / simple event type in 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 an action occurring on a GUI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ton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 box checking / unche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nu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ssing Enter in a text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ening for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h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ener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he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ner’s appropriate method will be called when event occurs (e.g. when the button is cli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ction events,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848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art of Java; you don't write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ActionListener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message when the button is click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ActionListen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ActionListen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n event occurred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ttach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"butto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 listener = new MyActionListen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isten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pr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Event occurred!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li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exists in many Swing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ying out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position, re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ow does the programmer specify where each component sits in the window, how big each component should be, and what the component should do if the window is resized/moved/maximized/etc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olute position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++, C#, others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exact pixel coordinates for every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ayout manag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special objects that decide where to position each component based on som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benefits or drawbacks to each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1920" y="1365120"/>
            <a:ext cx="8991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option pane is a simple dialog box for graphical input/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exible (in some way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s better than the black box of dea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with static methods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object-orien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powerful (just simple dialog box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657600" cy="1544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951200"/>
            <a:ext cx="7467480" cy="466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79440" y="5792760"/>
            <a:ext cx="4359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are several common Java layout manag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mana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1993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tain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that holds components; it also governs their positions, sizes, and resizing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ers have the following public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, Object info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s a component to the container, possibly giving extra information about where to place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ves the given component from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ayout(LayoutManager mg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the given layout manager to position the components in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validat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should call this if you change the contents of a container that is already on the screen, to make it re-do its layou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nel is our container of choice; it provides the methods from the previous slide and defines these additional methods (among oth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with a default flow layo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LayoutManager mg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that uses the given layout mana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ferred 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ng component objects each have a certain size they would "like" to be--just large enough to fit their contents (text, icon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eferred 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types of layout manag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hoose to size the components inside them to the preferred size; oth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disregard the preferred size and use some other sche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uttons at preferred size: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t preferred siz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3784" b="21644"/>
          <a:stretch/>
        </p:blipFill>
        <p:spPr>
          <a:xfrm>
            <a:off x="4952880" y="4952880"/>
            <a:ext cx="3353040" cy="1300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0" r="69400" b="0"/>
          <a:stretch/>
        </p:blipFill>
        <p:spPr>
          <a:xfrm>
            <a:off x="762120" y="4957920"/>
            <a:ext cx="23619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low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2600" y="4987800"/>
            <a:ext cx="8480520" cy="10321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FlowLayou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s container as a left-to-right, top-to-bottom "page" or "paragraph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s are given their preferred size both horizontally and vert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positioned in order ad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oo long, components wrap around to next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ainer panel = new JPanel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add(new JButton("Button 1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ow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low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20, 7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Flow layou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Label("Type your ZIP Code: 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TextField(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Button("Submi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362320" y="5838840"/>
            <a:ext cx="304776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943600" y="5438880"/>
            <a:ext cx="172404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id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00200" y="4662360"/>
            <a:ext cx="5943600" cy="1662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GridLayout(int rows, int colum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s container as a grid of equally-sized rows and colum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given equal horizontal / vertical size, disregarding preferred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pecify 0 rows or columns to indicate expansion in that direction a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id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Grid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The gri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 rows, 3 colum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GridLayout(2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setText("Button " + 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butt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913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rder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rderLayout(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s container into five region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horizontally, and use preferred size ver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vertically, and use preferred size horizont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EN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es all space not occupied by oth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ainer panel = new JPanel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add(new JButton("Button 1 (NORTH)"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057400" y="5105520"/>
            <a:ext cx="495288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rder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rderLayo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210, 2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Run for the borde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north")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south"), BorderLayout.SOU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west"), BorderLayout.WE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east"), BorderLayout.EA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center"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rderLayout.CEN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53080" y="5029200"/>
            <a:ext cx="175284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7120" y="1309680"/>
            <a:ext cx="2517480" cy="97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19920" y="3019320"/>
            <a:ext cx="2971800" cy="9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00840" y="5122800"/>
            <a:ext cx="2990880" cy="127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s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on a dialo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 OK butt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Confirm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list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ices Yes, No, Cance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user's choice as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o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the following valu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NO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CANCEL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tex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eld for input; returns the user'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entered as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pa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the parent to all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x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24080" y="4311720"/>
            <a:ext cx="2438640" cy="1936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Horizont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Vertic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s components in container in a single row or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use preferred sizes and align based on their preferred al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rred way to construct a container with box layou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HorizontalBox()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VerticalBo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821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rd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s of "cards" stack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op of each other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visible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complicated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ation: avo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181480" y="1546200"/>
            <a:ext cx="3649680" cy="1181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532480" y="4213080"/>
            <a:ext cx="30020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00200" y="229536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create a complex window like this, using the layout managers show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665520" cy="1909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panels within pa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nel has a different layout, and by combining the layouts, more complex / powerful layout can be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panel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ayout in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: composite 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site 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Telephone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Size(new Dimension(250, 20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Title("Telephon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centerPanel = new JPanel(new GridLayout(4, 3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9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" + i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*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0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#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centerPanel, BorderLayout.CENTER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southPanel = new JPanel(new Flow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Label("Number to dial: 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TextField(1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southPanel, BorderLayout.SOUTH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991200" y="4800600"/>
            <a:ext cx="2152800" cy="17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dditional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check box is a toggleable button with two states: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ed and unche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radio button is a button that can be selected; usually part of a group of mutually-exclusive radio buttons (1 selectable at a ti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 / JRadioButton(String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(String text, boolean isCheck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s checked/unchecked check box with given tex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true if check box is check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ed(boolean selec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box to be checked/uncheck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2590560" cy="739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3488" t="48819" r="71363" b="38169"/>
          <a:stretch/>
        </p:blipFill>
        <p:spPr>
          <a:xfrm>
            <a:off x="6324480" y="5486400"/>
            <a:ext cx="2743200" cy="914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heckBox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RadioButto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uttonGrou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13898" r="46328" b="0"/>
          <a:stretch/>
        </p:blipFill>
        <p:spPr>
          <a:xfrm>
            <a:off x="6934320" y="1219320"/>
            <a:ext cx="2049480" cy="2117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logical group of radio buttons that ensure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at only one is selected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uttonGroup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RadioButton butt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a graphical component, just a logical group;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emselves are added to the container, no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mageIc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you to put a picture on a button, label or other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ImageIcon implements 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String filen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URL addr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tc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or that take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ollover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38928" t="28110" r="37825" b="8408"/>
          <a:stretch/>
        </p:blipFill>
        <p:spPr>
          <a:xfrm>
            <a:off x="6665760" y="1981080"/>
            <a:ext cx="2401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croll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special container that holds a component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ing scrollbars to allow that component to be s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crollPane(Component comp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s the given component with scrollbars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constructing the scroll pane, add the scroll pane to the container, not the original component.</a:t>
            </a:r>
            <a:br>
              <a:rPr sz="24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ScrollPane(area), BorderLayout.CEN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8288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4630680"/>
            <a:ext cx="3352680" cy="146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4632480"/>
            <a:ext cx="3352680" cy="1463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display a mess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essageDialogExampl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"How's the weather?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 "Second messag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File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special dialog box that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the user to sele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ne or more files/f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String currentDi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Open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Save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File getSelectedFil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APPROVE_OPTION, CANCEL_OP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e result values from showXxxDialog(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ileChooser chooser = new JFileChoos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ult = chooser.showSaveDialog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ult == JFileChooser.APPROVE_OP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aveData(chooser.getSelectedFile().getNam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3028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olor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1920" y="1366560"/>
            <a:ext cx="899172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other special dialog tha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ets the user pick from 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lette of col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Color init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showDialog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onent par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String title, Color initialCol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null if user chose Cancel o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43714" r="0" b="0"/>
          <a:stretch/>
        </p:blipFill>
        <p:spPr>
          <a:xfrm>
            <a:off x="5867280" y="1143000"/>
            <a:ext cx="32004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top-level container that holds menus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attached to a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Ba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Menu men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ge: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JMenuBar(JMenuBar b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87504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enu to hold menu items; menus can contain other m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Menu(String tex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JMenuItem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Separato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423200" y="3048120"/>
            <a:ext cx="1328760" cy="281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3084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entry in a frame's Menu bar, whic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clicked to perform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Accelerator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Stroke k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Enabl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3200400" cy="6588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adio button and checkbox-like menu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boolean sel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Icon icon, boolean selec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all: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AbstractButton button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two classes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CheckBoxMenuIte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RadioButtonMenuIte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0" r="30506" b="0"/>
          <a:stretch/>
        </p:blipFill>
        <p:spPr>
          <a:xfrm>
            <a:off x="6934320" y="1219320"/>
            <a:ext cx="21207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nemonic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u hotkey assigned to a button or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sible as an underlined key, activated by press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rl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buttons) or Alt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work when input focus is on the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ffects 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ag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Mnemonic(cha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nu items also have constructor that takes mnemoni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QuitButton.setMnemonic('Q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Item myNewItem = new JMenuItem("New", 'N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NewItem.setMnemonic('N'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nemon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31112" b="0"/>
          <a:stretch/>
        </p:blipFill>
        <p:spPr>
          <a:xfrm>
            <a:off x="6629400" y="762120"/>
            <a:ext cx="236232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l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lobal hotkey combination that performs an action (ex: Alt-X to exit program) even on components that aren't in focus /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un at any time in the ap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optionally include modifiers like Shift, A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by calling the getKeyStroke method of the KeyStroke class, and passing this to setAccelerator method of various components (buttons, menu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.setAccelerato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Stroke.getKeyStroke('T', KeyEvent.ALT_MASK)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l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0" y="6248520"/>
            <a:ext cx="45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Object[]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Vector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ComboBoxModel mode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combo box.  Can optionally pass a vector or model of items.  (Se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aultComboBox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a model implementation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 action event to be sent to listener al when the user selects or types a new item in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34361" r="0" b="42778"/>
          <a:stretch/>
        </p:blipFill>
        <p:spPr>
          <a:xfrm>
            <a:off x="5105520" y="1143000"/>
            <a:ext cx="3951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anaging I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Item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7160" y="5181480"/>
            <a:ext cx="2552760" cy="11145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210200" y="5181480"/>
            <a:ext cx="4019040" cy="1195560"/>
            <a:chOff x="4210200" y="5181480"/>
            <a:chExt cx="4019040" cy="11955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210200" y="5181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676840" y="5262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Confirm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only be one of the provided choi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Confirm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hoic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Confirm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 "Erase your hard disk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hoice =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Disk erased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Cancelled.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Selected 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SelectedItem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nabled(boolean enabl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ditable(boolean editabl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ditable, the user can type new arbitrary values into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many "tab"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containers, each with components in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int tabAlignm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the tabs on top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abbedPane.BOTT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, String toolti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as a tab in this tabbed pane.  Can optionally use an icon and/or tool ti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0397"/>
          <a:stretch/>
        </p:blipFill>
        <p:spPr>
          <a:xfrm>
            <a:off x="6835680" y="1066680"/>
            <a:ext cx="23083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insertTab(String tit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con icon, Component comp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tring tooltip, 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Component(Component 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plit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two components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vided by a movable sepa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int orientatio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a horizontal split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plitPane.HORIZONT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Bottom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ef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igh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opComponent(Component com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s the given component to occupy the desired region of the split pa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822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ovable container to hol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mon buttons, command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int orien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String tit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itle, int orienta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ool bar, optionally with a title and orientation;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oolBar.HORIZON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efaults to horizo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to this tool bar's flowing lay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15822" r="73515" b="52857"/>
          <a:stretch/>
        </p:blipFill>
        <p:spPr>
          <a:xfrm>
            <a:off x="6934320" y="1219320"/>
            <a:ext cx="2057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items (usually buttons) to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oolbar to edg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content pane (usuall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put anything in other edges (N/S/E/W)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list of selectabl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-defined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n empty JLis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ListModel mod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Object[]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Vector dat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JList that displays the given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ListSele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ListSelectionListener ls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the given listener to be informed when the selected index / indices change for this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2313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clearSelection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[] getSelectedIndic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getSelectedValu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[] getSelectedValu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ices(int[] indic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for getting / setting the selected item and index in the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even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stModel getModel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Object[]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Vector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Model(ListModel mode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ses this list to now display the given collection of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SelectionMod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ionMode(int mod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 / set selection mode for the list.  For example, s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SelectionModel.SINGLE_SELEC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only allow one item in the list to be chosen at o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INTERVAL_SELEC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SELECTION                             MULTIPLE_INTERVAL_SEL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5800" y="4724280"/>
            <a:ext cx="7696080" cy="1012680"/>
            <a:chOff x="685800" y="4724280"/>
            <a:chExt cx="7696080" cy="10126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68580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396252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7467480" y="4724280"/>
              <a:ext cx="91440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window that is a child of th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verall JFrame; used for popup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ndows, option/config box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Dialog parent, boolean mod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Frame parent, String titl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boolean mod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new dialog with the given parent and title.  I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lag is set, this dialog is a child of the parent and the parent will be locked until the dialog is cl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how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this dialog on screen.  If the dialog is modal, calling show() will lock the parent frame/dialo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most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ContentPan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JMenuBar(JMenuBa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sizable(boolea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Title(String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Dialo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72200" y="380880"/>
            <a:ext cx="2819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be any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Input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Input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What's yer name, pardner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Yeehaw, " +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4314960"/>
            <a:ext cx="2828880" cy="117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4314960"/>
            <a:ext cx="25527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eye candy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Java Swing GUI look like the native operating syst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setLookAndFeel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getSystemLookAndFeelClass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Exception e)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ng borders to compon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everComponent.setBorde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Factory.createLineBorder(Color.BLUE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ouse and keyboard ev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use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mouse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clicks and movement of mouse within a GUI component 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mouse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interactive programs that are driven by mouse activ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43800" y="4343400"/>
            <a:ext cx="1427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istening to clicks: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Click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nte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xi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lements MouseListen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Click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nter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xited(MouseEvent event) 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Releas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My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Tedious to implement entire interface when only partial behavior is wanted/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 class with empty implementations of 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: exte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override the methods you want to do some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s need for you to type in empty methods for all the ones you don’t w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ample of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ig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MyMouseAdap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1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2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BUTTON3_MASK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RL_MASK, ALT_MASK, SHIFT_MA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lickCou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 getPo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odifiers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the above button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ngUt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Lef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Righ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15717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Po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source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ource == this.panel  &amp;&amp;  p.getX() &lt; 1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showMessageDialog(null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You clicked the left side of myPanel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nscreen GUI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4459320"/>
            <a:ext cx="8305920" cy="1484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GUIs are not composed of option panes; they are too limited.  Instead, complex GUIs contain the following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r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graphical window on the scree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one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GUI widgets such as buttons or text field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tain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gical groups of compon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Dragg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useMotion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provides empty implementations of both methods if you just want to override 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use movement: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ouseMotionListen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Motion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Motion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 = event.getX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y = event.getY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x is " +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 is " + 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MotionAdapt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Motion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InputListen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x.swing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Input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importantly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Input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cludes empty implementations for ALL methods from both mouse input interfaces, allowing same listener to listen to mouse clicks and m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Input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Input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was pressed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ouseInputAdapter adapter = new MyMouseInputAdapt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Input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: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board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 of keyboard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keyboard activity within a GUI compon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keyboard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onscreen drawn characters and simulate text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794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Presses: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Key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Event 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Key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ements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TRL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T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FT_MAS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VK_A .. VK_Z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0 .. VK_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F1 .. VK_F10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UP, VK_LEFT, ..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TAB, VK_SPACE, VK_ENTER,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one for every ke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odifi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acManKey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Key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Key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keyChar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keyCode 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keyCode =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Event.VK_R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man.setX(pacman.getX()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.repa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keyChar == 'Q'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Pac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 panel = new Pac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Key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PacKey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kinds of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Listener/Adapt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events in a top-level window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 Useful to cat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Clos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vent and respond, e.g. prompt to save current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cusListen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when the keyboard focus changes to a different component.  Useful to validate input format on a text fie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yperlink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 listeners for specific Swing component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EditorPa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pective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2D Graphi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program that creates and show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impleFram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5238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overri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to use a panel as a drawing su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e system: (0, 0) at top-lef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-axis increases rightward, y-axi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downward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surface i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anspar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less drawn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629400" y="19051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 drawing pan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important things that we don't want to lose, so call the metho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rst thing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gument represents "graphical context" object that can be told to draw th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aranteed for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actual object passed in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an ca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has small preferred size, so it will be tiny when put into some layouts;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PreferredSize(Dimensio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make it bigg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reshing panel: can't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o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a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sic panel painting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.paintComponent(g);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ut your painting code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819520" cy="2382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drawing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yPanel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per.paintComponent(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2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0, 10, 2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text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s, int x, int 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s a string with its first letter's bottom-left corner at the given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ring is drawn using the Graphics' current color and font set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drawing the string, you can set the font, color, and other attribu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14914" r="0" b="14817"/>
          <a:stretch/>
        </p:blipFill>
        <p:spPr>
          <a:xfrm>
            <a:off x="5791320" y="365760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ont f)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text to start writing text in the given font.  (Forgotten at end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ll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ext styles used when drawing Str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, int style, int 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predefined font nam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ans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onospaced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nt styles (can be combined with + operato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AL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0" t="0" r="15354" b="0"/>
          <a:stretch/>
        </p:blipFill>
        <p:spPr>
          <a:xfrm>
            <a:off x="4419720" y="5156280"/>
            <a:ext cx="4190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ors and pai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 simple single-colored pa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, int alph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artially-transparent color (range 0-255, 0=trans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igh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Line(int x1, int y1, int x2, int y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4495680"/>
            <a:ext cx="3382920" cy="2111400"/>
            <a:chOff x="5181480" y="4495680"/>
            <a:chExt cx="3382920" cy="211140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7391160" y="4495680"/>
              <a:ext cx="8110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7010280" y="5257800"/>
              <a:ext cx="155412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7010280" y="6019920"/>
              <a:ext cx="153180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4"/>
            <a:stretch/>
          </p:blipFill>
          <p:spPr>
            <a:xfrm>
              <a:off x="5181480" y="452268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5"/>
            <a:stretch/>
          </p:blipFill>
          <p:spPr>
            <a:xfrm>
              <a:off x="5181480" y="528480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5181480" y="6046920"/>
              <a:ext cx="1226880" cy="560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im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mageObserver i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nt width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int height, ImageObserver io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s given image with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en with its top-left corner at given location (pass the panel a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Observ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40992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Toolkit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ets images from disk or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Toolkit getDefaultToolkit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String filena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URL addres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MediaTracker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nsures that images are loaded ful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ediaTracker(Component com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Image(Image img, int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waitForAll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throws Interrupted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 graphic image (BMP, GIF, 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Width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eight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.Buffered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blank graphic image surface onto which you can dr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ufferedImage(int w, int h, int typ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Graphics getGraphics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for imag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4:10Z</dcterms:modified>
  <cp:revision>129</cp:revision>
  <dc:subject/>
  <dc:title>CSE 142 Python Slides</dc:title>
</cp:coreProperties>
</file>