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E7B6-9B4C-4CE4-A5DE-A52CC896190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iveProb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canner console, int cou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,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igh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x + " " + text + " " + y + " =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nswer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perator.applyAsInt(x, y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ponse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ponse == answ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it righ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ight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ncorrect...the answer was 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answ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Right + " of " + count + " corr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source| -&gt; stream1 -&gt; |modifier| -&gt; stream2 -&gt; ... -&gt; | terminator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*2*3*...*(n-1)*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8120" y="1143000"/>
          <a:ext cx="8809200" cy="526392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8120" y="1143000"/>
          <a:ext cx="8809200" cy="328608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1360" y="4572000"/>
          <a:ext cx="8809200" cy="219060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s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g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nvert a String parameter into its "Pig Latin" form.  For example, if the string passed is "go seattle mariners", return "o-gay eattle-say ariners-may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the 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/multiply tu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program that gives addition and multiplication quiz problems to the u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 + 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got it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* 7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orrect...the answer was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neralize the idea of "add or multiply"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add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+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+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multiplica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*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*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Registered User</cp:lastModifiedBy>
  <dcterms:modified xsi:type="dcterms:W3CDTF">2016-08-17T07:01:37Z</dcterms:modified>
  <cp:revision>658</cp:revision>
  <dc:subject/>
  <dc:title>CSE 142 Python Slides</dc:title>
</cp:coreProperties>
</file>