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A459-9C03-4883-8BE9-9BDCA4C37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7FE2-6C87-4675-8237-8AB6ACC023F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sic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very easy number of stars to print without a lo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ing additional cases, with no loops (in a bad wa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ing advantage of the repeated pattern (somewhat bett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3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2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4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3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recursion proper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ensing the recursive cases into a singl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Recursio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l, even simpler, base case i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0, not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on Z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art of properly identifying the best set of cases for a recursive algorithm and expressing them elegantly.</a:t>
            </a:r>
            <a:br>
              <a:rPr sz="2200"/>
            </a:br>
            <a:br>
              <a:rPr sz="8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 CSE 143 informal ter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n /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n %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a +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6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648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648 /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648 %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ystery(a + b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ystery(7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ystery(7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2 /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72 %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stery(a + b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ystery(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ystery(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7480" y="1289160"/>
            <a:ext cx="745632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124080"/>
            <a:ext cx="66294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876920"/>
            <a:ext cx="2133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 * n) +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/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%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a) +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3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34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mystery(3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mystery(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3) + 3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3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mystery(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4) + 4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0 * 33) + 44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3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mystery(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 * 8) + 8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8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3344) + 88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n-US" sz="2200" spc="-1" strike="noStrike" u="sng">
                <a:solidFill>
                  <a:srgbClr val="008000"/>
                </a:solidFill>
                <a:uFillTx/>
                <a:latin typeface="Courier New"/>
              </a:rPr>
              <a:t>33448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is method really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27240"/>
            <a:ext cx="5410080" cy="18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662360"/>
            <a:ext cx="5410080" cy="3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30480" y="246708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8680" y="318132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" y="1289160"/>
            <a:ext cx="715140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integer base and exponent and returns the base raised to that ex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(3, 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8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recursively and without using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definition of an operation in terms of itse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ing a problem using recursion depends on solv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ve 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riting methods that call themselves to solve problems recurs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qually powerful substitute fo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e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oo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ly well-suited to solving certain types of probl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optim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e following mathematical proper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12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does this "trick"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incorporate this optimization into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benefit of this trick if the method already work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 if (exponent % 2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1:  x^y = (x^2)^(y/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pow(base * base, exponent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2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Bin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and prints that number's representation in binary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ase 2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7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1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4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010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he method recursively and without using any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7400" y="3835440"/>
          <a:ext cx="5045040" cy="888840"/>
        </p:xfrm>
        <a:graphic>
          <a:graphicData uri="http://schemas.openxmlformats.org/drawingml/2006/table">
            <a:tbl>
              <a:tblPr/>
              <a:tblGrid>
                <a:gridCol w="777960"/>
                <a:gridCol w="460440"/>
                <a:gridCol w="453960"/>
                <a:gridCol w="630360"/>
                <a:gridCol w="460080"/>
                <a:gridCol w="460440"/>
                <a:gridCol w="430200"/>
                <a:gridCol w="457200"/>
                <a:gridCol w="457200"/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bout solving a small piece of a larg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69743 in binar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we know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yth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about its representation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analys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/are easy numbers to print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we express a larger number in terms of a smaller numbe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we are examining some arbitrary integ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/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%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eliminate the precondition and deal with negativ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(n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for negative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ystem.out.print("-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ntBinary(-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it reads the same forwards as backw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madam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aceca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step on no pets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able was I ere I saw elb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Jav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otate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byebye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notion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first = s.charA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ast  = s.charAt(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irst != la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middle = s.substring(1, 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Palindrome(midd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charAt(0) == s.charAt(s.length() - 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Palindrome(s.substring(1, s.length() -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learn recursio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cultural experience" - A different way of thinking of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some kinds of problems better than it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s to elegant, simplistic, short code (when used w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programming languages ("functional" languages such as Scheme, ML, and Haskell) use recursion exclusively  (no loo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component of the rest of our assignments in CSE 1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L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rints the lines of the file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input fi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ected conso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can we solve a small part of the problem at a ti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file that is very easy to rever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74320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sing the lines of a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a line L from the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rest of the lines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line 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f only we had a way to reverse the rest of the lines of the file...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s the bas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36376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64920" y="53481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7120" y="5348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160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3648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our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ethod invocations running at any on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verseLines(new Scanner("poem.txt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22860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Roses are red,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28954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Violets are blu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4704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ll my ba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40798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re belong to you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4670280"/>
            <a:ext cx="8991360" cy="11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58672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4.44444E-006 L 3.46945E-018 0.03333 E">
                                      <p:cBhvr>
                                        <p:cTn id="21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3333 L 3.46945E-018 0.06666 E">
                                      <p:cBhvr>
                                        <p:cTn id="22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6666 L 3.46945E-018 0.1 E">
                                      <p:cBhvr>
                                        <p:cTn id="23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aw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prints information about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normal file, just print its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directory, print its name and information about every file/directory inside it, inde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e1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llabus.do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cture_schedule.x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sortedint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ed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yle.c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directory can contain other director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(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) repres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le or directory on the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2362320"/>
          <a:ext cx="8542080" cy="4038120"/>
        </p:xfrm>
        <a:graphic>
          <a:graphicData uri="http://schemas.openxmlformats.org/drawingml/2006/table">
            <a:tbl>
              <a:tblPr/>
              <a:tblGrid>
                <a:gridCol w="2549160"/>
                <a:gridCol w="599292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/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bject representing file with give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file is able to be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s file from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is file exists on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file'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Director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this object represents a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number of bytes in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Fil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[]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representing files in this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nges name of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ublic/private pai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vary the indentation without an extra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rawl(File f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the parameters we need for our recursion do not match those the client will want to p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se cases, we instead write a pair of metho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non-recursive one with the parameters the client wa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cursive one with the parameters we really ne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information about this fil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nd (if it is a directory) any files insid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ublic static void crawl(File 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rawl(f, ""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all private recursive hel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helper to implement crawl/indent behav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crawl(File 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dent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get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.isDirectory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contained files/d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File subFile : f.listFiles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awl(subFil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indent + "   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ursive Backtrack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ermut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o a student in the front row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udents total are directly behind you in your "column" of the classro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have poor vision, so you c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e only the people right next to you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can't just look back and cou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are allowed to as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stions of the person next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olve this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cursivel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31626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each permutation as a set of choices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fir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seco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lution 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et of all possible sets of decisions to expl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ant to generate all possible sequences of dec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(each possible first letter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each possible second let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(each possible third letter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ision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446640" y="1295280"/>
          <a:ext cx="2408040" cy="812880"/>
        </p:xfrm>
        <a:graphic>
          <a:graphicData uri="http://schemas.openxmlformats.org/drawingml/2006/table">
            <a:tbl>
              <a:tblPr/>
              <a:tblGrid>
                <a:gridCol w="1079280"/>
                <a:gridCol w="13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o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flipH="1">
            <a:off x="3657600" y="2133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41760" y="2387520"/>
          <a:ext cx="1404720" cy="406440"/>
        </p:xfrm>
        <a:graphic>
          <a:graphicData uri="http://schemas.openxmlformats.org/drawingml/2006/table">
            <a:tbl>
              <a:tblPr/>
              <a:tblGrid>
                <a:gridCol w="379080"/>
                <a:gridCol w="1025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59876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1092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flipH="1">
            <a:off x="2360520" y="2819520"/>
            <a:ext cx="9144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74560" y="3936960"/>
          <a:ext cx="140472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56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522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28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41800" y="3174840"/>
          <a:ext cx="1409400" cy="406440"/>
        </p:xfrm>
        <a:graphic>
          <a:graphicData uri="http://schemas.openxmlformats.org/drawingml/2006/table">
            <a:tbl>
              <a:tblPr/>
              <a:tblGrid>
                <a:gridCol w="61560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91328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06240"/>
                <a:gridCol w="798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94480" y="3174840"/>
          <a:ext cx="1406520" cy="406440"/>
        </p:xfrm>
        <a:graphic>
          <a:graphicData uri="http://schemas.openxmlformats.org/drawingml/2006/table">
            <a:tbl>
              <a:tblPr/>
              <a:tblGrid>
                <a:gridCol w="606600"/>
                <a:gridCol w="799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510320" y="2362320"/>
          <a:ext cx="1405080" cy="406440"/>
        </p:xfrm>
        <a:graphic>
          <a:graphicData uri="http://schemas.openxmlformats.org/drawingml/2006/table">
            <a:tbl>
              <a:tblPr/>
              <a:tblGrid>
                <a:gridCol w="336600"/>
                <a:gridCol w="10684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648320" y="213372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3520" y="281952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2819520"/>
            <a:ext cx="12952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89320" y="2819520"/>
            <a:ext cx="236232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2080" y="3581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27400" y="3936960"/>
          <a:ext cx="141444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6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037040" y="3936960"/>
          <a:ext cx="1415880" cy="406440"/>
        </p:xfrm>
        <a:graphic>
          <a:graphicData uri="http://schemas.openxmlformats.org/drawingml/2006/table">
            <a:tbl>
              <a:tblPr/>
              <a:tblGrid>
                <a:gridCol w="847440"/>
                <a:gridCol w="56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360520" y="35812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7720" y="35812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2880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flipH="1">
            <a:off x="83808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9051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590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62520" y="4699080"/>
          <a:ext cx="1404720" cy="406440"/>
        </p:xfrm>
        <a:graphic>
          <a:graphicData uri="http://schemas.openxmlformats.org/drawingml/2006/table">
            <a:tbl>
              <a:tblPr/>
              <a:tblGrid>
                <a:gridCol w="107460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9625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6386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464832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1500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400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629400" y="3962520"/>
          <a:ext cx="141588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8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7195680" y="3581280"/>
            <a:ext cx="11916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581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23440" y="3809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962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246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91760" y="2666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1080" y="41911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04480" y="42670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eneral algorithm for finding solution(s) to a computational problem by trying partial solutions and then abandoning them ("backtracking") if they are not sui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brute force" algorithmic technique  (tries all paths; not clev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(but not always) implemented recursiv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ing all permutations of a set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sing langu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mes: anagrams, crosswords, word jumbles, 8 que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orics and logic programm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general pseudo-code algorithm for backtracking 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are no mo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make: 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singl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set of cho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Remove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from the set of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hoices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 rem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-mak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Backtrack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strateg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olving a backtracking problem, ask these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 in this probl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"base case"?  (How do I know when I'm out of choices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create additional variables to remember my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modify the values of existing variabl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explore the rest of the choi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remove the made choice from the list of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I'm done exploring the rest, what should I d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mutations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ar c = s.charAt(i);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+= c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s, chosen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c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=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hosen.substring(0, chosen.length() - 1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           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ch = s.substring(i, i + 1);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rest = s.substring(0, i) +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mov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rest, chosen + ch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(don't need to "un-choose" becau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 we used temp variable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Combin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bin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parameters and outputs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etter words that can be formed from uniqu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binations("GOOGLE", 3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sequence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s at r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you may assu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str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at lea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que charac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238880" y="2987640"/>
          <a:ext cx="1371600" cy="35654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Prints same string multiple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ll about breaking a big problem into smaller occurrences of that sam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person can solve a small part of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small version of the problem that would be easy to answ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nformation from a neighbor might help 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2328"/>
          <a:stretch/>
        </p:blipFill>
        <p:spPr>
          <a:xfrm>
            <a:off x="4030560" y="3514680"/>
            <a:ext cx="480852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 = new TreeSet&lt;String&gt;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String comb : a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om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.add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all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Domino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ame of dominoes is played with sm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 tiles, each having 2 numbers of do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0-6.  Players line up tiles to match do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i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first()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irst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econd()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econd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e.g. "(3|5)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ak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dominoes and a starting/ending dot value, and returns whether the dominoes can be made into a chain that starts/ends with those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hain's start/end are the same, the answer is alway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0" y="108576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mino ch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following domino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link them into a chain from 1 to 3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the 3|5 domino had to be flipp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"link" one domino into a "chain" from 6 to 2 as follow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20178" t="28004" r="20919" b="64408"/>
          <a:stretch/>
        </p:blipFill>
        <p:spPr>
          <a:xfrm>
            <a:off x="1752480" y="1827360"/>
            <a:ext cx="5694480" cy="56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33505" t="55928" r="34433" b="36644"/>
          <a:stretch/>
        </p:blipFill>
        <p:spPr>
          <a:xfrm>
            <a:off x="2978280" y="3936960"/>
            <a:ext cx="3117600" cy="558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rcRect l="44182" t="47288" r="45044" b="45606"/>
          <a:stretch/>
        </p:blipFill>
        <p:spPr>
          <a:xfrm>
            <a:off x="4038480" y="5535720"/>
            <a:ext cx="1060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Array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olveDominoe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[(1|4), (2|6), (4|5), (1|5), (3|5)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Domino&gt; dominoes = new ArrayList&lt;Domino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2, 6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4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3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5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3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6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second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first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rint cha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variation of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also prints the chain of dominoes that it finds, if 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Chain(dominoes, 1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(1|4), (4|5), (5|3)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boolean hasChain(List&lt;Domino&gt; dominoes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ck&lt;Domino&gt; chosen = new Stack&lt;Domino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Chain(dominoes, chosen, start, end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atic boolean hasChain(List&lt;Domino&gt; domino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ck&lt;Domino&gt; chos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.fli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8 Queens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problem of trying to place 8 queens on a chess board such that no queen can attack another qu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"make" 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wh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267080" y="2209680"/>
          <a:ext cx="4724280" cy="426708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4495320" y="2431800"/>
            <a:ext cx="4419720" cy="3810240"/>
            <a:chOff x="4495320" y="2431800"/>
            <a:chExt cx="4419720" cy="3810240"/>
          </a:xfrm>
        </p:grpSpPr>
        <p:sp>
          <p:nvSpPr>
            <p:cNvPr id="279" name=""/>
            <p:cNvSpPr/>
            <p:nvPr/>
          </p:nvSpPr>
          <p:spPr>
            <a:xfrm flipV="1">
              <a:off x="5714640" y="243180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4640" y="4260960"/>
              <a:ext cx="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4108320"/>
              <a:ext cx="3047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495320" y="41083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495320" y="2965320"/>
              <a:ext cx="10666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495320" y="4260960"/>
              <a:ext cx="10666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240" y="4260960"/>
              <a:ext cx="213372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943240" y="2431800"/>
              <a:ext cx="152424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each square on boar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a queen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to place the re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quee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-place the qu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lgorith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 * 63 * 62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tter 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In a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, exactly 1 qu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ppear in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 an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olum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efine a "choice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valid plac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queen in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 colum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n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* 8 * 8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eople behind 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someone behind m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him/her how many people are behind him/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y respond with a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n I will answ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nobody behind me, I will answ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32658"/>
          <a:stretch/>
        </p:blipFill>
        <p:spPr>
          <a:xfrm>
            <a:off x="4038480" y="3591000"/>
            <a:ext cx="4726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veQue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and tries to place 8 queens on it saf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method should stop exploring if it finds a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00" y="1971720"/>
          <a:ext cx="8890200" cy="2676600"/>
        </p:xfrm>
        <a:graphic>
          <a:graphicData uri="http://schemas.openxmlformats.org/drawingml/2006/table">
            <a:tbl>
              <a:tblPr/>
              <a:tblGrid>
                <a:gridCol w="591840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59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a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 empty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oole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a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queen can b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fely placed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 queen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 queen from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isplay of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for a solution to the 8 queens probl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ith this board, reporting the first resul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olveQueens(Board boar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explore(board, 1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o solution found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e solution is as follows: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boa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ly searches for a solution to 8 queens on th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ard, starting with the given column, returning true if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is found and storing that solution in the boa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: queens have been safely placed in columns 1 to (col-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explore(Board board, int co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l &gt; board.size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: all columns are plac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lace a queen in this colu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row = 1; row &lt;= board.size(); row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board.isSafe(row, col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ar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ard, col + 1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and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recursive algorithm involves at least 2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s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simple occurrence that can be answered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more complex occurrence of the problem that cannot be directly answered, but can instead be described in terms of 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recursive algorithms have more than one base or recursive case, but all have at least one of eac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rucial part of recursive programming is identifying these ca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recursive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exactly half of the M&amp;M's in a large bowl, without dumping them all out or being able to count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multiple people help out with solving the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ach person do a small part of the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number of M&amp;M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t is easy to doubl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if you can't count?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is a "base case"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method to print a lin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arac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line containing the given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version of this method (that calls itself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without using any loo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Your solution should print just one star at a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1Z</dcterms:modified>
  <cp:revision>314</cp:revision>
  <dc:subject/>
  <dc:title>CSE 142 Python Slides</dc:title>
</cp:coreProperties>
</file>