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9.xml.rels" ContentType="application/vnd.openxmlformats-package.relationships+xml"/>
  <Override PartName="/ppt/notesSlides/notesSlide5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F5D6-9218-4AE1-B5EA-41AFD13C7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annoying to flip back and forth between slides here.  I suggest putting the classes into a text editor so you can switch windows back and forth to fill in the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5021-543E-4480-A7BA-9CEC0FA8FE75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9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itance and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heri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way to form new classes based on existing classes, taking on their attributes/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to group related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to share code between two or more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lass c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ten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, absorbing its data/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he parent class that is being exten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b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he child class that extends the superclass and inherits its behavi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class gets a copy of every field and method from super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ecretary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243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extend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no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ceive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Hou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VacationFor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automaticall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treated 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y client code (seen la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we only write the parts unique to each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herit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Hou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VacationFor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s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dds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akeDict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awy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lawyer regul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wyers who get an extra week of paid vacation (a total of 3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wyers use a pink form when applying for vacation lea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wyers have some unique behavior: they know how to s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We want lawyers to inheri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havior from employee, but we want to replace parts with new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verriding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r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write a new version of a method in a subclass that replaces the superclass's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pecial syntax required to override a superclass metho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ust write a new version of it in the sub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verrides getVacationForm method in Employee cla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ublic String getVacationForm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"pink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Complet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3 weeks vacation, pink vacation form, can su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awy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lawyer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verrides getVacationForm from Employee cla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pink"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verrides getVacationDays from Employee cla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5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3 weeks va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u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'll see you in cour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Complet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rk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  Marketers make $10,000 extra ($50,000 total) and know how to advertis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rket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marketer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vertis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Act now while supplies las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5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50,000.00 / y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evels of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evels of inheritance in a hierarchy are allow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A legal secretary is the same as a regular secretary but makes more money ($45,000) and can file legal brief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LegalSecretary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  <a:ea typeface="Courier New"/>
              </a:rPr>
              <a:t>extends Secretar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Complet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egal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egal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legal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egalSecretary extends Secreta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fileLegalBrief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 could file all day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5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5,000.00 / y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teracting with the superclas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software crisi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ftware engine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practice of developing, designing, documenting, testing large computer progra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-scale projects face many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tting many programmers to work togeth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tting code finished on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voiding redunda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nding and fixing bug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intaining, improving, and reusing existing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de reu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practice of writing program code once and using it in many contex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hanges to common behavior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return to our previous company/employee exam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ine a company-wide change affecting all employe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Everyone is given a $10,000 raise due to infl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base employee salary is now $50,00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gal secretaries now make $55,00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rketers now make $60,00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must modify our code to reflect this policy chan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ying the super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 class to represent employees (20-page manual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50000.0;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$50,000.00 / ye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 we finish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bclasses are still incorr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y have overridd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return other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unsatisfactory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egalSecretary extends Secretar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55000.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60000.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 The subclasses' salaries are based on the Employee salary, bu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 does not reflect thi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lling overridden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classes can call overridden method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egalSecretary extends Secreta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baseSalary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.getSalary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Salary + 5000.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odif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rk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sub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pink"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super.getVacationDays() + 5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u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'll see you in cour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vertis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Act now while supplies las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super.getSalary() + 10000.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and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ine that we want to give employees more vacation days the longer they've been with the compa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each year worked, we'll award 2 additional vacation day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an Employee object is constructed, we'll pass in the number of years the person has been with the compan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will require us to modify ou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and add some new state and behavi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ake necessary modifications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i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vate int 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Employee(int initial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ears = initial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50000.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10 + 2 * 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ellow"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 with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that we've added the constructor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, our subclasses do not compile.  The err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Lawyer.java:2: cannot find symb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symbol  : constructor Employee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location: class Employe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class Lawyer extends Employe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hort explanation: Once we write a constructor (that requires parameters) in the superclass, we must now write constructors for our employee subclasses as wel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ong explanation: (next slid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detailed explan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ors are not inheri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bclasses don't inheri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(int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bclasses receive a default constructor that contai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Lawyer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per()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Employee()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(in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laces the defaul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ubclasses' default constructors are now trying to call a non-existent defaul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alling superclass constructo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Lawyer(int yea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(years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Employee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ll must be the first statement in the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ake a similar modification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rk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w firm employee ana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rules: hours, vacation, benefits, regulations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employees attend a common orientation to learn general company ru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employee receives a 20-page manual of common ru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ubdivision also has specific ru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loyee receives a smaller (1-3 page) manual of these ru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maller manual adds some new rules and also changes some rules from the large manu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Picture 4" descr="employee_manuals"/>
          <p:cNvPicPr/>
          <p:nvPr/>
        </p:nvPicPr>
        <p:blipFill>
          <a:blip r:embed="rId1"/>
          <a:stretch/>
        </p:blipFill>
        <p:spPr>
          <a:xfrm>
            <a:off x="5062680" y="4572000"/>
            <a:ext cx="377640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i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rket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marketer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blic Marketer(int 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uper(year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vertis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Act now while supplies las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uper.getSalary() + 10000.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ub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aries' years of employment are not track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do not earn extra vacation for years work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i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blic Secret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uper(0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nc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esn't require any parameters to its constructor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egal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piles without a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s default constructor calls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retary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nstruct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and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to give lawyers $5000 for each year at the compan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turn super.getSalary() + 5000 * year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; the error is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Lawyer.java:7: years has private access in Employ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return super.getSalary() + 5000 * year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                          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te fields cannot be directly accessed from sub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reason: So that subclassing can't break encapsul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get around this limitatio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n accessor for any field needed by the sub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int 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Employee(int initial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ears = initial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blic int getYear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return 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Lawyer(int 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per(year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uper.getSalary() + 5000 *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getYears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isi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currently has a poor sol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et all Secretaries to 0 years because they do not get a vacation bonus for their servi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Yea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, we'll always get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n't a good solution; what if we wanted to give some other reward to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mployees based on years of servi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esign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o allow for a better sol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separate the standard 10 vacation days from those that are awarded based on senior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year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mployee(int initialYear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ears = initialYear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10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SeniorityBonus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vacation days given for each year in the compan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int getSeniorityBonu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2 * year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es this help us improv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selectively overrid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eniorityBonu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 wh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uns, it will use the new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oosing a method at runtime is calle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ynamic bind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ecretary(int 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per(year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ecretaries don't get a bonus for their years of servic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int getSeniorityBonu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Obje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types of objects have a superclass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class implicitly extend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defines several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a text representation of the object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so that it can be prin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Object other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e the object to any other for equality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the objects have equal st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7467480" y="1905120"/>
            <a:ext cx="13906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Objec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ariab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store any object in a variable of typ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 o1 = new Point(5, -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 o2 = "hello there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 o3 = new Scanner(System.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riable only knows how to do general th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o1.toString();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int len = o2.length(); 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String line = o3.nextLine();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write methods that accept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checkForNull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bject 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o =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 new IllegalArgumentExceptio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compar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perator does not work well with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pares references to objects, not their st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only produce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hen you compare an object to itself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1 = new Point(5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2 = new Point(5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1 == p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equ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962520" y="4495680"/>
            <a:ext cx="2438280" cy="102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051440" y="4665600"/>
          <a:ext cx="2197080" cy="3970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489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752480" y="4800600"/>
          <a:ext cx="1428840" cy="52056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Line 33"/>
          <p:cNvSpPr/>
          <p:nvPr/>
        </p:nvSpPr>
        <p:spPr>
          <a:xfrm>
            <a:off x="2895480" y="51055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752480" y="5692680"/>
          <a:ext cx="1428840" cy="5209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Line 44"/>
          <p:cNvSpPr/>
          <p:nvPr/>
        </p:nvSpPr>
        <p:spPr>
          <a:xfrm>
            <a:off x="2895480" y="59976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5"/>
          <p:cNvSpPr/>
          <p:nvPr/>
        </p:nvSpPr>
        <p:spPr>
          <a:xfrm>
            <a:off x="3962520" y="5600880"/>
            <a:ext cx="2438280" cy="102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051440" y="5770440"/>
          <a:ext cx="2197080" cy="3970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489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parating behavi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not just have a 22 page Lawyer manual, a 21-page Secretary manual, a 23-page Marketer manual, etc.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advantages of the separate manual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intenance: Only one update if a common rule chan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cality: Quick discovery of all rules specific to lawy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key ideas from this 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neral rules are useful (the 20-page manual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ecific rules that may override general ones are also usefu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compares the state of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1.equals(str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trings are equ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if you write a class, 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behave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1.equals(p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alse :-(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equ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the behavior we inherit from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va doesn't understand how to comp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by defaul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change this behavior by writ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rs will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verri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default behavior from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should compare the state of the two objects and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they have the same x/y posi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flawed implem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boolean equals(Point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if (x == other.x &amp;&amp; y == other.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return tru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return fals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s in our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body can be shortened to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8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boolean z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== other.x &amp;&amp; y == other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should be legal to compar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any obje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t just othe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is should be allow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 = new Point(7, 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.equals("hello"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hould always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a non-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pas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Obje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Object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 that return a boolean val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arameter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ust be of typ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general type that can match any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ving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rameter mean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n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an be pas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we don't know what type it is, how can we compare i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flawed ve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flaw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mplem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boolean equals(Object o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return x == o.x &amp;&amp; y == o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comp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.java:36: cannot find symb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mbol  : variable 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ocation: class java.lang.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==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o.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&amp;&amp; y ==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o.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 is saying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uld be any object. Not every object h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ield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-cast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ype-ca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the object parameter 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Object o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Point other = (Point) o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== other.x &amp;&amp; y == other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ting objects is different than casting primitiv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ly casting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ence in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e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n't actually change the object that was pas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ells the compiler to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ssum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s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ting objects dia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1 = new Point(5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2 = new Point(5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1.equals(p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equ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2666880" y="3352680"/>
            <a:ext cx="6172200" cy="179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ublic boolean equals(Object o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oint other = (Point) 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eturn x == other.x &amp;&amp; y == other.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755800" y="3505320"/>
          <a:ext cx="2654280" cy="395280"/>
        </p:xfrm>
        <a:graphic>
          <a:graphicData uri="http://schemas.openxmlformats.org/drawingml/2006/table">
            <a:tbl>
              <a:tblPr/>
              <a:tblGrid>
                <a:gridCol w="336600"/>
                <a:gridCol w="685800"/>
                <a:gridCol w="94608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57200" y="4648320"/>
          <a:ext cx="1428480" cy="52056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1600200" y="48769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5540400"/>
          <a:ext cx="1428480" cy="52056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1600200" y="58453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666880" y="5448240"/>
            <a:ext cx="2438640" cy="102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755800" y="5618160"/>
          <a:ext cx="2197080" cy="395280"/>
        </p:xfrm>
        <a:graphic>
          <a:graphicData uri="http://schemas.openxmlformats.org/drawingml/2006/table">
            <a:tbl>
              <a:tblPr/>
              <a:tblGrid>
                <a:gridCol w="336600"/>
                <a:gridCol w="685800"/>
                <a:gridCol w="48888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7696080" y="3429000"/>
          <a:ext cx="102204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7086600" y="3886200"/>
          <a:ext cx="1631880" cy="395280"/>
        </p:xfrm>
        <a:graphic>
          <a:graphicData uri="http://schemas.openxmlformats.org/drawingml/2006/table">
            <a:tbl>
              <a:tblPr/>
              <a:tblGrid>
                <a:gridCol w="94608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different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 = new Point(7, 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.equals("hello"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hould be 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urrently our method crashes on the above cod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Exception in thread "main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java.lang.ClassCastException: java.lang.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at Point.equals(Point.java:2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at PointMain.main(PointMain.java:2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ulprit is the line with the type-cas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Object o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Point other = (Point) o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stanceo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nstanceo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s if a variable ref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n object of a given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d a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e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hello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 = new Po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865760" y="3084480"/>
          <a:ext cx="4201920" cy="3316320"/>
        </p:xfrm>
        <a:graphic>
          <a:graphicData uri="http://schemas.openxmlformats.org/drawingml/2006/table">
            <a:tbl>
              <a:tblPr/>
              <a:tblGrid>
                <a:gridCol w="3187440"/>
                <a:gridCol w="1014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instanceof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instance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instanceof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instance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instanceof 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instanceof 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 instance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 instanceof 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al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eturns whether o refers to a Point object with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e same (x, y) coordinates as this Poi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Object o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(o instanceof Poin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 is a Point; cast and compare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other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Point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o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== other.x &amp;&amp; y == other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 is not a Point; cannot be equ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s-a relationships, hierarchi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s-a relationshi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hierarchical connection where one category can be treated a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pecialized version of an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marketer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s 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mploye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legal secretar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s 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ecreta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heritance hierarch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et of classes connected by is-a relationships that can share common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rcRect l="6013" t="0" r="0" b="45385"/>
          <a:stretch/>
        </p:blipFill>
        <p:spPr>
          <a:xfrm>
            <a:off x="2479680" y="4114800"/>
            <a:ext cx="3844800" cy="21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lymorphis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bility for the same code to be used with different types of objects and behave differently with ea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print any type of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one displays in its own way on the conso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ritterMa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interact with any type of crit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one moves, fights, etc. in its own w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ding with polymorphis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A variable of type </a:t>
            </a:r>
            <a:r>
              <a:rPr b="0" i="1" lang="en-US" sz="23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can hold an object of any subclass of </a:t>
            </a:r>
            <a:r>
              <a:rPr b="0" i="1" lang="en-US" sz="23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 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Lawye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all any methods from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o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method is called o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t behaves 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d.getSalary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5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d.getVacationForm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ahoma"/>
              </a:rPr>
              <a:t>Polymorphism and parameters</a:t>
            </a:r>
            <a:endParaRPr b="1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pass any subtype of a parameter's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Mai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awyer lisa = new Lawyer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cretary steve = new Secretary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Info(lisa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Info(stev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printInfo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 emp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salary: " + empl.getSalary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v.days: " + empl.getVacationDays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v.form: " + empl.getVacationForm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form: pink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form: yell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2971800"/>
            <a:ext cx="2379600" cy="56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733920" y="3200400"/>
            <a:ext cx="215712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 and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rays of superclass types can store any subtype as elem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Main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[] e = { new Lawyer(),   new Secretary()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w Marketer(), new LegalSecretary() 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e.lengt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salary: "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[i].getSalary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v.days: "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[i].getVacationDays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5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6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5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 probl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-5 classes with inheritance relationships are show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ient program calls methods on objects of each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must read the code and determine the client's outp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lways put such a question on our final exam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olymorphism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ppose that the following four classes have been declare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Foo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method1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foo 1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foo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"foo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Bar extends Foo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bar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olymorphism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az extends Foo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ethod1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baz 1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baz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umble extends Baz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umble 2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would be the output of the following client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[] pity = {new Baz(), new Bar(), new Mumble(), new Foo()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pity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ty[i]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ty[i].method1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ty[i].method2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classes from top (superclass) to bottom (subclas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all inherited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3816360" y="2438280"/>
            <a:ext cx="1744560" cy="11462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"/>
          <p:cNvPicPr/>
          <p:nvPr/>
        </p:nvPicPr>
        <p:blipFill>
          <a:blip r:embed="rId2"/>
          <a:stretch/>
        </p:blipFill>
        <p:spPr>
          <a:xfrm>
            <a:off x="2424240" y="2440080"/>
            <a:ext cx="3139920" cy="2541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"/>
          <p:cNvPicPr/>
          <p:nvPr/>
        </p:nvPicPr>
        <p:blipFill>
          <a:blip r:embed="rId3"/>
          <a:stretch/>
        </p:blipFill>
        <p:spPr>
          <a:xfrm>
            <a:off x="2438280" y="2443320"/>
            <a:ext cx="4527720" cy="2536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"/>
          <p:cNvPicPr/>
          <p:nvPr/>
        </p:nvPicPr>
        <p:blipFill>
          <a:blip r:embed="rId4"/>
          <a:stretch/>
        </p:blipFill>
        <p:spPr>
          <a:xfrm>
            <a:off x="2432160" y="2441520"/>
            <a:ext cx="4724280" cy="382896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iagramming the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ding output with tab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62120" y="1752480"/>
          <a:ext cx="7619760" cy="29667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762120" y="1757520"/>
          <a:ext cx="7619760" cy="29667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r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umbl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762120" y="1752480"/>
          <a:ext cx="7619760" cy="29667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r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umbl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mployee regul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der the following employee regulati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ees work 40 hours / wee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ees make $40,000 per year, except legal secretaries who make $5,000 extra per year ($45,000 total), and marketers who make $10,000 extra per year ($50,000 total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ees have 2 weeks of paid vacation leave per year, except lawyers who get an extra week (a total of 3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ees should use a yellow form to apply for leave, except for lawyers who use a pink for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type of employee has some unique behavio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wyers know how to su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rketers know how to advertis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retaries know how to take dicta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gal secretaries know how to prepare legal docume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[] pity = {new Baz(), new Bar(), new Mumble(), new Foo()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pity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pity[i]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ty[i].method1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ty[i].method2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z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r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z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mble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rder of the classes is jumbled u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ethods sometimes call other methods (tricky!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amb extends H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Lamb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H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am a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am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Ham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problem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pam extends Y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Spam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Yam extends Lamb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Yam a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per.a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Yam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would be the output of the following client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m[] food = {new Lamb(), new Ham(), new Spam(), new Yam()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food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[i]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[i].a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[i].b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 dia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Picture 9" descr="HamLambYamSpam_noanswers"/>
          <p:cNvPicPr/>
          <p:nvPr/>
        </p:nvPicPr>
        <p:blipFill>
          <a:blip r:embed="rId1"/>
          <a:stretch/>
        </p:blipFill>
        <p:spPr>
          <a:xfrm>
            <a:off x="3809880" y="1295280"/>
            <a:ext cx="120492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 at wor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m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her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ll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Bu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m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verrid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H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am a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am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Ham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amb extends H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("Lamb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m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output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m a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amb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tab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52280" y="1600200"/>
          <a:ext cx="8915400" cy="47242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52280" y="1600200"/>
          <a:ext cx="8915400" cy="47242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mb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p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152280" y="1600200"/>
          <a:ext cx="8915400" cy="47242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mb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mb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p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m[] food = {new Lamb(), new Ham(), new Spam(), new Yam()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food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food[i]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d[i].a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d[i].b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 a   Lamb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mb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 a   Ham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am a   Ham a   Spam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pam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am a   Ham a   Lamb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mb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4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4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4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ting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A variable can only call that type's methods, not a subtype's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 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Lawye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hours = ed.getHours(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; it's in Employ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d.sue()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ompiler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's reasoning is, variab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uld store any kind of employee, and not all kinds know how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o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e can type-cast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wyer theRealEd = (Lawyer) e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RealEd.sue();  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((Lawyer) ed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sue();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horter ver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about cas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he code crashes if you cast an object too far down the tree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mployee eric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Secretary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(Secretary) eric).takeDictation("hi")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(LegalSecretary) eric).fileLegalBriefs(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xce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8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(Secretary object doesn't know how to file brief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ast only up and down the tree, not sidewa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awyer linda = new Lawye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(Secretary) linda).takeDictation("hi"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rr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ting doesn't actually change the object's behavio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just gets the code to compile/ru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(Employee) linda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getVacationForm()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ink (Lawyer'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ssume that the following classes have been declar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Snow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now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3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now 3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Rain extends Snow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1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Rain 1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Rain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employees in general (20-page manual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0,000.00 / y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2 weeks' paid va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ellow";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use the yellow for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Implement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based on the previous employee regulations.  (Secretaries can take dictation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Sleet extends Snow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leet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per.method2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thod3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3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leet 3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Fog extends Slee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1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Fog 1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3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Fog 3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What happens when the following examples are execut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xample 1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var1 = new Slee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1.method2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xample 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var2 = new Rai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2.method1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xample 3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var3 = new Rai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(Sleet) var3).method3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chnique 1: dia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gram the classes from top (superclass) to botto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" name="Group 20" descr=""/>
          <p:cNvPicPr/>
          <p:nvPr/>
        </p:nvPicPr>
        <p:blipFill>
          <a:blip r:embed="rId1"/>
          <a:stretch/>
        </p:blipFill>
        <p:spPr>
          <a:xfrm>
            <a:off x="3797280" y="2120760"/>
            <a:ext cx="1092240" cy="1013040"/>
          </a:xfrm>
          <a:prstGeom prst="rect">
            <a:avLst/>
          </a:prstGeom>
          <a:ln w="0">
            <a:noFill/>
          </a:ln>
        </p:spPr>
      </p:pic>
      <p:pic>
        <p:nvPicPr>
          <p:cNvPr id="263" name="Group 21" descr=""/>
          <p:cNvPicPr/>
          <p:nvPr/>
        </p:nvPicPr>
        <p:blipFill>
          <a:blip r:embed="rId2"/>
          <a:stretch/>
        </p:blipFill>
        <p:spPr>
          <a:xfrm>
            <a:off x="2352600" y="3571920"/>
            <a:ext cx="1085760" cy="1238040"/>
          </a:xfrm>
          <a:prstGeom prst="rect">
            <a:avLst/>
          </a:prstGeom>
          <a:ln w="0">
            <a:noFill/>
          </a:ln>
        </p:spPr>
      </p:pic>
      <p:pic>
        <p:nvPicPr>
          <p:cNvPr id="264" name="Group 22" descr=""/>
          <p:cNvPicPr/>
          <p:nvPr/>
        </p:nvPicPr>
        <p:blipFill>
          <a:blip r:embed="rId3"/>
          <a:stretch/>
        </p:blipFill>
        <p:spPr>
          <a:xfrm>
            <a:off x="5168880" y="5016600"/>
            <a:ext cx="1092240" cy="1244520"/>
          </a:xfrm>
          <a:prstGeom prst="rect">
            <a:avLst/>
          </a:prstGeom>
          <a:ln w="0">
            <a:noFill/>
          </a:ln>
        </p:spPr>
      </p:pic>
      <p:pic>
        <p:nvPicPr>
          <p:cNvPr id="265" name="Group 19" descr=""/>
          <p:cNvPicPr/>
          <p:nvPr/>
        </p:nvPicPr>
        <p:blipFill>
          <a:blip r:embed="rId4"/>
          <a:stretch/>
        </p:blipFill>
        <p:spPr>
          <a:xfrm>
            <a:off x="5168880" y="3571920"/>
            <a:ext cx="1092240" cy="1012680"/>
          </a:xfrm>
          <a:prstGeom prst="rect">
            <a:avLst/>
          </a:prstGeom>
          <a:ln w="0">
            <a:noFill/>
          </a:ln>
        </p:spPr>
      </p:pic>
      <p:cxnSp>
        <p:nvCxnSpPr>
          <p:cNvPr id="266" name="Elbow Connector 28"/>
          <p:cNvCxnSpPr/>
          <p:nvPr/>
        </p:nvCxnSpPr>
        <p:spPr>
          <a:xfrm flipV="1" rot="16200000">
            <a:off x="4800240" y="26661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67" name="Elbow Connector 32"/>
          <p:cNvCxnSpPr/>
          <p:nvPr/>
        </p:nvCxnSpPr>
        <p:spPr>
          <a:xfrm flipH="1" flipV="1" rot="5400000">
            <a:off x="3390480" y="2628360"/>
            <a:ext cx="457920" cy="144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68" name="Straight Arrow Connector 42"/>
          <p:cNvCxnSpPr/>
          <p:nvPr/>
        </p:nvCxnSpPr>
        <p:spPr>
          <a:xfrm flipV="1">
            <a:off x="5713560" y="457308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chnique 2: tab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52280" y="1523880"/>
          <a:ext cx="8915400" cy="37720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le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TextBox 9"/>
          <p:cNvSpPr/>
          <p:nvPr/>
        </p:nvSpPr>
        <p:spPr>
          <a:xfrm>
            <a:off x="3206160" y="5530680"/>
            <a:ext cx="323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tal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- inherited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ol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- dynamic method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52280" y="1523880"/>
          <a:ext cx="8915400" cy="377532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le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ain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g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ain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lee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3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lee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3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leet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g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Straight Connector 4"/>
          <p:cNvSpPr/>
          <p:nvPr/>
        </p:nvSpPr>
        <p:spPr>
          <a:xfrm flipV="1">
            <a:off x="1523880" y="1981080"/>
            <a:ext cx="19051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6"/>
          <p:cNvSpPr/>
          <p:nvPr/>
        </p:nvSpPr>
        <p:spPr>
          <a:xfrm flipV="1">
            <a:off x="5334120" y="1981080"/>
            <a:ext cx="1828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no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1 = new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Sle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1.method2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leet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leet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7" name="Group 20" descr=""/>
          <p:cNvPicPr/>
          <p:nvPr/>
        </p:nvPicPr>
        <p:blipFill>
          <a:blip r:embed="rId1"/>
          <a:stretch/>
        </p:blipFill>
        <p:spPr>
          <a:xfrm>
            <a:off x="6083280" y="2120760"/>
            <a:ext cx="1092240" cy="1013040"/>
          </a:xfrm>
          <a:prstGeom prst="rect">
            <a:avLst/>
          </a:prstGeom>
          <a:ln w="0">
            <a:noFill/>
          </a:ln>
        </p:spPr>
      </p:pic>
      <p:pic>
        <p:nvPicPr>
          <p:cNvPr id="278" name="Group 21" descr=""/>
          <p:cNvPicPr/>
          <p:nvPr/>
        </p:nvPicPr>
        <p:blipFill>
          <a:blip r:embed="rId2"/>
          <a:stretch/>
        </p:blipFill>
        <p:spPr>
          <a:xfrm>
            <a:off x="4638600" y="3571920"/>
            <a:ext cx="1085760" cy="1238040"/>
          </a:xfrm>
          <a:prstGeom prst="rect">
            <a:avLst/>
          </a:prstGeom>
          <a:ln w="0">
            <a:noFill/>
          </a:ln>
        </p:spPr>
      </p:pic>
      <p:pic>
        <p:nvPicPr>
          <p:cNvPr id="279" name="Group 22" descr=""/>
          <p:cNvPicPr/>
          <p:nvPr/>
        </p:nvPicPr>
        <p:blipFill>
          <a:blip r:embed="rId3"/>
          <a:stretch/>
        </p:blipFill>
        <p:spPr>
          <a:xfrm>
            <a:off x="7454880" y="5016600"/>
            <a:ext cx="1092240" cy="1244520"/>
          </a:xfrm>
          <a:prstGeom prst="rect">
            <a:avLst/>
          </a:prstGeom>
          <a:ln w="0">
            <a:noFill/>
          </a:ln>
        </p:spPr>
      </p:pic>
      <p:pic>
        <p:nvPicPr>
          <p:cNvPr id="280" name="Group 19" descr=""/>
          <p:cNvPicPr/>
          <p:nvPr/>
        </p:nvPicPr>
        <p:blipFill>
          <a:blip r:embed="rId4"/>
          <a:stretch/>
        </p:blipFill>
        <p:spPr>
          <a:xfrm>
            <a:off x="7454880" y="3571920"/>
            <a:ext cx="1092240" cy="1012680"/>
          </a:xfrm>
          <a:prstGeom prst="rect">
            <a:avLst/>
          </a:prstGeom>
          <a:ln w="0">
            <a:noFill/>
          </a:ln>
        </p:spPr>
      </p:pic>
      <p:cxnSp>
        <p:nvCxnSpPr>
          <p:cNvPr id="281" name="Elbow Connector 28"/>
          <p:cNvCxnSpPr/>
          <p:nvPr/>
        </p:nvCxnSpPr>
        <p:spPr>
          <a:xfrm flipV="1" rot="16200000">
            <a:off x="7086240" y="26661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82" name="Elbow Connector 32"/>
          <p:cNvCxnSpPr/>
          <p:nvPr/>
        </p:nvCxnSpPr>
        <p:spPr>
          <a:xfrm flipH="1" flipV="1" rot="5400000">
            <a:off x="5676480" y="2628360"/>
            <a:ext cx="457920" cy="144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83" name="Straight Arrow Connector 42"/>
          <p:cNvCxnSpPr/>
          <p:nvPr/>
        </p:nvCxnSpPr>
        <p:spPr>
          <a:xfrm flipV="1">
            <a:off x="7999560" y="457308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84" name="TextBox 25"/>
          <p:cNvSpPr/>
          <p:nvPr/>
        </p:nvSpPr>
        <p:spPr>
          <a:xfrm>
            <a:off x="8001000" y="32004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6"/>
          <p:cNvSpPr/>
          <p:nvPr/>
        </p:nvSpPr>
        <p:spPr>
          <a:xfrm>
            <a:off x="6019920" y="1752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no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2 = new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Ra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2.method1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on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There is an error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beca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does no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hav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thod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8" name="Group 20" descr=""/>
          <p:cNvPicPr/>
          <p:nvPr/>
        </p:nvPicPr>
        <p:blipFill>
          <a:blip r:embed="rId1"/>
          <a:stretch/>
        </p:blipFill>
        <p:spPr>
          <a:xfrm>
            <a:off x="6083280" y="2120760"/>
            <a:ext cx="1092240" cy="1013040"/>
          </a:xfrm>
          <a:prstGeom prst="rect">
            <a:avLst/>
          </a:prstGeom>
          <a:ln w="0">
            <a:noFill/>
          </a:ln>
        </p:spPr>
      </p:pic>
      <p:pic>
        <p:nvPicPr>
          <p:cNvPr id="289" name="Group 21" descr=""/>
          <p:cNvPicPr/>
          <p:nvPr/>
        </p:nvPicPr>
        <p:blipFill>
          <a:blip r:embed="rId2"/>
          <a:stretch/>
        </p:blipFill>
        <p:spPr>
          <a:xfrm>
            <a:off x="4638600" y="3571920"/>
            <a:ext cx="1085760" cy="1238040"/>
          </a:xfrm>
          <a:prstGeom prst="rect">
            <a:avLst/>
          </a:prstGeom>
          <a:ln w="0">
            <a:noFill/>
          </a:ln>
        </p:spPr>
      </p:pic>
      <p:pic>
        <p:nvPicPr>
          <p:cNvPr id="290" name="Group 22" descr=""/>
          <p:cNvPicPr/>
          <p:nvPr/>
        </p:nvPicPr>
        <p:blipFill>
          <a:blip r:embed="rId3"/>
          <a:stretch/>
        </p:blipFill>
        <p:spPr>
          <a:xfrm>
            <a:off x="7454880" y="5016600"/>
            <a:ext cx="1092240" cy="1244520"/>
          </a:xfrm>
          <a:prstGeom prst="rect">
            <a:avLst/>
          </a:prstGeom>
          <a:ln w="0">
            <a:noFill/>
          </a:ln>
        </p:spPr>
      </p:pic>
      <p:pic>
        <p:nvPicPr>
          <p:cNvPr id="291" name="Group 19" descr=""/>
          <p:cNvPicPr/>
          <p:nvPr/>
        </p:nvPicPr>
        <p:blipFill>
          <a:blip r:embed="rId4"/>
          <a:stretch/>
        </p:blipFill>
        <p:spPr>
          <a:xfrm>
            <a:off x="7454880" y="3571920"/>
            <a:ext cx="1092240" cy="1012680"/>
          </a:xfrm>
          <a:prstGeom prst="rect">
            <a:avLst/>
          </a:prstGeom>
          <a:ln w="0">
            <a:noFill/>
          </a:ln>
        </p:spPr>
      </p:pic>
      <p:cxnSp>
        <p:nvCxnSpPr>
          <p:cNvPr id="292" name="Elbow Connector 28"/>
          <p:cNvCxnSpPr/>
          <p:nvPr/>
        </p:nvCxnSpPr>
        <p:spPr>
          <a:xfrm flipV="1" rot="16200000">
            <a:off x="7086240" y="26661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93" name="Elbow Connector 32"/>
          <p:cNvCxnSpPr/>
          <p:nvPr/>
        </p:nvCxnSpPr>
        <p:spPr>
          <a:xfrm flipH="1" flipV="1" rot="5400000">
            <a:off x="5676480" y="2628360"/>
            <a:ext cx="457920" cy="144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94" name="Straight Arrow Connector 42"/>
          <p:cNvCxnSpPr/>
          <p:nvPr/>
        </p:nvCxnSpPr>
        <p:spPr>
          <a:xfrm flipV="1">
            <a:off x="7999560" y="457308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95" name="TextBox 23"/>
          <p:cNvSpPr/>
          <p:nvPr/>
        </p:nvSpPr>
        <p:spPr>
          <a:xfrm>
            <a:off x="6019920" y="1752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4"/>
          <p:cNvSpPr/>
          <p:nvPr/>
        </p:nvSpPr>
        <p:spPr>
          <a:xfrm>
            <a:off x="4191120" y="32004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var3 = new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Ra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(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le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var3).method2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on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There is an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becaus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ai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ot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le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9" name="Group 20" descr=""/>
          <p:cNvPicPr/>
          <p:nvPr/>
        </p:nvPicPr>
        <p:blipFill>
          <a:blip r:embed="rId1"/>
          <a:stretch/>
        </p:blipFill>
        <p:spPr>
          <a:xfrm>
            <a:off x="6083280" y="2120760"/>
            <a:ext cx="1092240" cy="1013040"/>
          </a:xfrm>
          <a:prstGeom prst="rect">
            <a:avLst/>
          </a:prstGeom>
          <a:ln w="0">
            <a:noFill/>
          </a:ln>
        </p:spPr>
      </p:pic>
      <p:pic>
        <p:nvPicPr>
          <p:cNvPr id="300" name="Group 21" descr=""/>
          <p:cNvPicPr/>
          <p:nvPr/>
        </p:nvPicPr>
        <p:blipFill>
          <a:blip r:embed="rId2"/>
          <a:stretch/>
        </p:blipFill>
        <p:spPr>
          <a:xfrm>
            <a:off x="4638600" y="3571920"/>
            <a:ext cx="1085760" cy="1238040"/>
          </a:xfrm>
          <a:prstGeom prst="rect">
            <a:avLst/>
          </a:prstGeom>
          <a:ln w="0">
            <a:noFill/>
          </a:ln>
        </p:spPr>
      </p:pic>
      <p:pic>
        <p:nvPicPr>
          <p:cNvPr id="301" name="Group 22" descr=""/>
          <p:cNvPicPr/>
          <p:nvPr/>
        </p:nvPicPr>
        <p:blipFill>
          <a:blip r:embed="rId3"/>
          <a:stretch/>
        </p:blipFill>
        <p:spPr>
          <a:xfrm>
            <a:off x="7454880" y="5016600"/>
            <a:ext cx="1092240" cy="1244520"/>
          </a:xfrm>
          <a:prstGeom prst="rect">
            <a:avLst/>
          </a:prstGeom>
          <a:ln w="0">
            <a:noFill/>
          </a:ln>
        </p:spPr>
      </p:pic>
      <p:pic>
        <p:nvPicPr>
          <p:cNvPr id="302" name="Group 19" descr=""/>
          <p:cNvPicPr/>
          <p:nvPr/>
        </p:nvPicPr>
        <p:blipFill>
          <a:blip r:embed="rId4"/>
          <a:stretch/>
        </p:blipFill>
        <p:spPr>
          <a:xfrm>
            <a:off x="7454880" y="3571920"/>
            <a:ext cx="1092240" cy="1012680"/>
          </a:xfrm>
          <a:prstGeom prst="rect">
            <a:avLst/>
          </a:prstGeom>
          <a:ln w="0">
            <a:noFill/>
          </a:ln>
        </p:spPr>
      </p:pic>
      <p:cxnSp>
        <p:nvCxnSpPr>
          <p:cNvPr id="303" name="Elbow Connector 28"/>
          <p:cNvCxnSpPr/>
          <p:nvPr/>
        </p:nvCxnSpPr>
        <p:spPr>
          <a:xfrm flipV="1" rot="16200000">
            <a:off x="7086240" y="26661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304" name="Elbow Connector 32"/>
          <p:cNvCxnSpPr/>
          <p:nvPr/>
        </p:nvCxnSpPr>
        <p:spPr>
          <a:xfrm flipH="1" flipV="1" rot="5400000">
            <a:off x="5676480" y="2628360"/>
            <a:ext cx="457920" cy="144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305" name="Straight Arrow Connector 42"/>
          <p:cNvCxnSpPr/>
          <p:nvPr/>
        </p:nvCxnSpPr>
        <p:spPr>
          <a:xfrm flipV="1">
            <a:off x="7999560" y="457308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306" name="TextBox 25"/>
          <p:cNvSpPr/>
          <p:nvPr/>
        </p:nvSpPr>
        <p:spPr>
          <a:xfrm>
            <a:off x="4191120" y="32004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26"/>
          <p:cNvSpPr/>
          <p:nvPr/>
        </p:nvSpPr>
        <p:spPr>
          <a:xfrm>
            <a:off x="8001000" y="3200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terfac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latedness of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set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iang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rtain operations that are common to all shap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distance around the outside of the sha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amount of 2D space occupied by the sha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hape has them but computes them different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hape area, peri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tangle (as defined by wid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heigh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 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2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2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le (as defined by radiu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2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angle (as defined by side length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√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= ½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7238880" y="1981080"/>
            <a:ext cx="1524240" cy="990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620120" y="3352680"/>
            <a:ext cx="1143000" cy="1143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6477120" y="5105160"/>
            <a:ext cx="2209680" cy="1219320"/>
            <a:chOff x="6477120" y="5105160"/>
            <a:chExt cx="2209680" cy="1219320"/>
          </a:xfrm>
        </p:grpSpPr>
        <p:sp>
          <p:nvSpPr>
            <p:cNvPr id="317" name=""/>
            <p:cNvSpPr/>
            <p:nvPr/>
          </p:nvSpPr>
          <p:spPr>
            <a:xfrm flipH="1">
              <a:off x="6477120" y="5105520"/>
              <a:ext cx="1218960" cy="121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477120" y="5638320"/>
              <a:ext cx="220968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7695720" y="5105160"/>
              <a:ext cx="99036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redundant class to represent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0,000.00 / y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2 weeks' paid va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ellow";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use the yellow for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behavi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shape classes with method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i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'd like to be able to write client code that treats different kinds of shape objects in the same way, such 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a method that prints any shape's area and peri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 an array of shapes that could hold a mixture of the various shape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a method that could return a rectangle, a circle, a triangle, or any other shape we've writt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k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splay many shapes on scre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list of methods that a class can impl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heritance gives you an is-a relationship and code-sha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bject can be treated a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herit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faces give you an is-a relationship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ithou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de sha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bject can be treated a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alogous to the idea of roles or certificatio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"I'm certified as a CPA accountant.  That means I know ho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compute taxes, perform audits, and do consulting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"I'm certified as a Shape.  That means I know ho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compute my area and perimeter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3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3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claring an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Vehicl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speed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Direction(int directio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bstract metho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header without an implement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ctual body is not specified, to allow/force different classes to implement the behavior in its own w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hape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Shap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area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perimete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nterface describes the features common to all shape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Every shape has an area and perimeter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n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terfac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Bicyc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mplements Vehic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declare that i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mplem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means the class must contain each of the abstract methods in that interface.  (Otherwise, it will not compile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What must be true abou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icyc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for it to compile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 requir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 class claims to b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ut doesn't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i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, it will not compi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Banana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implements Sha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 error messag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Banana.java:1: Banana is not abstract and does not override abstract method area() in Sha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class Banana implements Shap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te Circle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presents circ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ircle implements Shap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radiu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structs a new circle with the given radiu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ircle(double radiu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radius = radiu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area of this circ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are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Math.PI * radius * radiu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perimeter of this circ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perimete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2.0 * Math.PI * radiu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te Rectangle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presents rectang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Rectangle implements Shap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wid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he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structs a new rectangle with the given dimension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Rectangle(double width, double heigh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width = wid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height = he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area of this rectang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are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width * he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perimeter of this rectang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perimete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2.0 * (width + heigh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te Triangle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presents triang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Triangle implements Shap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b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structs a new Triangle given side length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Triangle(double a, double b, double c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a = 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b = b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c =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is triangle's area using Heron's formul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are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s = (a + b + c) / 2.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Math.sqrt(s * (s - a) * (s - b) * (s - c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perimeter of this triang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perimete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 + b +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s + polymorphis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s don't benefit the class so much as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lien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face's is-a relationship lets the client use polymorphis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 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hape: " + 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area : " + s.area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erim: " + s.perimeter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y object that implements the interface may be pas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ircle circ = new Circle(12.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tangle rect = new Rectangle(4, 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iangle tri = new Triangle(5, 12, 1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Info(circ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Info(tr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Info(rec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[] shapes = {tri, circ, rect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sire for code-sha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akeDic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only unique behavior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'd like to be able to s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py all the contents from the Employee clas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 dia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19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94400" indent="-194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ow goes up from class to interface(s) it imp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 is a supertype-subtype relationship her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.g., all Circles are Shapes, but not all Shapes are Circl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kind of picture is also called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UML class diagra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900080" y="1219320"/>
            <a:ext cx="5186520" cy="2844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39Z</dcterms:modified>
  <cp:revision>127</cp:revision>
  <dc:subject/>
  <dc:title>CSE 142 Python Slides</dc:title>
</cp:coreProperties>
</file>