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7BC6-5021-4CC5-A44A-17A20DFF3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9119-9F8F-4FED-99C1-A51C0D62469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34Z</dcterms:modified>
  <cp:revision>266</cp:revision>
  <dc:subject/>
  <dc:title>CSE 142 Python Slides</dc:title>
</cp:coreProperties>
</file>