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3E9A-9BF5-44A4-844B-7792580C4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28CE-43D9-49B0-B4D0-71428B5C591F}"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2554-A530-49A9-88C6-647B3748EABB}"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2:23Z</dcterms:modified>
  <cp:revision>124</cp:revision>
  <dc:subject/>
  <dc:title>CSE 142 Python Slides</dc:title>
</cp:coreProperties>
</file>