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1802-66D9-4B7E-91F0-BFC90DC7D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53F-04B3-4F6F-ABD2-17E956453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CB1A-F6C6-4B1D-A987-5C0FA97FDEE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12Z</dcterms:modified>
  <cp:revision>122</cp:revision>
  <dc:subject/>
  <dc:title>CSE 142 Python Slides</dc:title>
</cp:coreProperties>
</file>