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740A-BB64-4277-8A94-C5372CA05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looping over a collection while modify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on of not destroying a stack while examining it (write 1st version that destroys stack, 2nd version puts it b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ing each element once i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ouldn't want me to just throw your exam in the garbage as I read it, would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: trays of food at the sizz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1EEC-2E31-4F85-AB81-82AD2E23E1F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an input file of exam scores in reverse ABC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eilding      Janet      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te         Steven     8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dd          Kim        5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shev        Sylvia     9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o print the exam scores in ABC order using a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're asked to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ack of integers and returns the largest integer in the st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olution is seemingly correc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s.size() &gt;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correct, but what is wrong with th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What happened to my stack?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estroys the stack in figuring out its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ix this, you must save and restore the stack's cont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x(Stack&lt;Integer&gt; 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ck&lt;Integer&gt; backup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maxValue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max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ext =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ackup.push(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xValue = Math.max(maxValue, 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!backup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.push(backup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xVal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trieves elements in the order they were ad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-In, First-Out ("F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order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rtion but don't have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an only add to the end of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, and can only examine/remo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ront of the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queue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enqueue): Add an element to the b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equeue): Remov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front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1914480"/>
            <a:ext cx="3352680" cy="204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0200" y="4114800"/>
            <a:ext cx="4857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int jobs to send to the prin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programs / processes to be ru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ue of network data packets to s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ling a line of customers or cli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ing a queue of computations to be performed in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ople on an escalator or waiting in a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rs at a gas station (or on an assembly 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Queu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eue&lt;Integer&gt; q = new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.add(17)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ront [42, -3, 17] 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q.remove(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136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When constructing a queue you must use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nstead of a ne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77240" indent="-148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has to do with a topic we'll discuss later call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295280"/>
          <a:ext cx="8321760" cy="2374920"/>
        </p:xfrm>
        <a:graphic>
          <a:graphicData uri="http://schemas.openxmlformats.org/drawingml/2006/table">
            <a:tbl>
              <a:tblPr/>
              <a:tblGrid>
                <a:gridCol w="1717920"/>
                <a:gridCol w="6603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at back of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value from front of queue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ront value from queue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queue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343400" y="4191120"/>
            <a:ext cx="914040" cy="380880"/>
            <a:chOff x="4343400" y="4191120"/>
            <a:chExt cx="914040" cy="380880"/>
          </a:xfrm>
        </p:grpSpPr>
        <p:sp>
          <p:nvSpPr>
            <p:cNvPr id="132" name=""/>
            <p:cNvSpPr/>
            <p:nvPr/>
          </p:nvSpPr>
          <p:spPr>
            <a:xfrm flipV="1">
              <a:off x="434340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006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028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ue 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with stacks, must pull contents out of queue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idiom: Examining each element exactly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ize = q.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q.remov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cluding possibly re-adding it to the que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o we need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xing 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mix stacks and queues to achieve certain eff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Reverse the order of the elements of a que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&lt;Integer&gt; q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3);         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1, 2, 3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q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Q -&gt;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push(q.remov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 -&gt; Q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.add(s.pop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q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3, 2, 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exam score program so that it reads the exam scores into a queue and prints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xt, filter out any exams where the student got a score of 1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perform your previous code of reversing and printing the remaining stud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we want to further process the exams after print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integers as a parameter and replaces every element of the queue with two copies of that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2, 3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1, 1, 2, 2, 3, 3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queue of strings as a parameter and appends the queue's contents to itself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] bac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[a, b, c, c, b, a] ba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tfix expres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mathematical expression but with the operators written after the operands rather than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1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2 * 3 + 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co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2 3 * + 4 +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ed by many kinds of fancy calcula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parenthe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ver need to use an = character to evaluate on a calcul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stfixEvalu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ostfix expression string, evaluates it, and returns the res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operands are integers; legal operator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stFixEvaluate("5 2 4 * + 7 -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03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fix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: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nd, push it onto the stac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see an opera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 the last two operands off of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the operator to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sh the result onto the st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're done, the one remaining stack element is the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5 2 4 * + 7 -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676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909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72932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4197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248520" y="4724280"/>
          <a:ext cx="685800" cy="1976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valuates the given prefix expression and returns its resul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string represents a legal postfix ex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stfixEvaluate(String expressio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expressio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Int()) {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nd (inte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ush(input.nextI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oper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operator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perand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operator.equals("+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+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-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-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perator.equals("*"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*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push(operand1 / operand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pop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/queue motiv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queues do few things, but they do them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6880" y="337356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40640" y="59580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33760" y="4724280"/>
            <a:ext cx="5384880" cy="1602000"/>
            <a:chOff x="3533760" y="4724280"/>
            <a:chExt cx="5384880" cy="1602000"/>
          </a:xfrm>
        </p:grpSpPr>
        <p:sp>
          <p:nvSpPr>
            <p:cNvPr id="161" name=""/>
            <p:cNvSpPr/>
            <p:nvPr/>
          </p:nvSpPr>
          <p:spPr>
            <a:xfrm>
              <a:off x="5667480" y="595800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3533760" y="4724280"/>
              <a:ext cx="538488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909800"/>
          <a:ext cx="8382240" cy="441468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at given index, shifting subsequent values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perations are most/least efficient, and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and que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t is good to have a collection that is less powerful, but is optimized to perform certain operations very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 we will examine two specialty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reverse of th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etrieves elements in the same order they were ad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6880" y="3772080"/>
            <a:ext cx="2797200" cy="260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40640" y="63565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67480" y="57294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33760" y="4621320"/>
            <a:ext cx="5384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data types (ADT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know exactly how a stack or queue is implemented, and we don't need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just need to understand the idea of the collection and what operations it can perfor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(Stacks are usually implemented with arrays; queues are often implemented using another structure called a linked list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based on the principle of adding elements and retrieving them in the opposit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-In, First-Out ("LIFO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are stored in order of insertion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not think of them as having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ient can only add/remove/exami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added (the "top"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stack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s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dd an element to the 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mov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e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xamine the top el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13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267080"/>
            <a:ext cx="24955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 and compil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calls are placed onto a stack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call=push, return=po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use stacks to evaluate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ing up related pairs of thin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 out whether a string is a palindro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ine a file to see if its bra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ther operators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t "infix" expressions to "postfix" or "prefix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phisticated algorith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arching through a maze with "backtracking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programs use an "undo stack" of previous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781680" y="2346480"/>
          <a:ext cx="2092320" cy="1539720"/>
        </p:xfrm>
        <a:graphic>
          <a:graphicData uri="http://schemas.openxmlformats.org/drawingml/2006/table">
            <a:tbl>
              <a:tblPr/>
              <a:tblGrid>
                <a:gridCol w="1076400"/>
                <a:gridCol w="10159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o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v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l v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a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4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-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push(17);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ottom [42, -3, 17] 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.pop());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other methods, but we forbid you to use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90480" y="1371600"/>
          <a:ext cx="7691400" cy="2739960"/>
        </p:xfrm>
        <a:graphic>
          <a:graphicData uri="http://schemas.openxmlformats.org/drawingml/2006/table">
            <a:tbl>
              <a:tblPr/>
              <a:tblGrid>
                <a:gridCol w="1869840"/>
                <a:gridCol w="582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ck&lt;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ructs a new stack with elements of typ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ces given value on top of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p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op value from stack and returns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ek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op value from stack without removing i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tack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is emp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number of elements in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stack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ck limitations/idio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You cannot loop over a stack in the usual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ck&lt;Integer&gt; s = new Stack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s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get(i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you must pull contents out of the stack to view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on idiom: Removing each element until the stack is emp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!s.isEmpty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something wi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pop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2543040"/>
            <a:ext cx="5410080" cy="990360"/>
            <a:chOff x="914400" y="2543040"/>
            <a:chExt cx="5410080" cy="990360"/>
          </a:xfrm>
        </p:grpSpPr>
        <p:sp>
          <p:nvSpPr>
            <p:cNvPr id="114" name=""/>
            <p:cNvSpPr/>
            <p:nvPr/>
          </p:nvSpPr>
          <p:spPr>
            <a:xfrm>
              <a:off x="914400" y="2619000"/>
              <a:ext cx="54100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14400" y="2543040"/>
              <a:ext cx="54100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13Z</dcterms:modified>
  <cp:revision>155</cp:revision>
  <dc:subject/>
  <dc:title>CSE 142 Python Slides</dc:title>
</cp:coreProperties>
</file>