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9076088"/>
        <c:axId val="58805900"/>
      </c:barChart>
      <c:catAx>
        <c:axId val="907608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05900"/>
        <c:crossesAt val="0"/>
        <c:auto val="1"/>
        <c:lblAlgn val="ctr"/>
        <c:lblOffset val="100"/>
        <c:noMultiLvlLbl val="0"/>
      </c:catAx>
      <c:valAx>
        <c:axId val="58805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608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CEF4-E803-4A83-B719-3E106A560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6737-53F9-4BC6-A441-AB98B45C5F2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(c) Pearson 201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3-03-28T21:51:48Z</dcterms:modified>
  <cp:revision>117</cp:revision>
  <dc:subject/>
  <dc:title>CSE 142 Python Slides</dc:title>
</cp:coreProperties>
</file>