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C811-9D59-4153-A160-37AA1D899FFB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ava.sun.com/j2se/1.4.2/docs/api/java/util/Arrays.html#binarySearch(int[],%20int)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ppendix B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Doc Com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and priv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internal methods do not need Javadoc 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** ... a Javadoc comment ...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Helper does the real work of remov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item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removeHelp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i] = elementData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size - 1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vate members do not appear in the generated HTML pa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stom 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doc doesn't have tags for pre/post, but you can add th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default, these tags won't show up in the generated HTML.  But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8680" y="1981080"/>
          <a:ext cx="8434440" cy="3345120"/>
        </p:xfrm>
        <a:graphic>
          <a:graphicData uri="http://schemas.openxmlformats.org/drawingml/2006/table">
            <a:tbl>
              <a:tblPr/>
              <a:tblGrid>
                <a:gridCol w="3763800"/>
                <a:gridCol w="4670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r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or @precondi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es a precondition in API documentatio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condition that must be true for the method to perform its function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ost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or @postcondi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es a postcondition in API documentatio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condition that is guaranteed to be true 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 the method's functionality, so long as all preconditions were true 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f the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custom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erminal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doc -d doc/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-tag pre:cm:"Precondition: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-tag post:cm:"Postcondition:" *.ja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Eclipse: Project  →  Generate Javadoc...  → Next → Next →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"Extra Javadoc options" box, typ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tag pre:cm:"Precondition:" -tag post:cm:"Postcondition: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enerated Java API web pag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now be able to displ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ags properly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715000" y="3962520"/>
            <a:ext cx="3124080" cy="2590560"/>
            <a:chOff x="5715000" y="3962520"/>
            <a:chExt cx="3124080" cy="25905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715000" y="3962520"/>
              <a:ext cx="3124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263280" y="6050160"/>
              <a:ext cx="853560" cy="307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custom 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4840" y="1319040"/>
          <a:ext cx="8763120" cy="3176280"/>
        </p:xfrm>
        <a:graphic>
          <a:graphicData uri="http://schemas.openxmlformats.org/drawingml/2006/table">
            <a:tbl>
              <a:tblPr/>
              <a:tblGrid>
                <a:gridCol w="4230720"/>
                <a:gridCol w="453240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modifie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more specific postcondition; describes any state of this object or other object(s) that may be changed by a call to this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effect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more specific postcondition; describes any promises this method makes about the final state in which it will leave some other object(s) when it is done ru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by contra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gramming by contract (design by contrac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Defining formal, precise and verifiable interface specifications for software components, which extend the ordinary definition of abstract data types with preconditions, postconditions and invari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key questions that the designer must repeatedly as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this code expec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it guarante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does it maintai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11021" r="0" b="10888"/>
          <a:stretch/>
        </p:blipFill>
        <p:spPr>
          <a:xfrm>
            <a:off x="5867280" y="4191120"/>
            <a:ext cx="25146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d to be tr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a ca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a precondition doesn't "solve" the problem of users passing improper indexes, but it at least documents our decision and warns the client what not to d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376704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oosing 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 of poorly chosen precon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the obvio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:  String s is a string!   The computer has enough memory to ru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ing up for a lazy or poor implementa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pow:  Exponent can't be negative; can only do positive pow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list.isSorted:  List shouldn't contain any duplicates because our code messes up in that case and returns the wrong answ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gs that clients cannot check, avoid, or ensu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tack.push:  Stack's internal array capacity must be &gt;= stack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download: If it starts, the whole file will arrive successful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lient must be able to check the preconditions of a method before calling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 viol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lly, if a client violates a precondition, (by defaul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oes not specif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at will happ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mak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 promis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the method will work successful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do not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return an unusual value or "error" value   (null, 0, -1, ""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throw an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get stuck in an infinit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leave the object in a corrupt state, save the wrong fil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 is the best way to handle a precondition viol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roach 1: return err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ndle a precondition violation by returning a special valu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is a good or bad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d.  The -1 returned is indistinguishable from a -1 in the actual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d.  The client might not notice the error and won't fix their bu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roach 2: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ndle a precondition violation by throwing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hrow new IndexOutOfBoundsException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ail-f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lient learns about the problem immediately and can fix it.  Passing a bad value usually indicates a bug in the client, so this is go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description of class/method/field/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 @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tag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i="1" lang="en-US" sz="2200" spc="-1" strike="noStrike">
                <a:solidFill>
                  <a:srgbClr val="0066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vadoc com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pecial comment syntax for describing detailed specifications of Java classes an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ut on class headers, methods, constructors, public fields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enefit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s can turn Javadoc comments into HTML spec pa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and other editors have useful built-in Javadoc suppor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in drawback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mments can become bulky and harder to re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in the contra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: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pop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oves the object on top of this stack and return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: The object at the top of this stack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row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tyStack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if stack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preconditions are things the stack assumes to be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s far as the client knows, that are not checked by the stack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client violates a precondition, stack could do anyt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case the stack documents a predictable behavior (throw) in response to the empty stack cond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we say tha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he exception is part of the contra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change it (say, to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you have changed the contra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831080" y="1271520"/>
            <a:ext cx="11034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 and priv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internal methods do not usually test precon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elper does the real work of removing an it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removeHelp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/ should I check 0 &lt;= index &lt; size her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i] = elementData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[size - 1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the method can only be called internally, the class author can make sure to call it only when the preconditions ho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y check at all is made, make it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earch o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 from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</a:t>
            </a:r>
            <a:br>
              <a:rPr sz="2400"/>
            </a:br>
            <a:br>
              <a:rPr sz="8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earches the specified array of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 for the specified value using the binary search algorithm. The array 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must</a:t>
            </a: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 be sort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(as by th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method, above) prior to making this call. If it is not sorted, the results are undefined.  ...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n't Sun just check whether the array is sorted?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a #1:  If it isn't sorted, sor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a #2:  If it isn't sorted, throw an excep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 is costly (takes O(n log n) or worse;  search is O(log n)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to see if the array is sorted is costly (O(n)); omitting this check and assuming it to be true makes binary search run much fas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 modifies the input array; binarySearch would have a side eff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 how do we catch bugs where the client violates this precondition? 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ing 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ogical statement that can be made about a program at a point in time and is expected to be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At this point in the code, it should be the case that x &gt; 0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and other languages supply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ert statements can be en/disabled; they are off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ertions check your basic assumptions that should never fail;  they uncover things that should not have happene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verify preconditions when testing/debugging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assertion fails, this is considered an error on the part of the developer and should be fixed immediat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s in the contract are more comm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ises will be tr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end of its execution, if all preconditions were true at the start of the ca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Makes sure that this list's internal array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enough to store the given number of el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Precondition: capacity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ostcondition: elementData.length &gt;=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ensureCapacity(int capacit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capacity &gt; elementData.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 = Arrays.copyOf(element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* elementData.lengt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r method states a postcondition, clients should be able to rely on that statement being true after they call the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ta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 method or constru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 class hea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6920" y="1816200"/>
          <a:ext cx="8762760" cy="2770200"/>
        </p:xfrm>
        <a:graphic>
          <a:graphicData uri="http://schemas.openxmlformats.org/drawingml/2006/table">
            <a:tbl>
              <a:tblPr/>
              <a:tblGrid>
                <a:gridCol w="4230720"/>
                <a:gridCol w="4532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param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 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return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what value will be retur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throw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ptionType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bes an exception that may be thrown (and what would cause it to be throw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@cod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rcecod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 showing Java code in the 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@inheritDoc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ows a subclass method to copy Javadoc comments from the superclass 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96920" y="5199120"/>
          <a:ext cx="8762760" cy="1125360"/>
        </p:xfrm>
        <a:graphic>
          <a:graphicData uri="http://schemas.openxmlformats.org/drawingml/2006/table">
            <a:tbl>
              <a:tblPr/>
              <a:tblGrid>
                <a:gridCol w="4230360"/>
                <a:gridCol w="453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author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thor of a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@version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's version number, in any for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Each BankAccount object models the account information fo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a single user of Fells Wargo bank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author James T. Kirk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version 1.4 (Aug 9 2008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 The standard interest rate on all accounts. 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static final double INTEREST_RATE = 0.03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Deducts the given amount of money from this account'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balance, if possible, and returns whether the money wa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deducted successfully (true if so, false if not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If the account does not contain sufficient funds t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make this withdrawal, no funds are withdraw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param amount the amount of money to be withdraw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return true if amount was withdrawn, else fals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 @throws IllegalArgumentException if amount is negativ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     </a:t>
            </a:r>
            <a:r>
              <a:rPr b="1" lang="en-US" sz="17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boolean withdraw(double amount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output as HTM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has tools to convert Javadoc comments into web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erminal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doc -d doc/ *.jav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has this built i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ject  →  Generate Javadoc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ctual Java API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 web pages a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ted from Sun'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doc comments 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own source co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95680" y="3313080"/>
            <a:ext cx="44481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HTML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source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Returns the element at the specified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in this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p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This method is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em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not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&lt;/em&gt;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guaranteed to ru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in constant time. In some implementations it m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run in time proportional to the element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param index index of element to return; must 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non-negative and less than size of this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return the element at the specified 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throws IndexOutOfBoundsException if the index 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out of 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({@code index &lt; 0 || index &gt;= this.size()}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HTML tags may be embedded inside the com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doc enums,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lass constant or enumeration value can be commen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An instrument section of a symphony orches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author John Willi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num OrchestraSectio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Woodwinds, such as flute, clarinet, and oboe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ODWIND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Brass instruments, such as trumpet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AS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Percussion instruments, such as cymbals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CUSSION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* Stringed instruments, such as violin and cello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@param/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repeat yourself or write vacuous com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 Takes an index and element and adds the element the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index index to 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element element to ad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, E element) {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** Inserts the specified element at the specifi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position in this list.  Shifts the element currently 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at position (if any) and any subsequent elements 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e right (adds one to their indices).  Returns wheth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the add was successfu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index index at which the element is to be inse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param element element to be inserted at the given inde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@return true if added successfully; false if n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@throws IndexOutOfBoundsException if index out of ran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         ({@code index &lt; 0 || index &gt; size()}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index, E element) {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Your Javadoc is your spec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ever you write a class to be used by clients, you should write full Javadoc comments for all of its public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nstitutes your specification to all clients for you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post the generated HTML files publicly for clients to vie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on distribution of a library of class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inari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.class files, often packaged into an archiv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Javadoc .html files, or a public URL to view the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clipse uses Javadoc for auto-comple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Javadoc comments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sed API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nything that is non-privat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4724280"/>
            <a:ext cx="31006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4-20T07:04:02Z</dcterms:modified>
  <cp:revision>609</cp:revision>
  <dc:subject/>
  <dc:title>CSE 142 Python Slides</dc:title>
</cp:coreProperties>
</file>