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C60E-CC5D-4C2E-A1CB-1CCE42B2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E3F1-2F8A-4071-B1CA-5BD5951376B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33Z</dcterms:modified>
  <cp:revision>125</cp:revision>
  <dc:subject/>
  <dc:title>CSE 142 Python Slides</dc:title>
</cp:coreProperties>
</file>