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E9EF-D9B0-4FE3-8EA4-850F15278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program never directly interacts with ListNod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int can analogy: LinkedIntList is a painter, the ListNodes are buckets of paint.  I don't want the buckets, just do the painting for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ew the answer right away, it goes between the 5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see the 5, do you know to stop yet?  when do you know to sto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(current.data &lt; val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= current.nex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it be &lt; or &lt;= ?  when would it matter?  what if the list had 500 10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is more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we have gone too far.  we want to insert the 10 in *front* of the node we are at.  We want to stop 1 before the 12.  (James Bond on train 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: insert BETWEEN 5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change the link between the 5 and 12, we must be at the node with 5, so we can change its .next l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5863-AE67-4FD0-BF85-2983AC08D4F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6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ed 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referen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e with the dot notation,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an object variable, Java goes to the memory for that object and looks up the field/method reques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my.name = "Timmah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.toUpper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003400" y="51055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44640" y="53341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93680" y="55627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003400" y="571500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111400" y="487692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865760" y="5029200"/>
          <a:ext cx="3848040" cy="395280"/>
        </p:xfrm>
        <a:graphic>
          <a:graphicData uri="http://schemas.openxmlformats.org/drawingml/2006/table">
            <a:tbl>
              <a:tblPr/>
              <a:tblGrid>
                <a:gridCol w="641160"/>
                <a:gridCol w="641520"/>
                <a:gridCol w="641160"/>
                <a:gridCol w="641520"/>
                <a:gridCol w="641160"/>
                <a:gridCol w="641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h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2066040" y="447984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67320" y="447984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99000" y="487692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05840" y="5584680"/>
            <a:ext cx="432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indexOf(String s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length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oUpperCa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76560" y="513396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56000" y="54100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t causes an excep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refer to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.toUpp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lang.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59080" y="365760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1984320" y="38862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41148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159080" y="426708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4267080" y="3429000"/>
            <a:ext cx="198144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to same ty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happen if we had a class that declared one of its own type as a fiel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ang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private Strange other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this compi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so, what is the behavior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?  What can it 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ot, why not?  What is the error and the reasoning behind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data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the collections we will use and implement in this course use one of the following two underlying data struct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a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et 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ked objec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ach storing one elemen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one or more reference(s) to other element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76520" y="3186000"/>
          <a:ext cx="2743200" cy="395280"/>
        </p:xfrm>
        <a:graphic>
          <a:graphicData uri="http://schemas.openxmlformats.org/drawingml/2006/table">
            <a:tbl>
              <a:tblPr/>
              <a:tblGrid>
                <a:gridCol w="725400"/>
                <a:gridCol w="646200"/>
                <a:gridCol w="68580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318240" y="56088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701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60684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51196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416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74320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38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07696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581976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list nod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ist node object s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piece of integer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eference to another lis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 be "linked" into chains to store a list of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39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84472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498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6654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8108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nstructList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lis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data = 4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data = -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data = 1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next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st.data + " " + list.next.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" " + list.next.nex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2 -3 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84328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7480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6531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8847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8952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59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5667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w/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Nod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, ListNode nex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previous client to use these constructo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02760" y="20178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84472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74984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3886200" y="34765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409720" y="324792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02760" y="3008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247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02760" y="478944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844720" y="5638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 flipH="1">
            <a:off x="3504960" y="6019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02760" y="5780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6019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120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549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4686480" y="2486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21000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276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2257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65920" y="227016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14880" y="2495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082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511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648320" y="53053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4600" y="483696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50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27760" y="5089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53150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416720" y="4705200"/>
          <a:ext cx="1406520" cy="790560"/>
        </p:xfrm>
        <a:graphic>
          <a:graphicData uri="http://schemas.openxmlformats.org/drawingml/2006/table">
            <a:tbl>
              <a:tblPr/>
              <a:tblGrid>
                <a:gridCol w="73656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553080" y="5315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vs.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ef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 is an arrow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base of an arro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(righ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is an object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 box; what an arrow points 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list at righ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adjust where      po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a.nex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mak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5638680" y="38433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4345200" y="4013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99080" y="42242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32440" y="4462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632720" y="38527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 flipH="1">
            <a:off x="8305560" y="4257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4419720"/>
            <a:ext cx="304920" cy="30456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67480" y="358128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4619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5762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sign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b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say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ak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sam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"Ma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to the same place 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429000" y="4267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2135520" y="4437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9040" y="46483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22760" y="4886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423040" y="4276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342900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2135520" y="5384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89040" y="5595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2276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542304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 flipH="1">
            <a:off x="6095520" y="4681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07644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4876920"/>
            <a:ext cx="914400" cy="838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long chain of list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know exactly how long the chain 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print the data values in all the nod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12076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41672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6553080" y="2624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807696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6720" y="2184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81160" y="2395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08840" y="23893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14880" y="2633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114800" y="20239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08560" y="2643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at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here are more nodes to print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current node'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 to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walk through the nodes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s this a good idea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197080" y="52149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749304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6629400" y="5824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152920" y="55958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2680" y="5384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57480" y="5595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85160" y="55897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9084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19112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5384880" y="5843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(bad)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lis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t loses the linked list as it prints it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197080" y="52912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7493040" y="5291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6629400" y="5900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152920" y="56721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2680" y="546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57480" y="5672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85160" y="5665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90840" y="5910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191120" y="5300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5384880" y="5919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43000" y="4952880"/>
            <a:ext cx="2971800" cy="673200"/>
          </a:xfrm>
          <a:custGeom>
            <a:avLst/>
            <a:gdLst/>
            <a:ahLst/>
            <a:rect l="l" t="t" r="r" b="b"/>
            <a:pathLst>
              <a:path w="1872" h="568">
                <a:moveTo>
                  <a:pt x="0" y="568"/>
                </a:moveTo>
                <a:cubicBezTo>
                  <a:pt x="372" y="324"/>
                  <a:pt x="744" y="80"/>
                  <a:pt x="1056" y="40"/>
                </a:cubicBezTo>
                <a:cubicBezTo>
                  <a:pt x="1368" y="0"/>
                  <a:pt x="1696" y="288"/>
                  <a:pt x="1872" y="32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66680" y="4800600"/>
            <a:ext cx="6324840" cy="762120"/>
          </a:xfrm>
          <a:custGeom>
            <a:avLst/>
            <a:gdLst/>
            <a:ahLst/>
            <a:rect l="l" t="t" r="r" b="b"/>
            <a:pathLst>
              <a:path w="3984" h="752">
                <a:moveTo>
                  <a:pt x="0" y="752"/>
                </a:moveTo>
                <a:cubicBezTo>
                  <a:pt x="340" y="408"/>
                  <a:pt x="680" y="64"/>
                  <a:pt x="1344" y="32"/>
                </a:cubicBezTo>
                <a:cubicBezTo>
                  <a:pt x="2008" y="0"/>
                  <a:pt x="3552" y="472"/>
                  <a:pt x="3984" y="5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urr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chan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Make another variable, and change th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is NOT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to the picture above when we wri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27340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756936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6705720" y="3827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8229240" y="3598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9000" y="3387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33440" y="35989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61480" y="359244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67160" y="38368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4267080" y="3227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5460840" y="3846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64960" y="3794040"/>
            <a:ext cx="1868760" cy="779760"/>
            <a:chOff x="264960" y="3794040"/>
            <a:chExt cx="1868760" cy="779760"/>
          </a:xfrm>
        </p:grpSpPr>
        <p:sp>
          <p:nvSpPr>
            <p:cNvPr id="404" name=""/>
            <p:cNvSpPr/>
            <p:nvPr/>
          </p:nvSpPr>
          <p:spPr>
            <a:xfrm>
              <a:off x="264960" y="4174920"/>
              <a:ext cx="157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ur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523880" y="3794040"/>
              <a:ext cx="60984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 correct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ct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damage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197080" y="533412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7493040" y="53341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6629400" y="5943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8152920" y="57150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2680" y="550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57480" y="5715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85160" y="57085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90840" y="59529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191120" y="5343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7" name=""/>
          <p:cNvSpPr/>
          <p:nvPr/>
        </p:nvSpPr>
        <p:spPr>
          <a:xfrm>
            <a:off x="5384880" y="59626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800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 to print lis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front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urrent.dat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28840" y="1295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array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 &lt; a.length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ollection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the same methods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 is internally implemented as a chain of linked no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keeps a reference to 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a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end of the list; 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signifies an empty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4495680"/>
            <a:ext cx="2286000" cy="213372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>
              <a:lnSpc>
                <a:spcPct val="14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index, 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dexOf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(inde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z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String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46483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4800600"/>
            <a:ext cx="1600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6240" y="41292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7376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548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122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 to each other or passed as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primitiv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ListNo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Linked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 go 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6781680" y="220968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63040" y="25909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34880" y="18144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7772400" y="2590920"/>
            <a:ext cx="4572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add a new node to the end of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ad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n 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20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reate a new node and attach it to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75248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20574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7704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68656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7238880" y="1981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 flipH="1">
            <a:off x="790524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8208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, 1st t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non-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value 20 to end of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9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5499000" y="19908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 flipH="1">
            <a:off x="6200640" y="2419200"/>
            <a:ext cx="73368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6" name=""/>
          <p:cNvSpPr/>
          <p:nvPr/>
        </p:nvSpPr>
        <p:spPr>
          <a:xfrm>
            <a:off x="4699080" y="53341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5499000" y="47340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8" name=""/>
          <p:cNvSpPr/>
          <p:nvPr/>
        </p:nvSpPr>
        <p:spPr>
          <a:xfrm>
            <a:off x="6692760" y="5343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7493040" y="47530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 flipH="1">
            <a:off x="8152920" y="51624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4852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5804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53948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4852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5804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n't fall off the edge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/remove from a list, you must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 of the nod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lace you want to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pointing, to add 20 at the e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oop test will stop us at this place in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7432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43120" y="3124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952640" y="30952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3505320" y="26668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2" name=""/>
          <p:cNvSpPr/>
          <p:nvPr/>
        </p:nvSpPr>
        <p:spPr>
          <a:xfrm>
            <a:off x="4699080" y="3286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5499000" y="26766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4" name=""/>
          <p:cNvSpPr/>
          <p:nvPr/>
        </p:nvSpPr>
        <p:spPr>
          <a:xfrm flipH="1">
            <a:off x="6200280" y="3105000"/>
            <a:ext cx="723960" cy="36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9604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0592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5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9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curre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two-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3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5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reference variable is assigned to another, the objec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, 5, 2, 12, 14, 14, 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2 = a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fers to same array as a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1[0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533520" y="5105520"/>
            <a:ext cx="2438280" cy="444240"/>
            <a:chOff x="533520" y="5105520"/>
            <a:chExt cx="2438280" cy="444240"/>
          </a:xfrm>
        </p:grpSpPr>
        <p:sp>
          <p:nvSpPr>
            <p:cNvPr id="97" name=""/>
            <p:cNvSpPr/>
            <p:nvPr/>
          </p:nvSpPr>
          <p:spPr>
            <a:xfrm>
              <a:off x="533520" y="5105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7400" y="5321160"/>
              <a:ext cx="91440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1720" y="51292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3520" y="5866920"/>
            <a:ext cx="2438280" cy="457560"/>
            <a:chOff x="533520" y="5866920"/>
            <a:chExt cx="2438280" cy="457560"/>
          </a:xfrm>
        </p:grpSpPr>
        <p:sp>
          <p:nvSpPr>
            <p:cNvPr id="101" name=""/>
            <p:cNvSpPr/>
            <p:nvPr/>
          </p:nvSpPr>
          <p:spPr>
            <a:xfrm>
              <a:off x="533520" y="58802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057400" y="5866920"/>
              <a:ext cx="914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01720" y="59040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=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ing into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n empty list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you create each on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are the field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ublic?  Is this bad sty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ffect does this code have o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consists of 0 to many node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node holds a single data elemen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ull;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ty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ew LinkedIntLis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's okay that the node fields are public, because client code never directly interac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oesn't change the lis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ange a list only in one of the following two w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list's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the front node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nt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front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first remova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second rem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 flipH="1">
            <a:off x="4167000" y="51274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8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60" name=""/>
          <p:cNvSpPr/>
          <p:nvPr/>
        </p:nvSpPr>
        <p:spPr>
          <a:xfrm flipH="1">
            <a:off x="617184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81680" y="48006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6304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772040" y="5189400"/>
            <a:ext cx="423720" cy="2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NoSuchElementException on empty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ro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any node in general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505320" y="4724280"/>
          <a:ext cx="143172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7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9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4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0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0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2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7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the only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ange the front field to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stead of a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we need a special case to handle thi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6172200" y="205740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5320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716292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26" name=""/>
          <p:cNvSpPr/>
          <p:nvPr/>
        </p:nvSpPr>
        <p:spPr>
          <a:xfrm flipH="1">
            <a:off x="417168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objects and array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24280" y="45370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1981080" y="4626000"/>
            <a:ext cx="2286000" cy="444600"/>
            <a:chOff x="1981080" y="4626000"/>
            <a:chExt cx="2286000" cy="444600"/>
          </a:xfrm>
        </p:grpSpPr>
        <p:sp>
          <p:nvSpPr>
            <p:cNvPr id="108" name=""/>
            <p:cNvSpPr/>
            <p:nvPr/>
          </p:nvSpPr>
          <p:spPr>
            <a:xfrm>
              <a:off x="1981080" y="462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484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49640" y="464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81080" y="5464080"/>
            <a:ext cx="2286000" cy="444240"/>
            <a:chOff x="1981080" y="5464080"/>
            <a:chExt cx="2286000" cy="444240"/>
          </a:xfrm>
        </p:grpSpPr>
        <p:sp>
          <p:nvSpPr>
            <p:cNvPr id="112" name=""/>
            <p:cNvSpPr/>
            <p:nvPr/>
          </p:nvSpPr>
          <p:spPr>
            <a:xfrm>
              <a:off x="1981080" y="5464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05320" y="552708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49640" y="54878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pecial case: removing first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ing from elsewhere in the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value as a parameter and adds that value to a sorted list in sorted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f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152280" y="27432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33640" y="30193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71600" y="31719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424240" y="27432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6" name=""/>
          <p:cNvSpPr/>
          <p:nvPr/>
        </p:nvSpPr>
        <p:spPr>
          <a:xfrm>
            <a:off x="361800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127400" y="27525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5878440" y="27716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9" name=""/>
          <p:cNvSpPr/>
          <p:nvPr/>
        </p:nvSpPr>
        <p:spPr>
          <a:xfrm flipH="1">
            <a:off x="6538680" y="3181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67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86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2488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52280" y="510552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133640" y="538164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71600" y="5533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2424240" y="51055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581832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7569360" y="51339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0" name=""/>
          <p:cNvSpPr/>
          <p:nvPr/>
        </p:nvSpPr>
        <p:spPr>
          <a:xfrm flipH="1">
            <a:off x="8229240" y="55436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67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7736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615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02468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63060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414036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7" name=""/>
          <p:cNvSpPr/>
          <p:nvPr/>
        </p:nvSpPr>
        <p:spPr>
          <a:xfrm>
            <a:off x="419940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30856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mon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references must be chang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ort of loop do we ne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should the loop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5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8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correct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is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stops too late to affect the list in the right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7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73200" y="2787480"/>
            <a:ext cx="1061640" cy="990360"/>
            <a:chOff x="6973200" y="2787480"/>
            <a:chExt cx="1061640" cy="990360"/>
          </a:xfrm>
        </p:grpSpPr>
        <p:sp>
          <p:nvSpPr>
            <p:cNvPr id="688" name=""/>
            <p:cNvSpPr/>
            <p:nvPr/>
          </p:nvSpPr>
          <p:spPr>
            <a:xfrm>
              <a:off x="6973200" y="278748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67480" y="324468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4"/>
          <p:cNvSpPr/>
          <p:nvPr/>
        </p:nvSpPr>
        <p:spPr>
          <a:xfrm>
            <a:off x="2971800" y="2209680"/>
            <a:ext cx="839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idea: peeking ahea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ed version of the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n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 the loop stops in the right pl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97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223960" y="2743200"/>
            <a:ext cx="1061640" cy="990360"/>
            <a:chOff x="5223960" y="2743200"/>
            <a:chExt cx="1061640" cy="990360"/>
          </a:xfrm>
        </p:grpSpPr>
        <p:sp>
          <p:nvSpPr>
            <p:cNvPr id="706" name=""/>
            <p:cNvSpPr/>
            <p:nvPr/>
          </p:nvSpPr>
          <p:spPr>
            <a:xfrm>
              <a:off x="522396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1824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end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xception in thread "main": java.lang.NullPointer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our code cras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7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4"/>
          <p:cNvSpPr/>
          <p:nvPr/>
        </p:nvSpPr>
        <p:spPr>
          <a:xfrm>
            <a:off x="1752480" y="2209680"/>
            <a:ext cx="39308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loop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rrection to our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eck fo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heck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2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976440" y="2743200"/>
            <a:ext cx="1061640" cy="990360"/>
            <a:chOff x="6976440" y="2743200"/>
            <a:chExt cx="1061640" cy="990360"/>
          </a:xfrm>
        </p:grpSpPr>
        <p:sp>
          <p:nvSpPr>
            <p:cNvPr id="738" name=""/>
            <p:cNvSpPr/>
            <p:nvPr/>
          </p:nvSpPr>
          <p:spPr>
            <a:xfrm>
              <a:off x="697644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7072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rd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front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-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4"/>
          <p:cNvSpPr/>
          <p:nvPr/>
        </p:nvSpPr>
        <p:spPr>
          <a:xfrm>
            <a:off x="609480" y="5234040"/>
            <a:ext cx="15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609480" y="2881440"/>
            <a:ext cx="132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565200" y="1863720"/>
            <a:ext cx="44067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correction to our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f (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our code now handle every possibl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urth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(the front of) an empty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"/>
          <p:cNvSpPr/>
          <p:nvPr/>
        </p:nvSpPr>
        <p:spPr>
          <a:xfrm>
            <a:off x="1066680" y="24382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048040" y="27147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048040" y="2719440"/>
            <a:ext cx="45216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s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can store references to other objects a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Homework 3 (HTML Validato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Valid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reference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many references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stores a reference to its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24960" y="3581280"/>
            <a:ext cx="5850360" cy="505440"/>
            <a:chOff x="624960" y="3581280"/>
            <a:chExt cx="5850360" cy="505440"/>
          </a:xfrm>
        </p:grpSpPr>
        <p:sp>
          <p:nvSpPr>
            <p:cNvPr id="118" name=""/>
            <p:cNvSpPr/>
            <p:nvPr/>
          </p:nvSpPr>
          <p:spPr>
            <a:xfrm>
              <a:off x="2255760" y="3581280"/>
              <a:ext cx="421956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Queue&lt;HtmlTag&gt; tag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960" y="3586320"/>
              <a:ext cx="167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Valid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56120" y="4419720"/>
            <a:ext cx="5289120" cy="446040"/>
            <a:chOff x="2256120" y="4419720"/>
            <a:chExt cx="5289120" cy="446040"/>
          </a:xfrm>
        </p:grpSpPr>
        <p:sp>
          <p:nvSpPr>
            <p:cNvPr id="121" name=""/>
            <p:cNvSpPr/>
            <p:nvPr/>
          </p:nvSpPr>
          <p:spPr>
            <a:xfrm>
              <a:off x="6843600" y="4419720"/>
              <a:ext cx="7016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341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2464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14800" y="4419720"/>
              <a:ext cx="6098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053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419720"/>
              <a:ext cx="5587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4080" y="4419720"/>
              <a:ext cx="7225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441972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486576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2408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46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053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148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2464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341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3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4524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6120" y="443376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440" y="4871880"/>
            <a:ext cx="3458880" cy="886680"/>
            <a:chOff x="46440" y="4871880"/>
            <a:chExt cx="3458880" cy="886680"/>
          </a:xfrm>
        </p:grpSpPr>
        <p:sp>
          <p:nvSpPr>
            <p:cNvPr id="140" name=""/>
            <p:cNvSpPr/>
            <p:nvPr/>
          </p:nvSpPr>
          <p:spPr>
            <a:xfrm>
              <a:off x="152280" y="5253120"/>
              <a:ext cx="335304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40" y="487188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84920" y="5105520"/>
            <a:ext cx="3687480" cy="886320"/>
            <a:chOff x="4084920" y="5105520"/>
            <a:chExt cx="3687480" cy="886320"/>
          </a:xfrm>
        </p:grpSpPr>
        <p:sp>
          <p:nvSpPr>
            <p:cNvPr id="143" name=""/>
            <p:cNvSpPr/>
            <p:nvPr/>
          </p:nvSpPr>
          <p:spPr>
            <a:xfrm>
              <a:off x="4419720" y="5486400"/>
              <a:ext cx="335268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84920" y="510552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895480" y="5562720"/>
            <a:ext cx="76320" cy="51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886200"/>
            <a:ext cx="763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28640" y="4648320"/>
            <a:ext cx="6858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4648320"/>
            <a:ext cx="83844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5791320"/>
            <a:ext cx="2286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86080" y="6157800"/>
            <a:ext cx="2247840" cy="395280"/>
            <a:chOff x="1486080" y="6157800"/>
            <a:chExt cx="2247840" cy="395280"/>
          </a:xfrm>
        </p:grpSpPr>
        <p:sp>
          <p:nvSpPr>
            <p:cNvPr id="151" name=""/>
            <p:cNvSpPr/>
            <p:nvPr/>
          </p:nvSpPr>
          <p:spPr>
            <a:xfrm>
              <a:off x="3389400" y="615780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615780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05040" y="615780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2320" y="615780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615780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655308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504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812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8940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39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86080" y="617220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224760" y="6310440"/>
            <a:ext cx="2233440" cy="395280"/>
            <a:chOff x="6224760" y="6310440"/>
            <a:chExt cx="2233440" cy="395280"/>
          </a:xfrm>
        </p:grpSpPr>
        <p:sp>
          <p:nvSpPr>
            <p:cNvPr id="164" name=""/>
            <p:cNvSpPr/>
            <p:nvPr/>
          </p:nvSpPr>
          <p:spPr>
            <a:xfrm>
              <a:off x="8113680" y="631044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2400" y="631044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29680" y="631044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86600" y="631044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86600" y="631044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86600" y="670572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866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29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7240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582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4760" y="632448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4"/>
          <p:cNvSpPr/>
          <p:nvPr/>
        </p:nvSpPr>
        <p:spPr>
          <a:xfrm>
            <a:off x="1954080" y="2314440"/>
            <a:ext cx="26863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version of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given value to lis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Existing elements are s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Sorte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front == null ||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ist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he following methods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e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to the list to return its size more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reconditions and exception tests to appropriat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"implements"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promises to contain each method in tha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therwise it will fail to compil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haha, no methods! pw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ite a class that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benefi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 cod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 the m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allo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lymorphis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the same code can work with different types of object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vs. array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wo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similar behavior, implemented in different way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1731960" y="2362320"/>
          <a:ext cx="26114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778" name=""/>
          <p:cNvSpPr/>
          <p:nvPr/>
        </p:nvSpPr>
        <p:spPr>
          <a:xfrm>
            <a:off x="126000" y="45133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731960" y="4114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0" name=""/>
          <p:cNvSpPr/>
          <p:nvPr/>
        </p:nvSpPr>
        <p:spPr>
          <a:xfrm>
            <a:off x="2925720" y="4734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3726000" y="41241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2" name=""/>
          <p:cNvSpPr/>
          <p:nvPr/>
        </p:nvSpPr>
        <p:spPr>
          <a:xfrm>
            <a:off x="4919760" y="47433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5719680" y="41432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4" name=""/>
          <p:cNvSpPr/>
          <p:nvPr/>
        </p:nvSpPr>
        <p:spPr>
          <a:xfrm>
            <a:off x="893880" y="4734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684840" y="4757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7485120" y="4157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7" name=""/>
          <p:cNvSpPr/>
          <p:nvPr/>
        </p:nvSpPr>
        <p:spPr>
          <a:xfrm flipH="1">
            <a:off x="8145000" y="4567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w/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ocess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ntList 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Ts as interface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uses interfaces to describe AD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messed up on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; there's no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terface, just a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he same as the empty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the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null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Java hav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it used f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3080" y="3352680"/>
          <a:ext cx="484344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793440"/>
                <a:gridCol w="793800"/>
                <a:gridCol w="793800"/>
                <a:gridCol w="79380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69920" y="37339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92320" y="39625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DT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using Java's built-in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nsidered good practice to always declare collection variables using the corresponding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accept a collection as a parameter should also declare the parameter using the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tutter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use ADT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we want more than one kind of list, queue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Each implementation is more efficient at certain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en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front/midd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search a huge data set for a value in short tim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lower but keeps the set of data in a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hoose the optimal implementation for your task, and if the rest of your code is written to use the ADT interfaces, it will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0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me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1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at some of the methods are implemented the same way in both the array and linked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change our interface to a class?  Why /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capture this common behavi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9.6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ybrid between an interface and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s a superclass type that can contain method declarations (like an interface) and/or method bodies (like a clas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interfaces, abstract classes that cannot be instantiat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no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create any objects of their typ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goes in an abstract cla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ation of common state and behavior that will be inherited by subclasses (parent class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lare generic behaviors that subclasses must implement (interface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(any subclass must implement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 if it has no abstract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reate variables (but not objects) of the abstrac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Introduce an abstract class into the list hierarch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and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classes that claim to implement an interface must implement all methods of that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t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Int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 classes can claim to implement an interface without writing its methods; subclasses must implement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Empty implements IntList {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hil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set reference fields of an object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549600" y="472428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374840" y="52578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4864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549600" y="53341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3657600" y="449568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abstract list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perclass with common code for a list of integ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lass AbstractIntList implements IntLis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size()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Of(value) &gt;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Empt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ize() =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vs.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both interfaces and abstract classes exist in Jav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bstract class can do everything an interface can do and m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hy would someone ever use an interfa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Java has single inheri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xtend only one super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implement many interf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interfaces allows a class to be part of a hierarchy (polymorphism) without using up its inheritance relationshi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41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3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5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7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ner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lass defined inside of anothe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reated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non-stat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focus on standard non-static ("nested") inner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ne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es are hidden from other classes (encapsulat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objects can access/modify the fields of the outer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61722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uter (enclosing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ner (nested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is file can see the inner class or make objects of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inner object is associated with the outer object that created it, so it can access/modify that outer object's methods/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ecessary, can refer to outer object a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uterClass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nvert the linked node into an inne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57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59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1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3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reate variables of that type, accept them as parameters, return them, or create arrays by casting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}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 {}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outer class declares a type parameter, inner classes can also use that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 should NOT redeclare the type parameter.  (If you do, it will create a second type parameter with the same nam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timmy.name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timmy.name == null) { ...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methods don't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s and throw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76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78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0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2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code is particularly slow on linked li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Integer&gt; list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siz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value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get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value % 2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remove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do to improve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Iterator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 collection, regardless of its implem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 within a collection, and allows you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ossibly) remove or chang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nefit: A common way to examin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llection'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17000" y="5333760"/>
            <a:ext cx="3240360" cy="1295280"/>
            <a:chOff x="117000" y="5333760"/>
            <a:chExt cx="3240360" cy="1295280"/>
          </a:xfrm>
        </p:grpSpPr>
        <p:sp>
          <p:nvSpPr>
            <p:cNvPr id="889" name=""/>
            <p:cNvSpPr/>
            <p:nvPr/>
          </p:nvSpPr>
          <p:spPr>
            <a:xfrm>
              <a:off x="114768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21436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1700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2" name=""/>
          <p:cNvGraphicFramePr/>
          <p:nvPr/>
        </p:nvGraphicFramePr>
        <p:xfrm>
          <a:off x="762120" y="4495680"/>
          <a:ext cx="211752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93" name=""/>
          <p:cNvSpPr/>
          <p:nvPr/>
        </p:nvSpPr>
        <p:spPr>
          <a:xfrm>
            <a:off x="3442320" y="48942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4435560" y="4495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5" name=""/>
          <p:cNvSpPr/>
          <p:nvPr/>
        </p:nvSpPr>
        <p:spPr>
          <a:xfrm>
            <a:off x="5638680" y="51055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6056280" y="4505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7" name=""/>
          <p:cNvSpPr/>
          <p:nvPr/>
        </p:nvSpPr>
        <p:spPr>
          <a:xfrm>
            <a:off x="7315200" y="5105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7696080" y="4524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9" name=""/>
          <p:cNvSpPr/>
          <p:nvPr/>
        </p:nvSpPr>
        <p:spPr>
          <a:xfrm>
            <a:off x="4191120" y="5105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8381520" y="4948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4613040" y="5333760"/>
            <a:ext cx="3240360" cy="1295280"/>
            <a:chOff x="4613040" y="5333760"/>
            <a:chExt cx="3240360" cy="1295280"/>
          </a:xfrm>
        </p:grpSpPr>
        <p:sp>
          <p:nvSpPr>
            <p:cNvPr id="902" name=""/>
            <p:cNvSpPr/>
            <p:nvPr/>
          </p:nvSpPr>
          <p:spPr>
            <a:xfrm>
              <a:off x="564372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71040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1304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vided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iterators for our array list and linked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need to suppor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123840" y="1371600"/>
          <a:ext cx="8915400" cy="214776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from the collection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 no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forbid multiple removes in a 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Array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ndex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Array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 &lt; siz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get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List.this.remove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support re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Linked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ListNode curren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nked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urrent !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 result = current.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implemented for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UnsupportedOperation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-each loop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s can be iterated using a "for-each"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list = new Linked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String s :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 collections do not work in this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x this, your list mus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terable&lt;E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tends Iterable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34Z</dcterms:modified>
  <cp:revision>266</cp:revision>
  <dc:subject/>
  <dc:title>CSE 142 Python Slides</dc:title>
</cp:coreProperties>
</file>