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7E15-E816-43F8-AFE6-8D7A20956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CF78-C0FB-4788-BCE6-85E84A79176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0CB7-C66C-4589-A528-1CF3661FD890}"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2:23Z</dcterms:modified>
  <cp:revision>124</cp:revision>
  <dc:subject/>
  <dc:title>CSE 142 Python Slides</dc:title>
</cp:coreProperties>
</file>