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F80E0-FAFB-417C-B855-D53C3A188E59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mindprod.com/jgloss/exception.html" TargetMode="External"/><Relationship Id="rId2" Type="http://schemas.openxmlformats.org/officeDocument/2006/relationships/hyperlink" Target="http://mindprod.com/jgloss/exception.html" TargetMode="External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ppendix C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Java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tch, and then what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process(String str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 = Integer.parseInt(str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catch (NumberFormatException nf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Invalid number: " + str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ways to handle an excep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ry the operation that fail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-prompt the user for new inpu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int a nice error mess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quit the progra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 nothing (!)   (why? when?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ception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exception objects have these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adFil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catch (IOException 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I/O error: "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.getMessag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04920" y="1905120"/>
          <a:ext cx="8534160" cy="1904760"/>
        </p:xfrm>
        <a:graphic>
          <a:graphicData uri="http://schemas.openxmlformats.org/drawingml/2006/table">
            <a:tbl>
              <a:tblPr/>
              <a:tblGrid>
                <a:gridCol w="4800600"/>
                <a:gridCol w="3733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String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Messag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xt describing the err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String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ception's type and 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Caus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StackTrac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StackTrac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ther metho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sign and 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ective Java Tip #57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xceptions only for exceptional condi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uthor o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eger.parse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got this wro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rings that are not legal a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are common (not "exceptional"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What should they have done instead?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Can we avoid this one?  Not really.  :-(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0" lang="en-US" sz="2000" spc="-1" strike="noStrike">
                <a:solidFill>
                  <a:srgbClr val="a50021"/>
                </a:solidFill>
                <a:latin typeface="Courier New"/>
              </a:rPr>
              <a:t>Integer.parseInt(str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catch (NumberFormatException nf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 = -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gnoring 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ective Java Tip #65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on't ignore excep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empt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lock is (a common) poor sty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ten done to get code to compile or hide an 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adFile(filenam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catch (IOException e) </a:t>
            </a:r>
            <a:r>
              <a:rPr b="0" lang="en-US" sz="2000" spc="-1" strike="noStrike">
                <a:solidFill>
                  <a:srgbClr val="a50021"/>
                </a:solidFill>
                <a:latin typeface="Courier New"/>
              </a:rPr>
              <a:t>{}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do nothing on 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t 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minimu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print out the exception so you know it happen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catch (IOException 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.printStackTrace();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just in c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086600" y="1219320"/>
            <a:ext cx="18414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tch multiple 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o handle the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o handle the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o handle the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catch more than one kind of exception in the same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an exception is thrown, the matching catch block (if any) is us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multip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locks match, the most specific match is chos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ception inherit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exceptions extend from a common super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30592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me common 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4211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ithmetic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Overflow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ssCast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ssNotFound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eNotSupported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urrentModification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mptyStack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llegalArgument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llegalState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exOutOfBounds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rupted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O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OFException, FileNotFoundException, InterruptedIOException, MalformedURLException,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22480" y="1295280"/>
            <a:ext cx="44211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606240" indent="-270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 NotSerializableException, SocketException, SSLException, UnknownHostException, Zip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r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lformedURL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gativeArraySize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SuchElement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llPointer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tocol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untime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Element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supportedOperation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also:</a:t>
            </a:r>
            <a:br>
              <a:rPr sz="2000"/>
            </a:br>
            <a:r>
              <a:rPr b="0" lang="en-US" sz="16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mindprod.com/jgloss/exception.htm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 and 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catch a general exception to handle any subclas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 input = new Scanner(new File("foo"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input.nextLine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xce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File was not found.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ly, you can state that a method throws any excep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foo()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throws Exce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 there any disadvantages of doing so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tching with inherit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catch (FileNotFoundException fnf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o handle the file not found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IOException io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o handle any other I/O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Exception 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o handle any other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ocket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ould match the second block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ithmetic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ould match the third block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o should catch it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de that is able to handle the error properly should be the code that catches the excep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metimes this is not the top method on the stac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in → showGUI() → click() → readFile() → FileNotFoundException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method should handle the exception, and why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in → new PokerGame()  → new Player() → loadHistory() → Integer.parseInt() -&gt; NumberFormat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method should handle the exception, and why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imitive data ty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76320" y="1371600"/>
          <a:ext cx="8915040" cy="4848120"/>
        </p:xfrm>
        <a:graphic>
          <a:graphicData uri="http://schemas.openxmlformats.org/drawingml/2006/table">
            <a:tbl>
              <a:tblPr/>
              <a:tblGrid>
                <a:gridCol w="1679400"/>
                <a:gridCol w="1679760"/>
                <a:gridCol w="1613520"/>
                <a:gridCol w="1681200"/>
                <a:gridCol w="22611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ind of 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mory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bit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amp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y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eg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128 .. 1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(byte)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h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haracter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intege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\u0000 ..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\uFF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'a'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'\u2603'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lo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l 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.4e38 .. 3.4e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3.14f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.1e7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dou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l 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1.8e308 .. 1.8e3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3.1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6.022e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eg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.. 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4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-17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xf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l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eg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6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.. 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42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1874109487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h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eg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.. 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(short) 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rowing an excep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row new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ception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"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common practice to throw exceptions on unexpected erro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deposit(double amou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amount &lt; 0.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row new IllegalArgumentExceptio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alance += amoun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 throw rather than just ignoring the negative valu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y not return a special error code, such a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ood throwing sty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xception can accept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rameter for a message describing what went wro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the string returned b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Messag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loc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deposit(double amou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amount &lt; 0.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 new IllegalArgumentException(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"negative deposit: " + amou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alance += amoun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J Tip #63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clude failure-capture information in detail messag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ell the caller what went wrong, to help them fix the proble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menting 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your method throws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plain this in the com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e the types of exceptions thrown and under what conditio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Places the given amount of money into this accoun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// Throws an IllegalArgumentException on negative deposi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deposit(double amou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amount &lt; 0.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 new IllegalArgumentException(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negative deposit: " + amoun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alance += amoun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J Tip #62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ocument all exceptions thrown by each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lient must know this in order to avoid or catch the exceptio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hecked 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has two major kinds of excep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hecked exceptions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es that MUST be handled by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/ca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lock (o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row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use) or else the program will not compi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ant for serious problems that the caller ought to deal wit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classes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cep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the inheritance tre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untime exceptions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es that don't have to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ndled; if not handled, the program hal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ant for smaller errors or programmer erro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classes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untimeExcep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the tre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stakes that could have been avoided by a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eck for null or 0,  check if a file exists,  check array's bounds, 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629400" y="3157560"/>
            <a:ext cx="220968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throws clau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59400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336699"/>
                </a:solidFill>
                <a:latin typeface="Courier New"/>
              </a:rPr>
              <a:t>throws </a:t>
            </a:r>
            <a:r>
              <a:rPr b="1" lang="en-US" sz="2200" spc="-1" strike="noStrike">
                <a:solidFill>
                  <a:srgbClr val="3366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use in a method header claiming it may cause an excep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eded when a method may throw an uncaught checked excep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processFile(String filenam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throws FileNotFoundExce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bove means one of two possibiliti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cessFi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tself might throw an excep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cessFi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ight call some sub-method that throws an exception, and it is choosing not to catch it (rather, to re-throw it out to the caller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riting an exception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J Tip #61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row exceptions appropriate to the abstra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no provided exception class is quite right for your app's kind of error, you should write your ow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ub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00"/>
                </a:solidFill>
                <a:latin typeface="Courier New"/>
              </a:rPr>
              <a:t>// Thrown when the user tries to play after the game is over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ublic class GameOverException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extends RuntimeException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rivate String winner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ublic GameOverException(String message, String winner)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super(message)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his.winner = winner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ublic String getWinner()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turn winner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00"/>
                </a:solidFill>
                <a:latin typeface="Courier New"/>
              </a:rPr>
              <a:t>// in Game class..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if (!inProgress())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throw new GameOverException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("Game already ended", winner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hecked exceptions suck!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J Tip #59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void unnecessary use of checked excep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ecked exceptions are (arguably) a wart in the Java languag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should be the client's decision whether or not to catch exceptio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writing your own exception classes, exte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untime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o that it doesn't need to be caught unless the client wants to do so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ases still require throwing checked exceptions  (e.g. file I/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play() throws Exception {     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n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play() throws RuntimeException {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bet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play()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throws MP3Except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  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b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P3Exception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extends RuntimeExcept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 ...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lem: redundant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process(OutputStream ou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read from out;  might thr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a50021"/>
                </a:solidFill>
                <a:latin typeface="Courier New"/>
              </a:rPr>
              <a:t>out.clos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catch (IOException 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a50021"/>
                </a:solidFill>
                <a:latin typeface="Courier New"/>
              </a:rPr>
              <a:t>out.clos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Caught IOException: "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 e.getMessage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lose code appears redundantly in both plac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't move it out below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/ca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lock becau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lo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tself could throw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O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finally bloc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de to handle the 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finall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de to run after the try or catch finis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inall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often used for common "clean-up"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... read from out;  might thr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catch (IOException 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Caught IOException: "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 e.getMessage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nally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.clos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lock is optional;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y/finall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lso leg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ceptions and err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are als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, which represent serious Java proble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have common super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rowa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catch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but you probably shouldn't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38080" y="2714760"/>
            <a:ext cx="777240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switch stateme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witch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oolean 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fault: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if it isn't one of the above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lternative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at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be used on integral types  (e.g.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o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nu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stead of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a case can end with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or if neither is present, it will "fall through" into the code for the next ca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mon err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4211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tractMethod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WT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ssFormat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ceptionInInitializer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llegalAccess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ntiation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al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nkage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ClassDefFound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SuchField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22480" y="1295280"/>
            <a:ext cx="44211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SuchMethod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OfMemory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er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ckOverflow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satisfiedLink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supportedClassVersion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rify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rtualMachine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Logical Assertion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(assert)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ssertions in Jav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53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ssert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ndition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ssert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ndition</a:t>
            </a:r>
            <a:r>
              <a:rPr b="0" i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ssag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177480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ing asser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177480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enableassertion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ClassNa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or tell your editor/IDE to enable them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177480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ertion code is zero-cost when disabled;  very important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860400"/>
                <a:tab algn="l" pos="1143000"/>
                <a:tab algn="l" pos="1432080"/>
                <a:tab algn="l" pos="177480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177480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C/C++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sse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a compile-time th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1774800"/>
                <a:tab algn="l" pos="2575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Java, you can selectively en/disable assertions at runti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ssert statemen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Returns index of n in a, or -1 if not foun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a is in sorted or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binarySearch(int[] a, 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assert isSorted(a) : "Array must be sorted"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Returns true if the given array is sort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Sort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[]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.length - 1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[i] &gt; a[i + 1]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Enumerated Type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(enum)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ti-pattern: int consta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Card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public static final int CLUBS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public static final int DIAMONDS = 1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public static final int HEARTS = 2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public static final int SPADES = 3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sui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Suit(int suit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.suit = sui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's wrong with us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ants to represent sui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ariation (also bad): us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for the same purpos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numerated ty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type of objects with a fixed set of constant valu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enum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...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placed into its own .java fi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 ha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 that are reall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;  Java's are objec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enum Sui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LUBS, DIAMONDS, HEARTS, SPAD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ective Java Tip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instead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a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"The advantages of </a:t>
            </a:r>
            <a:r>
              <a:rPr b="0" i="1" lang="en-US" sz="2200" spc="-1" strike="noStrike">
                <a:solidFill>
                  <a:srgbClr val="000000"/>
                </a:solidFill>
                <a:latin typeface="Courier New"/>
              </a:rPr>
              <a:t>enum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types over </a:t>
            </a:r>
            <a:r>
              <a:rPr b="0" i="1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constants are compelling.  Enums are far more readable, safer, and more powerful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at is an enum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preceding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roughly equal to the following short clas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final class Suit extends Enum&lt;Suit&gt;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final Suit CLUBS    = new Sui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final Suit DIAMONDS = new Sui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final Suit HEARTS   = new Sui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final Suit SPADES   = new Sui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Suit() {}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no more can be ma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at can an enum do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t as the type of a variable, field, parameter, or retu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Card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Suit sui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re them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why don't we need to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it == Suit.CLUB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re them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by order of declar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compareTo(Card other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uit != other.sui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it.compareTo(other.suit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num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28600" y="1347840"/>
          <a:ext cx="8686800" cy="2585880"/>
        </p:xfrm>
        <a:graphic>
          <a:graphicData uri="http://schemas.openxmlformats.org/drawingml/2006/table">
            <a:tbl>
              <a:tblPr/>
              <a:tblGrid>
                <a:gridCol w="3657600"/>
                <a:gridCol w="5029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 compareTo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3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l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u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types are Comparable by order of decla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olean equals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3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t needed;  can just use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=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ring nam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3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quivalent to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 ordinal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3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n enum's 0-based number by order of declaration  (first is 0, then 1, then 2, ..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228600" y="4224240"/>
          <a:ext cx="8686800" cy="1185840"/>
        </p:xfrm>
        <a:graphic>
          <a:graphicData uri="http://schemas.openxmlformats.org/drawingml/2006/table">
            <a:tbl>
              <a:tblPr/>
              <a:tblGrid>
                <a:gridCol w="3657600"/>
                <a:gridCol w="5029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static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valueOf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verts a string into an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nu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static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[] values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60400"/>
                          <a:tab algn="l" pos="1143000"/>
                          <a:tab algn="l" pos="143208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 array of all values of your enume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atching Exception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re complex enu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numerated type can have fields, methods, and constructo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enum Coin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NNY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, NICKEL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, DIME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, QUARTER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5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ent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Coi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cent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is.cents = cent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Cents()  { return cents; 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perDollar() { return 100 / cents; 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ring toString() {   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"NICKEL (5c)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uper.toString() + " (" + cents + "c)"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Package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packag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ck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ollection of related 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also "contain" sub-packag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ub-packag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have similar names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are not actually contained insi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aw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oes not conta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awt.ev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of Java packa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roup related classes togeth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 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amespa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avoid name collis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vide a layer of access / prote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keep pieces of a project down to a manageable s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53804" t="10646" r="2340" b="49980"/>
          <a:stretch/>
        </p:blipFill>
        <p:spPr>
          <a:xfrm>
            <a:off x="6705720" y="1573200"/>
            <a:ext cx="213336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ackages and directori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4172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directory (fold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9720" indent="0">
              <a:spcBef>
                <a:spcPts val="550"/>
              </a:spcBef>
              <a:buNone/>
              <a:tabLst>
                <a:tab algn="l" pos="860400"/>
                <a:tab algn="l" pos="114300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4172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ss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packag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.b.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hould reside in this fi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/b/c/D.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97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relative to the root of your project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"root" directory of the package hierarchy is determined by you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lass pa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the directory from whi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as ru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spcBef>
                <a:spcPts val="601"/>
              </a:spcBef>
              <a:buNone/>
              <a:tabLst>
                <a:tab algn="l" pos="860400"/>
                <a:tab algn="l" pos="114300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495680" y="3276720"/>
            <a:ext cx="4114800" cy="89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path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ass pa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location(s) in which Java looks for class fi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urrent "working directory" from which you ran javac / jav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ther fold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JAR archiv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R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set class path manually when running java at command lin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 -cp /home/stepp/libs:/foo/bar/jbl MyCl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package decla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package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{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ckage pacman.model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Ghost extends Sprite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prite.jav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hould go in folde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cman/mod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orting a packag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import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packageName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.*;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urier New"/>
              </a:rPr>
              <a:t>// all cla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ckage pacman.gui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mport pacman.model.*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PacManGui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host blinky = new Ghost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cManGu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st import the model package in order to use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orting a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4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import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packageName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.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className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;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Courier New"/>
              </a:rPr>
              <a:t>// one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ckage pacman.gui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mport pacman.model.Sprite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PacManGui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host blinky = new Ghost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72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ing single classes has high preceden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97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you impor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*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a same-named class in the current dir will overri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197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1774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you impor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lassNam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it will no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tic impor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import static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packageName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.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className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.*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mport static java.lang.Math.*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 angle = sin(PI / 2) + ln(E * E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import allows you to refer to the members of another class without writing that class's na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used rarely and only with classes whose contents are entirely static "utility"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ferring to packag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ckage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ass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util.Scanner console =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w java.util.Scanner(java.lang.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use a type from any package without importing it if you write its full na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times this is useful to disambiguate similar nam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.awt.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.util.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, explicitly import one of the class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cep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representing an err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ther languages don't have this concept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y represent errors by returning error cod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null, -1, false, etc.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e exceptions better?  What are their benefit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ro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cause an exception to occu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are some actions that commonly throw exception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t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handle an excep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an exception is thrown and no code catches it, the program's execution will stop and an error trace will be prin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exception is caught, the program can continue runn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934320" y="1406520"/>
            <a:ext cx="190476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default packag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ation units (files) that do not declare a package are put into a default, unnamed, pack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in the default pack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not be impor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not be used by classes in other packag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editors discourage the use of the default pack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java.lang is implicitly imported in all programs by defaul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mport java.lang.*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ackage acce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provides the following access modifi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Visible to all other class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Visible only to current class (and any nested types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Visible to the current class, any of its subclasses, and any other types within the same packag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fault (package): Visible to the current class and any other types within the same packag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give a member default scope, do not write a modifi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ckage pacman.model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Sprit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points;      </a:t>
            </a:r>
            <a:r>
              <a:rPr b="0" lang="en-US" sz="2000" spc="-1" strike="noStrike">
                <a:solidFill>
                  <a:srgbClr val="009999"/>
                </a:solidFill>
                <a:latin typeface="Courier New"/>
              </a:rPr>
              <a:t>// visible to pacman.model.*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name;     </a:t>
            </a:r>
            <a:r>
              <a:rPr b="0" lang="en-US" sz="2000" spc="-1" strike="noStrike">
                <a:solidFill>
                  <a:srgbClr val="009999"/>
                </a:solidFill>
                <a:latin typeface="Courier New"/>
              </a:rPr>
              <a:t>// visible to pacman.model.*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de that throws 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viding by ze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1 / x);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Arithmetic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ing to dereference a null variab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 = null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.translate(2, -3);     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NullPointer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ing to interpret input in the wrong wa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NumberFormat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err = Integer.parseInt("hi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ing a non-existent fi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FileNotFound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 = new Scanner(new File("notHere.txt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ception avoid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many cases, the best plan is to try to avoid excep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better to check first than try/catch without ch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x != 0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1 / 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le file = new File("notHere.txt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file.exists()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 = new Scanner(fil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can we avoid this on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err = </a:t>
            </a:r>
            <a:r>
              <a:rPr b="0" lang="en-US" sz="2000" spc="-1" strike="noStrike">
                <a:solidFill>
                  <a:srgbClr val="a50021"/>
                </a:solidFill>
                <a:latin typeface="Courier New"/>
              </a:rPr>
              <a:t>Integer.parseInt(str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tching an excep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o handle the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de executes.  If the given exception occurs,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lock stops running; it jumps to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lock and runs tha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tr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 = new Scanner(new File(filename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input.nextLine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catch (FileNotFoundException e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File was not found.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rowing and catch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any time, your program has an activ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ll sta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n exception is thrown,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VM looks up the call stack unti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finds a method with 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tch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lock for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one is found, control jump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ack to that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none is found, the program crash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ions allow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n-local error hand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method many levels up the stack can handle a deep err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770440" y="1981080"/>
            <a:ext cx="29163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4-20T07:05:57Z</dcterms:modified>
  <cp:revision>612</cp:revision>
  <dc:subject/>
  <dc:title>CSE 142 Python Slides</dc:title>
</cp:coreProperties>
</file>