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9.xml.rels" ContentType="application/vnd.openxmlformats-package.relationships+xml"/>
  <Override PartName="/ppt/notesSlides/notesSlide5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A959D-7680-4381-94B4-351ADF50FB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's annoying to flip back and forth between slides here.  I suggest putting the classes into a text editor so you can switch windows back and forth to fill in the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3"/>
          <p:cNvSpPr/>
          <p:nvPr/>
        </p:nvSpPr>
        <p:spPr>
          <a:xfrm>
            <a:off x="0" y="0"/>
            <a:ext cx="9144000" cy="1066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203480" indent="-1731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Slide Number Placeholder 3"/>
          <p:cNvSpPr/>
          <p:nvPr/>
        </p:nvSpPr>
        <p:spPr>
          <a:xfrm>
            <a:off x="822960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5FF9D-2533-471A-85DA-D28DEA992C2E}" type="slidenum">
              <a:rPr b="0" lang="en-US" sz="1200" spc="-1" strike="noStrike">
                <a:solidFill>
                  <a:srgbClr val="424242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AutoShape 3"/>
          <p:cNvSpPr/>
          <p:nvPr/>
        </p:nvSpPr>
        <p:spPr>
          <a:xfrm>
            <a:off x="0" y="0"/>
            <a:ext cx="9144000" cy="1390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4596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739800" algn="ctr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030320" algn="ctr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376280" algn="ctr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Building Java Program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hapter 9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heritance and Interf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pyright (c) Pearson 2013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nheritanc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heritanc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way to form new classes based on existing classes, taking on their attributes/behavio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way to group related class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way to share code between two or more class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class ca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extend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, absorbing its data/behavio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superclas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The parent class that is being extende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subclas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The child class that extends the superclass and inherits its behavio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2462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bclass gets a copy of every field and method from supercla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nheritance syntax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633240" indent="-24336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extends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superclas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Secretary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extends Employe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05040" indent="-24372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 extending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mploy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each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cretar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bject now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ceives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getHour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getSalar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getVacationDay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an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getVacationForm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method automatically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 be treated as a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mploye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by client code (seen later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roved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Secretary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cod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A class to represent secretaries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Secretary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extends Employe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void takeDictation(String text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Taking dictation of text: " + text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we only write the parts unique to each typ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cretar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herit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getHour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getSalar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getVacationDay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an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getVacationForm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methods from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mploye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cretar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dds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akeDict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metho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lementing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Lawye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ider the following lawyer regula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awyers who get an extra week of paid vacation (a total of 3)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awyers use a pink form when applying for vacation leav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awyers have some unique behavior: they know how to su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We want lawyers to inheri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ost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havior from employee, but we want to replace parts with new behavio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Overriding metho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verrid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To write a new version of a method in a subclass that replaces the superclass's vers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pecial syntax required to override a superclass method.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Just write a new version of it in the subclas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Lawyer extends Employe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overrides getVacationForm method in Employee cla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public String getVacationForm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return "pink"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ercise: Complete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awye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las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3 weeks vacation, pink vacation form, can su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1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1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Lawyer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clas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A class to represent lawyers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Lawyer extends Employee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overrides getVacationForm from Employee clas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ring getVacationForm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"pink"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overrides getVacationDays from Employee clas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int getVacationDays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15;       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3 weeks vacatio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void sue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I'll see you in court!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ercise: Complete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Markete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lass.  Marketers make $10,000 extra ($50,000 total) and know how to advertis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Marketer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clas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A class to represent marketers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Marketer extends Employee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void advertise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Act now while supplies last!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double getSalary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50000.0;  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$50,000.00 / yea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Levels of inheritanc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levels of inheritance in a hierarchy are allow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A legal secretary is the same as a regular secretary but makes more money ($45,000) and can file legal brief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class LegalSecretary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  <a:ea typeface="Courier New"/>
              </a:rPr>
              <a:t>extends Secretary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ercise: Complete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egalSecretar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las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LegalSecretary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clas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A class to represent legal secretaries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LegalSecretary extends Secretary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void fileLegalBriefs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I could file all day!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double getSalary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45000.0;  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$45,000.00 / yea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Interacting with the superclass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software crisi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oftware engineer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The practice of developing, designing, documenting, testing large computer program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-scale projects face many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getting many programmers to work togeth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getting code finished on tim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voiding redundant cod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inding and fixing bug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aintaining, improving, and reusing existing cod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de reus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The practice of writing program code once and using it in many contex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hanges to common behavior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's return to our previous company/employee exampl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ine a company-wide change affecting all employe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Everyone is given a $10,000 raise due to inflatio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base employee salary is now $50,000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egal secretaries now make $55,000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arketers now make $60,000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must modify our code to reflect this policy chang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odifying the superclas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A class to represent employees (20-page manual)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Employe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int getHours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40;     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works 40 hours / wee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double getSalary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50000.0;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$50,000.00 / yea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re we finished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mploy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ubclasses are still incorrec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y have overridde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getSalar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to return other valu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2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29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n unsatisfactory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LegalSecretary extends Secretary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double getSalary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55000.0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Marketer extends Employe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double getSalary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60000.0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oblem: The subclasses' salaries are based on the Employee salary, but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getSalar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ode does not reflect thi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alling overridden metho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classes can call overridden methods with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u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uper.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method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arameter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7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LegalSecretary extends Secretary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double getSalary(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ouble baseSalary =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super.getSalary(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baseSalary + 5000.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70000"/>
              </a:lnSpc>
              <a:spcBef>
                <a:spcPts val="224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ercise: Modify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awye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Markete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to us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upe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3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roved subclass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Lawyer extends Employee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ring getVacationForm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"pink"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int getVacationDays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super.getVacationDays() + 5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void sue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I'll see you in court!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Marketer extends Employee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void advertise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Act now while supplies last!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double getSalary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super.getSalary() + 10000.0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nheritance and constructo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ine that we want to give employees more vacation days the longer they've been with the compan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or each year worked, we'll award 2 additional vacation day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en an Employee object is constructed, we'll pass in the number of years the person has been with the company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is will require us to modify our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mploye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lass and add some new state and behavio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ercise: Make necessary modifications to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mploye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las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odified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Employe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clas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Employee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ivate int years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Employee(int initialYears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years = initialYears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int getHours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40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double getSalary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50000.0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int getVacationDays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10 + 2 * years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ring getVacationForm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"yellow"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roblem with constructo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that we've added the constructor to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mploy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lass, our subclasses do not compile.  The err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7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Lawyer.java:2: cannot find symbo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symbol  : constructor Employee(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location: class Employe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public class Lawyer extends Employee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       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^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short explanation: Once we write a constructor (that requires parameters) in the superclass, we must now write constructors for our employee subclasses as well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long explanation: (next slide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detailed explana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uctors are not inherit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ubclasses don't inherit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mployee(int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onstructo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224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ubclasses receive a default constructor that contain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24624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2462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Lawyer(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2462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uper()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calls Employee() construc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2462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2462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2462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our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mployee(int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replaces the defaul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mployee(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subclasses' default constructors are now trying to call a non-existent default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mploye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onstructo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Calling superclass constructor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uper(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rameters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Lawyer extends Employe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Lawyer(int years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super(years);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calls Employee construc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upe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all must be the first statement in the constructo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ercise: Make a similar modification to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Markete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las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Law firm employee analogy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rules: hours, vacation, benefits, regulations 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ll employees attend a common orientation to learn general company rul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ach employee receives a 20-page manual of common rul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ubdivision also has specific ru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mployee receives a smaller (1-3 page) manual of these rul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maller manual adds some new rules and also changes some rules from the large manua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2" name="Picture 4" descr="employee_manuals"/>
          <p:cNvPicPr/>
          <p:nvPr/>
        </p:nvPicPr>
        <p:blipFill>
          <a:blip r:embed="rId1"/>
          <a:stretch/>
        </p:blipFill>
        <p:spPr>
          <a:xfrm>
            <a:off x="5062680" y="4572000"/>
            <a:ext cx="3776400" cy="21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odified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Marketer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clas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A class to represent marketers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Marketer extends Employee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public Marketer(int years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uper(years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void advertise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Act now while supplies last!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double getSalary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super.getSalary() + 10000.0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ercise: Modify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cretar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subclas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246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aries' years of employment are not track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246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y do not earn extra vacation for years work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odified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Secretary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clas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A class to represent secretaries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Secretary extends Employee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public Secretary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uper(0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void takeDictation(String text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Taking dictation of text: " + text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inc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cretar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doesn't require any parameters to its constructor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egalSecretar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ompiles without a constructo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ts default constructor calls th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cretary(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constructo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nheritance and fiel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y to give lawyers $5000 for each year at the compan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7680" indent="-233280">
              <a:lnSpc>
                <a:spcPct val="7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7680" indent="-233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Lawyer extends Employe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7680" indent="-233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7680" indent="-233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double getSalary(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7680" indent="-233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return super.getSalary() + 5000 * years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7680" indent="-233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7680" indent="-233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7680" indent="-233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7680" indent="-233280">
              <a:lnSpc>
                <a:spcPct val="7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59200" indent="-2592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work; the error is the follow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7680" indent="-233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Lawyer.java:7: years has private access in Employ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7680" indent="-233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return super.getSalary() + 5000 * years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7680" indent="-233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                                          </a:t>
            </a: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^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7680" indent="-233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59200" indent="-2592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vate fields cannot be directly accessed from subclass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7680" indent="-2332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ne reason: So that subclassing can't break encapsulatio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7680" indent="-2332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can we get around this limitation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1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1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1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15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5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15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15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15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roved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Employe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cod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an accessor for any field needed by the subclas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6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Employee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ivate int years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Employee(int initialYears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years = initialYears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public int getYears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return years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6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Lawyer extends Employee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Lawyer(int years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uper(years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double getSalary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super.getSalary() + 5000 *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getYears()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visiting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Secretary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cretar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lass currently has a poor solu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 set all Secretaries to 0 years because they do not get a vacation bonus for their servic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we call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getYear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n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cretar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bject, we'll always get 0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is isn't a good solution; what if we wanted to give some other reward to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al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employees based on years of service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esign our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mploy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lass to allow for a better solu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roved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Employe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cod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74320" indent="-274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's separate the standard 10 vacation days from those that are awarded based on seniorit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Employe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ivate int years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Employee(int initialYears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years = initialYears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int getVacationDays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10 +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SeniorityBonus(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vacation days given for each year in the compan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int getSeniorityBonus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2 * years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does this help us improve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cretar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4320" indent="-27432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roved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Secretary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cod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cretar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an selectively overrid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etSeniorityBonu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; whe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etVacationDay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runs, it will use the new vers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6920" indent="-2829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hoosing a method at runtime is called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dynamic binding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6920" indent="-2829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6920" indent="-2829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6920" indent="-2829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Secretary extends Employee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36920" indent="-2829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ecretary(int years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36920" indent="-2829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uper(years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36920" indent="-2829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36920" indent="-2829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36920" indent="-2829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Secretaries don't get a bonus for their years of service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36920" indent="-2829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int getSeniorityBonus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36920" indent="-2829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36920" indent="-2829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36920" indent="-2829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36920" indent="-2829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void takeDictation(String text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36920" indent="-2829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Taking dictation of text: " + text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36920" indent="-2829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36920" indent="-2829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ass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Objec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types of objects have a superclass name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very class implicitly extend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Objec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lass defines several metho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ring toString()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turns a text representation of the object,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ften so that it can be printe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boolean equals(Object other)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mpare the object to any other for equality.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turn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f the objects have equal stat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2" name="Picture 5" descr=""/>
          <p:cNvPicPr/>
          <p:nvPr/>
        </p:nvPicPr>
        <p:blipFill>
          <a:blip r:embed="rId1"/>
          <a:stretch/>
        </p:blipFill>
        <p:spPr>
          <a:xfrm>
            <a:off x="7467480" y="1905120"/>
            <a:ext cx="139068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Objec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variabl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can store any object in a variable of typ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Object o1 = new Point(5, -3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Object o2 = "hello there"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Object o3 = new Scanner(System.in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variable only knows how to do general thing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 s = o1.toString();  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ok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int len = o2.length();         </a:t>
            </a: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// erro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String line = o3.nextLine();   </a:t>
            </a: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// erro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can write methods that accept 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paramet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checkForNull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Object o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o == null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hrow new IllegalArgumentException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call: comparing objec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==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perator does not work well with objec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==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ompares references to objects, not their stat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t only produce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when you compare an object to itself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 p1 = new Point(5, 3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 p2 = new Point(5, 3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1 == p2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fals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"equal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Text Box 4"/>
          <p:cNvSpPr/>
          <p:nvPr/>
        </p:nvSpPr>
        <p:spPr>
          <a:xfrm>
            <a:off x="3962520" y="4495680"/>
            <a:ext cx="2438280" cy="102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4051440" y="4665600"/>
          <a:ext cx="2197080" cy="397080"/>
        </p:xfrm>
        <a:graphic>
          <a:graphicData uri="http://schemas.openxmlformats.org/drawingml/2006/table">
            <a:tbl>
              <a:tblPr/>
              <a:tblGrid>
                <a:gridCol w="336240"/>
                <a:gridCol w="685800"/>
                <a:gridCol w="489240"/>
                <a:gridCol w="6858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9" name=""/>
          <p:cNvGraphicFramePr/>
          <p:nvPr/>
        </p:nvGraphicFramePr>
        <p:xfrm>
          <a:off x="1752480" y="4800600"/>
          <a:ext cx="1428840" cy="520560"/>
        </p:xfrm>
        <a:graphic>
          <a:graphicData uri="http://schemas.openxmlformats.org/drawingml/2006/table">
            <a:tbl>
              <a:tblPr/>
              <a:tblGrid>
                <a:gridCol w="874800"/>
                <a:gridCol w="554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0" name="Line 33"/>
          <p:cNvSpPr/>
          <p:nvPr/>
        </p:nvSpPr>
        <p:spPr>
          <a:xfrm>
            <a:off x="2895480" y="5105520"/>
            <a:ext cx="990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1752480" y="5692680"/>
          <a:ext cx="1428840" cy="520920"/>
        </p:xfrm>
        <a:graphic>
          <a:graphicData uri="http://schemas.openxmlformats.org/drawingml/2006/table">
            <a:tbl>
              <a:tblPr/>
              <a:tblGrid>
                <a:gridCol w="874800"/>
                <a:gridCol w="554040"/>
              </a:tblGrid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2" name="Line 44"/>
          <p:cNvSpPr/>
          <p:nvPr/>
        </p:nvSpPr>
        <p:spPr>
          <a:xfrm>
            <a:off x="2895480" y="5997600"/>
            <a:ext cx="990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45"/>
          <p:cNvSpPr/>
          <p:nvPr/>
        </p:nvSpPr>
        <p:spPr>
          <a:xfrm>
            <a:off x="3962520" y="5600880"/>
            <a:ext cx="2438280" cy="102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4051440" y="5770440"/>
          <a:ext cx="2197080" cy="397080"/>
        </p:xfrm>
        <a:graphic>
          <a:graphicData uri="http://schemas.openxmlformats.org/drawingml/2006/table">
            <a:tbl>
              <a:tblPr/>
              <a:tblGrid>
                <a:gridCol w="336240"/>
                <a:gridCol w="685800"/>
                <a:gridCol w="489240"/>
                <a:gridCol w="6858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eparating behavio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not just have a 22 page Lawyer manual, a 21-page Secretary manual, a 23-page Marketer manual, etc.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advantages of the separate manual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aintenance: Only one update if a common rule chang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ocality: Quick discovery of all rules specific to lawyer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key ideas from this examp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General rules are useful (the 20-page manual)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ecific rules that may override general ones are also useful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equals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metho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-2246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qual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 compares the state of objec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12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r1.equals(str2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"the strings are equal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if you write a class, it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qual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 behaves lik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==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12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1.equals(p2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false :-(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"equal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is is the behavior we inherit from clas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Objec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Java doesn't understand how to compar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 by defaul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Flawed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equals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metho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-22716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can change this behavior by writing 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qual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urs will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overrid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the default behavior from clas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Objec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method should compare the state of the two objects and retur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f they have the same x/y positio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flawed implem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public boolean equals(Point other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if (x == other.x &amp;&amp; y == other.y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return true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} else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return false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1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1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1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Flaws in our metho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body can be shortened to the follow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8080"/>
                </a:solidFill>
                <a:latin typeface="Courier New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boolean ze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x == other.x &amp;&amp; y == other.y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should be legal to compare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o any objec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not just other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)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this should be allow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 p = new Point(7, 2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.equals("hello"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fals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qual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should always retur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als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f a non-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s passe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equals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and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Objec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boolean equals(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Object </a:t>
            </a:r>
            <a:r>
              <a:rPr b="1" lang="en-US" sz="2200" spc="-1" strike="noStrike">
                <a:solidFill>
                  <a:srgbClr val="003399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statement(s) that return a boolean valu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parameter to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qual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must be of typ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Objec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Objec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s a general type that can match any objec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aving a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Objec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parameter means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an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bject can be passe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we don't know what type it is, how can we compare it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nother flawed vers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-229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flawe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qual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mplem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public boolean equals(Object o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return x == o.x &amp;&amp; y == o.y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does not compi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.java:36: cannot find symbo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mbol  : variable 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ocation: class java.lang.Objec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x == </a:t>
            </a:r>
            <a:r>
              <a:rPr b="0" lang="en-US" sz="2200" spc="-1" strike="noStrike">
                <a:solidFill>
                  <a:srgbClr val="a50021"/>
                </a:solidFill>
                <a:latin typeface="Courier New"/>
              </a:rPr>
              <a:t>o.x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&amp;&amp; y == </a:t>
            </a:r>
            <a:r>
              <a:rPr b="0" lang="en-US" sz="2200" spc="-1" strike="noStrike">
                <a:solidFill>
                  <a:srgbClr val="a50021"/>
                </a:solidFill>
                <a:latin typeface="Courier New"/>
              </a:rPr>
              <a:t>o.y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^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compiler is saying,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"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o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ould be any object. Not every object has a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ield."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ype-casting objec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lution: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ype-ca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the object parameter to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boolean equals(Object o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Point other = (Point) o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x == other.x &amp;&amp; y == other.y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ting objects is different than casting primitiv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ally casting a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Objec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eference into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eferenc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oesn't actually change the object that was passe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ells the compiler to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assume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at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o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efers to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bjec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asting objects diagram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 co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 p1 = new Point(5, 3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 p2 = new Point(5, 3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1.equals(p2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"equal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"/>
          <p:cNvSpPr/>
          <p:nvPr/>
        </p:nvSpPr>
        <p:spPr>
          <a:xfrm>
            <a:off x="2666880" y="3352680"/>
            <a:ext cx="6172200" cy="1797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public boolean equals(Object o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Point other = (Point) o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return x == other.x &amp;&amp; y == other.y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2755800" y="3505320"/>
          <a:ext cx="2654280" cy="395280"/>
        </p:xfrm>
        <a:graphic>
          <a:graphicData uri="http://schemas.openxmlformats.org/drawingml/2006/table">
            <a:tbl>
              <a:tblPr/>
              <a:tblGrid>
                <a:gridCol w="336600"/>
                <a:gridCol w="685800"/>
                <a:gridCol w="946080"/>
                <a:gridCol w="6858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1" name=""/>
          <p:cNvGraphicFramePr/>
          <p:nvPr/>
        </p:nvGraphicFramePr>
        <p:xfrm>
          <a:off x="457200" y="4648320"/>
          <a:ext cx="1428480" cy="520560"/>
        </p:xfrm>
        <a:graphic>
          <a:graphicData uri="http://schemas.openxmlformats.org/drawingml/2006/table">
            <a:tbl>
              <a:tblPr/>
              <a:tblGrid>
                <a:gridCol w="874440"/>
                <a:gridCol w="554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2" name=""/>
          <p:cNvSpPr/>
          <p:nvPr/>
        </p:nvSpPr>
        <p:spPr>
          <a:xfrm>
            <a:off x="1600200" y="4876920"/>
            <a:ext cx="990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457200" y="5540400"/>
          <a:ext cx="1428480" cy="520560"/>
        </p:xfrm>
        <a:graphic>
          <a:graphicData uri="http://schemas.openxmlformats.org/drawingml/2006/table">
            <a:tbl>
              <a:tblPr/>
              <a:tblGrid>
                <a:gridCol w="874440"/>
                <a:gridCol w="554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4" name=""/>
          <p:cNvSpPr/>
          <p:nvPr/>
        </p:nvSpPr>
        <p:spPr>
          <a:xfrm>
            <a:off x="1600200" y="5845320"/>
            <a:ext cx="990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666880" y="5448240"/>
            <a:ext cx="2438640" cy="102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2755800" y="5618160"/>
          <a:ext cx="2197080" cy="395280"/>
        </p:xfrm>
        <a:graphic>
          <a:graphicData uri="http://schemas.openxmlformats.org/drawingml/2006/table">
            <a:tbl>
              <a:tblPr/>
              <a:tblGrid>
                <a:gridCol w="336600"/>
                <a:gridCol w="685800"/>
                <a:gridCol w="488880"/>
                <a:gridCol w="6858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7" name=""/>
          <p:cNvGraphicFramePr/>
          <p:nvPr/>
        </p:nvGraphicFramePr>
        <p:xfrm>
          <a:off x="7696080" y="3429000"/>
          <a:ext cx="1022040" cy="395280"/>
        </p:xfrm>
        <a:graphic>
          <a:graphicData uri="http://schemas.openxmlformats.org/drawingml/2006/table">
            <a:tbl>
              <a:tblPr/>
              <a:tblGrid>
                <a:gridCol w="336240"/>
                <a:gridCol w="6858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8" name=""/>
          <p:cNvGraphicFramePr/>
          <p:nvPr/>
        </p:nvGraphicFramePr>
        <p:xfrm>
          <a:off x="7086600" y="3886200"/>
          <a:ext cx="1631880" cy="395280"/>
        </p:xfrm>
        <a:graphic>
          <a:graphicData uri="http://schemas.openxmlformats.org/drawingml/2006/table">
            <a:tbl>
              <a:tblPr/>
              <a:tblGrid>
                <a:gridCol w="946080"/>
                <a:gridCol w="6858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th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mparing different typ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 p = new Point(7, 2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.equals("hello"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should be fals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urrently our method crashes on the above cod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Exception in thread "main"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java.lang.ClassCastException: java.lang.Str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at Point.equals(Point.java:25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at PointMain.main(PointMain.java:25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culprit is the line with the type-cast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boolean equals(Object o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a50021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a50021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a50021"/>
                </a:solidFill>
                <a:latin typeface="Courier New"/>
              </a:rPr>
              <a:t>Point other = (Point) o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instanceof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keywor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variab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nstanceof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statement(s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ks if a variable refer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n object of a given typ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Used as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tes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224"/>
              </a:spcBef>
              <a:buNone/>
              <a:tabLst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224"/>
              </a:spcBef>
              <a:buNone/>
              <a:tabLst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 s = "hello"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 p = new Point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4865760" y="3084480"/>
          <a:ext cx="4201920" cy="3316320"/>
        </p:xfrm>
        <a:graphic>
          <a:graphicData uri="http://schemas.openxmlformats.org/drawingml/2006/table">
            <a:tbl>
              <a:tblPr/>
              <a:tblGrid>
                <a:gridCol w="3187440"/>
                <a:gridCol w="10144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xpress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sul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 instanceof Poi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a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 instanceof Str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 instanceof Poi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 instanceof Str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a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 instanceof Obje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 instanceof Obje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ll instanceof Str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a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ll instanceof Obje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a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Final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equals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metho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Returns whether o refers to a Point object with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the same (x, y) coordinates as this Poin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boolean equals(Object o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 (o instanceof Point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o is a Point; cast and compare i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 other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(Point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o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x == other.x &amp;&amp; y == other.y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o is not a Point; cannot be equa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return false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Is-a relationships, hierarchies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s-a relationshi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hierarchical connection where one category can be treated as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pecialized version of anoth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very marketer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is a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employe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very legal secretary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is a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secretar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heritance hierarch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set of classes connected by is-a relationships that can share common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7" name="Picture 3" descr=""/>
          <p:cNvPicPr/>
          <p:nvPr/>
        </p:nvPicPr>
        <p:blipFill>
          <a:blip r:embed="rId1"/>
          <a:srcRect l="6013" t="0" r="0" b="45385"/>
          <a:stretch/>
        </p:blipFill>
        <p:spPr>
          <a:xfrm>
            <a:off x="2479680" y="4114800"/>
            <a:ext cx="3844800" cy="2131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Polymorphism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olymorphism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olymorphis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bility for the same code to be used with different types of objects and behave differently with each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an print any type of objec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ch one displays in its own way on the conso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ritterMai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an interact with any type of critt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ch one moves, fights, etc. in its own wa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ding with polymorphism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A variable of type </a:t>
            </a:r>
            <a:r>
              <a:rPr b="0" i="1" lang="en-US" sz="23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 can hold an object of any subclass of </a:t>
            </a:r>
            <a:r>
              <a:rPr b="0" i="1" lang="en-US" sz="23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mployee e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= new Lawyer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You can call any methods from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mploye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lass o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3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a method is called o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it behaves a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awy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d.getSalary(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   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50000.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d.getVacationForm(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p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Tahoma"/>
              </a:rPr>
              <a:t>Polymorphism and parameters</a:t>
            </a:r>
            <a:endParaRPr b="1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can pass any subtype of a parameter's typ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60000"/>
              </a:lnSpc>
              <a:spcBef>
                <a:spcPts val="224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60000"/>
              </a:lnSpc>
              <a:spcBef>
                <a:spcPts val="224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EmployeeMain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Lawyer lisa = new Lawyer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ecretary steve = new Secretary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intInfo(lisa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intInfo(steve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printInfo(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mployee empl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salary: " + empl.getSalary()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v.days: " + empl.getVacationDays()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v.form: " + empl.getVacationForm()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UTPUT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60000"/>
              </a:lnSpc>
              <a:spcBef>
                <a:spcPts val="224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alary: 50000.0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alary: 50000.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v.days: 15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v.days: 1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v.form: pink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v.form: yellow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"/>
          <p:cNvSpPr/>
          <p:nvPr/>
        </p:nvSpPr>
        <p:spPr>
          <a:xfrm>
            <a:off x="3657600" y="2971800"/>
            <a:ext cx="2379600" cy="566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733920" y="3200400"/>
            <a:ext cx="2157120" cy="34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olymorphism and array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rrays of superclass types can store any subtype as element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6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EmployeeMain2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mployee[] e = { new Lawyer(),   new Secretary(),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ew Marketer(), new LegalSecretary() }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 (int i = 0; i &lt; e.length; i++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salary: " +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[i].getSalary()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v.days: " +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[i].getVacationDays()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utput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5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alary: 50000.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v.days: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6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alary: 50000.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v.days: 1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6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alary: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60000.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v.days: 1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6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alary: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55000.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v.days: 1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olymorphism problem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-5 classes with inheritance relationships are show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lient program calls methods on objects of each clas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must read the code and determine the client's outpu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always put such a question on our final exams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 polymorphism problem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uppose that the following four classes have been declared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Foo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method1(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foo 1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method2(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foo 2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ring toString(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"foo"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Bar extends Foo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method2(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bar 2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 polymorphism problem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Baz extends Foo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method1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baz 1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ring toString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"baz"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Mumble extends Baz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method2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mumble 2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48040" indent="-2480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would be the output of the following client cod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6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o[] pity = {new Baz(), new Bar(), new Mumble(), new Foo()}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0; i &lt; pity.length; i++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ity[i]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ity[i].method1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ity[i].method2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classes from top (superclass) to bottom (subclass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 all inherited method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5" name="Picture 4" descr=""/>
          <p:cNvPicPr/>
          <p:nvPr/>
        </p:nvPicPr>
        <p:blipFill>
          <a:blip r:embed="rId1"/>
          <a:stretch/>
        </p:blipFill>
        <p:spPr>
          <a:xfrm>
            <a:off x="3816360" y="2438280"/>
            <a:ext cx="1744560" cy="114624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5" descr=""/>
          <p:cNvPicPr/>
          <p:nvPr/>
        </p:nvPicPr>
        <p:blipFill>
          <a:blip r:embed="rId2"/>
          <a:stretch/>
        </p:blipFill>
        <p:spPr>
          <a:xfrm>
            <a:off x="2424240" y="2440080"/>
            <a:ext cx="3139920" cy="254160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6" descr=""/>
          <p:cNvPicPr/>
          <p:nvPr/>
        </p:nvPicPr>
        <p:blipFill>
          <a:blip r:embed="rId3"/>
          <a:stretch/>
        </p:blipFill>
        <p:spPr>
          <a:xfrm>
            <a:off x="2438280" y="2443320"/>
            <a:ext cx="4527720" cy="253656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7" descr=""/>
          <p:cNvPicPr/>
          <p:nvPr/>
        </p:nvPicPr>
        <p:blipFill>
          <a:blip r:embed="rId4"/>
          <a:stretch/>
        </p:blipFill>
        <p:spPr>
          <a:xfrm>
            <a:off x="2432160" y="2441520"/>
            <a:ext cx="4724280" cy="3828960"/>
          </a:xfrm>
          <a:prstGeom prst="rect">
            <a:avLst/>
          </a:prstGeom>
          <a:ln w="0">
            <a:noFill/>
          </a:ln>
        </p:spPr>
      </p:pic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Diagramming the class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Finding output with tabl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762120" y="1752480"/>
          <a:ext cx="7619760" cy="2966760"/>
        </p:xfrm>
        <a:graphic>
          <a:graphicData uri="http://schemas.openxmlformats.org/drawingml/2006/table">
            <a:tbl>
              <a:tblPr/>
              <a:tblGrid>
                <a:gridCol w="1523880"/>
                <a:gridCol w="1523880"/>
                <a:gridCol w="1524240"/>
                <a:gridCol w="1523880"/>
                <a:gridCol w="1523880"/>
              </a:tblGrid>
              <a:tr h="74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eth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Fo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B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Ba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um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method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method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oStr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32" name=""/>
          <p:cNvGraphicFramePr/>
          <p:nvPr/>
        </p:nvGraphicFramePr>
        <p:xfrm>
          <a:off x="762120" y="1757520"/>
          <a:ext cx="7619760" cy="2966760"/>
        </p:xfrm>
        <a:graphic>
          <a:graphicData uri="http://schemas.openxmlformats.org/drawingml/2006/table">
            <a:tbl>
              <a:tblPr/>
              <a:tblGrid>
                <a:gridCol w="1523880"/>
                <a:gridCol w="1523880"/>
                <a:gridCol w="1524240"/>
                <a:gridCol w="1523880"/>
                <a:gridCol w="1523880"/>
              </a:tblGrid>
              <a:tr h="740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eth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Fo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B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Ba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um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method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foo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baz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method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foo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bar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mumble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oStr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fo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ba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33" name=""/>
          <p:cNvGraphicFramePr/>
          <p:nvPr/>
        </p:nvGraphicFramePr>
        <p:xfrm>
          <a:off x="762120" y="1752480"/>
          <a:ext cx="7619760" cy="2966760"/>
        </p:xfrm>
        <a:graphic>
          <a:graphicData uri="http://schemas.openxmlformats.org/drawingml/2006/table">
            <a:tbl>
              <a:tblPr/>
              <a:tblGrid>
                <a:gridCol w="1523880"/>
                <a:gridCol w="1523880"/>
                <a:gridCol w="1524240"/>
                <a:gridCol w="1523880"/>
                <a:gridCol w="1523880"/>
              </a:tblGrid>
              <a:tr h="74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eth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Fo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B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Ba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um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method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foo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foo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baz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baz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method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foo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bar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foo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mumble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oStr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fo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fo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ba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ba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mployee regula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der the following employee regulation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mployees work 40 hours / week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mployees make $40,000 per year, except legal secretaries who make $5,000 extra per year ($45,000 total), and marketers who make $10,000 extra per year ($50,000 total)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mployees have 2 weeks of paid vacation leave per year, except lawyers who get an extra week (a total of 3)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mployees should use a yellow form to apply for leave, except for lawyers who use a pink form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ch type of employee has some unique behavior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awyers know how to su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rketers know how to advertis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cretaries know how to take dictation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egal secretaries know how to prepare legal document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olymorphism answe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o[] pity = {new Baz(), new Bar(), new Mumble(), new Foo()}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61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0; i &lt; pity.length; i++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617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pity[i]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617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ity[i].method1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617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ity[i].method2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617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61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617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61720" indent="-26172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pu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az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az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o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o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ar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az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az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umble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o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o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nother problem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order of the classes is jumbled up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methods sometimes call other methods (tricky!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Lamb extends Ham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b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"Lamb b   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Ham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a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"Ham a   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b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"Ham b   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ring toString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"Ham"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nother problem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lvl="1" marL="56916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Spam extends Yam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6916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b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6916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"Spam b   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6916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6916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6916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6916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Yam extends Lamb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6916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a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6916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"Yam a   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6916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uper.a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6916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6916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6916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ring toString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6916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"Yam"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6916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6916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6916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42640" indent="-2426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would be the output of the following client cod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6916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69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Ham[] food = {new Lamb(), new Ham(), new Spam(), new Yam()}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69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0; i &lt; food.length; i++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69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od[i]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69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od[i].a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69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);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to end the line of outp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69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od[i].b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69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);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to end the line of outp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69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69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ass diagram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1" name="Picture 9" descr="HamLambYamSpam_noanswers"/>
          <p:cNvPicPr/>
          <p:nvPr/>
        </p:nvPicPr>
        <p:blipFill>
          <a:blip r:embed="rId1"/>
          <a:stretch/>
        </p:blipFill>
        <p:spPr>
          <a:xfrm>
            <a:off x="3809880" y="1295280"/>
            <a:ext cx="1204920" cy="533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olymorphism at work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amb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nherit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Ha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'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all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 Bu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amb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verrid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Ham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a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"Ham a   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b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"Ham b   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ring toString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"Ham"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Lamb extends Ham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void b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ystem.out.print("Lamb b   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48040" indent="-248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amb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's output fro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Ham a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Lamb b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tabl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45" name=""/>
          <p:cNvGraphicFramePr/>
          <p:nvPr/>
        </p:nvGraphicFramePr>
        <p:xfrm>
          <a:off x="152280" y="1600200"/>
          <a:ext cx="8915400" cy="4724280"/>
        </p:xfrm>
        <a:graphic>
          <a:graphicData uri="http://schemas.openxmlformats.org/drawingml/2006/table">
            <a:tbl>
              <a:tblPr/>
              <a:tblGrid>
                <a:gridCol w="1371600"/>
                <a:gridCol w="1905120"/>
                <a:gridCol w="1905120"/>
                <a:gridCol w="1828800"/>
                <a:gridCol w="190476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eth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Lam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Y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p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93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98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9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oStr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6" name=""/>
          <p:cNvGraphicFramePr/>
          <p:nvPr/>
        </p:nvGraphicFramePr>
        <p:xfrm>
          <a:off x="152280" y="1600200"/>
          <a:ext cx="8915400" cy="4724280"/>
        </p:xfrm>
        <a:graphic>
          <a:graphicData uri="http://schemas.openxmlformats.org/drawingml/2006/table">
            <a:tbl>
              <a:tblPr/>
              <a:tblGrid>
                <a:gridCol w="1371600"/>
                <a:gridCol w="1905120"/>
                <a:gridCol w="1905120"/>
                <a:gridCol w="1828800"/>
                <a:gridCol w="190476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eth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Lam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Y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p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93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Ham 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b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Yam 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Ham 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b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98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Ham 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Lamb 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pam 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9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oStr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Y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7" name=""/>
          <p:cNvGraphicFramePr/>
          <p:nvPr/>
        </p:nvGraphicFramePr>
        <p:xfrm>
          <a:off x="152280" y="1600200"/>
          <a:ext cx="8915400" cy="4724280"/>
        </p:xfrm>
        <a:graphic>
          <a:graphicData uri="http://schemas.openxmlformats.org/drawingml/2006/table">
            <a:tbl>
              <a:tblPr/>
              <a:tblGrid>
                <a:gridCol w="1371600"/>
                <a:gridCol w="1905120"/>
                <a:gridCol w="1905120"/>
                <a:gridCol w="1828800"/>
                <a:gridCol w="190476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eth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Lam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Y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p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93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Ham 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b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Ham 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b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Yam 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Ham 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b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Yam 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Ham 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b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98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Ham 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Lamb 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Lamb 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pam 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9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oStr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Y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Y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answe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Ham[] food = {new Lamb(), new Ham(), new Spam(), new Yam()}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56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0; i &lt; food.length; i++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56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food[i]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56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od[i].a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56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od[i].b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56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56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0">
              <a:lnSpc>
                <a:spcPct val="7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pu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am a   Lamb 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amb 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am a   Ham 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am 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Y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Yam a   Ham a   Spam 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pam 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Y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Yam a   Ham a   Lamb 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amb 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2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2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2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2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24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24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24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24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24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249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249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249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249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asting referenc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A variable can only call that type's methods, not a subtype's.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mployee e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= new Lawyer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hours = ed.getHours();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ok; it's in Employ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ed.sue()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compiler err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3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compiler's reasoning is, variabl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ould store any kind of employee, and not all kinds know how to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u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3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us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awy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s o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we can type-cast i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awyer theRealEd = (Lawyer) ed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heRealEd.sue();           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o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((Lawyer) ed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sue();       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shorter ver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ore about casting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-227160">
              <a:spcBef>
                <a:spcPts val="57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The code crashes if you cast an object too far down the tree.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mployee eric 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ew Secretary(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(Secretary) eric).takeDictation("hi");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o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((LegalSecretary) eric).fileLegalBriefs();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excep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8080"/>
                </a:solidFill>
                <a:latin typeface="Courier New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(Secretary object doesn't know how to file brief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can cast only up and down the tree, not sideway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awyer linda = new Lawyer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((Secretary) linda).takeDictation("hi");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err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ting doesn't actually change the object's behavior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just gets the code to compile/ru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(Employee) linda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getVacationForm()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pink (Lawyer'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nother 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Assume that the following classes have been declare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class Snow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void method2(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"Snow 2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void method3(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"Snow 3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class Rain extends Snow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void method1(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"Rain 1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void method2(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"Rain 2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n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Employe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clas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A class to represent employees in general (20-page manual)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Employee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int getHours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40;       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works 40 hours / week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double getSalary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40000.0;  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$40,000.00 / yea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int getVacationDays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10;       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2 weeks' paid vacatio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ring getVacationForm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"yellow"; 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use the yellow form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ercise: Implement clas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cretar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based on the previous employee regulations.  (Secretaries can take dictation.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01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lvl="1" marL="587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class Sleet extends Snow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void method2(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"Sleet 2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uper.method2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method3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void method3(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"Sleet 3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class Fog extends Sleet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void method1(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"Fog 1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void method3(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"Fog 3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253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What happens when the following examples are executed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Example 1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now var1 = new Sleet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var1.method2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Example 2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now var2 = new Rain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var2.method1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Example 3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now var3 = new Rain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(Sleet) var3).method3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echnique 1: diagram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agram the classes from top (superclass) to bottom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62" name="Group 20" descr=""/>
          <p:cNvPicPr/>
          <p:nvPr/>
        </p:nvPicPr>
        <p:blipFill>
          <a:blip r:embed="rId1"/>
          <a:stretch/>
        </p:blipFill>
        <p:spPr>
          <a:xfrm>
            <a:off x="3797280" y="2120760"/>
            <a:ext cx="1092240" cy="1013040"/>
          </a:xfrm>
          <a:prstGeom prst="rect">
            <a:avLst/>
          </a:prstGeom>
          <a:ln w="0">
            <a:noFill/>
          </a:ln>
        </p:spPr>
      </p:pic>
      <p:pic>
        <p:nvPicPr>
          <p:cNvPr id="263" name="Group 21" descr=""/>
          <p:cNvPicPr/>
          <p:nvPr/>
        </p:nvPicPr>
        <p:blipFill>
          <a:blip r:embed="rId2"/>
          <a:stretch/>
        </p:blipFill>
        <p:spPr>
          <a:xfrm>
            <a:off x="2352600" y="3571920"/>
            <a:ext cx="1085760" cy="1238040"/>
          </a:xfrm>
          <a:prstGeom prst="rect">
            <a:avLst/>
          </a:prstGeom>
          <a:ln w="0">
            <a:noFill/>
          </a:ln>
        </p:spPr>
      </p:pic>
      <p:pic>
        <p:nvPicPr>
          <p:cNvPr id="264" name="Group 22" descr=""/>
          <p:cNvPicPr/>
          <p:nvPr/>
        </p:nvPicPr>
        <p:blipFill>
          <a:blip r:embed="rId3"/>
          <a:stretch/>
        </p:blipFill>
        <p:spPr>
          <a:xfrm>
            <a:off x="5168880" y="5016600"/>
            <a:ext cx="1092240" cy="1244520"/>
          </a:xfrm>
          <a:prstGeom prst="rect">
            <a:avLst/>
          </a:prstGeom>
          <a:ln w="0">
            <a:noFill/>
          </a:ln>
        </p:spPr>
      </p:pic>
      <p:pic>
        <p:nvPicPr>
          <p:cNvPr id="265" name="Group 19" descr=""/>
          <p:cNvPicPr/>
          <p:nvPr/>
        </p:nvPicPr>
        <p:blipFill>
          <a:blip r:embed="rId4"/>
          <a:stretch/>
        </p:blipFill>
        <p:spPr>
          <a:xfrm>
            <a:off x="5168880" y="3571920"/>
            <a:ext cx="1092240" cy="1012680"/>
          </a:xfrm>
          <a:prstGeom prst="rect">
            <a:avLst/>
          </a:prstGeom>
          <a:ln w="0">
            <a:noFill/>
          </a:ln>
        </p:spPr>
      </p:pic>
      <p:cxnSp>
        <p:nvCxnSpPr>
          <p:cNvPr id="266" name="Elbow Connector 28"/>
          <p:cNvCxnSpPr/>
          <p:nvPr/>
        </p:nvCxnSpPr>
        <p:spPr>
          <a:xfrm flipV="1" rot="16200000">
            <a:off x="4800240" y="2666160"/>
            <a:ext cx="457920" cy="1372320"/>
          </a:xfrm>
          <a:prstGeom prst="bentConnector3">
            <a:avLst>
              <a:gd name="adj1" fmla="val 49960"/>
            </a:avLst>
          </a:prstGeom>
          <a:ln w="9360">
            <a:solidFill>
              <a:srgbClr val="000000"/>
            </a:solidFill>
            <a:round/>
            <a:tailEnd len="lg" type="triangle" w="lg"/>
          </a:ln>
        </p:spPr>
      </p:cxnSp>
      <p:cxnSp>
        <p:nvCxnSpPr>
          <p:cNvPr id="267" name="Elbow Connector 32"/>
          <p:cNvCxnSpPr/>
          <p:nvPr/>
        </p:nvCxnSpPr>
        <p:spPr>
          <a:xfrm flipH="1" flipV="1" rot="5400000">
            <a:off x="3390480" y="2628360"/>
            <a:ext cx="457920" cy="1448640"/>
          </a:xfrm>
          <a:prstGeom prst="bentConnector3">
            <a:avLst>
              <a:gd name="adj1" fmla="val 49960"/>
            </a:avLst>
          </a:prstGeom>
          <a:ln w="9360">
            <a:solidFill>
              <a:srgbClr val="000000"/>
            </a:solidFill>
            <a:round/>
            <a:tailEnd len="lg" type="triangle" w="lg"/>
          </a:ln>
        </p:spPr>
      </p:cxnSp>
      <p:cxnSp>
        <p:nvCxnSpPr>
          <p:cNvPr id="268" name="Straight Arrow Connector 42"/>
          <p:cNvCxnSpPr/>
          <p:nvPr/>
        </p:nvCxnSpPr>
        <p:spPr>
          <a:xfrm flipV="1">
            <a:off x="5713560" y="4573080"/>
            <a:ext cx="36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echnique 2: tabl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70" name=""/>
          <p:cNvGraphicFramePr/>
          <p:nvPr/>
        </p:nvGraphicFramePr>
        <p:xfrm>
          <a:off x="152280" y="1523880"/>
          <a:ext cx="8915400" cy="3772080"/>
        </p:xfrm>
        <a:graphic>
          <a:graphicData uri="http://schemas.openxmlformats.org/drawingml/2006/table">
            <a:tbl>
              <a:tblPr/>
              <a:tblGrid>
                <a:gridCol w="1371600"/>
                <a:gridCol w="1905120"/>
                <a:gridCol w="1905120"/>
                <a:gridCol w="1828800"/>
                <a:gridCol w="19047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eth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no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a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le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Fo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method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method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method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1" name="TextBox 9"/>
          <p:cNvSpPr/>
          <p:nvPr/>
        </p:nvSpPr>
        <p:spPr>
          <a:xfrm>
            <a:off x="3206160" y="5530680"/>
            <a:ext cx="323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7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Italic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- inherited behavi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7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Bold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- dynamic method c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2" name=""/>
          <p:cNvGraphicFramePr/>
          <p:nvPr/>
        </p:nvGraphicFramePr>
        <p:xfrm>
          <a:off x="152280" y="1523880"/>
          <a:ext cx="8915400" cy="3775320"/>
        </p:xfrm>
        <a:graphic>
          <a:graphicData uri="http://schemas.openxmlformats.org/drawingml/2006/table">
            <a:tbl>
              <a:tblPr/>
              <a:tblGrid>
                <a:gridCol w="1371600"/>
                <a:gridCol w="1905120"/>
                <a:gridCol w="1905120"/>
                <a:gridCol w="1828800"/>
                <a:gridCol w="19047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eth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no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a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le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Fo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method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Rain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Fog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method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now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Rain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leet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now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method3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leet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now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method3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method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now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now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leet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Fog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3" name="Straight Connector 4"/>
          <p:cNvSpPr/>
          <p:nvPr/>
        </p:nvSpPr>
        <p:spPr>
          <a:xfrm flipV="1">
            <a:off x="1523880" y="1981080"/>
            <a:ext cx="190512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Straight Connector 6"/>
          <p:cNvSpPr/>
          <p:nvPr/>
        </p:nvSpPr>
        <p:spPr>
          <a:xfrm flipV="1">
            <a:off x="5334120" y="1981080"/>
            <a:ext cx="182880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ample 1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Snow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1 = new </a:t>
            </a:r>
            <a:r>
              <a:rPr b="0" lang="en-US" sz="2000" spc="-1" strike="noStrike">
                <a:solidFill>
                  <a:srgbClr val="ff0000"/>
                </a:solidFill>
                <a:latin typeface="Courier New"/>
                <a:ea typeface="Courier New"/>
              </a:rPr>
              <a:t>Sle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var1.method2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pu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leet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now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leet 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77" name="Group 20" descr=""/>
          <p:cNvPicPr/>
          <p:nvPr/>
        </p:nvPicPr>
        <p:blipFill>
          <a:blip r:embed="rId1"/>
          <a:stretch/>
        </p:blipFill>
        <p:spPr>
          <a:xfrm>
            <a:off x="6083280" y="2120760"/>
            <a:ext cx="1092240" cy="1013040"/>
          </a:xfrm>
          <a:prstGeom prst="rect">
            <a:avLst/>
          </a:prstGeom>
          <a:ln w="0">
            <a:noFill/>
          </a:ln>
        </p:spPr>
      </p:pic>
      <p:pic>
        <p:nvPicPr>
          <p:cNvPr id="278" name="Group 21" descr=""/>
          <p:cNvPicPr/>
          <p:nvPr/>
        </p:nvPicPr>
        <p:blipFill>
          <a:blip r:embed="rId2"/>
          <a:stretch/>
        </p:blipFill>
        <p:spPr>
          <a:xfrm>
            <a:off x="4638600" y="3571920"/>
            <a:ext cx="1085760" cy="1238040"/>
          </a:xfrm>
          <a:prstGeom prst="rect">
            <a:avLst/>
          </a:prstGeom>
          <a:ln w="0">
            <a:noFill/>
          </a:ln>
        </p:spPr>
      </p:pic>
      <p:pic>
        <p:nvPicPr>
          <p:cNvPr id="279" name="Group 22" descr=""/>
          <p:cNvPicPr/>
          <p:nvPr/>
        </p:nvPicPr>
        <p:blipFill>
          <a:blip r:embed="rId3"/>
          <a:stretch/>
        </p:blipFill>
        <p:spPr>
          <a:xfrm>
            <a:off x="7454880" y="5016600"/>
            <a:ext cx="1092240" cy="1244520"/>
          </a:xfrm>
          <a:prstGeom prst="rect">
            <a:avLst/>
          </a:prstGeom>
          <a:ln w="0">
            <a:noFill/>
          </a:ln>
        </p:spPr>
      </p:pic>
      <p:pic>
        <p:nvPicPr>
          <p:cNvPr id="280" name="Group 19" descr=""/>
          <p:cNvPicPr/>
          <p:nvPr/>
        </p:nvPicPr>
        <p:blipFill>
          <a:blip r:embed="rId4"/>
          <a:stretch/>
        </p:blipFill>
        <p:spPr>
          <a:xfrm>
            <a:off x="7454880" y="3571920"/>
            <a:ext cx="1092240" cy="1012680"/>
          </a:xfrm>
          <a:prstGeom prst="rect">
            <a:avLst/>
          </a:prstGeom>
          <a:ln w="0">
            <a:noFill/>
          </a:ln>
        </p:spPr>
      </p:pic>
      <p:cxnSp>
        <p:nvCxnSpPr>
          <p:cNvPr id="281" name="Elbow Connector 28"/>
          <p:cNvCxnSpPr/>
          <p:nvPr/>
        </p:nvCxnSpPr>
        <p:spPr>
          <a:xfrm flipV="1" rot="16200000">
            <a:off x="7086240" y="2666160"/>
            <a:ext cx="457920" cy="1372320"/>
          </a:xfrm>
          <a:prstGeom prst="bentConnector3">
            <a:avLst>
              <a:gd name="adj1" fmla="val 49960"/>
            </a:avLst>
          </a:prstGeom>
          <a:ln w="9360">
            <a:solidFill>
              <a:srgbClr val="000000"/>
            </a:solidFill>
            <a:round/>
            <a:tailEnd len="lg" type="triangle" w="lg"/>
          </a:ln>
        </p:spPr>
      </p:cxnSp>
      <p:cxnSp>
        <p:nvCxnSpPr>
          <p:cNvPr id="282" name="Elbow Connector 32"/>
          <p:cNvCxnSpPr/>
          <p:nvPr/>
        </p:nvCxnSpPr>
        <p:spPr>
          <a:xfrm flipH="1" flipV="1" rot="5400000">
            <a:off x="5676480" y="2628360"/>
            <a:ext cx="457920" cy="1448640"/>
          </a:xfrm>
          <a:prstGeom prst="bentConnector3">
            <a:avLst>
              <a:gd name="adj1" fmla="val 49960"/>
            </a:avLst>
          </a:prstGeom>
          <a:ln w="9360">
            <a:solidFill>
              <a:srgbClr val="000000"/>
            </a:solidFill>
            <a:round/>
            <a:tailEnd len="lg" type="triangle" w="lg"/>
          </a:ln>
        </p:spPr>
      </p:cxnSp>
      <p:cxnSp>
        <p:nvCxnSpPr>
          <p:cNvPr id="283" name="Straight Arrow Connector 42"/>
          <p:cNvCxnSpPr/>
          <p:nvPr/>
        </p:nvCxnSpPr>
        <p:spPr>
          <a:xfrm flipV="1">
            <a:off x="7999560" y="4573080"/>
            <a:ext cx="36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284" name="TextBox 25"/>
          <p:cNvSpPr/>
          <p:nvPr/>
        </p:nvSpPr>
        <p:spPr>
          <a:xfrm>
            <a:off x="8001000" y="3200400"/>
            <a:ext cx="9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ＭＳ Ｐゴシック"/>
              </a:rPr>
              <a:t>ob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Box 26"/>
          <p:cNvSpPr/>
          <p:nvPr/>
        </p:nvSpPr>
        <p:spPr>
          <a:xfrm>
            <a:off x="6019920" y="17524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vari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ample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Snow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2 = new </a:t>
            </a:r>
            <a:r>
              <a:rPr b="0" lang="en-US" sz="2000" spc="-1" strike="noStrike">
                <a:solidFill>
                  <a:srgbClr val="ff0000"/>
                </a:solidFill>
                <a:latin typeface="Courier New"/>
                <a:ea typeface="Courier New"/>
              </a:rPr>
              <a:t>Rain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var2.method1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pu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Non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There is an error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becaus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now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 does no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have a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method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88" name="Group 20" descr=""/>
          <p:cNvPicPr/>
          <p:nvPr/>
        </p:nvPicPr>
        <p:blipFill>
          <a:blip r:embed="rId1"/>
          <a:stretch/>
        </p:blipFill>
        <p:spPr>
          <a:xfrm>
            <a:off x="6083280" y="2120760"/>
            <a:ext cx="1092240" cy="1013040"/>
          </a:xfrm>
          <a:prstGeom prst="rect">
            <a:avLst/>
          </a:prstGeom>
          <a:ln w="0">
            <a:noFill/>
          </a:ln>
        </p:spPr>
      </p:pic>
      <p:pic>
        <p:nvPicPr>
          <p:cNvPr id="289" name="Group 21" descr=""/>
          <p:cNvPicPr/>
          <p:nvPr/>
        </p:nvPicPr>
        <p:blipFill>
          <a:blip r:embed="rId2"/>
          <a:stretch/>
        </p:blipFill>
        <p:spPr>
          <a:xfrm>
            <a:off x="4638600" y="3571920"/>
            <a:ext cx="1085760" cy="1238040"/>
          </a:xfrm>
          <a:prstGeom prst="rect">
            <a:avLst/>
          </a:prstGeom>
          <a:ln w="0">
            <a:noFill/>
          </a:ln>
        </p:spPr>
      </p:pic>
      <p:pic>
        <p:nvPicPr>
          <p:cNvPr id="290" name="Group 22" descr=""/>
          <p:cNvPicPr/>
          <p:nvPr/>
        </p:nvPicPr>
        <p:blipFill>
          <a:blip r:embed="rId3"/>
          <a:stretch/>
        </p:blipFill>
        <p:spPr>
          <a:xfrm>
            <a:off x="7454880" y="5016600"/>
            <a:ext cx="1092240" cy="1244520"/>
          </a:xfrm>
          <a:prstGeom prst="rect">
            <a:avLst/>
          </a:prstGeom>
          <a:ln w="0">
            <a:noFill/>
          </a:ln>
        </p:spPr>
      </p:pic>
      <p:pic>
        <p:nvPicPr>
          <p:cNvPr id="291" name="Group 19" descr=""/>
          <p:cNvPicPr/>
          <p:nvPr/>
        </p:nvPicPr>
        <p:blipFill>
          <a:blip r:embed="rId4"/>
          <a:stretch/>
        </p:blipFill>
        <p:spPr>
          <a:xfrm>
            <a:off x="7454880" y="3571920"/>
            <a:ext cx="1092240" cy="1012680"/>
          </a:xfrm>
          <a:prstGeom prst="rect">
            <a:avLst/>
          </a:prstGeom>
          <a:ln w="0">
            <a:noFill/>
          </a:ln>
        </p:spPr>
      </p:pic>
      <p:cxnSp>
        <p:nvCxnSpPr>
          <p:cNvPr id="292" name="Elbow Connector 28"/>
          <p:cNvCxnSpPr/>
          <p:nvPr/>
        </p:nvCxnSpPr>
        <p:spPr>
          <a:xfrm flipV="1" rot="16200000">
            <a:off x="7086240" y="2666160"/>
            <a:ext cx="457920" cy="1372320"/>
          </a:xfrm>
          <a:prstGeom prst="bentConnector3">
            <a:avLst>
              <a:gd name="adj1" fmla="val 49960"/>
            </a:avLst>
          </a:prstGeom>
          <a:ln w="9360">
            <a:solidFill>
              <a:srgbClr val="000000"/>
            </a:solidFill>
            <a:round/>
            <a:tailEnd len="lg" type="triangle" w="lg"/>
          </a:ln>
        </p:spPr>
      </p:cxnSp>
      <p:cxnSp>
        <p:nvCxnSpPr>
          <p:cNvPr id="293" name="Elbow Connector 32"/>
          <p:cNvCxnSpPr/>
          <p:nvPr/>
        </p:nvCxnSpPr>
        <p:spPr>
          <a:xfrm flipH="1" flipV="1" rot="5400000">
            <a:off x="5676480" y="2628360"/>
            <a:ext cx="457920" cy="1448640"/>
          </a:xfrm>
          <a:prstGeom prst="bentConnector3">
            <a:avLst>
              <a:gd name="adj1" fmla="val 49960"/>
            </a:avLst>
          </a:prstGeom>
          <a:ln w="9360">
            <a:solidFill>
              <a:srgbClr val="000000"/>
            </a:solidFill>
            <a:round/>
            <a:tailEnd len="lg" type="triangle" w="lg"/>
          </a:ln>
        </p:spPr>
      </p:cxnSp>
      <p:cxnSp>
        <p:nvCxnSpPr>
          <p:cNvPr id="294" name="Straight Arrow Connector 42"/>
          <p:cNvCxnSpPr/>
          <p:nvPr/>
        </p:nvCxnSpPr>
        <p:spPr>
          <a:xfrm flipV="1">
            <a:off x="7999560" y="4573080"/>
            <a:ext cx="36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295" name="TextBox 23"/>
          <p:cNvSpPr/>
          <p:nvPr/>
        </p:nvSpPr>
        <p:spPr>
          <a:xfrm>
            <a:off x="6019920" y="17524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vari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Box 24"/>
          <p:cNvSpPr/>
          <p:nvPr/>
        </p:nvSpPr>
        <p:spPr>
          <a:xfrm>
            <a:off x="4191120" y="3200400"/>
            <a:ext cx="99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ＭＳ Ｐゴシック"/>
              </a:rPr>
              <a:t>ob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ample 3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now var3 = new </a:t>
            </a:r>
            <a:r>
              <a:rPr b="0" lang="en-US" sz="2000" spc="-1" strike="noStrike">
                <a:solidFill>
                  <a:srgbClr val="ff0000"/>
                </a:solidFill>
                <a:latin typeface="Courier New"/>
                <a:ea typeface="Courier New"/>
              </a:rPr>
              <a:t>Rain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(</a:t>
            </a:r>
            <a:r>
              <a:rPr b="0" lang="en-US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Sle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) var3).method2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pu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Non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There is an err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because a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ai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 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not a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lee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99" name="Group 20" descr=""/>
          <p:cNvPicPr/>
          <p:nvPr/>
        </p:nvPicPr>
        <p:blipFill>
          <a:blip r:embed="rId1"/>
          <a:stretch/>
        </p:blipFill>
        <p:spPr>
          <a:xfrm>
            <a:off x="6083280" y="2120760"/>
            <a:ext cx="1092240" cy="1013040"/>
          </a:xfrm>
          <a:prstGeom prst="rect">
            <a:avLst/>
          </a:prstGeom>
          <a:ln w="0">
            <a:noFill/>
          </a:ln>
        </p:spPr>
      </p:pic>
      <p:pic>
        <p:nvPicPr>
          <p:cNvPr id="300" name="Group 21" descr=""/>
          <p:cNvPicPr/>
          <p:nvPr/>
        </p:nvPicPr>
        <p:blipFill>
          <a:blip r:embed="rId2"/>
          <a:stretch/>
        </p:blipFill>
        <p:spPr>
          <a:xfrm>
            <a:off x="4638600" y="3571920"/>
            <a:ext cx="1085760" cy="1238040"/>
          </a:xfrm>
          <a:prstGeom prst="rect">
            <a:avLst/>
          </a:prstGeom>
          <a:ln w="0">
            <a:noFill/>
          </a:ln>
        </p:spPr>
      </p:pic>
      <p:pic>
        <p:nvPicPr>
          <p:cNvPr id="301" name="Group 22" descr=""/>
          <p:cNvPicPr/>
          <p:nvPr/>
        </p:nvPicPr>
        <p:blipFill>
          <a:blip r:embed="rId3"/>
          <a:stretch/>
        </p:blipFill>
        <p:spPr>
          <a:xfrm>
            <a:off x="7454880" y="5016600"/>
            <a:ext cx="1092240" cy="1244520"/>
          </a:xfrm>
          <a:prstGeom prst="rect">
            <a:avLst/>
          </a:prstGeom>
          <a:ln w="0">
            <a:noFill/>
          </a:ln>
        </p:spPr>
      </p:pic>
      <p:pic>
        <p:nvPicPr>
          <p:cNvPr id="302" name="Group 19" descr=""/>
          <p:cNvPicPr/>
          <p:nvPr/>
        </p:nvPicPr>
        <p:blipFill>
          <a:blip r:embed="rId4"/>
          <a:stretch/>
        </p:blipFill>
        <p:spPr>
          <a:xfrm>
            <a:off x="7454880" y="3571920"/>
            <a:ext cx="1092240" cy="1012680"/>
          </a:xfrm>
          <a:prstGeom prst="rect">
            <a:avLst/>
          </a:prstGeom>
          <a:ln w="0">
            <a:noFill/>
          </a:ln>
        </p:spPr>
      </p:pic>
      <p:cxnSp>
        <p:nvCxnSpPr>
          <p:cNvPr id="303" name="Elbow Connector 28"/>
          <p:cNvCxnSpPr/>
          <p:nvPr/>
        </p:nvCxnSpPr>
        <p:spPr>
          <a:xfrm flipV="1" rot="16200000">
            <a:off x="7086240" y="2666160"/>
            <a:ext cx="457920" cy="1372320"/>
          </a:xfrm>
          <a:prstGeom prst="bentConnector3">
            <a:avLst>
              <a:gd name="adj1" fmla="val 49960"/>
            </a:avLst>
          </a:prstGeom>
          <a:ln w="9360">
            <a:solidFill>
              <a:srgbClr val="000000"/>
            </a:solidFill>
            <a:round/>
            <a:tailEnd len="lg" type="triangle" w="lg"/>
          </a:ln>
        </p:spPr>
      </p:cxnSp>
      <p:cxnSp>
        <p:nvCxnSpPr>
          <p:cNvPr id="304" name="Elbow Connector 32"/>
          <p:cNvCxnSpPr/>
          <p:nvPr/>
        </p:nvCxnSpPr>
        <p:spPr>
          <a:xfrm flipH="1" flipV="1" rot="5400000">
            <a:off x="5676480" y="2628360"/>
            <a:ext cx="457920" cy="1448640"/>
          </a:xfrm>
          <a:prstGeom prst="bentConnector3">
            <a:avLst>
              <a:gd name="adj1" fmla="val 49960"/>
            </a:avLst>
          </a:prstGeom>
          <a:ln w="9360">
            <a:solidFill>
              <a:srgbClr val="000000"/>
            </a:solidFill>
            <a:round/>
            <a:tailEnd len="lg" type="triangle" w="lg"/>
          </a:ln>
        </p:spPr>
      </p:cxnSp>
      <p:cxnSp>
        <p:nvCxnSpPr>
          <p:cNvPr id="305" name="Straight Arrow Connector 42"/>
          <p:cNvCxnSpPr/>
          <p:nvPr/>
        </p:nvCxnSpPr>
        <p:spPr>
          <a:xfrm flipV="1">
            <a:off x="7999560" y="4573080"/>
            <a:ext cx="36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306" name="TextBox 25"/>
          <p:cNvSpPr/>
          <p:nvPr/>
        </p:nvSpPr>
        <p:spPr>
          <a:xfrm>
            <a:off x="4191120" y="3200400"/>
            <a:ext cx="99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ＭＳ Ｐゴシック"/>
              </a:rPr>
              <a:t>ob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Box 26"/>
          <p:cNvSpPr/>
          <p:nvPr/>
        </p:nvSpPr>
        <p:spPr>
          <a:xfrm>
            <a:off x="8001000" y="320040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vari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Interfaces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latedness of typ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2170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set of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irc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ctang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iang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lass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2170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2170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2170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rtain operations that are common to all shap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2170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erimete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- distance around the outside of the sha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2170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rea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- amount of 2D space occupied by the sha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170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2170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ry shape has them but computes them differentl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hape area, perimete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tangle (as defined by width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heigh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rea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=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w h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erimete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= 2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+ 2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h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le (as defined by radiu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rea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=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erimete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= 2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angle (as defined by side length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an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rea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= √(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-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) (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-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) (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-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)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ere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= ½ (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+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+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erimete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=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+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+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c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4" name=""/>
          <p:cNvSpPr/>
          <p:nvPr/>
        </p:nvSpPr>
        <p:spPr>
          <a:xfrm>
            <a:off x="7238880" y="1981080"/>
            <a:ext cx="1524240" cy="9907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7620120" y="3352680"/>
            <a:ext cx="1143000" cy="11430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6477120" y="5105160"/>
            <a:ext cx="2209680" cy="1219320"/>
            <a:chOff x="6477120" y="5105160"/>
            <a:chExt cx="2209680" cy="1219320"/>
          </a:xfrm>
        </p:grpSpPr>
        <p:sp>
          <p:nvSpPr>
            <p:cNvPr id="317" name=""/>
            <p:cNvSpPr/>
            <p:nvPr/>
          </p:nvSpPr>
          <p:spPr>
            <a:xfrm flipH="1">
              <a:off x="6477120" y="5105520"/>
              <a:ext cx="1218960" cy="1218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6477120" y="5638320"/>
              <a:ext cx="2209680" cy="685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 flipV="1">
              <a:off x="7695720" y="5105160"/>
              <a:ext cx="990360" cy="533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dundant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Secretary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clas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A redundant class to represent secretaries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Secretary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int getHours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40;       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works 40 hours / week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double getSalary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40000.0;  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$40,000.00 / yea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int getVacationDays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10;       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2 weeks' paid vacatio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ring getVacationForm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"yellow"; 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use the yellow form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void takeDictation(String text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ystem.out.println("Taking dictation of text: " + text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mmon behavio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shape classes with method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erime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e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'd like to be able to write client code that treats different kinds of shape objects in the same way, such a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rite a method that prints any shape's area and perimet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eate an array of shapes that could hold a mixture of the various shape object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rite a method that could return a rectangle, a circle, a triangle, or any other shape we've writte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ake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rawingPane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display many shapes on scree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nterfac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15280" indent="-2152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terfac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list of methods that a class can impl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heritance gives you an is-a relationship and code-sharing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50320" indent="-16236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awy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object can be treated as a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mploye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and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awy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nherit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mploye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's cod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terfaces give you an is-a relationship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without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de sharing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50320" indent="-16236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ctangl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object can be treated as a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hap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nalogous to the idea of roles or certification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50320" indent="0">
              <a:spcBef>
                <a:spcPts val="2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2" marL="850320" indent="-16236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"I'm certified as a CPA accountant.  That means I know how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compute taxes, perform audits, and do consulting."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50320" indent="0">
              <a:spcBef>
                <a:spcPts val="2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2" marL="850320" indent="-16236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"I'm certified as a Shape.  That means I know how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compute my area and perimeter."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3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3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32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Declaring an interfac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erface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...,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...,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erface Vehicle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double speed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setDirection(int direction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abstract metho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A header without an implementatio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actual body is not specified, to allow/force different classes to implement the behavior in its own wa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hape interfac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erface Shape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double area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double perimeter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is interface describes the features common to all shapes.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(Every shape has an area and perimeter.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lementing an interfac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mplements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interfac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Bicycl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mplements Vehic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lass can declare that i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mplement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 interfac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is means the class must contain each of the abstract methods in that interface.  (Otherwise, it will not compile.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(What must be true about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Bicycl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lass for it to compile?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nterface requiremen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 class claims to be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hap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but doesn't implement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e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erime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s, it will not compil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Banana </a:t>
            </a:r>
            <a:r>
              <a:rPr b="1" lang="en-US" sz="2200" spc="-1" strike="noStrike">
                <a:solidFill>
                  <a:srgbClr val="a50021"/>
                </a:solidFill>
                <a:latin typeface="Courier New"/>
              </a:rPr>
              <a:t>implements Shap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compiler error messag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Banana.java:1: Banana is not abstract and does not override abstract method area() in Sha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public class Banana implements Shape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             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^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mplete Circle clas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Represents circle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Circle implements Shap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ivate double radius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Constructs a new circle with the given radiu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ircle(double radius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is.radius = radius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Returns the area of this circl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double area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Math.PI * radius * radius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Returns the perimeter of this circl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double perimeter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2.0 * Math.PI * radius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mplete Rectangle clas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Represents rectangle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Rectangle implements Shap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ivate double width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ivate double heigh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Constructs a new rectangle with the given dimension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Rectangle(double width, double height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is.width = width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is.height = heigh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Returns the area of this rectangl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double area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width * heigh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Returns the perimeter of this rectangl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double perimeter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2.0 * (width + height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mplete Triangle clas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Represents triangle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Triangle implements Shap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ivate double a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ivate double b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ivate double c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Constructs a new Triangle given side length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Triangle(double a, double b, double c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is.a = a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is.b = b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is.c = c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Returns this triangle's area using Heron's formula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double area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uble s = (a + b + c) / 2.0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Math.sqrt(s * (s - a) * (s - b) * (s - c)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Returns the perimeter of this triangl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double perimeter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a + b + c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nterfaces + polymorphism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-224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s don't benefit the class so much as 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lient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terface's is-a relationship lets the client use polymorphism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printInfo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hape 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The shape: " + s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area : " + s.area()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perim: " + s.perimeter()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ny object that implements the interface may be passe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ircle circ = new Circle(12.0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ctangle rect = new Rectangle(4, 7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iangle tri = new Triangle(5, 12, 13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ntInfo(circ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ntInfo(tri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ntInfo(rect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hape[] shapes = {tri, circ, rect}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Desire for code-sharing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akeDic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the only unique behavior i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cretar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'd like to be able to sa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A class to represent secretaries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Secretary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opy all the contents from the Employee class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void takeDictation(String text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Taking dictation of text: " + text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nterface diagram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19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25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25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25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25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25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25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25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25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25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194400" indent="-1944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row goes up from class to interface(s) it implemen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25240" indent="-234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re is a supertype-subtype relationship here;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.g., all Circles are Shapes, but not all Shapes are Circl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25240" indent="-234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is kind of picture is also called a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UML class diagram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1900080" y="1219320"/>
            <a:ext cx="5186520" cy="2844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8T20:57:21Z</dcterms:created>
  <dc:creator>Marty Stepp</dc:creator>
  <dc:description>Slides used in the University of Washington's CSE 142 Python sessions.</dc:description>
  <cp:keywords>Python</cp:keywords>
  <dc:language>en-US</dc:language>
  <cp:lastModifiedBy>Marty Stepp</cp:lastModifiedBy>
  <dcterms:modified xsi:type="dcterms:W3CDTF">2013-03-28T21:52:39Z</dcterms:modified>
  <cp:revision>127</cp:revision>
  <dc:subject/>
  <dc:title>CSE 142 Python Slides</dc:title>
</cp:coreProperties>
</file>