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18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31.png" ContentType="image/png"/>
  <Override PartName="/ppt/media/image68.png" ContentType="image/png"/>
  <Override PartName="/ppt/media/image21.png" ContentType="image/png"/>
  <Override PartName="/ppt/media/image58.png" ContentType="image/png"/>
  <Override PartName="/ppt/media/image57.png" ContentType="image/png"/>
  <Override PartName="/ppt/media/image22.png" ContentType="image/png"/>
  <Override PartName="/ppt/media/image23.png" ContentType="image/png"/>
  <Override PartName="/ppt/media/image16.jpeg" ContentType="image/jpeg"/>
  <Override PartName="/ppt/media/image67.png" ContentType="image/png"/>
  <Override PartName="/ppt/media/image30.png" ContentType="image/png"/>
  <Override PartName="/ppt/media/image20.png" ContentType="image/png"/>
  <Override PartName="/ppt/media/image37.jpeg" ContentType="image/jpeg"/>
  <Override PartName="/ppt/media/image74.jpeg" ContentType="image/jpeg"/>
  <Override PartName="/ppt/media/image72.png" ContentType="image/png"/>
  <Override PartName="/ppt/media/image70.png" ContentType="image/png"/>
  <Override PartName="/ppt/media/image28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6.jpeg" ContentType="image/jpeg"/>
  <Override PartName="/ppt/media/image11.png" ContentType="image/png"/>
  <Override PartName="/ppt/media/image48.png" ContentType="image/png"/>
  <Override PartName="/ppt/media/image24.png" ContentType="image/png"/>
  <Override PartName="/ppt/media/image73.jpeg" ContentType="image/jpeg"/>
  <Override PartName="/ppt/media/image65.png" ContentType="image/png"/>
  <Override PartName="/ppt/media/image26.png" ContentType="image/png"/>
  <Override PartName="/ppt/media/image61.jpeg" ContentType="image/jpeg"/>
  <Override PartName="/ppt/media/image40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jpeg" ContentType="image/jpeg"/>
  <Override PartName="/ppt/media/image64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36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8A18-39BE-4E93-A8C5-591E1FC80790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onus Slid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User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Frame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impleFrame2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Foreground(Color.WHIT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Location(new Point(10, 50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Size(new Dimension(300, 120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Title("A fram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ical 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819520" y="5562720"/>
            <a:ext cx="28573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ages, continu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to load an im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olkit tk = Toolkit.getDefaultToolki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age img = tk.getImage("myimage.jpg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diaTracker mt = new MediaTracker(thi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t.addImage(img, 0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y ID will 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t.waitForAl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catch (InterruptedException ie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tediou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ggest making a helper method to load and return one im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mage loadImage(String filena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nimation with Time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imers—Why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51920" y="1584000"/>
            <a:ext cx="899172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an action multiple tim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given interv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animations in our GUI progr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delays and pauses when required / des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imer is an example of a "callback" -- your code starts the timer, then later at a specified time, the timer activates, causing an event in you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7238880" y="1295280"/>
            <a:ext cx="172584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avax.swing.Tim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Timer(int ms_delay, ActionListener al)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use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fire an actionPerformed ever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s_del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illisecond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tart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timer to begin ticking; the first tick happens after the initial delay, and the rest occur separated by the timer's dela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top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ps timer from tick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start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tarts timer, causing it to wait its initial delay and then begin firing at its delay r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im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mor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ActionListener(ActionListener a)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s additional listeners to be fired as the timer tick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isRunning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true when timer is ticking (has been started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Delay(int dela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es the delay between timer tick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InitialDelay(int dela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s a one-time delay to occur before ticking start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Repeats(boolean b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to false to make timer fire only o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is code could be used to move a shape to the righ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cross the scre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ELAY = 1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updater = new ActionListener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ctionPerformed(ActionEvent ev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Panel.repa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er tim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im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DELAY, update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im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Frame propert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have the following properties that you can get/se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320" y="1865160"/>
          <a:ext cx="8991360" cy="4154400"/>
        </p:xfrm>
        <a:graphic>
          <a:graphicData uri="http://schemas.openxmlformats.org/drawingml/2006/table">
            <a:tbl>
              <a:tblPr/>
              <a:tblGrid>
                <a:gridCol w="1523880"/>
                <a:gridCol w="1773360"/>
                <a:gridCol w="2689200"/>
                <a:gridCol w="3004920"/>
              </a:tblGrid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fault close 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at should happen when frame is clo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DefaultCloseOperation, setDefaultCloseOpe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con im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m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con in the window's title b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IconImage, setIconIm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y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ayoutMana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w the frame should position its compon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Layout, setLay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iz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e window can be resiz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Resizable, setResiz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ndow's title bar 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Title, set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onent propert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320" y="1295280"/>
          <a:ext cx="8991360" cy="5022720"/>
        </p:xfrm>
        <a:graphic>
          <a:graphicData uri="http://schemas.openxmlformats.org/drawingml/2006/table">
            <a:tbl>
              <a:tblPr/>
              <a:tblGrid>
                <a:gridCol w="1523880"/>
                <a:gridCol w="1773360"/>
                <a:gridCol w="2689200"/>
                <a:gridCol w="3004920"/>
              </a:tblGrid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ck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ckground co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Background, setBack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abl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e component can be interacted w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Enabled, setEnabl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nt used to display any text on the 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Font, setFo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e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eground co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Foreground, setFore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oi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x, y) position of component on scr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Location, set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men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, height of 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Size, set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ferred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men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, height that the component wants to 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PreferredSize, setPreferred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e component can be seen on scr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Visible, setVi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wing component hierarch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ical components in Java form an inheritance hierarch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ava.lang.Obje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java.awt.Compon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.awt.Contain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javax.swing.JCompon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Butt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Lab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JMenuB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OptionPa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Pan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TextAr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TextFiel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.awt.Wind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.awt.Fr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Fr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doing GUI programming, always import these packag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GUI: AWT and Sw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n's initial idea: create a set of classes/methods that can be used to write a multi-platform GUI (Abstract Windowing Toolkit, 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W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 not powerful enough; limited; a bit clunky to u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edition (JDK v1.2)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w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ewer library written from the ground up that allows much more powerful graphics and GUI co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back: Both exist in Java now; easy to get them mixed up; still have to use both sometime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frame is a graphical window that can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be used to hold other compon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JFrame(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JFrame(String titl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eates a frame with an optional titl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etTitle(String text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ts the given text in the frame’s title ba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etDefaultCloseOperation(int op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kes the frame perform the given action when it closes.  Common value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Frame.EXIT_ON_CLO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Component comp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ces the given component or container inside the fram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37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ahoma"/>
              </a:rPr>
              <a:t>How would we add more than one component to the frame?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Cal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Visible(true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to make a frame appear on screen after creating i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Fra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781680" y="1295280"/>
            <a:ext cx="221004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Butto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abe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most common component—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button is a clickable onscreen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gion that the user interacts with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o perform a single com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text label is simply a string of tex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isplayed on screen in a graphical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ogram.  Labels often give infor-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ation or describe other 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Button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abel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s a new button / label with the given string as its tex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getText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the text showing on the button / labe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Text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s button / label's text to be the given st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001000" y="2209680"/>
            <a:ext cx="990720" cy="439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rcRect l="0" t="17887" r="27418" b="0"/>
          <a:stretch/>
        </p:blipFill>
        <p:spPr>
          <a:xfrm>
            <a:off x="5029200" y="1066680"/>
            <a:ext cx="4114800" cy="10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extFiel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extAr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71080" y="1295280"/>
            <a:ext cx="865044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text field is like a label, except that the tex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 it can be edited and modified by the user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ext fields are commonly used for user input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here the user types information in the field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d the program reads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text area is a multi-line text fiel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TextField(int column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TextArea(int lines, int column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s a new text field the given number of columns (letters) wid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getText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the text currently in the fiel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Text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s field's text to be the given st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0" b="42177"/>
          <a:stretch/>
        </p:blipFill>
        <p:spPr>
          <a:xfrm>
            <a:off x="6553080" y="1295280"/>
            <a:ext cx="2286000" cy="106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24480" y="4560840"/>
            <a:ext cx="251460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onents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program attempts to show 2 butt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omponentsExample1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Size(new Dimension(300, 100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Title("A frame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Button button1 = new JButto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1.setText("I'm a button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1.setBackground(Color.B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button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Button button2 = new JButto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2.setText("Click me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2.setBackground(Color.RE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button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095880" y="1295280"/>
            <a:ext cx="285768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yout probl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eceding program added two buttons to the frame, but only one appeared on the scre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you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contained inside frames and other graphical containers that decides the position and size of the components inside the contain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efault layout manager sizes each component added to occupy the full window sp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438960" y="1841400"/>
            <a:ext cx="2476440" cy="8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Graphical input and output with JOptionPan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anging layou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correct the program's appearance by changing the frame'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ayout manage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 the layout by calling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Layou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on the frame and passing a layout manager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see several layout managers la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'll use one called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which sizes each component to its preferred size and positions them in left-to-right row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following line is added to the preceding program just before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Visible(true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ts appearance will b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ame.setLayout(new FlowLayout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086280" y="5829480"/>
            <a:ext cx="2857320" cy="95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ction events wit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ctionListene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vent-driven programm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's execution is indetermin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-screen components caus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occur when they are clicked / interacted wi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can be handled, causing the program to respond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riv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execution thru events (an "event-driven" progra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Event Hierarch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ava.lang.Ob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util.EventOb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AW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tion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Tex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Componen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Focus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Window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Inpu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Key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Mouse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java.awt.event.*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tion events: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ctionEv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common / simple event type in Sw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 an action occurring on a GUI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d b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ton clic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eck box checking / uncheck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nu clic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ssing Enter in a text 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ening for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ach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stener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he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ener’s appropriate method will be called when event occurs (e.g. when the button is click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ction events,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62120" y="4038480"/>
            <a:ext cx="78483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iting an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ActionListen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art of Java; you don't write th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ActionListener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ctionPerformed(Action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a message when the button is click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MyActionListen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lements ActionListen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actionPerformed(ActionEvent event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OptionPane.showMessageDialog(nul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An event occurred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ttaching an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ActionListen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Button button = new JButton("button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tionListener listener = new MyActionListene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Action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listene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ll pr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Event occurred!"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click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Action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 exists in many Swing compon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aying out compon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position, resiz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ow does the programmer specify where each component sits in the window, how big each component should be, and what the component should do if the window is resized/moved/maximized/etc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olute position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C++, C#, others)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y exact pixel coordinates for every 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Layout manag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Java)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special objects that decide where to position each component based on some crite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are benefits or drawbacks to each approach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51920" y="1365120"/>
            <a:ext cx="8991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 option pane is a simple dialog box for graphical input/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lexible (in some way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s better than the black box of death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d with static methods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very object-orien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very powerful (just simple dialog boxe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486400" y="1828800"/>
            <a:ext cx="3657600" cy="15447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2120" y="1951200"/>
            <a:ext cx="7467480" cy="46688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279440" y="5792760"/>
            <a:ext cx="4359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are several common Java layout manag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yout manag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19936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tain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bject that holds components; it also governs their positions, sizes, and resizing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ainers have the following public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Component comp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Component comp, Object info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s a component to the container, possibly giving extra information about where to place i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Component comp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moves the given component from the contain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Layout(LayoutManager mg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s the given layout manager to position the components in the contain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validate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ou should call this if you change the contents of a container that is already on the screen, to make it re-do its layou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anel is our container of choice; it provides the methods from the previous slide and defines these additional methods (among other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Panel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panel with a default flow layou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Panel(LayoutManager mg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panel that uses the given layout manag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Pane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ferred siz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wing component objects each have a certain size they would "like" to be--just large enough to fit their contents (text, icons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is called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eferred 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types of layout managers (e.g.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choose to size the components inside them to the preferred size; others (e.g.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disregard the preferred size and use some other sche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uttons at preferred size: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ot preferred siz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0" t="0" r="33784" b="21644"/>
          <a:stretch/>
        </p:blipFill>
        <p:spPr>
          <a:xfrm>
            <a:off x="4952880" y="4952880"/>
            <a:ext cx="3353040" cy="13003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rcRect l="0" t="0" r="69400" b="0"/>
          <a:stretch/>
        </p:blipFill>
        <p:spPr>
          <a:xfrm>
            <a:off x="762120" y="4957920"/>
            <a:ext cx="2361960" cy="9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Flow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82600" y="4987800"/>
            <a:ext cx="8480520" cy="10321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FlowLayout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eats container as a left-to-right, top-to-bottom "page" or "paragraph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onents are given their preferred size both horizontally and vertic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are positioned in order ad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oo long, components wrap around to next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tainer panel = new JPanel(new FlowLayout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nel.add(new JButton("Button 1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ow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FlowLayoutExampl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Size(new Dimension(320, 75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Title("Flow layout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Layout(new FlowLayout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Label("Type your ZIP Code: 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TextField(5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Button("Submi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362320" y="5838840"/>
            <a:ext cx="3047760" cy="7142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943600" y="5438880"/>
            <a:ext cx="1724040" cy="12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rid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600200" y="4662360"/>
            <a:ext cx="5943600" cy="16621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GridLayout(int rows, int colum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ats container as a grid of equally-sized rows and colum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are given equal horizontal / vertical size, disregarding preferred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specify 0 rows or columns to indicate expansion in that direction a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id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GridLayoutExampl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Size(new Dimension(300, 120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Title("The grid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2 rows, 3 colum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Layout(new GridLayout(2, 3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6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Button button = new JButto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.setText("Button " + 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butto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791320" y="5562720"/>
            <a:ext cx="28573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rder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BorderLayout(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vides container into five regions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R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U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E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A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R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U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gions expand to fill region horizontally, and use preferred size vertical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A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gions expand to fill region vertically, and use preferred size horizontal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EN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uses all space not occupied by oth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tainer panel = new JPanel(new BorderLayou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add(new JButton("Button 1 (NORTH)", BorderLayout.NOR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057400" y="5105520"/>
            <a:ext cx="495288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rder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rderLayoutExampl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Size(new Dimension(210, 200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Title("Run for the border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Layout(new BorderLayou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north"), BorderLayout.NOR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south"), BorderLayout.SOU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west"), BorderLayout.WES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east"), BorderLayout.EAS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center")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rderLayout.CENT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553080" y="5029200"/>
            <a:ext cx="1752840" cy="16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477120" y="1309680"/>
            <a:ext cx="2517480" cy="976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019920" y="3019320"/>
            <a:ext cx="2971800" cy="943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000840" y="5122800"/>
            <a:ext cx="2990880" cy="127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s of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MessageDialog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parent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messag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plays a message on a dialo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h an OK butt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ConfirmDialog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parent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messag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plays a message and list o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oices Yes, No, Cancel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s user's choice as a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th on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the following valu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YES_O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NO_O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CANCEL_O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InputDialog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parent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messag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plays a message and tex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eld for input; returns the user'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 entered as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 pas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or the parent to all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x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124080" y="4311720"/>
            <a:ext cx="2438640" cy="19368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x.createHorizontalBo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x.createVerticalBo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s components in container in a single row or colum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use preferred sizes and align based on their preferred alig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ferred way to construct a container with box layout: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x.createHorizontalBox()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x.createVerticalBox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layou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821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rdLayo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s of "cards" stack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op of each other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visible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idBagLayo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complicated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mmendation: avo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181480" y="1546200"/>
            <a:ext cx="3649680" cy="11811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532480" y="4213080"/>
            <a:ext cx="30020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x layou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600200" y="2295360"/>
            <a:ext cx="5715000" cy="44103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you create a complex window like this, using the layout managers show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819520" y="4419720"/>
            <a:ext cx="3665520" cy="19098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panels within pa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nel has a different layout, and by combining the layouts, more complex / powerful layout can be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panel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layout in ea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: composite 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osite 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Telephone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Size(new Dimension(250, 200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Title("Telephone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Layout(new BorderLayout(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JPanel centerPanel = new JPanel(new GridLayout(4, 3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9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" + i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*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0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#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add(centerPanel, BorderLayout.CENTER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JPanel southPanel = new JPanel(new FlowLayout(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outhPanel.add(new JLabel("Number to dial: 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outhPanel.add(new JTextField(10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add(southPanel, BorderLayout.SOUTH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991200" y="4800600"/>
            <a:ext cx="2152800" cy="17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dditional compon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check box is a toggleable button with two states: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hecked and uncheck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radio button is a button that can be selected; usually part of a group of mutually-exclusive radio buttons (1 selectable at a tim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CheckBox / JRadioButton(String tex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CheckBox(String text, boolean isCheck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eates checked/unchecked check box with given tex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isSelected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s true if check box is checke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Selected(boolean select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s box to be checked/uncheck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477120" y="4648320"/>
            <a:ext cx="2590560" cy="7398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rcRect l="3488" t="48819" r="71363" b="38169"/>
          <a:stretch/>
        </p:blipFill>
        <p:spPr>
          <a:xfrm>
            <a:off x="6324480" y="5486400"/>
            <a:ext cx="2743200" cy="9144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CheckBox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RadioButton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uttonGrou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13898" r="46328" b="0"/>
          <a:stretch/>
        </p:blipFill>
        <p:spPr>
          <a:xfrm>
            <a:off x="6934320" y="1219320"/>
            <a:ext cx="2049480" cy="21175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logical group of radio buttons that ensures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at only one is selected at a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uttonGroup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JRadioButton butt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not a graphical component, just a logical group;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adio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themselves are added to the container, not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mageIc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llows you to put a picture on a button, label or other 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ImageIcon implements Ic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mageIcon(String filena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mageIcon(URL addr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Radio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CheckBo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Lab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etc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or that take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c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Icon(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Icon(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RolloverIcon(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38928" t="28110" r="37825" b="8408"/>
          <a:stretch/>
        </p:blipFill>
        <p:spPr>
          <a:xfrm>
            <a:off x="6665760" y="1981080"/>
            <a:ext cx="2401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Scroll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special container that holds a component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sing scrollbars to allow that component to be se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ScrollPane(Component comp)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aps the given component with scrollbars.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constructing the scroll pane, add the scroll pane to the container, not the original component.</a:t>
            </a:r>
            <a:br>
              <a:rPr sz="2400"/>
            </a:b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ScrollPane(area), BorderLayout.CENTE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162920" y="2209680"/>
            <a:ext cx="1828800" cy="12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s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4630680"/>
            <a:ext cx="3352680" cy="1465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029200" y="4632480"/>
            <a:ext cx="3352680" cy="1463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MessageDialo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alogous 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o display a mess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essageDialogExampl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OptionPane.showMessageDialo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null,"How's the weather?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OptionPane.showMessageDialo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null, "Second message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FileChoos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special dialog box that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llows the user to selec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ne or more files/f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FileChooser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FileChooser(String currentDi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showOpenDialog(Component pare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showSaveDialog(Component pare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File getSelectedFile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APPROVE_OPTION, CANCEL_OP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sible result values from showXxxDialog(.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FileChooser chooser = new JFileChoose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result = chooser.showSaveDialog(thi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esult == JFileChooser.APPROVE_OPTIO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saveData(chooser.getSelectedFile().getName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019920" y="1143000"/>
            <a:ext cx="30286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ColorChoos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1920" y="1366560"/>
            <a:ext cx="899172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other special dialog tha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lets the user pick from a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lette of col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ColorChooser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ColorChooser(Color initi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 showDialog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ponent par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String title, Color initialColo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null if user chose Cancel o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0" t="43714" r="0" b="0"/>
          <a:stretch/>
        </p:blipFill>
        <p:spPr>
          <a:xfrm>
            <a:off x="5867280" y="1143000"/>
            <a:ext cx="320040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top-level container that holds menus;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an be attached to a fr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Bar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JMenu men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ge: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 following method exis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JMenuBar(JMenuBar ba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MenuB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87504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menu to hold menu items; menus can contain other men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Menu(String tex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(JMenuItem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Separator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Mnemonic(int mnemoni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423200" y="3048120"/>
            <a:ext cx="1328760" cy="28191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Menu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562720" y="2057400"/>
            <a:ext cx="330840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 entry in a frame's Menu bar, which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an be clicked to perform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Item(String tex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Item(String text, Icon 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Item(String text, int mnemon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ActionListener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ActionListener 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Accelerator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eyStroke k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Enabled(boolean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Mnemonic(int mnemon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791320" y="1295280"/>
            <a:ext cx="3200400" cy="6588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MenuIt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adio button and checkbox-like menu i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, boolean selec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, Icon 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Icon icon, boolean select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ActionListener(ActionListener 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isSelected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(boolean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all: i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 following method exis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(AbstractButton button)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two classes exte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stract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JCheckBoxMenuItem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JRadioButtonMenuIte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rcRect l="0" t="0" r="30506" b="0"/>
          <a:stretch/>
        </p:blipFill>
        <p:spPr>
          <a:xfrm>
            <a:off x="6934320" y="1219320"/>
            <a:ext cx="2120760" cy="106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nemonic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nu hotkey assigned to a button or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sible as an underlined key, activated by press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trl+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(buttons) or Alt+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(menu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work when input focus is on the compon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ffects menu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age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Mnemonic(cha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enu items also have constructor that takes mnemonic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QuitButton.setMnemonic('Q'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MenuItem myNewItem = new JMenuItem("New", 'N'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NewItem.setMnemonic('N'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r th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nemon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rcRect l="0" t="0" r="31112" b="0"/>
          <a:stretch/>
        </p:blipFill>
        <p:spPr>
          <a:xfrm>
            <a:off x="6629400" y="762120"/>
            <a:ext cx="236232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cel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global hotkey combination that performs an action (ex: Alt-X to exit program) even on components that aren't in focus /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run at any time in the ap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optionally include modifiers like Shift, Al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d by calling the getKeyStroke method of the KeyStroke class, and passing this to setAccelerator method of various components (buttons, menu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.setAccelerator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Stroke.getKeyStroke('T', KeyEvent.ALT_MASK))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le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286000" y="6248520"/>
            <a:ext cx="4572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ComboBo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Object[] ite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Vector ite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ComboBoxModel model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combo box.  Can optionally pass a vector or model of items.  (Se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aultComboBoxMod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a model implementation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ActionListener(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ActionListener al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 action event to be sent to listener al when the user selects or types a new item in the combo bo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34361" r="0" b="42778"/>
          <a:stretch/>
        </p:blipFill>
        <p:spPr>
          <a:xfrm>
            <a:off x="5105520" y="1143000"/>
            <a:ext cx="3951000" cy="5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ComboBox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Managing It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Item(Object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Object getItemAt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AllItems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Item(Object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ItemAt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57160" y="5181480"/>
            <a:ext cx="2552760" cy="111456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4210200" y="5181480"/>
            <a:ext cx="4019040" cy="1195560"/>
            <a:chOff x="4210200" y="5181480"/>
            <a:chExt cx="4019040" cy="1195560"/>
          </a:xfrm>
        </p:grpSpPr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4210200" y="5181480"/>
              <a:ext cx="255240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5676840" y="5262480"/>
              <a:ext cx="2552400" cy="111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owConfirmDialo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alogous to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prints a question, then reading an input value from the user (can only be one of the provided choic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ConfirmDialogExampl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choice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OptionPane.showConfirmDialo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null, "Erase your hard disk?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choice =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OptionPane.YES_OPTIO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OptionPane.showMessageDialog(null, "Disk erased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OptionPane.showMessageDialog(null, "Cancelled.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ComboBox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Selected It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getSelectedInde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Object getSelectedItem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SelectedItem(Object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SelectedIndex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Enabled(boolean enabl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Editable(boolean editabl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ditable, the user can type new arbitrary values into the combo bo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abbed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container that can hold many "tab"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bcontainers, each with components in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abbedPane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abbedPane(int tabAlignmen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new tabbed pane.  Defaults to having the tabs on top; can be set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TabbedPane.BOTT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Tab(String title, 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Tab(String title, Icon ico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Tab(String title, Icon ico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Component comp, String tooltip)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he given component as a tab in this tabbed pane.  Can optionally use an icon and/or tool ti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0" t="0" r="0" b="20397"/>
          <a:stretch/>
        </p:blipFill>
        <p:spPr>
          <a:xfrm>
            <a:off x="6835680" y="1066680"/>
            <a:ext cx="230832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abbed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insertTab(String tit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Icon icon, Component comp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String tooltip, 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(Component com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All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Component(Component 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SelectedIndex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Split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container that can hold two components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ivided by a movable sepa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SplitPane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SplitPane(int orientatio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new tabbed pane.  Defaults to having a horizontal split; can be set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plitPane.HORIZONTAL_SPL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ERTICAL_SPL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BottomComponent(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LeftComponent(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RightComponent(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TopComponent(Component comp)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s the given component to occupy the desired region of the split pa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248520" y="1143000"/>
            <a:ext cx="28224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oolB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movable container to hold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mmon buttons, commands, e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int orient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String tit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title, int orientat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new tool bar, optionally with a title and orientation; ca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ToolBar.HORIZONT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ERTIC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defaults to horizo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(Component comp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he given component to this tool bar's flowing layo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rcRect l="0" t="15822" r="73515" b="52857"/>
          <a:stretch/>
        </p:blipFill>
        <p:spPr>
          <a:xfrm>
            <a:off x="6934320" y="1219320"/>
            <a:ext cx="20574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oolB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 toolb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items (usually buttons) to toolb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toolbar to edge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content pane (usuall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R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't put anything in other edges (N/S/E/W)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list of selectable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-defined i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n empty JLis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ListModel mode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Object[] da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Vector data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JList that displays the given da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ListSelectionListener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ListSelectionListener lsl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s the given listener to be informed when the selected index / indices change for this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629400" y="1219320"/>
            <a:ext cx="23130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mor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clearSelection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SelectedIndex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[] getSelectedIndices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 getSelectedValue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[] getSelectedValues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Index(int inde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Indices(int[] indice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 for getting / setting the selected item and index in the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even mor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ListModel getModel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ListData(Object[] dat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ListData(Vector dat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Model(ListModel model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uses this list to now display the given collection of da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SelectionMode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SelectionMode(int mod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 / set selection mode for the list.  For example, se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SelectionModel.SINGLE_SELEC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o only allow one item in the list to be chosen at o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NGLE_INTERVAL_SELECTION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NGLE_SELECTION                             MULTIPLE_INTERVAL_SELE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685800" y="4724280"/>
            <a:ext cx="7696080" cy="1012680"/>
            <a:chOff x="685800" y="4724280"/>
            <a:chExt cx="7696080" cy="101268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685800" y="4800600"/>
              <a:ext cx="91440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2"/>
            <a:stretch/>
          </p:blipFill>
          <p:spPr>
            <a:xfrm>
              <a:off x="3962520" y="4800600"/>
              <a:ext cx="91440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3"/>
            <a:stretch/>
          </p:blipFill>
          <p:spPr>
            <a:xfrm>
              <a:off x="7467480" y="4724280"/>
              <a:ext cx="914400" cy="93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window that is a child of th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verall JFrame; used for popup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indows, option/config boxe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Dialog(Dialog parent, boolean mod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Dialog(Frame parent, String titl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boolean modal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new dialog with the given parent and title.  I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lag is set, this dialog is a child of the parent and the parent will be locked until the dialog is clos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how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this dialog on screen.  If the dialog is modal, calling show() will lock the parent frame/dialo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Dialo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has most 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s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ContentPane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JMenuBar(JMenuBar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Resizable(boolean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Title(String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Dialo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172200" y="380880"/>
            <a:ext cx="28195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s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InputDialo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alogous to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hat prints a question, then reading an input value from the user (can be any valu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InputDialogExampl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name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OptionPane.showInputDialo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null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What's yer name, pardner?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OptionPane.showMessageDialog(null, "Yeehaw, " + name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3880" y="4314960"/>
            <a:ext cx="2828880" cy="1171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952880" y="4314960"/>
            <a:ext cx="255276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me eye candy..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Java Swing GUI look like the native operating syste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IManager.setLookAndFeel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IManager.getSystemLookAndFeelClassName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Exception e) {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ng borders to componen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ateverComponent.setBorder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rderFactory.createLineBorder(Color.BLUE, 3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ouse and keyboard ev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use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of mouse ev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sten to clicks and movement of mouse within a GUI component (usually a pane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spond to mouse activity with appropriate a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 interactive programs that are driven by mouse activ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7543800" y="4343400"/>
            <a:ext cx="1427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istening to clicks: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MouseListene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age java.awt.even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Click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v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nter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xi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Pres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Relea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Listen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lements MouseListen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Clicked(MouseEvent event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Entered(MouseEvent event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Exited(MouseEvent event) 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User pressed mouse button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Released(MouseEvent event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Listener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ssumes some custom panel class named MyPan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 panel = new MyPane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MyMouseListener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Tedious to implement entire interface when only partial behavior is wanted/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Liste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bstract class with empty implementations of al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useListe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age: exte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useAdap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override the methods you want to do some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s need for you to type in empty methods for all the ones you don’t w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xample of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sign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Adap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Adap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ends Mouse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User pressed mouse button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sing the MyMouseAdap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 panel = new MyPane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Mouse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Adap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put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TTON1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TTON2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BUTTON3_MASK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TRL_MASK, ALT_MASK, SHIFT_MAS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ClickCount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 getPoint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Sour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Modifiers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use the above button masks with th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ngUtil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LeftMouseButton(MouseEvent ev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RightMouseButton(MouseEvent ev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Ev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7467480" y="1143000"/>
            <a:ext cx="157176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Ev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Adap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ends Mouse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Po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source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Sour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source == this.panel  &amp;&amp;  p.getX() &lt; 1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showMessageDialog(null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You clicked the left side of myPanel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nscreen GUI 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4459320"/>
            <a:ext cx="8305920" cy="14842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GUIs are not composed of option panes; they are too limited.  Instead, complex GUIs contain the following ele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r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graphical window on the screen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mponent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GUI widgets such as buttons or text field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taine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Logical groups of componen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kage java.awt.eve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useMotion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useDragg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useMov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useMotionAdap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ass provides empty implementations of both methods if you just want to override 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ouse movement: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ouseMotionListener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MotionAdapter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useMotionAdapt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Mov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 = event.get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x = event.getX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y = event.getY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ouse is at " + 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x is " + 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 is " + y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sing the liste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Motion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MyMouseMotionAdapter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MouseMotionAdapter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InputListen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age javax.swing.even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Input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nds Mouse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Motion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importantly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useInputAdap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includes empty implementations for ALL methods from both mouse input interfaces, allowing same listener to listen to mouse clicks and mov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InputAdapter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useInputAdapt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ouse was pressed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Mov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 = event.get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ouse is at " + 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sing the liste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MouseInputAdapter adapter = new MyMouseInputAdapte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dapter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Motion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dapt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MouseInputAdapter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: Example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eyboard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age of keyboard ev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sten to keyboard activity within a GUI componen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usually a pane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spond to keyboard activity with appropriate a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rol onscreen drawn characters and simulate text inp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705720" y="4343400"/>
            <a:ext cx="217944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ey Presses: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KeyListen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age java.awt.even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Pres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Ev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Relea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eyEvent ev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Typ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Key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 cl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Adap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mplements 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put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TRL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T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IFT_MAS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VK_A .. VK_Z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0 .. VK_9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F1 .. VK_F10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UP, VK_LEFT, ..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TAB, VK_SPACE, VK_ENTER,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one for every ke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ha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KeyCh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Key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Sour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odifi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use masks with th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Ev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PacManKeyListen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ends Key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yPress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Key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keyChar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KeyCha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keyCode 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KeyCod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keyCode =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yEvent.VK_RIGH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man.setX(pacman.getX() +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panel.repa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keyChar == 'Q'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exit(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ssumes some custom panel class named PacPan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Panel panel = new PacPane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Key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PacKeyListener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Adap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 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kinds of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ndowListener/Adapter/Ev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ds to events in a top-level window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. Useful to catc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ndowClos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vent and respond, e.g. prompt to save current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cusListener/Ev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ds to when the keyboard focus changes to a different component.  Useful to validate input format on a text fiel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Selection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yperlink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tem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 listeners for specific Swing components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EditorPa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ComboBo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spective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2D Graphic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Frame example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ple program that creates and show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impleFram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505320" y="4952880"/>
            <a:ext cx="1523880" cy="3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overrid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 to use a panel as a drawing su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paintComponent(Graphics 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ordinate system: (0, 0) at top-lef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-axis increases rightward, y-axis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downward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nel surface is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anspar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unless drawn 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6629400" y="1905120"/>
            <a:ext cx="2362320" cy="2286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 drawing panel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me detail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oes important things that we don't want to lose, so call the metho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per.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rst thing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gument represents "graphical context" object that can be told to draw things on the pa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uaranteed for ever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actual object passed in i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2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can cas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nel has small preferred size, so it will be tiny when put into some layouts;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PreferredSize(Dimension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make it bigger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reshing panel: can't c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so c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paint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sic panel painting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MyPanel extends JPanel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paintComponent(Graphics g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per.paintComponent(g);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mportant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ut your painting code 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6095880" y="4038480"/>
            <a:ext cx="2819520" cy="23828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ick drawing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Panel extends JPanel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MyPanel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aintComponent(Graphics g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per.paintComponent(g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2.setColor(Color.B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10, 10, 20, 5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text 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tring s, int x, int 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aws a string with its first letter's bottom-left corner at the given loc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tring is drawn using the Graphics' current color and font sett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 drawing the string, you can set the font, color, and other attribu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0" t="14914" r="0" b="14817"/>
          <a:stretch/>
        </p:blipFill>
        <p:spPr>
          <a:xfrm>
            <a:off x="5791320" y="3657600"/>
            <a:ext cx="2971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Fo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Font f)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s th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ontext to start writing text in the given font.  (Forgotten at end 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all!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ext styles used when drawing Strings on the pa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, int style, int 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predefined font nam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Serif"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SansSerif"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Monospaced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nt styles (can be combined with + operator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L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TAL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A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rcRect l="0" t="0" r="15354" b="0"/>
          <a:stretch/>
        </p:blipFill>
        <p:spPr>
          <a:xfrm>
            <a:off x="4419720" y="5156280"/>
            <a:ext cx="419076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ors and pai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 simple single-colored pai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(int r, int g, int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(int r, int g, int b, int alph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partially-transparent color (range 0-255, 0=transpare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ight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rk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Col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AC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Y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RK_G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EE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GHT_G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GENT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RANG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N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ELLO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019920" y="4648320"/>
            <a:ext cx="285732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sha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Line(int x1, int y1, int x2, int y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Oval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Oval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Polygon(int[] xpoints, int[] ypoints, int le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Polygon(int[] xpoints, int[] ypoints, int le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Rect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Rect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Arc(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Arc(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181480" y="4495680"/>
            <a:ext cx="3382920" cy="2111400"/>
            <a:chOff x="5181480" y="4495680"/>
            <a:chExt cx="3382920" cy="2111400"/>
          </a:xfrm>
        </p:grpSpPr>
        <p:pic>
          <p:nvPicPr>
            <p:cNvPr id="348" name="" descr=""/>
            <p:cNvPicPr/>
            <p:nvPr/>
          </p:nvPicPr>
          <p:blipFill>
            <a:blip r:embed="rId1"/>
            <a:stretch/>
          </p:blipFill>
          <p:spPr>
            <a:xfrm>
              <a:off x="7391160" y="4495680"/>
              <a:ext cx="811080" cy="58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2"/>
            <a:stretch/>
          </p:blipFill>
          <p:spPr>
            <a:xfrm>
              <a:off x="7010280" y="5257800"/>
              <a:ext cx="155412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3"/>
            <a:stretch/>
          </p:blipFill>
          <p:spPr>
            <a:xfrm>
              <a:off x="7010280" y="6019920"/>
              <a:ext cx="153180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4"/>
            <a:stretch/>
          </p:blipFill>
          <p:spPr>
            <a:xfrm>
              <a:off x="5181480" y="4522680"/>
              <a:ext cx="12189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5"/>
            <a:stretch/>
          </p:blipFill>
          <p:spPr>
            <a:xfrm>
              <a:off x="5181480" y="5284800"/>
              <a:ext cx="12189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6"/>
            <a:stretch/>
          </p:blipFill>
          <p:spPr>
            <a:xfrm>
              <a:off x="5181480" y="6046920"/>
              <a:ext cx="1226880" cy="560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im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Imag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mage i, int x, int y, ImageObserver io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Imag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mage i, int x, int y, int width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int height, ImageObserver io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ws given image with th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en with its top-left corner at given location (pass the panel as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ageObserve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5257800" y="3809880"/>
            <a:ext cx="3409920" cy="25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Toolkit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ets images from disk or intern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Toolkit getDefaultToolkit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mage getImage(String filenam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mage getImage(URL addres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MediaTracker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nsures that images are loaded ful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MediaTracker(Component com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Image(Image img, int i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waitForAll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throws InterruptedExce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Image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epresents a graphic image (BMP, GIF, 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Width(ImageObserver ob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Height(ImageObserver ob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image.BufferedImage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blank graphic image surface onto which you can dra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ufferedImage(int w, int h, int typ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Graphics getGraphics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for imag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4:10Z</dcterms:modified>
  <cp:revision>129</cp:revision>
  <dc:subject/>
  <dc:title>CSE 142 Python Slides</dc:title>
</cp:coreProperties>
</file>