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D382-6CD9-4ADA-97A4-B76F7C5FF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variation: Output only the *unique* rearrangements.  For example, permute("GOOGLE") has two Os, but swapping them in order produces the same string, which shouldn't appear twice in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variation: Output only the *unique* rearrangements.  For example, permute("GOOGLE") has two Os, but swapping them in order produces the same string, which shouldn't appear twice in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6E30-13AD-45A1-9B82-02959670B671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2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basic ca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cases to consid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very easy number of stars to print without a lo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more ca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ling additional cases, with no loops (in a bad way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more cas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ing advantage of the repeated pattern (somewhat better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1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3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2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4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3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*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recursion properl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ensing the recursive cases into a single c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one mor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n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Recursion Zen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al, even simpler, base case i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0, not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end the line of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one mor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n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on Ze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art of properly identifying the best set of cases for a recursive algorithm and expressing them elegantly.</a:t>
            </a:r>
            <a:br>
              <a:rPr sz="2200"/>
            </a:br>
            <a:br>
              <a:rPr sz="8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 CSE 143 informal ter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trac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recursive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mystery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n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n / 1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n % 1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a + b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esult of the following c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stery(64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cursive tr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mystery(648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648 / 10;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6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648 % 10;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ystery(a + b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ystery(7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ystery(72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 = 72 / 10;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 = 72 % 10;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ystery(a + b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ystery(9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mystery(9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9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87480" y="1289160"/>
            <a:ext cx="7456320" cy="45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3124080"/>
            <a:ext cx="662940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4876920"/>
            <a:ext cx="21337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tracing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recursive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mystery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n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 * n) + n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n / 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n % 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0 * a) +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esult of the following c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stery(34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cursive trac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mystery(34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mystery(3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 = mystery(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55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(10 * 3) + 3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3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 = mystery(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55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(10 * 4) + 4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4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(100 * 33) + 44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334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mystery(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(10 * 8) + 8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8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0 * 3344) + 88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lang="en-US" sz="2200" spc="-1" strike="noStrike" u="sng">
                <a:solidFill>
                  <a:srgbClr val="008000"/>
                </a:solidFill>
                <a:uFillTx/>
                <a:latin typeface="Courier New"/>
              </a:rPr>
              <a:t>33448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is method really do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127240"/>
            <a:ext cx="5410080" cy="180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662360"/>
            <a:ext cx="5410080" cy="3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30480" y="2467080"/>
            <a:ext cx="4006800" cy="35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28680" y="3181320"/>
            <a:ext cx="4006800" cy="35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480" y="1289160"/>
            <a:ext cx="7151400" cy="45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n integer base and exponent and returns the base raised to that expon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w(3, 4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8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e the problem recursively and without using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ur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definition of an operation in terms of itself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ing a problem using recursion depends on solv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aller occurrences of the sam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ursive programm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riting methods that call themselves to solve problems recurs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qually powerful substitute fo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ter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loo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ticularly well-suited to solving certain types of proble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w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base ^ expon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xponent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pow(int base, int expon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exponent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any number to 0th power is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:  x^y = x * x^(y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 * pow(base, exponent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optim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the following mathematical propert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12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3144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3144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does this "trick"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incorporate this optimization into 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benefit of this trick if the method already work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w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base ^ expon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xponent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pow(int base, int expon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exponent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any number to 0th power is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lse if (exponent % 2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1:  x^y = (x^2)^(y/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pow(base * base, exponent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2:  x^y = x * x^(y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 * pow(base, exponent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Bin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and prints that number's representation in binary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base 2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7)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1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4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010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he method recursively and without using any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057400" y="3835440"/>
          <a:ext cx="5045040" cy="888840"/>
        </p:xfrm>
        <a:graphic>
          <a:graphicData uri="http://schemas.openxmlformats.org/drawingml/2006/table">
            <a:tbl>
              <a:tblPr/>
              <a:tblGrid>
                <a:gridCol w="777960"/>
                <a:gridCol w="460440"/>
                <a:gridCol w="453960"/>
                <a:gridCol w="630360"/>
                <a:gridCol w="460080"/>
                <a:gridCol w="460440"/>
                <a:gridCol w="430200"/>
                <a:gridCol w="457200"/>
                <a:gridCol w="457200"/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l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 analy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 is about solving a small piece of a large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69743 in binar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we know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yth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about its representation in binar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se analys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/are easy numbers to print in binar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we express a larger number in terms of a smaller number(s)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se we are examining some arbitrary integ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1001010101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 / 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10010101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 % 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Bin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given integer's binary repres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n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Binary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same as base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break number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%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eliminate the precondition and deal with negativ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Bin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given integer's binary repres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Binary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f (n &l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for negative nu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ystem.out.print("-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ntBinary(-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 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f (n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same as base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break number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%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Palindr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it reads the same forwards as backwar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madam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racecar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step on no pets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able was I ere I saw elba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Java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rotater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byebye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notion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the given string read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orwards as backw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rivially true for empty or 1-letter str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Palindrome(String 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length()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first = s.charAt(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last  = s.charAt(s.length()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irst != la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middle = s.substring(1, s.length()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sPalindrome(middl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the given string read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orwards as backw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rivially true for empty or 1-letter str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Palindrome(String 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length()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charAt(0) == s.charAt(s.length() - 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Palindrome(s.substring(1, s.length() - 1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learn recursion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cultural experience" - A different way of thinking of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olve some kinds of problems better than it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ds to elegant, simplistic, short code (when used wel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programming languages ("functional" languages such as Scheme, ML, and Haskell) use recursion exclusively  (no loo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key component of the rest of our assignments in CSE 14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L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prints the lines of the file in revers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input fil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pected console 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cases to consid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can we solve a small part of the problem at a ti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a file that is very easy to revers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2743200"/>
            <a:ext cx="32763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al pseudo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sing the lines of a 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 a line L from the f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rest of the lines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line 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If only we had a way to reverse the rest of the lines of the file...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al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cursive c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is the base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363760" cy="2438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64920" y="53481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7120" y="534816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1600" y="5727600"/>
            <a:ext cx="2649600" cy="9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36480" y="5727600"/>
            <a:ext cx="2649600" cy="9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cing our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ll 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method invocations running at any one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verseLines(new Scanner("poem.txt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228600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Roses are red,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289548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Violets are blu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347040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All my bas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320" y="407988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Are belong to you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320" y="4670280"/>
            <a:ext cx="8991360" cy="119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5867280"/>
            <a:ext cx="3045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4.44444E-006 L 3.46945E-018 0.03333 E">
                                      <p:cBhvr>
                                        <p:cTn id="21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0.03333 L 3.46945E-018 0.06666 E">
                                      <p:cBhvr>
                                        <p:cTn id="22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0.06666 L 3.46945E-018 0.1 E">
                                      <p:cBhvr>
                                        <p:cTn id="23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aw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and prints information about that f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represents a normal file, just print its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represents a directory, print its name and information about every file/directory inside it, inde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se14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ndo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llabus.do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cture_schedule.x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-sortedint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IntList.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rtedIntList.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yle.c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ve 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directory can contain other director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(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) repres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ile or directory on the dis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04920" y="2362320"/>
          <a:ext cx="8542080" cy="4038120"/>
        </p:xfrm>
        <a:graphic>
          <a:graphicData uri="http://schemas.openxmlformats.org/drawingml/2006/table">
            <a:tbl>
              <a:tblPr/>
              <a:tblGrid>
                <a:gridCol w="2549160"/>
                <a:gridCol w="599292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/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bject representing file with give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nRead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whether file is able to be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et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moves file from d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ist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is file exists on d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Nam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file's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Director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whether this object represents a dire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number of bytes in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stFile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[]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representing files in this dire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nameTo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nges name of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ublic/private pai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vary the indentation without an extra parame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rawl(File f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, String ind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 the parameters we need for our recursion do not match those the client will want to p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se cases, we instead write a pair of method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) 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non-recursive one with the parameters the client wa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) 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recursive one with the parameters we really ne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information about this fil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nd (if it is a directory) any files insid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ublic static void crawl(File 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crawl(f, ""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all private recursive help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helper to implement crawl/indent behavi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void crawl(File f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, String ind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dent +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.getNam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.isDirectory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contained files/di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File subFile : f.listFiles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awl(subFil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, indent + "    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cursive Backtrack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Permut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mu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as a parameter and outputs all possible rearrangements of th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ermute("MARTY"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follow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quence of lin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990960" y="2666880"/>
          <a:ext cx="4772160" cy="3946320"/>
        </p:xfrm>
        <a:graphic>
          <a:graphicData uri="http://schemas.openxmlformats.org/drawingml/2006/table">
            <a:tbl>
              <a:tblPr/>
              <a:tblGrid>
                <a:gridCol w="795600"/>
                <a:gridCol w="795240"/>
                <a:gridCol w="795240"/>
                <a:gridCol w="795240"/>
                <a:gridCol w="795600"/>
                <a:gridCol w="795240"/>
              </a:tblGrid>
              <a:tr h="39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o a student in the front row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tudents total are directly behind you in your "column" of the classroo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have poor vision, so you c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e only the people right next to you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you can't just look back and cou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you are allowed to as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stions of the person next to yo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solve this problem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cursivel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31626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ining the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of each permutation as a set of choices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character do I want to place fir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character do I want to place secon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olution 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et of all possible sets of decisions to explo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ant to generate all possible sequences of dec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(each possible first letter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each possible second lette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(each possible third letter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called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epth-first sear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ision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446640" y="1295280"/>
          <a:ext cx="2408040" cy="812880"/>
        </p:xfrm>
        <a:graphic>
          <a:graphicData uri="http://schemas.openxmlformats.org/drawingml/2006/table">
            <a:tbl>
              <a:tblPr/>
              <a:tblGrid>
                <a:gridCol w="1079280"/>
                <a:gridCol w="1328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os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 flipH="1">
            <a:off x="3657600" y="21337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741760" y="2387520"/>
          <a:ext cx="1404720" cy="406440"/>
        </p:xfrm>
        <a:graphic>
          <a:graphicData uri="http://schemas.openxmlformats.org/drawingml/2006/table">
            <a:tbl>
              <a:tblPr/>
              <a:tblGrid>
                <a:gridCol w="379080"/>
                <a:gridCol w="10256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1598760" y="3174840"/>
          <a:ext cx="1404720" cy="406440"/>
        </p:xfrm>
        <a:graphic>
          <a:graphicData uri="http://schemas.openxmlformats.org/drawingml/2006/table">
            <a:tbl>
              <a:tblPr/>
              <a:tblGrid>
                <a:gridCol w="610920"/>
                <a:gridCol w="793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 flipH="1">
            <a:off x="2360520" y="2819520"/>
            <a:ext cx="91440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74560" y="3936960"/>
          <a:ext cx="140472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56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5228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5228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241800" y="3174840"/>
          <a:ext cx="1409400" cy="406440"/>
        </p:xfrm>
        <a:graphic>
          <a:graphicData uri="http://schemas.openxmlformats.org/drawingml/2006/table">
            <a:tbl>
              <a:tblPr/>
              <a:tblGrid>
                <a:gridCol w="615600"/>
                <a:gridCol w="793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913280" y="3174840"/>
          <a:ext cx="1404720" cy="406440"/>
        </p:xfrm>
        <a:graphic>
          <a:graphicData uri="http://schemas.openxmlformats.org/drawingml/2006/table">
            <a:tbl>
              <a:tblPr/>
              <a:tblGrid>
                <a:gridCol w="606240"/>
                <a:gridCol w="798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594480" y="3174840"/>
          <a:ext cx="1406520" cy="406440"/>
        </p:xfrm>
        <a:graphic>
          <a:graphicData uri="http://schemas.openxmlformats.org/drawingml/2006/table">
            <a:tbl>
              <a:tblPr/>
              <a:tblGrid>
                <a:gridCol w="606600"/>
                <a:gridCol w="799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7510320" y="2362320"/>
          <a:ext cx="1405080" cy="406440"/>
        </p:xfrm>
        <a:graphic>
          <a:graphicData uri="http://schemas.openxmlformats.org/drawingml/2006/table">
            <a:tbl>
              <a:tblPr/>
              <a:tblGrid>
                <a:gridCol w="336600"/>
                <a:gridCol w="106848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4648320" y="2133720"/>
            <a:ext cx="2819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03520" y="2819520"/>
            <a:ext cx="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84760" y="2819520"/>
            <a:ext cx="129528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89320" y="2819520"/>
            <a:ext cx="236232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522080" y="35812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327400" y="3936960"/>
          <a:ext cx="141444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666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037040" y="3936960"/>
          <a:ext cx="1415880" cy="406440"/>
        </p:xfrm>
        <a:graphic>
          <a:graphicData uri="http://schemas.openxmlformats.org/drawingml/2006/table">
            <a:tbl>
              <a:tblPr/>
              <a:tblGrid>
                <a:gridCol w="847440"/>
                <a:gridCol w="568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2360520" y="358128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7720" y="358128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2880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 flipH="1">
            <a:off x="838080" y="4343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43434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90512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Y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25909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962520" y="4699080"/>
          <a:ext cx="1404720" cy="406440"/>
        </p:xfrm>
        <a:graphic>
          <a:graphicData uri="http://schemas.openxmlformats.org/drawingml/2006/table">
            <a:tbl>
              <a:tblPr/>
              <a:tblGrid>
                <a:gridCol w="107460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96252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63868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 flipH="1">
            <a:off x="4648320" y="4343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43434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71500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T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64008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629400" y="3962520"/>
          <a:ext cx="141588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68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Y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flipH="1">
            <a:off x="7195680" y="3581280"/>
            <a:ext cx="11916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35812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623440" y="38098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96280" y="342900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24680" y="342900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591760" y="26668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1080" y="41911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04480" y="42670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cktrack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general algorithm for finding solution(s) to a computational problem by trying partial solutions and then abandoning them ("backtracking") if they are not suit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"brute force" algorithmic technique  (tries all paths; not clev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(but not always) implemented recursive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pl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ducing all permutations of a set of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sing langu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ames: anagrams, crosswords, word jumbles, 8 quee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binatorics and logic programm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general pseudo-code algorithm for backtracking proble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r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are no mor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make:  s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e a single choi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the set of cho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Remove 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 from the set of 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choices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re the rem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-make choi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Backtrack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 strateg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olving a backtracking problem, ask these ques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"choices" in this probl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"base case"?  (How do I know when I'm out of choices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"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create additional variables to remember my choic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modify the values of existing variabl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explore the rest of the choic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remove the made choice from the list of choic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I'm done exploring the rest, what should I d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"un-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ermutations revisit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mu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as a parameter and outputs all possible rearrangements of th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ermute("MARTY"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follow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quence of lin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990960" y="2666880"/>
          <a:ext cx="4772160" cy="3946320"/>
        </p:xfrm>
        <a:graphic>
          <a:graphicData uri="http://schemas.openxmlformats.org/drawingml/2006/table">
            <a:tbl>
              <a:tblPr/>
              <a:tblGrid>
                <a:gridCol w="795600"/>
                <a:gridCol w="795240"/>
                <a:gridCol w="795240"/>
                <a:gridCol w="795240"/>
                <a:gridCol w="795600"/>
                <a:gridCol w="795240"/>
              </a:tblGrid>
              <a:tr h="39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Outputs all permutations of the given string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permute(String s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ermute(s, "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ivate static void permute(String s, String chosen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s.length() ==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base case: no choices left to be mad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cursive case: choose each possible next lett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ar c = s.charAt(i);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 = s.substring(0, i) + 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osen += c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ermute(s, chosen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 = s.substring(0, i) + c + 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osen =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hosen.substring(0, chosen.length() - 1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                 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Outputs all permutations of the given string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permute(String s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ermute(s, "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ivate static void permute(String s, String chosen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s.length() ==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base case: no choices left to be mad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cursive case: choose each possible next lett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ring ch = s.substring(i, i + 1);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ring rest = s.substring(0, i) +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mov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ermute(rest, chosen + ch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(don't need to "un-choose" becau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 we used temp variables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Combin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bin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n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parameters and outputs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etter words that can be formed from uniqu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mbinations("GOOGLE", 3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sequence o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nes at r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implify the problem, you may assum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the strin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tains at lea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ique charac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7238880" y="2987640"/>
          <a:ext cx="1371600" cy="35654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</a:tblGrid>
              <a:tr h="357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L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itial attemp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combinations(String s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binations(s, "", lengt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void combinations(String s, String chosen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ngth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chosen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base case: no choices lef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ch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chosen.contains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t = s.substring(0, i) + s.substring(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binations(rest, chosen + ch, length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Prints same string multiple ti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 is all about breaking a big problem into smaller occurrences of that same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person can solve a small part of th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a small version of the problem that would be easy to answ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nformation from a neighbor might help 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32328"/>
          <a:stretch/>
        </p:blipFill>
        <p:spPr>
          <a:xfrm>
            <a:off x="4030560" y="3514680"/>
            <a:ext cx="480852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combinations(String s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&lt;String&gt; all = new TreeSet&lt;String&gt;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binations(s, ""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lengt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String comb : a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comb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void combinations(String s, String chosen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&lt;String&gt; 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ngth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.add(chosen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base case: no choices lef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ch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chosen.contains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t = s.substring(0, i) + s.substring(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binations(rest, chosen + ch, all, length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Domino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ame of dominoes is played with sm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 tiles, each having 2 numbers of do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0-6.  Players line up tiles to match do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mi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first() 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first dots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econd()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econd dots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e.g. "(3|5)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tak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dominoes and a starting/ending dot value, and returns whether the dominoes can be made into a chain that starts/ends with those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chain's start/end are the same, the answer is alway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858000" y="108576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omino ch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the following domino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link them into a chain from 1 to 3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 that the 3|5 domino had to be flipp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"link" one domino into a "chain" from 6 to 2 as follow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20178" t="28004" r="20919" b="64408"/>
          <a:stretch/>
        </p:blipFill>
        <p:spPr>
          <a:xfrm>
            <a:off x="1752480" y="1827360"/>
            <a:ext cx="5694480" cy="5666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rcRect l="33505" t="55928" r="34433" b="36644"/>
          <a:stretch/>
        </p:blipFill>
        <p:spPr>
          <a:xfrm>
            <a:off x="2978280" y="3936960"/>
            <a:ext cx="3117600" cy="5587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rcRect l="44182" t="47288" r="45044" b="45606"/>
          <a:stretch/>
        </p:blipFill>
        <p:spPr>
          <a:xfrm>
            <a:off x="4038480" y="5535720"/>
            <a:ext cx="106056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clie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or Array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olveDominoes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[(1|4), (2|6), (4|5), (1|5), (3|5)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&lt;Domino&gt; dominoes = new ArrayList&lt;Domino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1, 4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2, 6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4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1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3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5, 5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5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3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6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2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st&lt;Domino&gt; dominoes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tart, int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st&lt;Domino&gt; dominoe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tart, int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tart ==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 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dominoes.size()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 d = dominoes.remove(i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d.first() == start) {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d.second(), en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d.second() == star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d.first(), en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i, d);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Print chai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variation of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also prints the chain of dominoes that it finds, if 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Chain(dominoes, 1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(1|4), (4|5), (5|3)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boolean hasChain(List&lt;Domino&gt; dominoes, int start, int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ck&lt;Domino&gt; chosen = new Stack&lt;Domino&gt;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asChain(dominoes, chosen, start, end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tatic boolean hasChain(List&lt;Domino&gt; dominoes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ck&lt;Domino&gt; chos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, int start, int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tart ==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                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dominoes.size(); i++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mino d = dominoes.remove(i)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d.first() == start) {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ush(d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hasChain(dominoes, chosen, d.second(), end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o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if (d.second() == start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.fli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ush(d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hasChain(dominoes, chosen, d.second(), end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o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minoes.add(i, d);     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"8 Queens"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problem of trying to place 8 queens on a chess board such that no queen can attack another qu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"choices"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"make" 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un-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know whe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t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267080" y="2209680"/>
          <a:ext cx="4724280" cy="4267080"/>
        </p:xfrm>
        <a:graphic>
          <a:graphicData uri="http://schemas.openxmlformats.org/drawingml/2006/table">
            <a:tbl>
              <a:tblPr/>
              <a:tblGrid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8" name=""/>
          <p:cNvGrpSpPr/>
          <p:nvPr/>
        </p:nvGrpSpPr>
        <p:grpSpPr>
          <a:xfrm>
            <a:off x="4495320" y="2431800"/>
            <a:ext cx="4419720" cy="3810240"/>
            <a:chOff x="4495320" y="2431800"/>
            <a:chExt cx="4419720" cy="3810240"/>
          </a:xfrm>
        </p:grpSpPr>
        <p:sp>
          <p:nvSpPr>
            <p:cNvPr id="279" name=""/>
            <p:cNvSpPr/>
            <p:nvPr/>
          </p:nvSpPr>
          <p:spPr>
            <a:xfrm flipV="1">
              <a:off x="5714640" y="2431800"/>
              <a:ext cx="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14640" y="4260960"/>
              <a:ext cx="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4108320"/>
              <a:ext cx="3047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4495320" y="410832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4495320" y="2965320"/>
              <a:ext cx="106668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495320" y="4260960"/>
              <a:ext cx="106668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43240" y="4260960"/>
              <a:ext cx="213372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943240" y="2431800"/>
              <a:ext cx="152424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iv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each square on board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a queen the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to place the res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the quee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-place the qu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large i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ution space f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algorith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4 * 63 * 62 *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676680" y="1676520"/>
          <a:ext cx="5315040" cy="4790520"/>
        </p:xfrm>
        <a:graphic>
          <a:graphicData uri="http://schemas.openxmlformats.org/drawingml/2006/table">
            <a:tbl>
              <a:tblPr/>
              <a:tblGrid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tter algorithm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In a work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, exactly 1 qu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appear in ea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w and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colum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define a "choice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be valid placem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a queen in 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ticular colum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large i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ution space no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 * 8 * 8 *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676680" y="1676520"/>
          <a:ext cx="5315040" cy="4790520"/>
        </p:xfrm>
        <a:graphic>
          <a:graphicData uri="http://schemas.openxmlformats.org/drawingml/2006/table">
            <a:tbl>
              <a:tblPr/>
              <a:tblGrid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people behind m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someone behind me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k him/her how many people are behind him/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ey respond with a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n I will answe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+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nobody behind me, I will answe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0" r="0" b="32658"/>
          <a:stretch/>
        </p:blipFill>
        <p:spPr>
          <a:xfrm>
            <a:off x="4038480" y="3591000"/>
            <a:ext cx="47260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with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lveQuee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and tries to place 8 queens on it saf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method should stop exploring if it finds a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47600" y="1971720"/>
          <a:ext cx="8890200" cy="2676600"/>
        </p:xfrm>
        <a:graphic>
          <a:graphicData uri="http://schemas.openxmlformats.org/drawingml/2006/table">
            <a:tbl>
              <a:tblPr/>
              <a:tblGrid>
                <a:gridCol w="5918400"/>
                <a:gridCol w="2971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59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/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a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siz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 empty 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oolean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af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if queen can b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fely placed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lac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ce queen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mo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move queen from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isplay of 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for a solution to the 8 queens proble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with this board, reporting the first result foun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solveQueens(Board boar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!explore(board, 1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No solution found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One solution is as follows: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boar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ly searches for a solution to 8 queens on thi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ard, starting with the given column, returning true if 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olution is found and storing that solution in the boar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: queens have been safely placed in columns 1 to (col-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explore(Board board, int co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l &gt; board.size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ase case: all columns are plac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case: place a queen in this colum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row = 1; row &lt;= board.size(); row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board.isSafe(row, col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ard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ow, col);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lo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ard, col + 1)) {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olution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ow, col);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solution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 and ca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recursive algorithm involves at least 2 c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as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simple occurrence that can be answered dire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v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more complex occurrence of the problem that cannot be directly answered, but can instead be described in terms of smaller occurrences of the sam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recursive algorithms have more than one base or recursive case, but all have at least one of eac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rucial part of recursive programming is identifying these ca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recursive tas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we remove exactly half of the M&amp;M's in a large bowl, without dumping them all out or being able to count th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multiple people help out with solving the problem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each person do a small part of the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number of M&amp;M'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t is easy to double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n if you can't count?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hat is a "base case"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method to print a lin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aract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a line containing the given number of st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n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nd the line of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version of this method (that calls itself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e the proble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without using any loop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nt: Your solution should print just one star at a 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3:01Z</dcterms:modified>
  <cp:revision>314</cp:revision>
  <dc:subject/>
  <dc:title>CSE 142 Python Slides</dc:title>
</cp:coreProperties>
</file>