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7FAC-F9B4-4ED0-9353-E980C6A3319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Data Struc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 and He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large domain of values to a smaller fixed dom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, mapping a set of elements to integer indexes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 any given element value in a particular predictabl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way, adding / removing / looking for it are constant-time (O(1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output of a hash function for a given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evious slide, our "hash function" was: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ly requires a large array  (a.length &gt; 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n't work for negativ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could be very sparse, mostly empty  (memory wast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ep 1: Build heap in-pl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Bubble" down non-leaf nodes until the array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 = {21, 66, 40, 10, 70, 81, 30, 22, 45, 95, 88, 38}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Swap each node with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larger child as nee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7" name="AutoShape 33"/>
          <p:cNvCxnSpPr>
            <a:stCxn id="1226" idx="3"/>
            <a:endCxn id="1225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34"/>
          <p:cNvCxnSpPr>
            <a:stCxn id="1226" idx="5"/>
            <a:endCxn id="1224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35"/>
          <p:cNvCxnSpPr>
            <a:stCxn id="1224" idx="5"/>
            <a:endCxn id="1221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36"/>
          <p:cNvCxnSpPr>
            <a:stCxn id="1225" idx="3"/>
            <a:endCxn id="1223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37"/>
          <p:cNvCxnSpPr>
            <a:stCxn id="1225" idx="5"/>
            <a:endCxn id="1222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3" name="AutoShape 39"/>
          <p:cNvCxnSpPr>
            <a:stCxn id="1223" idx="3"/>
            <a:endCxn id="1232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4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5" name="AutoShape 41"/>
          <p:cNvCxnSpPr>
            <a:stCxn id="1223" idx="5"/>
            <a:endCxn id="1234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7" name="AutoShape 43"/>
          <p:cNvCxnSpPr>
            <a:stCxn id="1224" idx="3"/>
            <a:endCxn id="1236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8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AutoShape 45"/>
          <p:cNvCxnSpPr>
            <a:stCxn id="1222" idx="3"/>
            <a:endCxn id="1238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AutoShape 47"/>
          <p:cNvCxnSpPr>
            <a:stCxn id="1222" idx="5"/>
            <a:endCxn id="1240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42" name=""/>
          <p:cNvGraphicFramePr/>
          <p:nvPr/>
        </p:nvGraphicFramePr>
        <p:xfrm>
          <a:off x="255744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3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4" name="AutoShape 43"/>
          <p:cNvCxnSpPr>
            <a:stCxn id="1236" idx="3"/>
            <a:endCxn id="1243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ild heap in-pla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0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81: nothing to d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0: swap with 9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0: swap with 45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0: swap with 81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66: swap with 95, then 88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21: swap with 95, then 88, then 70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3" name="AutoShape 33"/>
          <p:cNvCxnSpPr>
            <a:stCxn id="1252" idx="3"/>
            <a:endCxn id="1251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AutoShape 34"/>
          <p:cNvCxnSpPr>
            <a:stCxn id="1252" idx="5"/>
            <a:endCxn id="1250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AutoShape 35"/>
          <p:cNvCxnSpPr>
            <a:stCxn id="1250" idx="5"/>
            <a:endCxn id="1247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AutoShape 36"/>
          <p:cNvCxnSpPr>
            <a:stCxn id="1251" idx="3"/>
            <a:endCxn id="1249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AutoShape 37"/>
          <p:cNvCxnSpPr>
            <a:stCxn id="1251" idx="5"/>
            <a:endCxn id="1248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AutoShape 39"/>
          <p:cNvCxnSpPr>
            <a:stCxn id="1249" idx="3"/>
            <a:endCxn id="1258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0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1"/>
          <p:cNvCxnSpPr>
            <a:stCxn id="1249" idx="5"/>
            <a:endCxn id="1260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2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AutoShape 43"/>
          <p:cNvCxnSpPr>
            <a:stCxn id="1250" idx="3"/>
            <a:endCxn id="1262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4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AutoShape 45"/>
          <p:cNvCxnSpPr>
            <a:stCxn id="1248" idx="3"/>
            <a:endCxn id="1264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6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7" name="AutoShape 47"/>
          <p:cNvCxnSpPr>
            <a:stCxn id="1248" idx="5"/>
            <a:endCxn id="1266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68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9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0" name="AutoShape 43"/>
          <p:cNvCxnSpPr>
            <a:stCxn id="1262" idx="3"/>
            <a:endCxn id="1269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 have a max-heap, remove elements repeatedly until we have a sort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ve each removed el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he end, rather than tossing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AutoShape 33"/>
          <p:cNvCxnSpPr>
            <a:stCxn id="1278" idx="3"/>
            <a:endCxn id="1277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0" name="AutoShape 34"/>
          <p:cNvCxnSpPr>
            <a:stCxn id="1278" idx="5"/>
            <a:endCxn id="1276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1" name="AutoShape 35"/>
          <p:cNvCxnSpPr>
            <a:stCxn id="1276" idx="5"/>
            <a:endCxn id="1273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2" name="AutoShape 36"/>
          <p:cNvCxnSpPr>
            <a:stCxn id="1277" idx="3"/>
            <a:endCxn id="1275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3" name="AutoShape 37"/>
          <p:cNvCxnSpPr>
            <a:stCxn id="1277" idx="5"/>
            <a:endCxn id="1274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4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5" name="AutoShape 39"/>
          <p:cNvCxnSpPr>
            <a:stCxn id="1275" idx="3"/>
            <a:endCxn id="1284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6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7" name="AutoShape 41"/>
          <p:cNvCxnSpPr>
            <a:stCxn id="1275" idx="5"/>
            <a:endCxn id="1286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9" name="AutoShape 43"/>
          <p:cNvCxnSpPr>
            <a:stCxn id="1276" idx="3"/>
            <a:endCxn id="1288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1" name="AutoShape 45"/>
          <p:cNvCxnSpPr>
            <a:stCxn id="1274" idx="3"/>
            <a:endCxn id="1290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2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AutoShape 47"/>
          <p:cNvCxnSpPr>
            <a:stCxn id="1274" idx="5"/>
            <a:endCxn id="1292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94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480"/>
                <a:gridCol w="392400"/>
                <a:gridCol w="393480"/>
                <a:gridCol w="392040"/>
                <a:gridCol w="41616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43"/>
          <p:cNvCxnSpPr>
            <a:stCxn id="1288" idx="3"/>
            <a:endCxn id="1295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e to sor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5: move 38 up, swap with 88,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8: move 21 up, swap with 81, 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1: move 38 up, swap with 70, 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0: move 10 up, swap with 66, 45,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ice that after 4 rem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4 elements in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are sort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remove eve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, the ent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y will be sorted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27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2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29"/>
          <p:cNvSpPr/>
          <p:nvPr/>
        </p:nvSpPr>
        <p:spPr>
          <a:xfrm>
            <a:off x="411480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30"/>
          <p:cNvSpPr/>
          <p:nvPr/>
        </p:nvSpPr>
        <p:spPr>
          <a:xfrm>
            <a:off x="7543800" y="30481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31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32"/>
          <p:cNvSpPr/>
          <p:nvPr/>
        </p:nvSpPr>
        <p:spPr>
          <a:xfrm>
            <a:off x="6248520" y="22096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5" name="AutoShape 33"/>
          <p:cNvCxnSpPr>
            <a:stCxn id="1304" idx="3"/>
            <a:endCxn id="1303" idx="0"/>
          </p:cNvCxnSpPr>
          <p:nvPr/>
        </p:nvCxnSpPr>
        <p:spPr>
          <a:xfrm flipH="1">
            <a:off x="5142960" y="2684160"/>
            <a:ext cx="11833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34"/>
          <p:cNvCxnSpPr>
            <a:stCxn id="1304" idx="5"/>
            <a:endCxn id="1302" idx="0"/>
          </p:cNvCxnSpPr>
          <p:nvPr/>
        </p:nvCxnSpPr>
        <p:spPr>
          <a:xfrm>
            <a:off x="6703920" y="2684160"/>
            <a:ext cx="11073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35"/>
          <p:cNvCxnSpPr>
            <a:stCxn id="1302" idx="5"/>
            <a:endCxn id="1299" idx="0"/>
          </p:cNvCxnSpPr>
          <p:nvPr/>
        </p:nvCxnSpPr>
        <p:spPr>
          <a:xfrm>
            <a:off x="799920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36"/>
          <p:cNvCxnSpPr>
            <a:stCxn id="1303" idx="3"/>
            <a:endCxn id="1301" idx="0"/>
          </p:cNvCxnSpPr>
          <p:nvPr/>
        </p:nvCxnSpPr>
        <p:spPr>
          <a:xfrm flipH="1">
            <a:off x="4381200" y="3522240"/>
            <a:ext cx="573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37"/>
          <p:cNvCxnSpPr>
            <a:stCxn id="1303" idx="5"/>
            <a:endCxn id="1300" idx="0"/>
          </p:cNvCxnSpPr>
          <p:nvPr/>
        </p:nvCxnSpPr>
        <p:spPr>
          <a:xfrm>
            <a:off x="5331960" y="352224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0" name="Oval 38"/>
          <p:cNvSpPr/>
          <p:nvPr/>
        </p:nvSpPr>
        <p:spPr>
          <a:xfrm>
            <a:off x="3657600" y="47242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39"/>
          <p:cNvCxnSpPr>
            <a:stCxn id="1301" idx="3"/>
            <a:endCxn id="1310" idx="0"/>
          </p:cNvCxnSpPr>
          <p:nvPr/>
        </p:nvCxnSpPr>
        <p:spPr>
          <a:xfrm flipH="1">
            <a:off x="3904920" y="4361040"/>
            <a:ext cx="2880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2" name="Oval 40"/>
          <p:cNvSpPr/>
          <p:nvPr/>
        </p:nvSpPr>
        <p:spPr>
          <a:xfrm>
            <a:off x="44956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AutoShape 41"/>
          <p:cNvCxnSpPr>
            <a:stCxn id="1301" idx="5"/>
            <a:endCxn id="1312" idx="0"/>
          </p:cNvCxnSpPr>
          <p:nvPr/>
        </p:nvCxnSpPr>
        <p:spPr>
          <a:xfrm>
            <a:off x="4570560" y="4361040"/>
            <a:ext cx="1735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4" name="Oval 42"/>
          <p:cNvSpPr/>
          <p:nvPr/>
        </p:nvSpPr>
        <p:spPr>
          <a:xfrm>
            <a:off x="7162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5" name="AutoShape 43"/>
          <p:cNvCxnSpPr>
            <a:stCxn id="1302" idx="3"/>
            <a:endCxn id="1314" idx="0"/>
          </p:cNvCxnSpPr>
          <p:nvPr/>
        </p:nvCxnSpPr>
        <p:spPr>
          <a:xfrm flipH="1">
            <a:off x="7428960" y="352224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6" name="Oval 44"/>
          <p:cNvSpPr/>
          <p:nvPr/>
        </p:nvSpPr>
        <p:spPr>
          <a:xfrm>
            <a:off x="5181480" y="4724280"/>
            <a:ext cx="495360" cy="495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AutoShape 45"/>
          <p:cNvCxnSpPr>
            <a:stCxn id="1300" idx="3"/>
            <a:endCxn id="1316" idx="0"/>
          </p:cNvCxnSpPr>
          <p:nvPr/>
        </p:nvCxnSpPr>
        <p:spPr>
          <a:xfrm flipH="1">
            <a:off x="5428440" y="4361040"/>
            <a:ext cx="13572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318" name="Oval 46"/>
          <p:cNvSpPr/>
          <p:nvPr/>
        </p:nvSpPr>
        <p:spPr>
          <a:xfrm>
            <a:off x="5867280" y="4724280"/>
            <a:ext cx="457200" cy="4572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9" name="AutoShape 47"/>
          <p:cNvCxnSpPr>
            <a:stCxn id="1300" idx="5"/>
            <a:endCxn id="1318" idx="0"/>
          </p:cNvCxnSpPr>
          <p:nvPr/>
        </p:nvCxnSpPr>
        <p:spPr>
          <a:xfrm>
            <a:off x="5941800" y="4361040"/>
            <a:ext cx="154440" cy="34488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aphicFrame>
        <p:nvGraphicFramePr>
          <p:cNvPr id="1320" name=""/>
          <p:cNvGraphicFramePr/>
          <p:nvPr/>
        </p:nvGraphicFramePr>
        <p:xfrm>
          <a:off x="2514600" y="5372280"/>
          <a:ext cx="6281640" cy="1004760"/>
        </p:xfrm>
        <a:graphic>
          <a:graphicData uri="http://schemas.openxmlformats.org/drawingml/2006/table">
            <a:tbl>
              <a:tblPr/>
              <a:tblGrid>
                <a:gridCol w="736560"/>
                <a:gridCol w="415800"/>
                <a:gridCol w="393840"/>
                <a:gridCol w="392040"/>
                <a:gridCol w="393840"/>
                <a:gridCol w="392040"/>
                <a:gridCol w="392040"/>
                <a:gridCol w="393840"/>
                <a:gridCol w="392040"/>
                <a:gridCol w="393840"/>
                <a:gridCol w="392040"/>
                <a:gridCol w="393840"/>
                <a:gridCol w="392040"/>
                <a:gridCol w="415800"/>
                <a:gridCol w="39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Oval 42"/>
          <p:cNvSpPr/>
          <p:nvPr/>
        </p:nvSpPr>
        <p:spPr>
          <a:xfrm>
            <a:off x="6781680" y="46864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43"/>
          <p:cNvCxnSpPr>
            <a:stCxn id="1314" idx="3"/>
            <a:endCxn id="1321" idx="0"/>
          </p:cNvCxnSpPr>
          <p:nvPr/>
        </p:nvCxnSpPr>
        <p:spPr>
          <a:xfrm flipH="1">
            <a:off x="7048080" y="4360680"/>
            <a:ext cx="192960" cy="30672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hash fun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negative numbers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o deal with large number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(i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abs(i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37)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-2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-2) % 10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abs(49)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nside HashIntSet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05120" y="35053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ketch of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s[hash(value)]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[hash(value)]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108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tim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 !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65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hash function maps 2 values to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905120" y="37670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available index  (wraps if need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collides with 24; must pro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adratic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ves increasingly far away: +1, +4, +9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22424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 using a hash table with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implicity, assume that the set cannot store 0s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a 0, put it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not, move forward until we find an empty (0) index to stor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see that the value is already in the table, don't re-add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54);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lient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!= value) {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or empty s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value) {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void duplic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hash function to find the proper bucke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forward until we either find the value, or an empty index (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find the value, it is contained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If we find 0, it is not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2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contains(35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  <a:ea typeface="Courier New"/>
              </a:rPr>
              <a:t>//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linear prob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o sear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05120" y="4834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remove by simply zeroing out an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remove(54);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et index 5 to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.contains(14)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false???  o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 replace it by a special "removed" placeholder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 be re-used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ut keep searching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512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905120" y="48769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h] = -99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"removed" flag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54);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clien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remove(3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76520" y="3995640"/>
          <a:ext cx="5638320" cy="1185840"/>
        </p:xfrm>
        <a:graphic>
          <a:graphicData uri="http://schemas.openxmlformats.org/drawingml/2006/table">
            <a:tbl>
              <a:tblPr/>
              <a:tblGrid>
                <a:gridCol w="758880"/>
                <a:gridCol w="466560"/>
                <a:gridCol w="466200"/>
                <a:gridCol w="469800"/>
                <a:gridCol w="464400"/>
                <a:gridCol w="471240"/>
                <a:gridCol w="667440"/>
                <a:gridCol w="469800"/>
                <a:gridCol w="468000"/>
                <a:gridCol w="468000"/>
                <a:gridCol w="46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tching add,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static final int REMOVED = -99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!= R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h]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contains does not need patchin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// it should keep going on a -999, which it already do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elements[h] != 0 &amp;&amp; elements[h] !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(h + 1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h] =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full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5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14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set.add(86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llides with 14, then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each value go in the arr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indexes must be examined to answ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(94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will happen if the array completely fill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5120" y="41911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4952880"/>
          <a:ext cx="8705520" cy="1095480"/>
        </p:xfrm>
        <a:graphic>
          <a:graphicData uri="http://schemas.openxmlformats.org/drawingml/2006/table">
            <a:tbl>
              <a:tblPr/>
              <a:tblGrid>
                <a:gridCol w="691200"/>
                <a:gridCol w="397080"/>
                <a:gridCol w="398880"/>
                <a:gridCol w="397080"/>
                <a:gridCol w="398520"/>
                <a:gridCol w="397080"/>
                <a:gridCol w="397080"/>
                <a:gridCol w="398880"/>
                <a:gridCol w="397080"/>
                <a:gridCol w="398520"/>
                <a:gridCol w="397440"/>
                <a:gridCol w="398520"/>
                <a:gridCol w="397080"/>
                <a:gridCol w="421560"/>
                <a:gridCol w="397080"/>
                <a:gridCol w="401760"/>
                <a:gridCol w="398880"/>
                <a:gridCol w="400320"/>
                <a:gridCol w="398880"/>
                <a:gridCol w="420840"/>
                <a:gridCol w="40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3581280"/>
          <a:ext cx="4667040" cy="1095480"/>
        </p:xfrm>
        <a:graphic>
          <a:graphicData uri="http://schemas.openxmlformats.org/drawingml/2006/table">
            <a:tbl>
              <a:tblPr/>
              <a:tblGrid>
                <a:gridCol w="691920"/>
                <a:gridCol w="395280"/>
                <a:gridCol w="398520"/>
                <a:gridCol w="397080"/>
                <a:gridCol w="398520"/>
                <a:gridCol w="396720"/>
                <a:gridCol w="396720"/>
                <a:gridCol w="398520"/>
                <a:gridCol w="399960"/>
                <a:gridCol w="397080"/>
                <a:gridCol w="3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has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Grows hash table to twice its original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old =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new int[2 * old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value : ol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value != 0 &amp;&amp; value != REMOVE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double) size / elements.length &gt;= 0.75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hash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table siz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prime numbers as hash table sizes to reduce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mproves spread / reduces clustering on reha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11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11 % 13 ==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3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39 % 13 == 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1 % 13 ==  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29 % 13 ==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81 % 13 ==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 41 % 13 ==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add(99)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101 % 13 ==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4419720"/>
          <a:ext cx="6571800" cy="1095120"/>
        </p:xfrm>
        <a:graphic>
          <a:graphicData uri="http://schemas.openxmlformats.org/drawingml/2006/table">
            <a:tbl>
              <a:tblPr/>
              <a:tblGrid>
                <a:gridCol w="763920"/>
                <a:gridCol w="435600"/>
                <a:gridCol w="439200"/>
                <a:gridCol w="437400"/>
                <a:gridCol w="439200"/>
                <a:gridCol w="437400"/>
                <a:gridCol w="437400"/>
                <a:gridCol w="441000"/>
                <a:gridCol w="440640"/>
                <a:gridCol w="437400"/>
                <a:gridCol w="437760"/>
                <a:gridCol w="507240"/>
                <a:gridCol w="458640"/>
                <a:gridCol w="45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Int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se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[11, 24, 54, 37, 4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05120" y="198108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160"/>
                <a:gridCol w="455760"/>
                <a:gridCol w="450720"/>
                <a:gridCol w="457200"/>
                <a:gridCol w="453960"/>
                <a:gridCol w="455760"/>
                <a:gridCol w="453960"/>
                <a:gridCol w="45396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e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-206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parate 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contains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-2484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1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66880" y="281952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334120" y="47102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341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6272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41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862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11216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38718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810252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053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197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769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866920" y="32767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0080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91520" y="32767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Int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 hash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using separate chai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Int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IntS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array of linked lis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elements[i] = front of list #i (null if empt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d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ashInt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Node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hash function maps values to inde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an element to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want to modify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n the list should we add the new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ake sure to avoid duplic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90920" y="356724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232240" y="4633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32240" y="54720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6252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548640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98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403848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78168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703584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772400" y="4619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8026560" y="41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290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4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006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9132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24120" y="40244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15200" y="40244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2800" y="55627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470480" y="4785840"/>
            <a:ext cx="7617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241880" y="417672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contains(value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     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add to fro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newNode = new Node(value)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of list #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Node.next = elements[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newN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ntains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search for an element in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loop through the linked list for the appropriate hash index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ing for the desir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ing through a linked list requires a "current" node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14)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84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.contains(53)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73320" y="3110040"/>
          <a:ext cx="56628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740560" y="4862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969160" y="45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40560" y="5548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969160" y="5243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405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59691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2926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521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26444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51824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55160" y="41623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8508960" y="3719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117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261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833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273360" y="356724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0724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797960" y="356724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58600" y="4876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449568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5067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76880" y="5226120"/>
            <a:ext cx="361800" cy="41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cont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ash(value)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remove an element from the hash t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s to consider: front (24), non-front (14), not found (94), null (3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move a node from a linked list, you must either change the list's front reference, or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of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eviou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17748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remove(5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048120" y="34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715000" y="5243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5943600" y="49388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15000" y="59292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5943600" y="56246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7150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594360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49568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723888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749304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29600" y="454356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8483760" y="41004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8862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8006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8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24852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781320" y="394812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72400" y="394812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58600" y="5243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7800" y="486252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493884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0"/>
                </a:moveTo>
                <a:cubicBezTo>
                  <a:pt x="72" y="116"/>
                  <a:pt x="144" y="232"/>
                  <a:pt x="144" y="336"/>
                </a:cubicBezTo>
                <a:cubicBezTo>
                  <a:pt x="144" y="440"/>
                  <a:pt x="16" y="576"/>
                  <a:pt x="0" y="6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hash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h] != null &amp;&amp; elements[h]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h] = elements[h].next;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de current = elements[h];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non-front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 &amp;&amp; current.nex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urrent.next.data ==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 w/ 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haining handles rehashing similarly to linear prob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the list in each hash bucket; re-add each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optimal implementation re-uses node objects, but this is optiona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14400" y="2666880"/>
          <a:ext cx="3835440" cy="619200"/>
        </p:xfrm>
        <a:graphic>
          <a:graphicData uri="http://schemas.openxmlformats.org/drawingml/2006/table">
            <a:tbl>
              <a:tblPr/>
              <a:tblGrid>
                <a:gridCol w="682560"/>
                <a:gridCol w="298440"/>
                <a:gridCol w="297000"/>
                <a:gridCol w="296640"/>
                <a:gridCol w="319320"/>
                <a:gridCol w="328680"/>
                <a:gridCol w="328320"/>
                <a:gridCol w="327240"/>
                <a:gridCol w="318960"/>
                <a:gridCol w="319320"/>
                <a:gridCol w="318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35280" y="3392640"/>
          <a:ext cx="415800" cy="30924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2050920" y="31640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59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2975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55800" y="388620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2971800" y="372888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759040" y="43387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2975040" y="41814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4004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95604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368960" y="33987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584600" y="3170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14400" y="4954680"/>
          <a:ext cx="8000640" cy="618840"/>
        </p:xfrm>
        <a:graphic>
          <a:graphicData uri="http://schemas.openxmlformats.org/drawingml/2006/table">
            <a:tbl>
              <a:tblPr/>
              <a:tblGrid>
                <a:gridCol w="6976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304920"/>
                <a:gridCol w="305280"/>
                <a:gridCol w="425520"/>
                <a:gridCol w="424800"/>
                <a:gridCol w="425520"/>
                <a:gridCol w="425160"/>
                <a:gridCol w="425160"/>
                <a:gridCol w="425160"/>
                <a:gridCol w="425160"/>
                <a:gridCol w="425160"/>
                <a:gridCol w="425520"/>
                <a:gridCol w="424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105520" y="568008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321160" y="545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75904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97504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362640" y="616752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578640" y="6010200"/>
            <a:ext cx="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67992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89556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29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451152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365880" y="5686560"/>
          <a:ext cx="415800" cy="309600"/>
        </p:xfrm>
        <a:graphic>
          <a:graphicData uri="http://schemas.openxmlformats.org/drawingml/2006/table">
            <a:tbl>
              <a:tblPr/>
              <a:tblGrid>
                <a:gridCol w="4158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581880" y="5457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class Nod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Node nex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bs(i)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shCod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the other built-in "hash" collections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nally on their elements to store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set's hash function to b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hash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th.abs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% element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ssues with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make an unusual cast on your array of generic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ashSet&lt;E&gt; implements Set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Node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ashSe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ode[]) new HashSet.Node[1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ll element comparison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if (curren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current.data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value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8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3"/>
              <a:endCxn id="91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2" idx="5"/>
              <a:endCxn id="90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89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0" idx="5"/>
              <a:endCxn id="88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"/>
            <p:cNvCxnSpPr>
              <a:stCxn id="91" idx="3"/>
              <a:endCxn id="98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1" idx="5"/>
              <a:endCxn id="97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101" idx="2"/>
              <a:endCxn id="92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lasses come with a default version based on memory addr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verridden version should somehow "add up" the object'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you scale/multiply parts of the result to distribute the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etter than just returning (x +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preads out numbers, fewer coll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37 * x + 23 *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ood hashCode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well-writte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ethod h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itself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  (must produce same results on each call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.hashCode() == o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i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's state doesn't 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Consistently with equality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equals(b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== b.hashCode(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!a.equals(b)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does NOT necessarily imply tha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.hashCode() != b.hashCode() 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why not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r class h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 should have bo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Good distribution of hash cod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a large set of objects with distinct states, they will generally return unique hash codes rather than all colliding into the same hash bu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: String hash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insid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ash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this.length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 = 31 * hash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charAt(i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has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any general hashing function, collisions are possi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"Ea" and "FB" have the same hash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rly versions of the Java examined only the first 16 character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ome common data this led to poor hash table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Code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of your object's fields is an object, call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531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rstName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...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corpor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apper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7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.valueOf(balance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.valueOf(isCheckingAccount).hashCod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va include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s.hashCode(..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takes any number of values and combines them into one hash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hashCode() {     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Bank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s.hash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ame, id, balan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 hash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like a set where the node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Map&lt;K, V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modify your Node class to store a ke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133720" y="25909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556272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315200" y="36432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756936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71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29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434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87692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66920" y="30481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8580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332320" y="36576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 flipH="1">
            <a:off x="6400800" y="30481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7315200" y="44816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7569360" y="40384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40280" y="32004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33920" y="36576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m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map as an ADT by creating a Map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: put (add), get, contains key, 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p&lt;K, V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Ke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K key, V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map vs. hash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ashing is always done on the keys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there and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search for a node whose key matches a given ke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is n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if the given key is already there, you must replace its old value with the new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.put("Bill", 66);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 49 with 6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63760" y="365760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89276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645240" y="47102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68994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301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9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734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96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196960" y="4114800"/>
            <a:ext cx="38124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1880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662360" y="47242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 flipH="1">
            <a:off x="5730840" y="4114800"/>
            <a:ext cx="38088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645240" y="541008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689616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7032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3063960" y="472428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6172920" y="617220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654440" y="54100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Abb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609588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"Bill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4876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iority Que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d Heap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8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ization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nt job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SE lab printers constantly accept and complete jobs from all over the building.  We want to print faculty jobs before staff before student jobs, and grad students before undergrad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 scheduling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eduling patients for treatment in the ER.  A gunshot victim should be treated sooner than a guy with a cold, regardless of arrival time. How do we always choose the most urgent case when new patients continue to arr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 operations we wa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an element  (print job, patient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get/remove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most "important"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or "urgent"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ority Queue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ordered elements that provides fast access to the minimum (or maximum)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in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"highest priority"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s/retur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2160" y="5045040"/>
            <a:ext cx="21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62880" y="4191120"/>
            <a:ext cx="200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if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add("from"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86520" y="50734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7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1480" y="60451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74920" y="4191120"/>
            <a:ext cx="2668680" cy="17589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342600" y="4361040"/>
            <a:ext cx="2477880" cy="1521720"/>
            <a:chOff x="3342600" y="4361040"/>
            <a:chExt cx="2477880" cy="1521720"/>
          </a:xfrm>
        </p:grpSpPr>
        <p:sp>
          <p:nvSpPr>
            <p:cNvPr id="391" name=""/>
            <p:cNvSpPr/>
            <p:nvPr/>
          </p:nvSpPr>
          <p:spPr>
            <a:xfrm>
              <a:off x="3999240" y="4361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10040" y="4454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o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7640" y="4829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fro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73280" y="4636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to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73280" y="50720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she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0280" y="51818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you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8520" y="54964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him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1440" y="5545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wh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9520" y="5242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6400" y="48178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dow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42600" y="5011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ourier New"/>
                </a:rPr>
                <a:t>"by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4280" y="4515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"if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54560" y="5099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q.remov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25200" y="5137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b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does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106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111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n unfilled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next available index, as in a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Shif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index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in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ift elements to remove min from index [0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8197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486240" y="327672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doubly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at the end of the link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imum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p over elements to find min.  Unlink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linked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ed list to implement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place to mainta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ro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ron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1), O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linked list to find the proper insertion po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226040" y="32623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 flipV="1">
            <a:off x="4683240" y="34718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987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 flipV="1">
            <a:off x="5445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49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620712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51204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 flipV="1">
            <a:off x="6969240" y="348624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27380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 flipV="1">
            <a:off x="7731000" y="3486240"/>
            <a:ext cx="3049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8035920" y="3276720"/>
          <a:ext cx="457200" cy="39528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3897360" y="3824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02680" y="3824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191120" y="36572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8458200" y="36572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336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using a binary search tree to implement a PQ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it in the proper BST L/R - ordered spo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um element is at the far left edge of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nk far left element to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8552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..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630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good in theory, but the tree tends to become unbalanced to the righ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815328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6"/>
          <p:cNvSpPr/>
          <p:nvPr/>
        </p:nvSpPr>
        <p:spPr>
          <a:xfrm>
            <a:off x="6172200" y="4562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7"/>
          <p:cNvSpPr/>
          <p:nvPr/>
        </p:nvSpPr>
        <p:spPr>
          <a:xfrm>
            <a:off x="7772400" y="37908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"/>
          <p:cNvSpPr/>
          <p:nvPr/>
        </p:nvSpPr>
        <p:spPr>
          <a:xfrm>
            <a:off x="6553080" y="37814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7162920" y="309564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AutoShape 10"/>
          <p:cNvCxnSpPr>
            <a:stCxn id="451" idx="3"/>
            <a:endCxn id="450" idx="0"/>
          </p:cNvCxnSpPr>
          <p:nvPr/>
        </p:nvCxnSpPr>
        <p:spPr>
          <a:xfrm flipH="1">
            <a:off x="6781320" y="3505320"/>
            <a:ext cx="448560" cy="2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AutoShape 11"/>
          <p:cNvCxnSpPr>
            <a:stCxn id="451" idx="5"/>
            <a:endCxn id="449" idx="0"/>
          </p:cNvCxnSpPr>
          <p:nvPr/>
        </p:nvCxnSpPr>
        <p:spPr>
          <a:xfrm>
            <a:off x="7553160" y="3504960"/>
            <a:ext cx="4485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12"/>
          <p:cNvCxnSpPr>
            <a:stCxn id="449" idx="5"/>
            <a:endCxn id="447" idx="0"/>
          </p:cNvCxnSpPr>
          <p:nvPr/>
        </p:nvCxnSpPr>
        <p:spPr>
          <a:xfrm>
            <a:off x="816300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AutoShape 13"/>
          <p:cNvCxnSpPr>
            <a:stCxn id="450" idx="3"/>
            <a:endCxn id="448" idx="0"/>
          </p:cNvCxnSpPr>
          <p:nvPr/>
        </p:nvCxnSpPr>
        <p:spPr>
          <a:xfrm flipH="1">
            <a:off x="6400080" y="4190760"/>
            <a:ext cx="21996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Oval 19"/>
          <p:cNvSpPr/>
          <p:nvPr/>
        </p:nvSpPr>
        <p:spPr>
          <a:xfrm>
            <a:off x="7391520" y="4572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20"/>
          <p:cNvCxnSpPr>
            <a:stCxn id="449" idx="3"/>
            <a:endCxn id="456" idx="0"/>
          </p:cNvCxnSpPr>
          <p:nvPr/>
        </p:nvCxnSpPr>
        <p:spPr>
          <a:xfrm flipH="1">
            <a:off x="7619760" y="4200120"/>
            <a:ext cx="219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balanced binary tre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6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34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2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45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ulate these operations.  What is the tree's shap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ree tha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nbalance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a height close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ather than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breaks the expected runtime of many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715000" y="1371600"/>
            <a:ext cx="2743200" cy="4038480"/>
            <a:chOff x="5715000" y="1371600"/>
            <a:chExt cx="2743200" cy="4038480"/>
          </a:xfrm>
        </p:grpSpPr>
        <p:sp>
          <p:nvSpPr>
            <p:cNvPr id="461" name="Oval 4"/>
            <p:cNvSpPr/>
            <p:nvPr/>
          </p:nvSpPr>
          <p:spPr>
            <a:xfrm>
              <a:off x="80010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7"/>
            <p:cNvSpPr/>
            <p:nvPr/>
          </p:nvSpPr>
          <p:spPr>
            <a:xfrm>
              <a:off x="6858000" y="19908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715000" y="13716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AutoShape 11"/>
            <p:cNvCxnSpPr>
              <a:stCxn id="463" idx="5"/>
              <a:endCxn id="462" idx="0"/>
            </p:cNvCxnSpPr>
            <p:nvPr/>
          </p:nvCxnSpPr>
          <p:spPr>
            <a:xfrm>
              <a:off x="6105240" y="1780920"/>
              <a:ext cx="982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5" name="AutoShape 12"/>
            <p:cNvCxnSpPr>
              <a:stCxn id="462" idx="5"/>
              <a:endCxn id="461" idx="0"/>
            </p:cNvCxnSpPr>
            <p:nvPr/>
          </p:nvCxnSpPr>
          <p:spPr>
            <a:xfrm>
              <a:off x="7248240" y="2400120"/>
              <a:ext cx="9820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6" name="Oval 19"/>
            <p:cNvSpPr/>
            <p:nvPr/>
          </p:nvSpPr>
          <p:spPr>
            <a:xfrm>
              <a:off x="617220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7" name="AutoShape 20"/>
            <p:cNvCxnSpPr>
              <a:stCxn id="462" idx="3"/>
              <a:endCxn id="466" idx="0"/>
            </p:cNvCxnSpPr>
            <p:nvPr/>
          </p:nvCxnSpPr>
          <p:spPr>
            <a:xfrm flipH="1">
              <a:off x="6400440" y="2400120"/>
              <a:ext cx="5241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8" name="Oval 19"/>
            <p:cNvSpPr/>
            <p:nvPr/>
          </p:nvSpPr>
          <p:spPr>
            <a:xfrm>
              <a:off x="7315200" y="34290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AutoShape 20"/>
            <p:cNvCxnSpPr>
              <a:stCxn id="461" idx="3"/>
              <a:endCxn id="468" idx="0"/>
            </p:cNvCxnSpPr>
            <p:nvPr/>
          </p:nvCxnSpPr>
          <p:spPr>
            <a:xfrm flipH="1">
              <a:off x="7543440" y="3152880"/>
              <a:ext cx="524160" cy="25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Oval 19"/>
            <p:cNvSpPr/>
            <p:nvPr/>
          </p:nvSpPr>
          <p:spPr>
            <a:xfrm>
              <a:off x="7619760" y="419112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AutoShape 20"/>
            <p:cNvCxnSpPr>
              <a:stCxn id="468" idx="5"/>
              <a:endCxn id="470" idx="0"/>
            </p:cNvCxnSpPr>
            <p:nvPr/>
          </p:nvCxnSpPr>
          <p:spPr>
            <a:xfrm>
              <a:off x="7705080" y="383868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2" name="Oval 19"/>
            <p:cNvSpPr/>
            <p:nvPr/>
          </p:nvSpPr>
          <p:spPr>
            <a:xfrm>
              <a:off x="7924680" y="495288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AutoShape 20"/>
            <p:cNvCxnSpPr>
              <a:stCxn id="470" idx="5"/>
              <a:endCxn id="472" idx="0"/>
            </p:cNvCxnSpPr>
            <p:nvPr/>
          </p:nvCxnSpPr>
          <p:spPr>
            <a:xfrm>
              <a:off x="8010000" y="4600440"/>
              <a:ext cx="143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lete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very level is full except possibly the lowest level, which must be filled from left to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.e., a node may not have any children until all possible siblings ex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2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929120" y="3408480"/>
            <a:ext cx="31482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5"/>
          <p:cNvGrpSpPr/>
          <p:nvPr/>
        </p:nvGrpSpPr>
        <p:grpSpPr>
          <a:xfrm>
            <a:off x="771480" y="3858840"/>
            <a:ext cx="3352320" cy="1752480"/>
            <a:chOff x="771480" y="3858840"/>
            <a:chExt cx="3352320" cy="1752480"/>
          </a:xfrm>
        </p:grpSpPr>
        <p:sp>
          <p:nvSpPr>
            <p:cNvPr id="478" name="Line 6"/>
            <p:cNvSpPr/>
            <p:nvPr/>
          </p:nvSpPr>
          <p:spPr>
            <a:xfrm flipV="1">
              <a:off x="771480" y="3858840"/>
              <a:ext cx="195552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7"/>
            <p:cNvSpPr/>
            <p:nvPr/>
          </p:nvSpPr>
          <p:spPr>
            <a:xfrm>
              <a:off x="771480" y="56113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8"/>
            <p:cNvSpPr/>
            <p:nvPr/>
          </p:nvSpPr>
          <p:spPr>
            <a:xfrm flipV="1">
              <a:off x="2447640" y="5198760"/>
              <a:ext cx="0" cy="41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"/>
            <p:cNvSpPr/>
            <p:nvPr/>
          </p:nvSpPr>
          <p:spPr>
            <a:xfrm flipH="1">
              <a:off x="2447640" y="5199120"/>
              <a:ext cx="1676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0"/>
            <p:cNvSpPr/>
            <p:nvPr/>
          </p:nvSpPr>
          <p:spPr>
            <a:xfrm flipH="1" flipV="1">
              <a:off x="2727000" y="3859200"/>
              <a:ext cx="1396800" cy="13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f P ≤ X  for every element X with parent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s' values are always smaller than those of their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that minimum element is always the root (a "min-hea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tion: "max-heap" stores largest element at root, reverses ord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heap a BST?  How are they relat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Picture 4" descr="&#13;Fig_21-01.pct                                                  00069570_x0008_Porkchop                       B3B4845B:"/>
          <p:cNvPicPr/>
          <p:nvPr/>
        </p:nvPicPr>
        <p:blipFill>
          <a:blip r:embed="rId1"/>
          <a:srcRect l="19904" t="0" r="19904" b="21517"/>
          <a:stretch/>
        </p:blipFill>
        <p:spPr>
          <a:xfrm>
            <a:off x="4876920" y="3414600"/>
            <a:ext cx="3233520" cy="2605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&#13;Fig_21-02.pct                                                  00069570_x0008_Porkchop                       B3B4845B:"/>
          <p:cNvPicPr/>
          <p:nvPr/>
        </p:nvPicPr>
        <p:blipFill>
          <a:blip r:embed="rId2"/>
          <a:stretch/>
        </p:blipFill>
        <p:spPr>
          <a:xfrm>
            <a:off x="1600200" y="3886200"/>
            <a:ext cx="1378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832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in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Oval 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"/>
          <p:cNvSpPr/>
          <p:nvPr/>
        </p:nvSpPr>
        <p:spPr>
          <a:xfrm>
            <a:off x="304920" y="3048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"/>
          <p:cNvSpPr/>
          <p:nvPr/>
        </p:nvSpPr>
        <p:spPr>
          <a:xfrm>
            <a:off x="1447920" y="228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"/>
          <p:cNvSpPr/>
          <p:nvPr/>
        </p:nvSpPr>
        <p:spPr>
          <a:xfrm>
            <a:off x="609480" y="22860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1066680" y="1523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8"/>
          <p:cNvCxnSpPr>
            <a:stCxn id="492" idx="3"/>
            <a:endCxn id="491" idx="0"/>
          </p:cNvCxnSpPr>
          <p:nvPr/>
        </p:nvCxnSpPr>
        <p:spPr>
          <a:xfrm flipH="1">
            <a:off x="799560" y="1868040"/>
            <a:ext cx="32292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AutoShape 9"/>
          <p:cNvCxnSpPr>
            <a:stCxn id="492" idx="5"/>
            <a:endCxn id="490" idx="0"/>
          </p:cNvCxnSpPr>
          <p:nvPr/>
        </p:nvCxnSpPr>
        <p:spPr>
          <a:xfrm>
            <a:off x="1392120" y="186804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AutoShape 10"/>
          <p:cNvCxnSpPr>
            <a:stCxn id="491" idx="3"/>
            <a:endCxn id="489" idx="0"/>
          </p:cNvCxnSpPr>
          <p:nvPr/>
        </p:nvCxnSpPr>
        <p:spPr>
          <a:xfrm flipH="1">
            <a:off x="495000" y="2630160"/>
            <a:ext cx="1706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11"/>
          <p:cNvCxnSpPr>
            <a:stCxn id="491" idx="5"/>
            <a:endCxn id="488" idx="0"/>
          </p:cNvCxnSpPr>
          <p:nvPr/>
        </p:nvCxnSpPr>
        <p:spPr>
          <a:xfrm>
            <a:off x="934920" y="2630160"/>
            <a:ext cx="2469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Oval 12"/>
          <p:cNvSpPr/>
          <p:nvPr/>
        </p:nvSpPr>
        <p:spPr>
          <a:xfrm>
            <a:off x="27432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3"/>
          <p:cNvSpPr/>
          <p:nvPr/>
        </p:nvSpPr>
        <p:spPr>
          <a:xfrm>
            <a:off x="13716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4"/>
          <p:cNvSpPr/>
          <p:nvPr/>
        </p:nvSpPr>
        <p:spPr>
          <a:xfrm>
            <a:off x="609480" y="51814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5"/>
          <p:cNvSpPr/>
          <p:nvPr/>
        </p:nvSpPr>
        <p:spPr>
          <a:xfrm>
            <a:off x="2209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1066680" y="44956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1600200" y="37339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AutoShape 18"/>
          <p:cNvCxnSpPr>
            <a:stCxn id="502" idx="3"/>
            <a:endCxn id="501" idx="0"/>
          </p:cNvCxnSpPr>
          <p:nvPr/>
        </p:nvCxnSpPr>
        <p:spPr>
          <a:xfrm flipH="1">
            <a:off x="1257120" y="40784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AutoShape 19"/>
          <p:cNvCxnSpPr>
            <a:stCxn id="502" idx="5"/>
            <a:endCxn id="500" idx="0"/>
          </p:cNvCxnSpPr>
          <p:nvPr/>
        </p:nvCxnSpPr>
        <p:spPr>
          <a:xfrm>
            <a:off x="1925280" y="40784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AutoShape 20"/>
          <p:cNvCxnSpPr>
            <a:stCxn id="500" idx="5"/>
            <a:endCxn id="497" idx="0"/>
          </p:cNvCxnSpPr>
          <p:nvPr/>
        </p:nvCxnSpPr>
        <p:spPr>
          <a:xfrm>
            <a:off x="2534760" y="483984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AutoShape 21"/>
          <p:cNvCxnSpPr>
            <a:stCxn id="501" idx="3"/>
            <a:endCxn id="499" idx="0"/>
          </p:cNvCxnSpPr>
          <p:nvPr/>
        </p:nvCxnSpPr>
        <p:spPr>
          <a:xfrm flipH="1">
            <a:off x="799560" y="48398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22"/>
          <p:cNvCxnSpPr>
            <a:stCxn id="501" idx="5"/>
            <a:endCxn id="498" idx="0"/>
          </p:cNvCxnSpPr>
          <p:nvPr/>
        </p:nvCxnSpPr>
        <p:spPr>
          <a:xfrm>
            <a:off x="1392120" y="48398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Oval 23"/>
          <p:cNvSpPr/>
          <p:nvPr/>
        </p:nvSpPr>
        <p:spPr>
          <a:xfrm>
            <a:off x="22860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24"/>
          <p:cNvCxnSpPr>
            <a:stCxn id="499" idx="3"/>
            <a:endCxn id="508" idx="0"/>
          </p:cNvCxnSpPr>
          <p:nvPr/>
        </p:nvCxnSpPr>
        <p:spPr>
          <a:xfrm flipH="1">
            <a:off x="475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Oval 25"/>
          <p:cNvSpPr/>
          <p:nvPr/>
        </p:nvSpPr>
        <p:spPr>
          <a:xfrm>
            <a:off x="876240" y="583416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AutoShape 26"/>
          <p:cNvCxnSpPr>
            <a:stCxn id="499" idx="5"/>
            <a:endCxn id="510" idx="0"/>
          </p:cNvCxnSpPr>
          <p:nvPr/>
        </p:nvCxnSpPr>
        <p:spPr>
          <a:xfrm>
            <a:off x="934560" y="55256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Oval 27"/>
          <p:cNvSpPr/>
          <p:nvPr/>
        </p:nvSpPr>
        <p:spPr>
          <a:xfrm>
            <a:off x="2057400" y="51814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28"/>
          <p:cNvCxnSpPr>
            <a:stCxn id="500" idx="3"/>
            <a:endCxn id="512" idx="0"/>
          </p:cNvCxnSpPr>
          <p:nvPr/>
        </p:nvCxnSpPr>
        <p:spPr>
          <a:xfrm flipH="1">
            <a:off x="2247120" y="483984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Oval 29"/>
          <p:cNvSpPr/>
          <p:nvPr/>
        </p:nvSpPr>
        <p:spPr>
          <a:xfrm>
            <a:off x="52578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0"/>
          <p:cNvSpPr/>
          <p:nvPr/>
        </p:nvSpPr>
        <p:spPr>
          <a:xfrm>
            <a:off x="38862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31"/>
          <p:cNvSpPr/>
          <p:nvPr/>
        </p:nvSpPr>
        <p:spPr>
          <a:xfrm>
            <a:off x="3124080" y="2743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4724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33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4114800" y="1295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AutoShape 35"/>
          <p:cNvCxnSpPr>
            <a:stCxn id="519" idx="3"/>
            <a:endCxn id="518" idx="0"/>
          </p:cNvCxnSpPr>
          <p:nvPr/>
        </p:nvCxnSpPr>
        <p:spPr>
          <a:xfrm flipH="1">
            <a:off x="3771720" y="163944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AutoShape 36"/>
          <p:cNvCxnSpPr>
            <a:stCxn id="519" idx="5"/>
            <a:endCxn id="517" idx="0"/>
          </p:cNvCxnSpPr>
          <p:nvPr/>
        </p:nvCxnSpPr>
        <p:spPr>
          <a:xfrm>
            <a:off x="4439880" y="163944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AutoShape 37"/>
          <p:cNvCxnSpPr>
            <a:stCxn id="517" idx="5"/>
            <a:endCxn id="514" idx="0"/>
          </p:cNvCxnSpPr>
          <p:nvPr/>
        </p:nvCxnSpPr>
        <p:spPr>
          <a:xfrm>
            <a:off x="5049360" y="240156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38"/>
          <p:cNvCxnSpPr>
            <a:stCxn id="518" idx="3"/>
            <a:endCxn id="516" idx="0"/>
          </p:cNvCxnSpPr>
          <p:nvPr/>
        </p:nvCxnSpPr>
        <p:spPr>
          <a:xfrm flipH="1">
            <a:off x="3314160" y="240156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39"/>
          <p:cNvCxnSpPr>
            <a:stCxn id="518" idx="5"/>
            <a:endCxn id="515" idx="0"/>
          </p:cNvCxnSpPr>
          <p:nvPr/>
        </p:nvCxnSpPr>
        <p:spPr>
          <a:xfrm>
            <a:off x="3906720" y="240156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Oval 40"/>
          <p:cNvSpPr/>
          <p:nvPr/>
        </p:nvSpPr>
        <p:spPr>
          <a:xfrm>
            <a:off x="2743200" y="33955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41"/>
          <p:cNvCxnSpPr>
            <a:stCxn id="516" idx="3"/>
            <a:endCxn id="525" idx="0"/>
          </p:cNvCxnSpPr>
          <p:nvPr/>
        </p:nvCxnSpPr>
        <p:spPr>
          <a:xfrm flipH="1">
            <a:off x="2990160" y="308772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Oval 42"/>
          <p:cNvSpPr/>
          <p:nvPr/>
        </p:nvSpPr>
        <p:spPr>
          <a:xfrm>
            <a:off x="4800600" y="3429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AutoShape 43"/>
          <p:cNvCxnSpPr>
            <a:stCxn id="529" idx="5"/>
            <a:endCxn id="527" idx="0"/>
          </p:cNvCxnSpPr>
          <p:nvPr/>
        </p:nvCxnSpPr>
        <p:spPr>
          <a:xfrm>
            <a:off x="4897080" y="3087360"/>
            <a:ext cx="1515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Oval 44"/>
          <p:cNvSpPr/>
          <p:nvPr/>
        </p:nvSpPr>
        <p:spPr>
          <a:xfrm>
            <a:off x="4572000" y="2743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45"/>
          <p:cNvCxnSpPr>
            <a:stCxn id="517" idx="3"/>
            <a:endCxn id="529" idx="0"/>
          </p:cNvCxnSpPr>
          <p:nvPr/>
        </p:nvCxnSpPr>
        <p:spPr>
          <a:xfrm flipH="1">
            <a:off x="4761720" y="2401560"/>
            <a:ext cx="1836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Oval 46"/>
          <p:cNvSpPr/>
          <p:nvPr/>
        </p:nvSpPr>
        <p:spPr>
          <a:xfrm>
            <a:off x="86104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7"/>
          <p:cNvSpPr/>
          <p:nvPr/>
        </p:nvSpPr>
        <p:spPr>
          <a:xfrm>
            <a:off x="72388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8"/>
          <p:cNvSpPr/>
          <p:nvPr/>
        </p:nvSpPr>
        <p:spPr>
          <a:xfrm>
            <a:off x="6477120" y="28195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9"/>
          <p:cNvSpPr/>
          <p:nvPr/>
        </p:nvSpPr>
        <p:spPr>
          <a:xfrm>
            <a:off x="8077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0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1"/>
          <p:cNvSpPr/>
          <p:nvPr/>
        </p:nvSpPr>
        <p:spPr>
          <a:xfrm>
            <a:off x="7467480" y="13716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52"/>
          <p:cNvCxnSpPr>
            <a:stCxn id="536" idx="3"/>
            <a:endCxn id="535" idx="0"/>
          </p:cNvCxnSpPr>
          <p:nvPr/>
        </p:nvCxnSpPr>
        <p:spPr>
          <a:xfrm flipH="1">
            <a:off x="7124040" y="1715760"/>
            <a:ext cx="39924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AutoShape 53"/>
          <p:cNvCxnSpPr>
            <a:stCxn id="536" idx="5"/>
            <a:endCxn id="534" idx="0"/>
          </p:cNvCxnSpPr>
          <p:nvPr/>
        </p:nvCxnSpPr>
        <p:spPr>
          <a:xfrm>
            <a:off x="7792560" y="171576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54"/>
          <p:cNvCxnSpPr>
            <a:stCxn id="534" idx="5"/>
            <a:endCxn id="531" idx="0"/>
          </p:cNvCxnSpPr>
          <p:nvPr/>
        </p:nvCxnSpPr>
        <p:spPr>
          <a:xfrm>
            <a:off x="8402400" y="247788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55"/>
          <p:cNvCxnSpPr>
            <a:stCxn id="535" idx="3"/>
            <a:endCxn id="533" idx="0"/>
          </p:cNvCxnSpPr>
          <p:nvPr/>
        </p:nvCxnSpPr>
        <p:spPr>
          <a:xfrm flipH="1">
            <a:off x="6666840" y="247788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56"/>
          <p:cNvCxnSpPr>
            <a:stCxn id="535" idx="5"/>
            <a:endCxn id="532" idx="0"/>
          </p:cNvCxnSpPr>
          <p:nvPr/>
        </p:nvCxnSpPr>
        <p:spPr>
          <a:xfrm>
            <a:off x="7259760" y="247788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Oval 57"/>
          <p:cNvSpPr/>
          <p:nvPr/>
        </p:nvSpPr>
        <p:spPr>
          <a:xfrm>
            <a:off x="6095880" y="347184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58"/>
          <p:cNvCxnSpPr>
            <a:stCxn id="533" idx="3"/>
            <a:endCxn id="542" idx="0"/>
          </p:cNvCxnSpPr>
          <p:nvPr/>
        </p:nvCxnSpPr>
        <p:spPr>
          <a:xfrm flipH="1">
            <a:off x="6342840" y="3164040"/>
            <a:ext cx="189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Oval 59"/>
          <p:cNvSpPr/>
          <p:nvPr/>
        </p:nvSpPr>
        <p:spPr>
          <a:xfrm>
            <a:off x="6743880" y="3471840"/>
            <a:ext cx="49500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AutoShape 60"/>
          <p:cNvCxnSpPr>
            <a:stCxn id="533" idx="5"/>
            <a:endCxn id="544" idx="0"/>
          </p:cNvCxnSpPr>
          <p:nvPr/>
        </p:nvCxnSpPr>
        <p:spPr>
          <a:xfrm>
            <a:off x="6802560" y="3164040"/>
            <a:ext cx="189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Oval 61"/>
          <p:cNvSpPr/>
          <p:nvPr/>
        </p:nvSpPr>
        <p:spPr>
          <a:xfrm>
            <a:off x="7924680" y="28195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AutoShape 62"/>
          <p:cNvCxnSpPr>
            <a:stCxn id="534" idx="3"/>
            <a:endCxn id="546" idx="0"/>
          </p:cNvCxnSpPr>
          <p:nvPr/>
        </p:nvCxnSpPr>
        <p:spPr>
          <a:xfrm flipH="1">
            <a:off x="8115120" y="2477880"/>
            <a:ext cx="1800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Oval 74"/>
          <p:cNvSpPr/>
          <p:nvPr/>
        </p:nvSpPr>
        <p:spPr>
          <a:xfrm>
            <a:off x="4114800" y="6095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5"/>
          <p:cNvSpPr/>
          <p:nvPr/>
        </p:nvSpPr>
        <p:spPr>
          <a:xfrm>
            <a:off x="3352680" y="60958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76"/>
          <p:cNvSpPr/>
          <p:nvPr/>
        </p:nvSpPr>
        <p:spPr>
          <a:xfrm>
            <a:off x="4952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7"/>
          <p:cNvSpPr/>
          <p:nvPr/>
        </p:nvSpPr>
        <p:spPr>
          <a:xfrm>
            <a:off x="3809880" y="5410080"/>
            <a:ext cx="38124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78"/>
          <p:cNvSpPr/>
          <p:nvPr/>
        </p:nvSpPr>
        <p:spPr>
          <a:xfrm>
            <a:off x="4343400" y="46483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79"/>
          <p:cNvCxnSpPr>
            <a:stCxn id="552" idx="3"/>
            <a:endCxn id="551" idx="0"/>
          </p:cNvCxnSpPr>
          <p:nvPr/>
        </p:nvCxnSpPr>
        <p:spPr>
          <a:xfrm flipH="1">
            <a:off x="4000320" y="4992840"/>
            <a:ext cx="39888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0"/>
          <p:cNvCxnSpPr>
            <a:stCxn id="552" idx="5"/>
            <a:endCxn id="550" idx="0"/>
          </p:cNvCxnSpPr>
          <p:nvPr/>
        </p:nvCxnSpPr>
        <p:spPr>
          <a:xfrm>
            <a:off x="4668480" y="4992840"/>
            <a:ext cx="475560" cy="39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5" name="AutoShape 81"/>
          <p:cNvCxnSpPr>
            <a:stCxn id="551" idx="3"/>
            <a:endCxn id="549" idx="0"/>
          </p:cNvCxnSpPr>
          <p:nvPr/>
        </p:nvCxnSpPr>
        <p:spPr>
          <a:xfrm flipH="1">
            <a:off x="3542760" y="575424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AutoShape 82"/>
          <p:cNvCxnSpPr>
            <a:stCxn id="551" idx="5"/>
            <a:endCxn id="548" idx="0"/>
          </p:cNvCxnSpPr>
          <p:nvPr/>
        </p:nvCxnSpPr>
        <p:spPr>
          <a:xfrm>
            <a:off x="4135320" y="575424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Oval 103"/>
          <p:cNvSpPr/>
          <p:nvPr/>
        </p:nvSpPr>
        <p:spPr>
          <a:xfrm>
            <a:off x="82296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04"/>
          <p:cNvSpPr/>
          <p:nvPr/>
        </p:nvSpPr>
        <p:spPr>
          <a:xfrm>
            <a:off x="6858000" y="58388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095880" y="5838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6"/>
          <p:cNvSpPr/>
          <p:nvPr/>
        </p:nvSpPr>
        <p:spPr>
          <a:xfrm>
            <a:off x="7696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07"/>
          <p:cNvSpPr/>
          <p:nvPr/>
        </p:nvSpPr>
        <p:spPr>
          <a:xfrm>
            <a:off x="6553080" y="5153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8"/>
          <p:cNvSpPr/>
          <p:nvPr/>
        </p:nvSpPr>
        <p:spPr>
          <a:xfrm>
            <a:off x="7086600" y="43909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109"/>
          <p:cNvCxnSpPr>
            <a:stCxn id="562" idx="3"/>
            <a:endCxn id="561" idx="0"/>
          </p:cNvCxnSpPr>
          <p:nvPr/>
        </p:nvCxnSpPr>
        <p:spPr>
          <a:xfrm flipH="1">
            <a:off x="6743520" y="4735080"/>
            <a:ext cx="3988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AutoShape 110"/>
          <p:cNvCxnSpPr>
            <a:stCxn id="562" idx="5"/>
            <a:endCxn id="560" idx="0"/>
          </p:cNvCxnSpPr>
          <p:nvPr/>
        </p:nvCxnSpPr>
        <p:spPr>
          <a:xfrm>
            <a:off x="7411680" y="4735080"/>
            <a:ext cx="47556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AutoShape 111"/>
          <p:cNvCxnSpPr>
            <a:stCxn id="560" idx="5"/>
            <a:endCxn id="557" idx="0"/>
          </p:cNvCxnSpPr>
          <p:nvPr/>
        </p:nvCxnSpPr>
        <p:spPr>
          <a:xfrm>
            <a:off x="8021160" y="5497200"/>
            <a:ext cx="3992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AutoShape 112"/>
          <p:cNvCxnSpPr>
            <a:stCxn id="561" idx="3"/>
            <a:endCxn id="559" idx="0"/>
          </p:cNvCxnSpPr>
          <p:nvPr/>
        </p:nvCxnSpPr>
        <p:spPr>
          <a:xfrm flipH="1">
            <a:off x="6285960" y="5497200"/>
            <a:ext cx="3229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AutoShape 113"/>
          <p:cNvCxnSpPr>
            <a:stCxn id="561" idx="5"/>
            <a:endCxn id="558" idx="0"/>
          </p:cNvCxnSpPr>
          <p:nvPr/>
        </p:nvCxnSpPr>
        <p:spPr>
          <a:xfrm>
            <a:off x="6878520" y="5497200"/>
            <a:ext cx="1706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68" name="Group 123"/>
          <p:cNvGrpSpPr/>
          <p:nvPr/>
        </p:nvGrpSpPr>
        <p:grpSpPr>
          <a:xfrm>
            <a:off x="806400" y="1219320"/>
            <a:ext cx="8489520" cy="5076360"/>
            <a:chOff x="806400" y="1219320"/>
            <a:chExt cx="8489520" cy="5076360"/>
          </a:xfrm>
        </p:grpSpPr>
        <p:grpSp>
          <p:nvGrpSpPr>
            <p:cNvPr id="569" name="Group 90"/>
            <p:cNvGrpSpPr/>
            <p:nvPr/>
          </p:nvGrpSpPr>
          <p:grpSpPr>
            <a:xfrm>
              <a:off x="806400" y="1247760"/>
              <a:ext cx="2241360" cy="2104560"/>
              <a:chOff x="806400" y="1247760"/>
              <a:chExt cx="2241360" cy="2104560"/>
            </a:xfrm>
          </p:grpSpPr>
          <p:sp>
            <p:nvSpPr>
              <p:cNvPr id="570" name="Line 84"/>
              <p:cNvSpPr/>
              <p:nvPr/>
            </p:nvSpPr>
            <p:spPr>
              <a:xfrm>
                <a:off x="806400" y="176040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85"/>
              <p:cNvSpPr/>
              <p:nvPr/>
            </p:nvSpPr>
            <p:spPr>
              <a:xfrm flipV="1">
                <a:off x="871560" y="169668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89"/>
              <p:cNvSpPr/>
              <p:nvPr/>
            </p:nvSpPr>
            <p:spPr>
              <a:xfrm>
                <a:off x="1622160" y="124776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95"/>
            <p:cNvGrpSpPr/>
            <p:nvPr/>
          </p:nvGrpSpPr>
          <p:grpSpPr>
            <a:xfrm>
              <a:off x="3930480" y="1219320"/>
              <a:ext cx="2241360" cy="2104560"/>
              <a:chOff x="3930480" y="1219320"/>
              <a:chExt cx="2241360" cy="2104560"/>
            </a:xfrm>
          </p:grpSpPr>
          <p:sp>
            <p:nvSpPr>
              <p:cNvPr id="574" name="Line 96"/>
              <p:cNvSpPr/>
              <p:nvPr/>
            </p:nvSpPr>
            <p:spPr>
              <a:xfrm>
                <a:off x="393048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7"/>
              <p:cNvSpPr/>
              <p:nvPr/>
            </p:nvSpPr>
            <p:spPr>
              <a:xfrm flipV="1">
                <a:off x="399564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98"/>
              <p:cNvSpPr/>
              <p:nvPr/>
            </p:nvSpPr>
            <p:spPr>
              <a:xfrm>
                <a:off x="474624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14"/>
            <p:cNvGrpSpPr/>
            <p:nvPr/>
          </p:nvGrpSpPr>
          <p:grpSpPr>
            <a:xfrm>
              <a:off x="6858000" y="4191120"/>
              <a:ext cx="2241360" cy="2104560"/>
              <a:chOff x="6858000" y="4191120"/>
              <a:chExt cx="2241360" cy="2104560"/>
            </a:xfrm>
          </p:grpSpPr>
          <p:sp>
            <p:nvSpPr>
              <p:cNvPr id="578" name="Line 115"/>
              <p:cNvSpPr/>
              <p:nvPr/>
            </p:nvSpPr>
            <p:spPr>
              <a:xfrm>
                <a:off x="6858000" y="47037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16"/>
              <p:cNvSpPr/>
              <p:nvPr/>
            </p:nvSpPr>
            <p:spPr>
              <a:xfrm flipV="1">
                <a:off x="6923160" y="46400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7"/>
              <p:cNvSpPr/>
              <p:nvPr/>
            </p:nvSpPr>
            <p:spPr>
              <a:xfrm>
                <a:off x="7673760" y="41911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19"/>
            <p:cNvGrpSpPr/>
            <p:nvPr/>
          </p:nvGrpSpPr>
          <p:grpSpPr>
            <a:xfrm>
              <a:off x="7054560" y="1219320"/>
              <a:ext cx="2241360" cy="2104560"/>
              <a:chOff x="7054560" y="1219320"/>
              <a:chExt cx="2241360" cy="2104560"/>
            </a:xfrm>
          </p:grpSpPr>
          <p:sp>
            <p:nvSpPr>
              <p:cNvPr id="582" name="Line 120"/>
              <p:cNvSpPr/>
              <p:nvPr/>
            </p:nvSpPr>
            <p:spPr>
              <a:xfrm>
                <a:off x="7054560" y="1731960"/>
                <a:ext cx="1560600" cy="152712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1"/>
              <p:cNvSpPr/>
              <p:nvPr/>
            </p:nvSpPr>
            <p:spPr>
              <a:xfrm flipV="1">
                <a:off x="7119720" y="1668240"/>
                <a:ext cx="1495440" cy="1655640"/>
              </a:xfrm>
              <a:prstGeom prst="line">
                <a:avLst/>
              </a:prstGeom>
              <a:ln w="22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122"/>
              <p:cNvSpPr/>
              <p:nvPr/>
            </p:nvSpPr>
            <p:spPr>
              <a:xfrm>
                <a:off x="7870320" y="1219320"/>
                <a:ext cx="1425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cc3300"/>
                    </a:solidFill>
                    <a:latin typeface="Calibri"/>
                    <a:ea typeface="ＭＳ Ｐゴシック"/>
                  </a:rPr>
                  <a:t>n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3"/>
          <p:cNvSpPr/>
          <p:nvPr/>
        </p:nvSpPr>
        <p:spPr>
          <a:xfrm>
            <a:off x="2119320" y="2736720"/>
            <a:ext cx="139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373040" y="2736720"/>
            <a:ext cx="141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2462040" y="2792520"/>
            <a:ext cx="142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1946160" y="2792520"/>
            <a:ext cx="141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3151080" y="2792520"/>
            <a:ext cx="1987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8"/>
          <p:cNvGrpSpPr/>
          <p:nvPr/>
        </p:nvGrpSpPr>
        <p:grpSpPr>
          <a:xfrm>
            <a:off x="3241800" y="1668600"/>
            <a:ext cx="1969200" cy="1422000"/>
            <a:chOff x="3241800" y="1668600"/>
            <a:chExt cx="1969200" cy="1422000"/>
          </a:xfrm>
        </p:grpSpPr>
        <p:sp>
          <p:nvSpPr>
            <p:cNvPr id="591" name="Oval 9"/>
            <p:cNvSpPr/>
            <p:nvPr/>
          </p:nvSpPr>
          <p:spPr>
            <a:xfrm>
              <a:off x="3241800" y="2751120"/>
              <a:ext cx="34632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0"/>
            <p:cNvGrpSpPr/>
            <p:nvPr/>
          </p:nvGrpSpPr>
          <p:grpSpPr>
            <a:xfrm>
              <a:off x="3501720" y="1668600"/>
              <a:ext cx="1709280" cy="957240"/>
              <a:chOff x="3501720" y="1668600"/>
              <a:chExt cx="1709280" cy="957240"/>
            </a:xfrm>
          </p:grpSpPr>
          <p:sp>
            <p:nvSpPr>
              <p:cNvPr id="593" name="Rectangle 11"/>
              <p:cNvSpPr/>
              <p:nvPr/>
            </p:nvSpPr>
            <p:spPr>
              <a:xfrm>
                <a:off x="3673440" y="223092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2"/>
              <p:cNvSpPr/>
              <p:nvPr/>
            </p:nvSpPr>
            <p:spPr>
              <a:xfrm>
                <a:off x="4864680" y="228672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4189320" y="16686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4"/>
              <p:cNvSpPr/>
              <p:nvPr/>
            </p:nvSpPr>
            <p:spPr>
              <a:xfrm flipV="1">
                <a:off x="373032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5"/>
              <p:cNvSpPr/>
              <p:nvPr/>
            </p:nvSpPr>
            <p:spPr>
              <a:xfrm flipH="1" flipV="1">
                <a:off x="4534200" y="1892520"/>
                <a:ext cx="45864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543120" y="228672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4189320" y="16686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3501720" y="228672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4878000" y="228672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Line 20"/>
            <p:cNvSpPr/>
            <p:nvPr/>
          </p:nvSpPr>
          <p:spPr>
            <a:xfrm flipV="1">
              <a:off x="3436560" y="255996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21"/>
          <p:cNvGrpSpPr/>
          <p:nvPr/>
        </p:nvGrpSpPr>
        <p:grpSpPr>
          <a:xfrm>
            <a:off x="838080" y="3897360"/>
            <a:ext cx="1969560" cy="1422000"/>
            <a:chOff x="838080" y="3897360"/>
            <a:chExt cx="1969560" cy="1422000"/>
          </a:xfrm>
        </p:grpSpPr>
        <p:grpSp>
          <p:nvGrpSpPr>
            <p:cNvPr id="604" name="Group 22"/>
            <p:cNvGrpSpPr/>
            <p:nvPr/>
          </p:nvGrpSpPr>
          <p:grpSpPr>
            <a:xfrm>
              <a:off x="838080" y="3897360"/>
              <a:ext cx="1969560" cy="1422000"/>
              <a:chOff x="838080" y="3897360"/>
              <a:chExt cx="1969560" cy="1422000"/>
            </a:xfrm>
          </p:grpSpPr>
          <p:sp>
            <p:nvSpPr>
              <p:cNvPr id="605" name="Oval 23"/>
              <p:cNvSpPr/>
              <p:nvPr/>
            </p:nvSpPr>
            <p:spPr>
              <a:xfrm>
                <a:off x="838080" y="4979880"/>
                <a:ext cx="346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1098000" y="3897360"/>
                <a:ext cx="1709640" cy="957240"/>
                <a:chOff x="1098000" y="3897360"/>
                <a:chExt cx="1709640" cy="95724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1269720" y="4459680"/>
                  <a:ext cx="14040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6"/>
                <p:cNvSpPr/>
                <p:nvPr/>
              </p:nvSpPr>
              <p:spPr>
                <a:xfrm>
                  <a:off x="2461320" y="4515480"/>
                  <a:ext cx="3463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7"/>
                <p:cNvSpPr/>
                <p:nvPr/>
              </p:nvSpPr>
              <p:spPr>
                <a:xfrm>
                  <a:off x="1785600" y="3897360"/>
                  <a:ext cx="347760" cy="339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 flipV="1">
                  <a:off x="132660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9"/>
                <p:cNvSpPr/>
                <p:nvPr/>
              </p:nvSpPr>
              <p:spPr>
                <a:xfrm flipH="1" flipV="1">
                  <a:off x="2130480" y="4121280"/>
                  <a:ext cx="459000" cy="39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30"/>
                <p:cNvSpPr/>
                <p:nvPr/>
              </p:nvSpPr>
              <p:spPr>
                <a:xfrm>
                  <a:off x="1139760" y="4515480"/>
                  <a:ext cx="348120" cy="339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31"/>
                <p:cNvSpPr/>
                <p:nvPr/>
              </p:nvSpPr>
              <p:spPr>
                <a:xfrm>
                  <a:off x="1785600" y="3897360"/>
                  <a:ext cx="14184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32"/>
                <p:cNvSpPr/>
                <p:nvPr/>
              </p:nvSpPr>
              <p:spPr>
                <a:xfrm>
                  <a:off x="1098000" y="4515480"/>
                  <a:ext cx="14040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33"/>
                <p:cNvSpPr/>
                <p:nvPr/>
              </p:nvSpPr>
              <p:spPr>
                <a:xfrm>
                  <a:off x="2474640" y="4515480"/>
                  <a:ext cx="14076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Line 34"/>
              <p:cNvSpPr/>
              <p:nvPr/>
            </p:nvSpPr>
            <p:spPr>
              <a:xfrm flipV="1">
                <a:off x="1032840" y="4788720"/>
                <a:ext cx="12960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Oval 35"/>
            <p:cNvSpPr/>
            <p:nvPr/>
          </p:nvSpPr>
          <p:spPr>
            <a:xfrm>
              <a:off x="1423080" y="4979880"/>
              <a:ext cx="347760" cy="33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6"/>
            <p:cNvSpPr/>
            <p:nvPr/>
          </p:nvSpPr>
          <p:spPr>
            <a:xfrm>
              <a:off x="1423080" y="4788720"/>
              <a:ext cx="12960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Oval 37"/>
          <p:cNvSpPr/>
          <p:nvPr/>
        </p:nvSpPr>
        <p:spPr>
          <a:xfrm>
            <a:off x="6621480" y="2878200"/>
            <a:ext cx="345960" cy="33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8"/>
          <p:cNvGrpSpPr/>
          <p:nvPr/>
        </p:nvGrpSpPr>
        <p:grpSpPr>
          <a:xfrm>
            <a:off x="6296040" y="1731960"/>
            <a:ext cx="1709280" cy="956880"/>
            <a:chOff x="6296040" y="1731960"/>
            <a:chExt cx="1709280" cy="956880"/>
          </a:xfrm>
        </p:grpSpPr>
        <p:sp>
          <p:nvSpPr>
            <p:cNvPr id="621" name="Rectangle 39"/>
            <p:cNvSpPr/>
            <p:nvPr/>
          </p:nvSpPr>
          <p:spPr>
            <a:xfrm>
              <a:off x="6467760" y="2293920"/>
              <a:ext cx="140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0"/>
            <p:cNvSpPr/>
            <p:nvPr/>
          </p:nvSpPr>
          <p:spPr>
            <a:xfrm>
              <a:off x="7659000" y="2349720"/>
              <a:ext cx="3463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1"/>
            <p:cNvSpPr/>
            <p:nvPr/>
          </p:nvSpPr>
          <p:spPr>
            <a:xfrm>
              <a:off x="6983640" y="1731960"/>
              <a:ext cx="347760" cy="339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2"/>
            <p:cNvSpPr/>
            <p:nvPr/>
          </p:nvSpPr>
          <p:spPr>
            <a:xfrm flipV="1">
              <a:off x="652464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3"/>
            <p:cNvSpPr/>
            <p:nvPr/>
          </p:nvSpPr>
          <p:spPr>
            <a:xfrm flipH="1" flipV="1">
              <a:off x="7328520" y="1955880"/>
              <a:ext cx="458640" cy="39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4"/>
            <p:cNvSpPr/>
            <p:nvPr/>
          </p:nvSpPr>
          <p:spPr>
            <a:xfrm>
              <a:off x="6337440" y="2349720"/>
              <a:ext cx="348120" cy="339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5"/>
            <p:cNvSpPr/>
            <p:nvPr/>
          </p:nvSpPr>
          <p:spPr>
            <a:xfrm>
              <a:off x="6983640" y="1731960"/>
              <a:ext cx="1418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6"/>
            <p:cNvSpPr/>
            <p:nvPr/>
          </p:nvSpPr>
          <p:spPr>
            <a:xfrm>
              <a:off x="6296040" y="2349720"/>
              <a:ext cx="140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7"/>
            <p:cNvSpPr/>
            <p:nvPr/>
          </p:nvSpPr>
          <p:spPr>
            <a:xfrm>
              <a:off x="7672320" y="2349720"/>
              <a:ext cx="140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48"/>
          <p:cNvSpPr/>
          <p:nvPr/>
        </p:nvSpPr>
        <p:spPr>
          <a:xfrm flipH="1" flipV="1">
            <a:off x="6621120" y="2624040"/>
            <a:ext cx="1285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6596280" y="2838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839880" y="4924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1449360" y="49514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3425760" y="3833640"/>
            <a:ext cx="1725480" cy="1020240"/>
            <a:chOff x="3425760" y="3833640"/>
            <a:chExt cx="1725480" cy="1020240"/>
          </a:xfrm>
        </p:grpSpPr>
        <p:grpSp>
          <p:nvGrpSpPr>
            <p:cNvPr id="635" name="Group 55"/>
            <p:cNvGrpSpPr/>
            <p:nvPr/>
          </p:nvGrpSpPr>
          <p:grpSpPr>
            <a:xfrm>
              <a:off x="3437640" y="3897000"/>
              <a:ext cx="1709640" cy="956880"/>
              <a:chOff x="3437640" y="3897000"/>
              <a:chExt cx="1709640" cy="956880"/>
            </a:xfrm>
          </p:grpSpPr>
          <p:sp>
            <p:nvSpPr>
              <p:cNvPr id="636" name="Rectangle 56"/>
              <p:cNvSpPr/>
              <p:nvPr/>
            </p:nvSpPr>
            <p:spPr>
              <a:xfrm>
                <a:off x="3609360" y="445896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57"/>
              <p:cNvSpPr/>
              <p:nvPr/>
            </p:nvSpPr>
            <p:spPr>
              <a:xfrm>
                <a:off x="4800960" y="451476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58"/>
              <p:cNvSpPr/>
              <p:nvPr/>
            </p:nvSpPr>
            <p:spPr>
              <a:xfrm>
                <a:off x="4125240" y="389700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9"/>
              <p:cNvSpPr/>
              <p:nvPr/>
            </p:nvSpPr>
            <p:spPr>
              <a:xfrm flipV="1">
                <a:off x="366624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60"/>
              <p:cNvSpPr/>
              <p:nvPr/>
            </p:nvSpPr>
            <p:spPr>
              <a:xfrm flipH="1" flipV="1">
                <a:off x="4470120" y="4120920"/>
                <a:ext cx="459000" cy="3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61"/>
              <p:cNvSpPr/>
              <p:nvPr/>
            </p:nvSpPr>
            <p:spPr>
              <a:xfrm>
                <a:off x="3479400" y="4514760"/>
                <a:ext cx="3481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2"/>
              <p:cNvSpPr/>
              <p:nvPr/>
            </p:nvSpPr>
            <p:spPr>
              <a:xfrm>
                <a:off x="4125240" y="389700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3"/>
              <p:cNvSpPr/>
              <p:nvPr/>
            </p:nvSpPr>
            <p:spPr>
              <a:xfrm>
                <a:off x="3437640" y="451476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4"/>
              <p:cNvSpPr/>
              <p:nvPr/>
            </p:nvSpPr>
            <p:spPr>
              <a:xfrm>
                <a:off x="4814280" y="4514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Text Box 65"/>
            <p:cNvSpPr/>
            <p:nvPr/>
          </p:nvSpPr>
          <p:spPr>
            <a:xfrm>
              <a:off x="4091040" y="3833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66"/>
            <p:cNvSpPr/>
            <p:nvPr/>
          </p:nvSpPr>
          <p:spPr>
            <a:xfrm>
              <a:off x="3425760" y="44697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7"/>
            <p:cNvSpPr/>
            <p:nvPr/>
          </p:nvSpPr>
          <p:spPr>
            <a:xfrm>
              <a:off x="4739040" y="4482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8"/>
          <p:cNvSpPr/>
          <p:nvPr/>
        </p:nvSpPr>
        <p:spPr>
          <a:xfrm>
            <a:off x="7623360" y="2305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9"/>
          <p:cNvSpPr/>
          <p:nvPr/>
        </p:nvSpPr>
        <p:spPr>
          <a:xfrm>
            <a:off x="6948720" y="1704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0"/>
          <p:cNvSpPr/>
          <p:nvPr/>
        </p:nvSpPr>
        <p:spPr>
          <a:xfrm>
            <a:off x="6297840" y="2301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1"/>
          <p:cNvSpPr/>
          <p:nvPr/>
        </p:nvSpPr>
        <p:spPr>
          <a:xfrm>
            <a:off x="4829400" y="2251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2"/>
          <p:cNvSpPr/>
          <p:nvPr/>
        </p:nvSpPr>
        <p:spPr>
          <a:xfrm>
            <a:off x="4154760" y="1628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3"/>
          <p:cNvSpPr/>
          <p:nvPr/>
        </p:nvSpPr>
        <p:spPr>
          <a:xfrm>
            <a:off x="3516480" y="22384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3179880" y="26845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1087560" y="4456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6"/>
          <p:cNvSpPr/>
          <p:nvPr/>
        </p:nvSpPr>
        <p:spPr>
          <a:xfrm>
            <a:off x="2424240" y="4468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7"/>
          <p:cNvSpPr/>
          <p:nvPr/>
        </p:nvSpPr>
        <p:spPr>
          <a:xfrm>
            <a:off x="1749600" y="384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78"/>
          <p:cNvGrpSpPr/>
          <p:nvPr/>
        </p:nvGrpSpPr>
        <p:grpSpPr>
          <a:xfrm>
            <a:off x="5360760" y="3665520"/>
            <a:ext cx="2796840" cy="1969920"/>
            <a:chOff x="5360760" y="3665520"/>
            <a:chExt cx="2796840" cy="1969920"/>
          </a:xfrm>
        </p:grpSpPr>
        <p:grpSp>
          <p:nvGrpSpPr>
            <p:cNvPr id="659" name="Group 79"/>
            <p:cNvGrpSpPr/>
            <p:nvPr/>
          </p:nvGrpSpPr>
          <p:grpSpPr>
            <a:xfrm>
              <a:off x="5386320" y="3706560"/>
              <a:ext cx="2771280" cy="1928880"/>
              <a:chOff x="5386320" y="3706560"/>
              <a:chExt cx="2771280" cy="1928880"/>
            </a:xfrm>
          </p:grpSpPr>
          <p:sp>
            <p:nvSpPr>
              <p:cNvPr id="660" name="Freeform 80"/>
              <p:cNvSpPr/>
              <p:nvPr/>
            </p:nvSpPr>
            <p:spPr>
              <a:xfrm>
                <a:off x="5744880" y="4829760"/>
                <a:ext cx="34488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1"/>
              <p:cNvSpPr/>
              <p:nvPr/>
            </p:nvSpPr>
            <p:spPr>
              <a:xfrm>
                <a:off x="580284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2"/>
              <p:cNvSpPr/>
              <p:nvPr/>
            </p:nvSpPr>
            <p:spPr>
              <a:xfrm>
                <a:off x="5573160" y="527868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83"/>
              <p:cNvSpPr/>
              <p:nvPr/>
            </p:nvSpPr>
            <p:spPr>
              <a:xfrm flipV="1">
                <a:off x="5646240" y="5105160"/>
                <a:ext cx="129600" cy="19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84"/>
              <p:cNvSpPr/>
              <p:nvPr/>
            </p:nvSpPr>
            <p:spPr>
              <a:xfrm>
                <a:off x="6261840" y="42681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85"/>
              <p:cNvSpPr/>
              <p:nvPr/>
            </p:nvSpPr>
            <p:spPr>
              <a:xfrm>
                <a:off x="672048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86"/>
              <p:cNvSpPr/>
              <p:nvPr/>
            </p:nvSpPr>
            <p:spPr>
              <a:xfrm>
                <a:off x="5974920" y="4772880"/>
                <a:ext cx="14076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87"/>
              <p:cNvSpPr/>
              <p:nvPr/>
            </p:nvSpPr>
            <p:spPr>
              <a:xfrm>
                <a:off x="7452720" y="4323600"/>
                <a:ext cx="34632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8"/>
              <p:cNvSpPr/>
              <p:nvPr/>
            </p:nvSpPr>
            <p:spPr>
              <a:xfrm>
                <a:off x="7064280" y="4829760"/>
                <a:ext cx="345240" cy="3391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9"/>
              <p:cNvSpPr/>
              <p:nvPr/>
            </p:nvSpPr>
            <p:spPr>
              <a:xfrm flipV="1">
                <a:off x="72795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90"/>
              <p:cNvSpPr/>
              <p:nvPr/>
            </p:nvSpPr>
            <p:spPr>
              <a:xfrm>
                <a:off x="6777360" y="370656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91"/>
              <p:cNvSpPr/>
              <p:nvPr/>
            </p:nvSpPr>
            <p:spPr>
              <a:xfrm flipV="1">
                <a:off x="631836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92"/>
              <p:cNvSpPr/>
              <p:nvPr/>
            </p:nvSpPr>
            <p:spPr>
              <a:xfrm flipH="1" flipV="1">
                <a:off x="7122600" y="3929760"/>
                <a:ext cx="458640" cy="39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93"/>
              <p:cNvSpPr/>
              <p:nvPr/>
            </p:nvSpPr>
            <p:spPr>
              <a:xfrm>
                <a:off x="6131880" y="4323600"/>
                <a:ext cx="347400" cy="33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4"/>
              <p:cNvSpPr/>
              <p:nvPr/>
            </p:nvSpPr>
            <p:spPr>
              <a:xfrm>
                <a:off x="6531120" y="4829760"/>
                <a:ext cx="347400" cy="336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95"/>
              <p:cNvSpPr/>
              <p:nvPr/>
            </p:nvSpPr>
            <p:spPr>
              <a:xfrm flipV="1">
                <a:off x="5960160" y="4604400"/>
                <a:ext cx="22716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96"/>
              <p:cNvSpPr/>
              <p:nvPr/>
            </p:nvSpPr>
            <p:spPr>
              <a:xfrm flipH="1" flipV="1">
                <a:off x="6417000" y="4604400"/>
                <a:ext cx="22860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97"/>
              <p:cNvSpPr/>
              <p:nvPr/>
            </p:nvSpPr>
            <p:spPr>
              <a:xfrm>
                <a:off x="6777360" y="37065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98"/>
              <p:cNvSpPr/>
              <p:nvPr/>
            </p:nvSpPr>
            <p:spPr>
              <a:xfrm>
                <a:off x="6089760" y="432360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99"/>
              <p:cNvSpPr/>
              <p:nvPr/>
            </p:nvSpPr>
            <p:spPr>
              <a:xfrm>
                <a:off x="7064280" y="482976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0"/>
              <p:cNvSpPr/>
              <p:nvPr/>
            </p:nvSpPr>
            <p:spPr>
              <a:xfrm>
                <a:off x="6548760" y="4829760"/>
                <a:ext cx="1407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01"/>
              <p:cNvSpPr/>
              <p:nvPr/>
            </p:nvSpPr>
            <p:spPr>
              <a:xfrm>
                <a:off x="7466400" y="4323600"/>
                <a:ext cx="140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02"/>
              <p:cNvSpPr/>
              <p:nvPr/>
            </p:nvSpPr>
            <p:spPr>
              <a:xfrm>
                <a:off x="7811280" y="4829760"/>
                <a:ext cx="34632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03"/>
              <p:cNvSpPr/>
              <p:nvPr/>
            </p:nvSpPr>
            <p:spPr>
              <a:xfrm>
                <a:off x="5386320" y="5296320"/>
                <a:ext cx="347400" cy="339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04"/>
              <p:cNvSpPr/>
              <p:nvPr/>
            </p:nvSpPr>
            <p:spPr>
              <a:xfrm flipH="1" flipV="1">
                <a:off x="7753320" y="4604400"/>
                <a:ext cx="229680" cy="22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105"/>
              <p:cNvSpPr/>
              <p:nvPr/>
            </p:nvSpPr>
            <p:spPr>
              <a:xfrm>
                <a:off x="6777360" y="5278680"/>
                <a:ext cx="14184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6"/>
              <p:cNvSpPr/>
              <p:nvPr/>
            </p:nvSpPr>
            <p:spPr>
              <a:xfrm>
                <a:off x="7753320" y="4829760"/>
                <a:ext cx="1987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107"/>
            <p:cNvSpPr/>
            <p:nvPr/>
          </p:nvSpPr>
          <p:spPr>
            <a:xfrm>
              <a:off x="7791480" y="4787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08"/>
            <p:cNvSpPr/>
            <p:nvPr/>
          </p:nvSpPr>
          <p:spPr>
            <a:xfrm>
              <a:off x="701064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09"/>
            <p:cNvSpPr/>
            <p:nvPr/>
          </p:nvSpPr>
          <p:spPr>
            <a:xfrm>
              <a:off x="649152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0"/>
            <p:cNvSpPr/>
            <p:nvPr/>
          </p:nvSpPr>
          <p:spPr>
            <a:xfrm>
              <a:off x="5360760" y="52592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1"/>
            <p:cNvSpPr/>
            <p:nvPr/>
          </p:nvSpPr>
          <p:spPr>
            <a:xfrm>
              <a:off x="5713200" y="47876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2"/>
            <p:cNvSpPr/>
            <p:nvPr/>
          </p:nvSpPr>
          <p:spPr>
            <a:xfrm>
              <a:off x="741492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13"/>
            <p:cNvSpPr/>
            <p:nvPr/>
          </p:nvSpPr>
          <p:spPr>
            <a:xfrm>
              <a:off x="6102360" y="4280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14"/>
            <p:cNvSpPr/>
            <p:nvPr/>
          </p:nvSpPr>
          <p:spPr>
            <a:xfrm>
              <a:off x="6752160" y="36655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115"/>
          <p:cNvGrpSpPr/>
          <p:nvPr/>
        </p:nvGrpSpPr>
        <p:grpSpPr>
          <a:xfrm>
            <a:off x="893520" y="1608120"/>
            <a:ext cx="1734840" cy="1018800"/>
            <a:chOff x="893520" y="1608120"/>
            <a:chExt cx="1734840" cy="1018800"/>
          </a:xfrm>
        </p:grpSpPr>
        <p:grpSp>
          <p:nvGrpSpPr>
            <p:cNvPr id="696" name="Group 116"/>
            <p:cNvGrpSpPr/>
            <p:nvPr/>
          </p:nvGrpSpPr>
          <p:grpSpPr>
            <a:xfrm>
              <a:off x="902520" y="1668960"/>
              <a:ext cx="1709640" cy="957960"/>
              <a:chOff x="902520" y="1668960"/>
              <a:chExt cx="1709640" cy="957960"/>
            </a:xfrm>
          </p:grpSpPr>
          <p:sp>
            <p:nvSpPr>
              <p:cNvPr id="697" name="Rectangle 117"/>
              <p:cNvSpPr/>
              <p:nvPr/>
            </p:nvSpPr>
            <p:spPr>
              <a:xfrm>
                <a:off x="1074240" y="223128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118"/>
              <p:cNvSpPr/>
              <p:nvPr/>
            </p:nvSpPr>
            <p:spPr>
              <a:xfrm>
                <a:off x="2265840" y="2287440"/>
                <a:ext cx="3463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19"/>
              <p:cNvSpPr/>
              <p:nvPr/>
            </p:nvSpPr>
            <p:spPr>
              <a:xfrm>
                <a:off x="1590120" y="1668960"/>
                <a:ext cx="34776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120"/>
              <p:cNvSpPr/>
              <p:nvPr/>
            </p:nvSpPr>
            <p:spPr>
              <a:xfrm flipV="1">
                <a:off x="113112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21"/>
              <p:cNvSpPr/>
              <p:nvPr/>
            </p:nvSpPr>
            <p:spPr>
              <a:xfrm flipH="1" flipV="1">
                <a:off x="1935000" y="1892520"/>
                <a:ext cx="459000" cy="39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Oval 122"/>
              <p:cNvSpPr/>
              <p:nvPr/>
            </p:nvSpPr>
            <p:spPr>
              <a:xfrm>
                <a:off x="944280" y="2287440"/>
                <a:ext cx="348120" cy="339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23"/>
              <p:cNvSpPr/>
              <p:nvPr/>
            </p:nvSpPr>
            <p:spPr>
              <a:xfrm>
                <a:off x="1590120" y="1668960"/>
                <a:ext cx="14184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24"/>
              <p:cNvSpPr/>
              <p:nvPr/>
            </p:nvSpPr>
            <p:spPr>
              <a:xfrm>
                <a:off x="902520" y="2287440"/>
                <a:ext cx="14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25"/>
              <p:cNvSpPr/>
              <p:nvPr/>
            </p:nvSpPr>
            <p:spPr>
              <a:xfrm>
                <a:off x="2279160" y="2287440"/>
                <a:ext cx="1407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6"/>
            <p:cNvSpPr/>
            <p:nvPr/>
          </p:nvSpPr>
          <p:spPr>
            <a:xfrm>
              <a:off x="1560600" y="160812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7"/>
            <p:cNvSpPr/>
            <p:nvPr/>
          </p:nvSpPr>
          <p:spPr>
            <a:xfrm>
              <a:off x="893520" y="22158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28"/>
            <p:cNvSpPr/>
            <p:nvPr/>
          </p:nvSpPr>
          <p:spPr>
            <a:xfrm>
              <a:off x="2216160" y="22384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34"/>
          <p:cNvGrpSpPr/>
          <p:nvPr/>
        </p:nvGrpSpPr>
        <p:grpSpPr>
          <a:xfrm>
            <a:off x="3567240" y="1219320"/>
            <a:ext cx="5035320" cy="4300560"/>
            <a:chOff x="3567240" y="1219320"/>
            <a:chExt cx="5035320" cy="4300560"/>
          </a:xfrm>
        </p:grpSpPr>
        <p:sp>
          <p:nvSpPr>
            <p:cNvPr id="710" name="Line 49"/>
            <p:cNvSpPr/>
            <p:nvPr/>
          </p:nvSpPr>
          <p:spPr>
            <a:xfrm>
              <a:off x="6361200" y="1731960"/>
              <a:ext cx="1560600" cy="15271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0"/>
            <p:cNvSpPr/>
            <p:nvPr/>
          </p:nvSpPr>
          <p:spPr>
            <a:xfrm flipV="1">
              <a:off x="6426360" y="1668240"/>
              <a:ext cx="14954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29"/>
            <p:cNvSpPr/>
            <p:nvPr/>
          </p:nvSpPr>
          <p:spPr>
            <a:xfrm>
              <a:off x="3632040" y="3705120"/>
              <a:ext cx="1560600" cy="152892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0"/>
            <p:cNvSpPr/>
            <p:nvPr/>
          </p:nvSpPr>
          <p:spPr>
            <a:xfrm flipV="1">
              <a:off x="3567240" y="3641400"/>
              <a:ext cx="1493640" cy="165564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31"/>
            <p:cNvSpPr/>
            <p:nvPr/>
          </p:nvSpPr>
          <p:spPr>
            <a:xfrm>
              <a:off x="3612600" y="5151600"/>
              <a:ext cx="42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2"/>
            <p:cNvSpPr/>
            <p:nvPr/>
          </p:nvSpPr>
          <p:spPr>
            <a:xfrm>
              <a:off x="7176960" y="121932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alibri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are max-heap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Slide Number Placeholder 1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8588B-9A4C-48BE-A221-E16D80619C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Set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think about how to write our own implementation of 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contains, remo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height and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eight of a complete tree is always lo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this for su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604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is, if we implement a priority queue using a heap, we can provide the following runtime guarante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860400"/>
                <a:tab algn="l" pos="1143000"/>
                <a:tab algn="l" pos="143208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Oval 4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"/>
          <p:cNvSpPr/>
          <p:nvPr/>
        </p:nvSpPr>
        <p:spPr>
          <a:xfrm>
            <a:off x="1600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6"/>
          <p:cNvSpPr/>
          <p:nvPr/>
        </p:nvSpPr>
        <p:spPr>
          <a:xfrm>
            <a:off x="274320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AutoShape 7"/>
          <p:cNvCxnSpPr>
            <a:stCxn id="720" idx="4"/>
            <a:endCxn id="721" idx="0"/>
          </p:cNvCxnSpPr>
          <p:nvPr/>
        </p:nvCxnSpPr>
        <p:spPr>
          <a:xfrm flipH="1">
            <a:off x="1675800" y="4800240"/>
            <a:ext cx="5338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4" name="AutoShape 8"/>
          <p:cNvCxnSpPr>
            <a:stCxn id="720" idx="4"/>
            <a:endCxn id="722" idx="0"/>
          </p:cNvCxnSpPr>
          <p:nvPr/>
        </p:nvCxnSpPr>
        <p:spPr>
          <a:xfrm>
            <a:off x="2209680" y="4800240"/>
            <a:ext cx="6105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Oval 9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0"/>
          <p:cNvSpPr/>
          <p:nvPr/>
        </p:nvSpPr>
        <p:spPr>
          <a:xfrm>
            <a:off x="10666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1"/>
          <p:cNvSpPr/>
          <p:nvPr/>
        </p:nvSpPr>
        <p:spPr>
          <a:xfrm>
            <a:off x="1371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2"/>
          <p:cNvCxnSpPr>
            <a:stCxn id="725" idx="4"/>
            <a:endCxn id="726" idx="0"/>
          </p:cNvCxnSpPr>
          <p:nvPr/>
        </p:nvCxnSpPr>
        <p:spPr>
          <a:xfrm flipH="1">
            <a:off x="114228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AutoShape 13"/>
          <p:cNvCxnSpPr>
            <a:stCxn id="725" idx="4"/>
            <a:endCxn id="727" idx="0"/>
          </p:cNvCxnSpPr>
          <p:nvPr/>
        </p:nvCxnSpPr>
        <p:spPr>
          <a:xfrm>
            <a:off x="129528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Oval 14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5"/>
          <p:cNvSpPr/>
          <p:nvPr/>
        </p:nvSpPr>
        <p:spPr>
          <a:xfrm>
            <a:off x="1676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6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AutoShape 17"/>
          <p:cNvCxnSpPr>
            <a:stCxn id="730" idx="4"/>
            <a:endCxn id="731" idx="0"/>
          </p:cNvCxnSpPr>
          <p:nvPr/>
        </p:nvCxnSpPr>
        <p:spPr>
          <a:xfrm flipH="1">
            <a:off x="17521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AutoShape 18"/>
          <p:cNvCxnSpPr>
            <a:stCxn id="730" idx="4"/>
            <a:endCxn id="732" idx="0"/>
          </p:cNvCxnSpPr>
          <p:nvPr/>
        </p:nvCxnSpPr>
        <p:spPr>
          <a:xfrm>
            <a:off x="19047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21" idx="3"/>
            <a:endCxn id="725" idx="0"/>
          </p:cNvCxnSpPr>
          <p:nvPr/>
        </p:nvCxnSpPr>
        <p:spPr>
          <a:xfrm flipH="1">
            <a:off x="1294560" y="5235480"/>
            <a:ext cx="3279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AutoShape 20"/>
          <p:cNvCxnSpPr>
            <a:stCxn id="721" idx="5"/>
            <a:endCxn id="730" idx="1"/>
          </p:cNvCxnSpPr>
          <p:nvPr/>
        </p:nvCxnSpPr>
        <p:spPr>
          <a:xfrm>
            <a:off x="173016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Oval 21"/>
          <p:cNvSpPr/>
          <p:nvPr/>
        </p:nvSpPr>
        <p:spPr>
          <a:xfrm>
            <a:off x="251460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23623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3"/>
          <p:cNvSpPr/>
          <p:nvPr/>
        </p:nvSpPr>
        <p:spPr>
          <a:xfrm>
            <a:off x="2666880" y="6019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24"/>
          <p:cNvCxnSpPr>
            <a:stCxn id="737" idx="4"/>
            <a:endCxn id="738" idx="0"/>
          </p:cNvCxnSpPr>
          <p:nvPr/>
        </p:nvCxnSpPr>
        <p:spPr>
          <a:xfrm flipH="1">
            <a:off x="2437920" y="5790960"/>
            <a:ext cx="153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25"/>
          <p:cNvCxnSpPr>
            <a:stCxn id="737" idx="4"/>
            <a:endCxn id="739" idx="0"/>
          </p:cNvCxnSpPr>
          <p:nvPr/>
        </p:nvCxnSpPr>
        <p:spPr>
          <a:xfrm>
            <a:off x="259056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Oval 26"/>
          <p:cNvSpPr/>
          <p:nvPr/>
        </p:nvSpPr>
        <p:spPr>
          <a:xfrm>
            <a:off x="30481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AutoShape 27"/>
          <p:cNvCxnSpPr>
            <a:stCxn id="722" idx="4"/>
            <a:endCxn id="737" idx="0"/>
          </p:cNvCxnSpPr>
          <p:nvPr/>
        </p:nvCxnSpPr>
        <p:spPr>
          <a:xfrm flipH="1">
            <a:off x="259020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28"/>
          <p:cNvCxnSpPr>
            <a:stCxn id="722" idx="5"/>
            <a:endCxn id="742" idx="0"/>
          </p:cNvCxnSpPr>
          <p:nvPr/>
        </p:nvCxnSpPr>
        <p:spPr>
          <a:xfrm>
            <a:off x="2873520" y="5235480"/>
            <a:ext cx="2509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Oval 29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0"/>
          <p:cNvSpPr/>
          <p:nvPr/>
        </p:nvSpPr>
        <p:spPr>
          <a:xfrm>
            <a:off x="4191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1"/>
          <p:cNvSpPr/>
          <p:nvPr/>
        </p:nvSpPr>
        <p:spPr>
          <a:xfrm>
            <a:off x="5334120" y="5105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AutoShape 32"/>
          <p:cNvCxnSpPr>
            <a:stCxn id="745" idx="4"/>
            <a:endCxn id="746" idx="0"/>
          </p:cNvCxnSpPr>
          <p:nvPr/>
        </p:nvCxnSpPr>
        <p:spPr>
          <a:xfrm flipH="1">
            <a:off x="4266720" y="4800240"/>
            <a:ext cx="5342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AutoShape 33"/>
          <p:cNvCxnSpPr>
            <a:stCxn id="745" idx="4"/>
            <a:endCxn id="747" idx="0"/>
          </p:cNvCxnSpPr>
          <p:nvPr/>
        </p:nvCxnSpPr>
        <p:spPr>
          <a:xfrm>
            <a:off x="4800240" y="4800240"/>
            <a:ext cx="6102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Oval 34"/>
          <p:cNvSpPr/>
          <p:nvPr/>
        </p:nvSpPr>
        <p:spPr>
          <a:xfrm>
            <a:off x="3809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35"/>
          <p:cNvSpPr/>
          <p:nvPr/>
        </p:nvSpPr>
        <p:spPr>
          <a:xfrm>
            <a:off x="365760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36"/>
          <p:cNvSpPr/>
          <p:nvPr/>
        </p:nvSpPr>
        <p:spPr>
          <a:xfrm>
            <a:off x="3962520" y="6019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AutoShape 37"/>
          <p:cNvCxnSpPr>
            <a:stCxn id="750" idx="4"/>
            <a:endCxn id="751" idx="0"/>
          </p:cNvCxnSpPr>
          <p:nvPr/>
        </p:nvCxnSpPr>
        <p:spPr>
          <a:xfrm flipH="1">
            <a:off x="373320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AutoShape 38"/>
          <p:cNvCxnSpPr>
            <a:stCxn id="750" idx="4"/>
            <a:endCxn id="752" idx="0"/>
          </p:cNvCxnSpPr>
          <p:nvPr/>
        </p:nvCxnSpPr>
        <p:spPr>
          <a:xfrm>
            <a:off x="3885840" y="5790960"/>
            <a:ext cx="153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Oval 39"/>
          <p:cNvSpPr/>
          <p:nvPr/>
        </p:nvSpPr>
        <p:spPr>
          <a:xfrm>
            <a:off x="44197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AutoShape 40"/>
          <p:cNvCxnSpPr>
            <a:stCxn id="746" idx="3"/>
            <a:endCxn id="750" idx="0"/>
          </p:cNvCxnSpPr>
          <p:nvPr/>
        </p:nvCxnSpPr>
        <p:spPr>
          <a:xfrm flipH="1">
            <a:off x="3885840" y="5235480"/>
            <a:ext cx="3276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AutoShape 41"/>
          <p:cNvCxnSpPr>
            <a:stCxn id="746" idx="5"/>
            <a:endCxn id="755" idx="1"/>
          </p:cNvCxnSpPr>
          <p:nvPr/>
        </p:nvCxnSpPr>
        <p:spPr>
          <a:xfrm>
            <a:off x="4320720" y="5235480"/>
            <a:ext cx="1213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Oval 42"/>
          <p:cNvSpPr/>
          <p:nvPr/>
        </p:nvSpPr>
        <p:spPr>
          <a:xfrm>
            <a:off x="5105520" y="5638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43"/>
          <p:cNvSpPr/>
          <p:nvPr/>
        </p:nvSpPr>
        <p:spPr>
          <a:xfrm>
            <a:off x="56386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44"/>
          <p:cNvCxnSpPr>
            <a:stCxn id="747" idx="4"/>
            <a:endCxn id="758" idx="0"/>
          </p:cNvCxnSpPr>
          <p:nvPr/>
        </p:nvCxnSpPr>
        <p:spPr>
          <a:xfrm flipH="1">
            <a:off x="5180760" y="525780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AutoShape 45"/>
          <p:cNvCxnSpPr>
            <a:stCxn id="747" idx="5"/>
            <a:endCxn id="759" idx="0"/>
          </p:cNvCxnSpPr>
          <p:nvPr/>
        </p:nvCxnSpPr>
        <p:spPr>
          <a:xfrm>
            <a:off x="5463720" y="5235480"/>
            <a:ext cx="25164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Text Box 46"/>
          <p:cNvSpPr/>
          <p:nvPr/>
        </p:nvSpPr>
        <p:spPr>
          <a:xfrm>
            <a:off x="6095880" y="51465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node complet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height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h+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where should it g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Must insert a new node while maintaining heap propert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add(1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AutoShape 10"/>
          <p:cNvCxnSpPr>
            <a:stCxn id="770" idx="3"/>
            <a:endCxn id="769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11"/>
          <p:cNvCxnSpPr>
            <a:stCxn id="770" idx="5"/>
            <a:endCxn id="768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12"/>
          <p:cNvCxnSpPr>
            <a:stCxn id="768" idx="5"/>
            <a:endCxn id="765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AutoShape 13"/>
          <p:cNvCxnSpPr>
            <a:stCxn id="769" idx="3"/>
            <a:endCxn id="767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AutoShape 14"/>
          <p:cNvCxnSpPr>
            <a:stCxn id="769" idx="5"/>
            <a:endCxn id="766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AutoShape 16"/>
          <p:cNvCxnSpPr>
            <a:stCxn id="767" idx="3"/>
            <a:endCxn id="776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AutoShape 18"/>
          <p:cNvCxnSpPr>
            <a:stCxn id="767" idx="5"/>
            <a:endCxn id="778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0"/>
          <p:cNvCxnSpPr>
            <a:stCxn id="768" idx="3"/>
            <a:endCxn id="780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2"/>
          <p:cNvCxnSpPr>
            <a:stCxn id="766" idx="3"/>
            <a:endCxn id="782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4" name="Oval 42"/>
          <p:cNvSpPr/>
          <p:nvPr/>
        </p:nvSpPr>
        <p:spPr>
          <a:xfrm>
            <a:off x="7238880" y="293364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92800" y="2473200"/>
            <a:ext cx="13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dd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added to a heap, it should be initially placed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the completeness propert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3733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2057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6"/>
          <p:cNvSpPr/>
          <p:nvPr/>
        </p:nvSpPr>
        <p:spPr>
          <a:xfrm>
            <a:off x="685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1371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9"/>
          <p:cNvSpPr/>
          <p:nvPr/>
        </p:nvSpPr>
        <p:spPr>
          <a:xfrm>
            <a:off x="2362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AutoShape 10"/>
          <p:cNvCxnSpPr>
            <a:stCxn id="793" idx="3"/>
            <a:endCxn id="792" idx="0"/>
          </p:cNvCxnSpPr>
          <p:nvPr/>
        </p:nvCxnSpPr>
        <p:spPr>
          <a:xfrm flipH="1">
            <a:off x="1637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AutoShape 11"/>
          <p:cNvCxnSpPr>
            <a:stCxn id="793" idx="5"/>
            <a:endCxn id="791" idx="0"/>
          </p:cNvCxnSpPr>
          <p:nvPr/>
        </p:nvCxnSpPr>
        <p:spPr>
          <a:xfrm>
            <a:off x="2817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AutoShape 12"/>
          <p:cNvCxnSpPr>
            <a:stCxn id="791" idx="5"/>
            <a:endCxn id="788" idx="0"/>
          </p:cNvCxnSpPr>
          <p:nvPr/>
        </p:nvCxnSpPr>
        <p:spPr>
          <a:xfrm>
            <a:off x="3732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AutoShape 13"/>
          <p:cNvCxnSpPr>
            <a:stCxn id="792" idx="3"/>
            <a:endCxn id="790" idx="0"/>
          </p:cNvCxnSpPr>
          <p:nvPr/>
        </p:nvCxnSpPr>
        <p:spPr>
          <a:xfrm flipH="1">
            <a:off x="952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AutoShape 14"/>
          <p:cNvCxnSpPr>
            <a:stCxn id="792" idx="5"/>
            <a:endCxn id="789" idx="0"/>
          </p:cNvCxnSpPr>
          <p:nvPr/>
        </p:nvCxnSpPr>
        <p:spPr>
          <a:xfrm>
            <a:off x="1827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Oval 15"/>
          <p:cNvSpPr/>
          <p:nvPr/>
        </p:nvSpPr>
        <p:spPr>
          <a:xfrm>
            <a:off x="304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0" name="AutoShape 16"/>
          <p:cNvCxnSpPr>
            <a:stCxn id="790" idx="3"/>
            <a:endCxn id="799" idx="0"/>
          </p:cNvCxnSpPr>
          <p:nvPr/>
        </p:nvCxnSpPr>
        <p:spPr>
          <a:xfrm flipH="1">
            <a:off x="552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1" name="Oval 17"/>
          <p:cNvSpPr/>
          <p:nvPr/>
        </p:nvSpPr>
        <p:spPr>
          <a:xfrm>
            <a:off x="1143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AutoShape 18"/>
          <p:cNvCxnSpPr>
            <a:stCxn id="790" idx="5"/>
            <a:endCxn id="801" idx="0"/>
          </p:cNvCxnSpPr>
          <p:nvPr/>
        </p:nvCxnSpPr>
        <p:spPr>
          <a:xfrm>
            <a:off x="1141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3" name="Oval 19"/>
          <p:cNvSpPr/>
          <p:nvPr/>
        </p:nvSpPr>
        <p:spPr>
          <a:xfrm>
            <a:off x="2895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20"/>
          <p:cNvCxnSpPr>
            <a:stCxn id="791" idx="3"/>
            <a:endCxn id="803" idx="0"/>
          </p:cNvCxnSpPr>
          <p:nvPr/>
        </p:nvCxnSpPr>
        <p:spPr>
          <a:xfrm flipH="1">
            <a:off x="3161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Oval 21"/>
          <p:cNvSpPr/>
          <p:nvPr/>
        </p:nvSpPr>
        <p:spPr>
          <a:xfrm>
            <a:off x="1828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2"/>
          <p:cNvCxnSpPr>
            <a:stCxn id="789" idx="3"/>
            <a:endCxn id="805" idx="0"/>
          </p:cNvCxnSpPr>
          <p:nvPr/>
        </p:nvCxnSpPr>
        <p:spPr>
          <a:xfrm flipH="1">
            <a:off x="2075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Oval 23"/>
          <p:cNvSpPr/>
          <p:nvPr/>
        </p:nvSpPr>
        <p:spPr>
          <a:xfrm>
            <a:off x="8305920" y="4572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66294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5"/>
          <p:cNvSpPr/>
          <p:nvPr/>
        </p:nvSpPr>
        <p:spPr>
          <a:xfrm>
            <a:off x="525780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6"/>
          <p:cNvSpPr/>
          <p:nvPr/>
        </p:nvSpPr>
        <p:spPr>
          <a:xfrm>
            <a:off x="7848720" y="3733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7"/>
          <p:cNvSpPr/>
          <p:nvPr/>
        </p:nvSpPr>
        <p:spPr>
          <a:xfrm>
            <a:off x="5943600" y="3733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6934320" y="28954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29"/>
          <p:cNvCxnSpPr>
            <a:stCxn id="812" idx="3"/>
            <a:endCxn id="811" idx="0"/>
          </p:cNvCxnSpPr>
          <p:nvPr/>
        </p:nvCxnSpPr>
        <p:spPr>
          <a:xfrm flipH="1">
            <a:off x="6209640" y="336996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30"/>
          <p:cNvCxnSpPr>
            <a:stCxn id="812" idx="5"/>
            <a:endCxn id="810" idx="0"/>
          </p:cNvCxnSpPr>
          <p:nvPr/>
        </p:nvCxnSpPr>
        <p:spPr>
          <a:xfrm>
            <a:off x="7389720" y="3369960"/>
            <a:ext cx="726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31"/>
          <p:cNvCxnSpPr>
            <a:stCxn id="810" idx="5"/>
            <a:endCxn id="807" idx="0"/>
          </p:cNvCxnSpPr>
          <p:nvPr/>
        </p:nvCxnSpPr>
        <p:spPr>
          <a:xfrm>
            <a:off x="8304120" y="4208040"/>
            <a:ext cx="269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32"/>
          <p:cNvCxnSpPr>
            <a:stCxn id="811" idx="3"/>
            <a:endCxn id="809" idx="0"/>
          </p:cNvCxnSpPr>
          <p:nvPr/>
        </p:nvCxnSpPr>
        <p:spPr>
          <a:xfrm flipH="1">
            <a:off x="552420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7" name="AutoShape 33"/>
          <p:cNvCxnSpPr>
            <a:stCxn id="811" idx="5"/>
            <a:endCxn id="808" idx="0"/>
          </p:cNvCxnSpPr>
          <p:nvPr/>
        </p:nvCxnSpPr>
        <p:spPr>
          <a:xfrm>
            <a:off x="6399360" y="420804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8" name="Oval 34"/>
          <p:cNvSpPr/>
          <p:nvPr/>
        </p:nvSpPr>
        <p:spPr>
          <a:xfrm>
            <a:off x="487692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5"/>
          <p:cNvCxnSpPr>
            <a:stCxn id="809" idx="3"/>
            <a:endCxn id="818" idx="0"/>
          </p:cNvCxnSpPr>
          <p:nvPr/>
        </p:nvCxnSpPr>
        <p:spPr>
          <a:xfrm flipH="1">
            <a:off x="5124240" y="5046840"/>
            <a:ext cx="2116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0" name="Oval 36"/>
          <p:cNvSpPr/>
          <p:nvPr/>
        </p:nvSpPr>
        <p:spPr>
          <a:xfrm>
            <a:off x="57150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AutoShape 37"/>
          <p:cNvCxnSpPr>
            <a:stCxn id="809" idx="5"/>
            <a:endCxn id="820" idx="0"/>
          </p:cNvCxnSpPr>
          <p:nvPr/>
        </p:nvCxnSpPr>
        <p:spPr>
          <a:xfrm>
            <a:off x="5713560" y="5046840"/>
            <a:ext cx="249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2" name="Oval 38"/>
          <p:cNvSpPr/>
          <p:nvPr/>
        </p:nvSpPr>
        <p:spPr>
          <a:xfrm>
            <a:off x="7467480" y="45720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39"/>
          <p:cNvCxnSpPr>
            <a:stCxn id="810" idx="3"/>
            <a:endCxn id="822" idx="0"/>
          </p:cNvCxnSpPr>
          <p:nvPr/>
        </p:nvCxnSpPr>
        <p:spPr>
          <a:xfrm flipH="1">
            <a:off x="7733880" y="420804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Oval 40"/>
          <p:cNvSpPr/>
          <p:nvPr/>
        </p:nvSpPr>
        <p:spPr>
          <a:xfrm>
            <a:off x="6400800" y="541008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41"/>
          <p:cNvCxnSpPr>
            <a:stCxn id="808" idx="3"/>
            <a:endCxn id="824" idx="0"/>
          </p:cNvCxnSpPr>
          <p:nvPr/>
        </p:nvCxnSpPr>
        <p:spPr>
          <a:xfrm flipH="1">
            <a:off x="6647760" y="5046840"/>
            <a:ext cx="594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6" name="Oval 42"/>
          <p:cNvSpPr/>
          <p:nvPr/>
        </p:nvSpPr>
        <p:spPr>
          <a:xfrm>
            <a:off x="7010280" y="541008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7" name="AutoShape 43"/>
          <p:cNvCxnSpPr>
            <a:stCxn id="808" idx="5"/>
            <a:endCxn id="826" idx="0"/>
          </p:cNvCxnSpPr>
          <p:nvPr/>
        </p:nvCxnSpPr>
        <p:spPr>
          <a:xfrm>
            <a:off x="7084800" y="5046840"/>
            <a:ext cx="1926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up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u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ly added element is shifted ("bubbled") up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up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pa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ups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10"/>
          <p:cNvCxnSpPr>
            <a:stCxn id="835" idx="3"/>
            <a:endCxn id="834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11"/>
          <p:cNvCxnSpPr>
            <a:stCxn id="835" idx="5"/>
            <a:endCxn id="833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12"/>
          <p:cNvCxnSpPr>
            <a:stCxn id="833" idx="5"/>
            <a:endCxn id="830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3"/>
          <p:cNvCxnSpPr>
            <a:stCxn id="834" idx="3"/>
            <a:endCxn id="832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AutoShape 14"/>
          <p:cNvCxnSpPr>
            <a:stCxn id="834" idx="5"/>
            <a:endCxn id="831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16"/>
          <p:cNvCxnSpPr>
            <a:stCxn id="832" idx="3"/>
            <a:endCxn id="841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AutoShape 18"/>
          <p:cNvCxnSpPr>
            <a:stCxn id="832" idx="5"/>
            <a:endCxn id="843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6" name="AutoShape 20"/>
          <p:cNvCxnSpPr>
            <a:stCxn id="833" idx="3"/>
            <a:endCxn id="845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AutoShape 22"/>
          <p:cNvCxnSpPr>
            <a:stCxn id="831" idx="3"/>
            <a:endCxn id="847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0" name="AutoShape 24"/>
          <p:cNvCxnSpPr>
            <a:stCxn id="831" idx="5"/>
            <a:endCxn id="849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1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AutoShape 33"/>
          <p:cNvCxnSpPr>
            <a:stCxn id="858" idx="3"/>
            <a:endCxn id="857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AutoShape 34"/>
          <p:cNvCxnSpPr>
            <a:stCxn id="858" idx="5"/>
            <a:endCxn id="856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1" name="AutoShape 35"/>
          <p:cNvCxnSpPr>
            <a:stCxn id="856" idx="5"/>
            <a:endCxn id="853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2" name="AutoShape 36"/>
          <p:cNvCxnSpPr>
            <a:stCxn id="857" idx="3"/>
            <a:endCxn id="855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AutoShape 37"/>
          <p:cNvCxnSpPr>
            <a:stCxn id="857" idx="5"/>
            <a:endCxn id="854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AutoShape 39"/>
          <p:cNvCxnSpPr>
            <a:stCxn id="855" idx="3"/>
            <a:endCxn id="864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6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AutoShape 41"/>
          <p:cNvCxnSpPr>
            <a:stCxn id="855" idx="5"/>
            <a:endCxn id="866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AutoShape 43"/>
          <p:cNvCxnSpPr>
            <a:stCxn id="856" idx="3"/>
            <a:endCxn id="868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AutoShape 45"/>
          <p:cNvCxnSpPr>
            <a:stCxn id="854" idx="3"/>
            <a:endCxn id="870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2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AutoShape 47"/>
          <p:cNvCxnSpPr>
            <a:stCxn id="854" idx="5"/>
            <a:endCxn id="872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up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the tree state of a min-heap after adding these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, 50, 11, 25, 42, 20, 104, 76, 19, 55, 88,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877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3" name="AutoShape 31"/>
            <p:cNvCxnSpPr>
              <a:stCxn id="882" idx="3"/>
              <a:endCxn id="881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AutoShape 32"/>
            <p:cNvCxnSpPr>
              <a:stCxn id="882" idx="5"/>
              <a:endCxn id="880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AutoShape 33"/>
            <p:cNvCxnSpPr>
              <a:stCxn id="880" idx="5"/>
              <a:endCxn id="877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AutoShape 34"/>
            <p:cNvCxnSpPr>
              <a:stCxn id="881" idx="3"/>
              <a:endCxn id="879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AutoShape 35"/>
            <p:cNvCxnSpPr>
              <a:stCxn id="881" idx="5"/>
              <a:endCxn id="878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8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9" name="AutoShape 37"/>
            <p:cNvCxnSpPr>
              <a:stCxn id="879" idx="3"/>
              <a:endCxn id="888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0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1" name="AutoShape 39"/>
            <p:cNvCxnSpPr>
              <a:stCxn id="879" idx="5"/>
              <a:endCxn id="890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3" name="AutoShape 41"/>
            <p:cNvCxnSpPr>
              <a:stCxn id="880" idx="3"/>
              <a:endCxn id="892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AutoShape 37"/>
            <p:cNvCxnSpPr>
              <a:stCxn id="878" idx="3"/>
              <a:endCxn id="895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5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AutoShape 39"/>
            <p:cNvCxnSpPr>
              <a:stCxn id="878" idx="5"/>
              <a:endCxn id="897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7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8" name="AutoShape 37"/>
            <p:cNvCxnSpPr>
              <a:stCxn id="892" idx="5"/>
              <a:endCxn id="899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9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eek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ek on a min-heap is trivial to perfor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ause of heap properties, minimum element is always the ro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(1) run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k on a max-heap would be O(1) as well (return max, not 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5926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418608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2971800" y="478800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7"/>
          <p:cNvSpPr/>
          <p:nvPr/>
        </p:nvSpPr>
        <p:spPr>
          <a:xfrm>
            <a:off x="5257800" y="4032360"/>
            <a:ext cx="46188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8"/>
          <p:cNvSpPr/>
          <p:nvPr/>
        </p:nvSpPr>
        <p:spPr>
          <a:xfrm>
            <a:off x="3657600" y="403236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"/>
          <p:cNvSpPr/>
          <p:nvPr/>
        </p:nvSpPr>
        <p:spPr>
          <a:xfrm>
            <a:off x="4406760" y="3276720"/>
            <a:ext cx="4604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AutoShape 10"/>
          <p:cNvCxnSpPr>
            <a:stCxn id="907" idx="3"/>
            <a:endCxn id="906" idx="0"/>
          </p:cNvCxnSpPr>
          <p:nvPr/>
        </p:nvCxnSpPr>
        <p:spPr>
          <a:xfrm flipH="1">
            <a:off x="3887280" y="3706560"/>
            <a:ext cx="5868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AutoShape 11"/>
          <p:cNvCxnSpPr>
            <a:stCxn id="907" idx="5"/>
            <a:endCxn id="905" idx="0"/>
          </p:cNvCxnSpPr>
          <p:nvPr/>
        </p:nvCxnSpPr>
        <p:spPr>
          <a:xfrm>
            <a:off x="4800600" y="3706560"/>
            <a:ext cx="6897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AutoShape 12"/>
          <p:cNvCxnSpPr>
            <a:stCxn id="905" idx="5"/>
            <a:endCxn id="902" idx="0"/>
          </p:cNvCxnSpPr>
          <p:nvPr/>
        </p:nvCxnSpPr>
        <p:spPr>
          <a:xfrm>
            <a:off x="5651640" y="4462200"/>
            <a:ext cx="173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AutoShape 13"/>
          <p:cNvCxnSpPr>
            <a:stCxn id="906" idx="3"/>
            <a:endCxn id="904" idx="0"/>
          </p:cNvCxnSpPr>
          <p:nvPr/>
        </p:nvCxnSpPr>
        <p:spPr>
          <a:xfrm flipH="1">
            <a:off x="3203280" y="4462200"/>
            <a:ext cx="52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2" name="AutoShape 14"/>
          <p:cNvCxnSpPr>
            <a:stCxn id="906" idx="5"/>
            <a:endCxn id="903" idx="0"/>
          </p:cNvCxnSpPr>
          <p:nvPr/>
        </p:nvCxnSpPr>
        <p:spPr>
          <a:xfrm>
            <a:off x="4051440" y="4462200"/>
            <a:ext cx="36720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3" name="Oval 15"/>
          <p:cNvSpPr/>
          <p:nvPr/>
        </p:nvSpPr>
        <p:spPr>
          <a:xfrm>
            <a:off x="2625840" y="5545080"/>
            <a:ext cx="42840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6"/>
          <p:cNvCxnSpPr>
            <a:stCxn id="904" idx="3"/>
            <a:endCxn id="913" idx="0"/>
          </p:cNvCxnSpPr>
          <p:nvPr/>
        </p:nvCxnSpPr>
        <p:spPr>
          <a:xfrm flipH="1">
            <a:off x="2839680" y="5217840"/>
            <a:ext cx="20088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5" name="Oval 17"/>
          <p:cNvSpPr/>
          <p:nvPr/>
        </p:nvSpPr>
        <p:spPr>
          <a:xfrm>
            <a:off x="335124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6" name="AutoShape 18"/>
          <p:cNvCxnSpPr>
            <a:stCxn id="904" idx="5"/>
            <a:endCxn id="915" idx="0"/>
          </p:cNvCxnSpPr>
          <p:nvPr/>
        </p:nvCxnSpPr>
        <p:spPr>
          <a:xfrm>
            <a:off x="3365280" y="5217840"/>
            <a:ext cx="2005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7" name="Oval 19"/>
          <p:cNvSpPr/>
          <p:nvPr/>
        </p:nvSpPr>
        <p:spPr>
          <a:xfrm>
            <a:off x="4933800" y="4788000"/>
            <a:ext cx="462240" cy="480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AutoShape 20"/>
          <p:cNvCxnSpPr>
            <a:stCxn id="905" idx="3"/>
            <a:endCxn id="917" idx="0"/>
          </p:cNvCxnSpPr>
          <p:nvPr/>
        </p:nvCxnSpPr>
        <p:spPr>
          <a:xfrm flipH="1">
            <a:off x="5165280" y="4462200"/>
            <a:ext cx="1612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Oval 21"/>
          <p:cNvSpPr/>
          <p:nvPr/>
        </p:nvSpPr>
        <p:spPr>
          <a:xfrm>
            <a:off x="3944880" y="5545080"/>
            <a:ext cx="428760" cy="446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0" name="AutoShape 22"/>
          <p:cNvCxnSpPr>
            <a:stCxn id="903" idx="3"/>
            <a:endCxn id="919" idx="0"/>
          </p:cNvCxnSpPr>
          <p:nvPr/>
        </p:nvCxnSpPr>
        <p:spPr>
          <a:xfrm flipH="1">
            <a:off x="4158360" y="5217840"/>
            <a:ext cx="9612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element is removed from a heap, what should we d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The root is the node to remove.  How do we alter the tr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571500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40384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6"/>
          <p:cNvSpPr/>
          <p:nvPr/>
        </p:nvSpPr>
        <p:spPr>
          <a:xfrm>
            <a:off x="2666880" y="453384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1814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3352680" y="369576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9"/>
          <p:cNvSpPr/>
          <p:nvPr/>
        </p:nvSpPr>
        <p:spPr>
          <a:xfrm>
            <a:off x="4343400" y="2857680"/>
            <a:ext cx="533520" cy="5331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AutoShape 10"/>
          <p:cNvCxnSpPr>
            <a:stCxn id="928" idx="3"/>
            <a:endCxn id="927" idx="0"/>
          </p:cNvCxnSpPr>
          <p:nvPr/>
        </p:nvCxnSpPr>
        <p:spPr>
          <a:xfrm flipH="1">
            <a:off x="3618720" y="333180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AutoShape 11"/>
          <p:cNvCxnSpPr>
            <a:stCxn id="928" idx="5"/>
            <a:endCxn id="926" idx="0"/>
          </p:cNvCxnSpPr>
          <p:nvPr/>
        </p:nvCxnSpPr>
        <p:spPr>
          <a:xfrm>
            <a:off x="4798800" y="333180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AutoShape 12"/>
          <p:cNvCxnSpPr>
            <a:stCxn id="926" idx="5"/>
            <a:endCxn id="923" idx="0"/>
          </p:cNvCxnSpPr>
          <p:nvPr/>
        </p:nvCxnSpPr>
        <p:spPr>
          <a:xfrm>
            <a:off x="5636880" y="416988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13"/>
          <p:cNvCxnSpPr>
            <a:stCxn id="927" idx="3"/>
            <a:endCxn id="925" idx="0"/>
          </p:cNvCxnSpPr>
          <p:nvPr/>
        </p:nvCxnSpPr>
        <p:spPr>
          <a:xfrm flipH="1">
            <a:off x="293328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3" name="AutoShape 14"/>
          <p:cNvCxnSpPr>
            <a:stCxn id="927" idx="5"/>
            <a:endCxn id="924" idx="0"/>
          </p:cNvCxnSpPr>
          <p:nvPr/>
        </p:nvCxnSpPr>
        <p:spPr>
          <a:xfrm>
            <a:off x="3808440" y="4169880"/>
            <a:ext cx="497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Oval 15"/>
          <p:cNvSpPr/>
          <p:nvPr/>
        </p:nvSpPr>
        <p:spPr>
          <a:xfrm>
            <a:off x="228600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AutoShape 16"/>
          <p:cNvCxnSpPr>
            <a:stCxn id="925" idx="3"/>
            <a:endCxn id="934" idx="0"/>
          </p:cNvCxnSpPr>
          <p:nvPr/>
        </p:nvCxnSpPr>
        <p:spPr>
          <a:xfrm flipH="1">
            <a:off x="2533320" y="500832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6" name="Oval 17"/>
          <p:cNvSpPr/>
          <p:nvPr/>
        </p:nvSpPr>
        <p:spPr>
          <a:xfrm>
            <a:off x="31240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AutoShape 18"/>
          <p:cNvCxnSpPr>
            <a:stCxn id="925" idx="5"/>
            <a:endCxn id="936" idx="0"/>
          </p:cNvCxnSpPr>
          <p:nvPr/>
        </p:nvCxnSpPr>
        <p:spPr>
          <a:xfrm>
            <a:off x="3122640" y="500832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8" name="Oval 19"/>
          <p:cNvSpPr/>
          <p:nvPr/>
        </p:nvSpPr>
        <p:spPr>
          <a:xfrm>
            <a:off x="4876920" y="453384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AutoShape 20"/>
          <p:cNvCxnSpPr>
            <a:stCxn id="926" idx="3"/>
            <a:endCxn id="938" idx="0"/>
          </p:cNvCxnSpPr>
          <p:nvPr/>
        </p:nvCxnSpPr>
        <p:spPr>
          <a:xfrm flipH="1">
            <a:off x="5142960" y="4169880"/>
            <a:ext cx="1162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0" name="Oval 21"/>
          <p:cNvSpPr/>
          <p:nvPr/>
        </p:nvSpPr>
        <p:spPr>
          <a:xfrm>
            <a:off x="3809880" y="5372280"/>
            <a:ext cx="495360" cy="495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AutoShape 22"/>
          <p:cNvCxnSpPr>
            <a:stCxn id="924" idx="3"/>
            <a:endCxn id="940" idx="0"/>
          </p:cNvCxnSpPr>
          <p:nvPr/>
        </p:nvCxnSpPr>
        <p:spPr>
          <a:xfrm flipH="1">
            <a:off x="4056840" y="500832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remove op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root is removed from a heap, it should be initially replaced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most 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o maintain completene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heap ordering property becomes broken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0" name="AutoShape 10"/>
          <p:cNvCxnSpPr>
            <a:stCxn id="949" idx="3"/>
            <a:endCxn id="948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AutoShape 11"/>
          <p:cNvCxnSpPr>
            <a:stCxn id="949" idx="5"/>
            <a:endCxn id="947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2" name="AutoShape 12"/>
          <p:cNvCxnSpPr>
            <a:stCxn id="947" idx="5"/>
            <a:endCxn id="944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13"/>
          <p:cNvCxnSpPr>
            <a:stCxn id="948" idx="3"/>
            <a:endCxn id="946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14"/>
          <p:cNvCxnSpPr>
            <a:stCxn id="948" idx="5"/>
            <a:endCxn id="945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6" name="AutoShape 16"/>
          <p:cNvCxnSpPr>
            <a:stCxn id="946" idx="3"/>
            <a:endCxn id="955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8" name="AutoShape 18"/>
          <p:cNvCxnSpPr>
            <a:stCxn id="946" idx="5"/>
            <a:endCxn id="957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9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0" name="AutoShape 20"/>
          <p:cNvCxnSpPr>
            <a:stCxn id="947" idx="3"/>
            <a:endCxn id="959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1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2" name="AutoShape 22"/>
          <p:cNvCxnSpPr>
            <a:stCxn id="945" idx="3"/>
            <a:endCxn id="961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AutoShape 31"/>
          <p:cNvCxnSpPr>
            <a:stCxn id="970" idx="3"/>
            <a:endCxn id="969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32"/>
          <p:cNvCxnSpPr>
            <a:stCxn id="970" idx="5"/>
            <a:endCxn id="968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3" name="AutoShape 33"/>
          <p:cNvCxnSpPr>
            <a:stCxn id="968" idx="5"/>
            <a:endCxn id="965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34"/>
          <p:cNvCxnSpPr>
            <a:stCxn id="969" idx="3"/>
            <a:endCxn id="967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5" name="AutoShape 35"/>
          <p:cNvCxnSpPr>
            <a:stCxn id="969" idx="5"/>
            <a:endCxn id="966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6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AutoShape 37"/>
          <p:cNvCxnSpPr>
            <a:stCxn id="967" idx="3"/>
            <a:endCxn id="976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8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39"/>
          <p:cNvCxnSpPr>
            <a:stCxn id="967" idx="5"/>
            <a:endCxn id="978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0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1" name="AutoShape 41"/>
          <p:cNvCxnSpPr>
            <a:stCxn id="968" idx="3"/>
            <a:endCxn id="980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2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43"/>
          <p:cNvCxnSpPr>
            <a:stCxn id="966" idx="3"/>
            <a:endCxn id="982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ubbling down" a n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store heap ordering, the new improper root is shifted ("bubbled") down the tree until it reaches its prope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is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percolate down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swapping with it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mall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ild 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bubble-down are necessary, at mo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Oval 4"/>
          <p:cNvSpPr/>
          <p:nvPr/>
        </p:nvSpPr>
        <p:spPr>
          <a:xfrm>
            <a:off x="3733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57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6"/>
          <p:cNvSpPr/>
          <p:nvPr/>
        </p:nvSpPr>
        <p:spPr>
          <a:xfrm>
            <a:off x="762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7"/>
          <p:cNvSpPr/>
          <p:nvPr/>
        </p:nvSpPr>
        <p:spPr>
          <a:xfrm>
            <a:off x="3352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1523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9"/>
          <p:cNvSpPr/>
          <p:nvPr/>
        </p:nvSpPr>
        <p:spPr>
          <a:xfrm>
            <a:off x="2362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AutoShape 10"/>
          <p:cNvCxnSpPr>
            <a:stCxn id="991" idx="3"/>
            <a:endCxn id="990" idx="0"/>
          </p:cNvCxnSpPr>
          <p:nvPr/>
        </p:nvCxnSpPr>
        <p:spPr>
          <a:xfrm flipH="1">
            <a:off x="1790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3" name="AutoShape 11"/>
          <p:cNvCxnSpPr>
            <a:stCxn id="991" idx="5"/>
            <a:endCxn id="989" idx="0"/>
          </p:cNvCxnSpPr>
          <p:nvPr/>
        </p:nvCxnSpPr>
        <p:spPr>
          <a:xfrm>
            <a:off x="2817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4" name="AutoShape 12"/>
          <p:cNvCxnSpPr>
            <a:stCxn id="989" idx="5"/>
            <a:endCxn id="986" idx="0"/>
          </p:cNvCxnSpPr>
          <p:nvPr/>
        </p:nvCxnSpPr>
        <p:spPr>
          <a:xfrm>
            <a:off x="3808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AutoShape 13"/>
          <p:cNvCxnSpPr>
            <a:stCxn id="990" idx="3"/>
            <a:endCxn id="988" idx="0"/>
          </p:cNvCxnSpPr>
          <p:nvPr/>
        </p:nvCxnSpPr>
        <p:spPr>
          <a:xfrm flipH="1">
            <a:off x="1028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AutoShape 14"/>
          <p:cNvCxnSpPr>
            <a:stCxn id="990" idx="5"/>
            <a:endCxn id="987" idx="0"/>
          </p:cNvCxnSpPr>
          <p:nvPr/>
        </p:nvCxnSpPr>
        <p:spPr>
          <a:xfrm>
            <a:off x="1979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Oval 15"/>
          <p:cNvSpPr/>
          <p:nvPr/>
        </p:nvSpPr>
        <p:spPr>
          <a:xfrm>
            <a:off x="304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8" name="AutoShape 16"/>
          <p:cNvCxnSpPr>
            <a:stCxn id="988" idx="3"/>
            <a:endCxn id="997" idx="0"/>
          </p:cNvCxnSpPr>
          <p:nvPr/>
        </p:nvCxnSpPr>
        <p:spPr>
          <a:xfrm flipH="1">
            <a:off x="552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9" name="Oval 17"/>
          <p:cNvSpPr/>
          <p:nvPr/>
        </p:nvSpPr>
        <p:spPr>
          <a:xfrm>
            <a:off x="1143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8"/>
          <p:cNvCxnSpPr>
            <a:stCxn id="988" idx="5"/>
            <a:endCxn id="999" idx="0"/>
          </p:cNvCxnSpPr>
          <p:nvPr/>
        </p:nvCxnSpPr>
        <p:spPr>
          <a:xfrm>
            <a:off x="1217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1" name="Oval 19"/>
          <p:cNvSpPr/>
          <p:nvPr/>
        </p:nvSpPr>
        <p:spPr>
          <a:xfrm>
            <a:off x="2971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2" name="AutoShape 20"/>
          <p:cNvCxnSpPr>
            <a:stCxn id="989" idx="3"/>
            <a:endCxn id="1001" idx="0"/>
          </p:cNvCxnSpPr>
          <p:nvPr/>
        </p:nvCxnSpPr>
        <p:spPr>
          <a:xfrm flipH="1">
            <a:off x="3237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3" name="Oval 21"/>
          <p:cNvSpPr/>
          <p:nvPr/>
        </p:nvSpPr>
        <p:spPr>
          <a:xfrm>
            <a:off x="83059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2"/>
          <p:cNvSpPr/>
          <p:nvPr/>
        </p:nvSpPr>
        <p:spPr>
          <a:xfrm>
            <a:off x="66294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23"/>
          <p:cNvSpPr/>
          <p:nvPr/>
        </p:nvSpPr>
        <p:spPr>
          <a:xfrm>
            <a:off x="5334120" y="49528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24"/>
          <p:cNvSpPr/>
          <p:nvPr/>
        </p:nvSpPr>
        <p:spPr>
          <a:xfrm>
            <a:off x="79246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25"/>
          <p:cNvSpPr/>
          <p:nvPr/>
        </p:nvSpPr>
        <p:spPr>
          <a:xfrm>
            <a:off x="6095880" y="41148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26"/>
          <p:cNvSpPr/>
          <p:nvPr/>
        </p:nvSpPr>
        <p:spPr>
          <a:xfrm>
            <a:off x="6934320" y="32767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9" name="AutoShape 27"/>
          <p:cNvCxnSpPr>
            <a:stCxn id="1008" idx="3"/>
            <a:endCxn id="1007" idx="0"/>
          </p:cNvCxnSpPr>
          <p:nvPr/>
        </p:nvCxnSpPr>
        <p:spPr>
          <a:xfrm flipH="1">
            <a:off x="6362280" y="3750840"/>
            <a:ext cx="6501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0" name="AutoShape 28"/>
          <p:cNvCxnSpPr>
            <a:stCxn id="1008" idx="5"/>
            <a:endCxn id="1006" idx="0"/>
          </p:cNvCxnSpPr>
          <p:nvPr/>
        </p:nvCxnSpPr>
        <p:spPr>
          <a:xfrm>
            <a:off x="7389360" y="37508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1" name="AutoShape 29"/>
          <p:cNvCxnSpPr>
            <a:stCxn id="1006" idx="5"/>
            <a:endCxn id="1003" idx="0"/>
          </p:cNvCxnSpPr>
          <p:nvPr/>
        </p:nvCxnSpPr>
        <p:spPr>
          <a:xfrm>
            <a:off x="8380440" y="45896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2" name="AutoShape 30"/>
          <p:cNvCxnSpPr>
            <a:stCxn id="1007" idx="3"/>
            <a:endCxn id="1005" idx="0"/>
          </p:cNvCxnSpPr>
          <p:nvPr/>
        </p:nvCxnSpPr>
        <p:spPr>
          <a:xfrm flipH="1">
            <a:off x="5600160" y="4589640"/>
            <a:ext cx="57348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3" name="AutoShape 31"/>
          <p:cNvCxnSpPr>
            <a:stCxn id="1007" idx="5"/>
            <a:endCxn id="1004" idx="0"/>
          </p:cNvCxnSpPr>
          <p:nvPr/>
        </p:nvCxnSpPr>
        <p:spPr>
          <a:xfrm>
            <a:off x="6551280" y="4589640"/>
            <a:ext cx="3452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4" name="Oval 32"/>
          <p:cNvSpPr/>
          <p:nvPr/>
        </p:nvSpPr>
        <p:spPr>
          <a:xfrm>
            <a:off x="487692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5" name="AutoShape 33"/>
          <p:cNvCxnSpPr>
            <a:stCxn id="1005" idx="3"/>
            <a:endCxn id="1014" idx="0"/>
          </p:cNvCxnSpPr>
          <p:nvPr/>
        </p:nvCxnSpPr>
        <p:spPr>
          <a:xfrm flipH="1">
            <a:off x="5124240" y="54273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6" name="Oval 34"/>
          <p:cNvSpPr/>
          <p:nvPr/>
        </p:nvSpPr>
        <p:spPr>
          <a:xfrm>
            <a:off x="5715000" y="57913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AutoShape 35"/>
          <p:cNvCxnSpPr>
            <a:stCxn id="1005" idx="5"/>
            <a:endCxn id="1016" idx="0"/>
          </p:cNvCxnSpPr>
          <p:nvPr/>
        </p:nvCxnSpPr>
        <p:spPr>
          <a:xfrm>
            <a:off x="5789160" y="542736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Oval 36"/>
          <p:cNvSpPr/>
          <p:nvPr/>
        </p:nvSpPr>
        <p:spPr>
          <a:xfrm>
            <a:off x="7543800" y="49528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9" name="AutoShape 37"/>
          <p:cNvCxnSpPr>
            <a:stCxn id="1006" idx="3"/>
            <a:endCxn id="1018" idx="0"/>
          </p:cNvCxnSpPr>
          <p:nvPr/>
        </p:nvCxnSpPr>
        <p:spPr>
          <a:xfrm flipH="1">
            <a:off x="7809840" y="45896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AutoShape 38"/>
          <p:cNvSpPr/>
          <p:nvPr/>
        </p:nvSpPr>
        <p:spPr>
          <a:xfrm flipH="1" flipV="1">
            <a:off x="2133000" y="3885480"/>
            <a:ext cx="53316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39"/>
          <p:cNvSpPr/>
          <p:nvPr/>
        </p:nvSpPr>
        <p:spPr>
          <a:xfrm flipH="1" flipV="1">
            <a:off x="1371600" y="4723560"/>
            <a:ext cx="5335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40"/>
          <p:cNvSpPr/>
          <p:nvPr/>
        </p:nvSpPr>
        <p:spPr>
          <a:xfrm flipV="1">
            <a:off x="914400" y="5485680"/>
            <a:ext cx="22860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ubble-down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min-heap shown below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the state of the heap tree after remove has been called 3 times, and which elements are returned by the remo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133720" y="2971800"/>
            <a:ext cx="4535280" cy="2927520"/>
            <a:chOff x="2133720" y="2971800"/>
            <a:chExt cx="4535280" cy="2927520"/>
          </a:xfrm>
        </p:grpSpPr>
        <p:sp>
          <p:nvSpPr>
            <p:cNvPr id="1026" name="Oval 25"/>
            <p:cNvSpPr/>
            <p:nvPr/>
          </p:nvSpPr>
          <p:spPr>
            <a:xfrm>
              <a:off x="61722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0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6"/>
            <p:cNvSpPr/>
            <p:nvPr/>
          </p:nvSpPr>
          <p:spPr>
            <a:xfrm>
              <a:off x="384660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4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7"/>
            <p:cNvSpPr/>
            <p:nvPr/>
          </p:nvSpPr>
          <p:spPr>
            <a:xfrm>
              <a:off x="2514600" y="4595760"/>
              <a:ext cx="4986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8"/>
            <p:cNvSpPr/>
            <p:nvPr/>
          </p:nvSpPr>
          <p:spPr>
            <a:xfrm>
              <a:off x="5624640" y="3782880"/>
              <a:ext cx="49824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9"/>
            <p:cNvSpPr/>
            <p:nvPr/>
          </p:nvSpPr>
          <p:spPr>
            <a:xfrm>
              <a:off x="3276720" y="3782880"/>
              <a:ext cx="496800" cy="517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30"/>
            <p:cNvSpPr/>
            <p:nvPr/>
          </p:nvSpPr>
          <p:spPr>
            <a:xfrm>
              <a:off x="4456080" y="297180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2" name="AutoShape 31"/>
            <p:cNvCxnSpPr>
              <a:stCxn id="1031" idx="3"/>
              <a:endCxn id="1030" idx="0"/>
            </p:cNvCxnSpPr>
            <p:nvPr/>
          </p:nvCxnSpPr>
          <p:spPr>
            <a:xfrm flipH="1">
              <a:off x="3525480" y="3430440"/>
              <a:ext cx="1003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3" name="AutoShape 32"/>
            <p:cNvCxnSpPr>
              <a:stCxn id="1031" idx="5"/>
              <a:endCxn id="1029" idx="0"/>
            </p:cNvCxnSpPr>
            <p:nvPr/>
          </p:nvCxnSpPr>
          <p:spPr>
            <a:xfrm>
              <a:off x="4879440" y="3430440"/>
              <a:ext cx="9946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4" name="AutoShape 33"/>
            <p:cNvCxnSpPr>
              <a:stCxn id="1029" idx="5"/>
              <a:endCxn id="1026" idx="0"/>
            </p:cNvCxnSpPr>
            <p:nvPr/>
          </p:nvCxnSpPr>
          <p:spPr>
            <a:xfrm>
              <a:off x="6049800" y="4243320"/>
              <a:ext cx="3722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5" name="AutoShape 34"/>
            <p:cNvCxnSpPr>
              <a:stCxn id="1030" idx="3"/>
              <a:endCxn id="1028" idx="0"/>
            </p:cNvCxnSpPr>
            <p:nvPr/>
          </p:nvCxnSpPr>
          <p:spPr>
            <a:xfrm flipH="1">
              <a:off x="2763360" y="4243320"/>
              <a:ext cx="5868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6" name="AutoShape 35"/>
            <p:cNvCxnSpPr>
              <a:stCxn id="1030" idx="5"/>
              <a:endCxn id="1027" idx="0"/>
            </p:cNvCxnSpPr>
            <p:nvPr/>
          </p:nvCxnSpPr>
          <p:spPr>
            <a:xfrm>
              <a:off x="3700440" y="4243320"/>
              <a:ext cx="3960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7" name="Oval 36"/>
            <p:cNvSpPr/>
            <p:nvPr/>
          </p:nvSpPr>
          <p:spPr>
            <a:xfrm>
              <a:off x="213372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7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8" name="AutoShape 37"/>
            <p:cNvCxnSpPr>
              <a:stCxn id="1028" idx="3"/>
              <a:endCxn id="1037" idx="0"/>
            </p:cNvCxnSpPr>
            <p:nvPr/>
          </p:nvCxnSpPr>
          <p:spPr>
            <a:xfrm flipH="1">
              <a:off x="2364840" y="5054760"/>
              <a:ext cx="22320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9" name="Oval 38"/>
            <p:cNvSpPr/>
            <p:nvPr/>
          </p:nvSpPr>
          <p:spPr>
            <a:xfrm>
              <a:off x="2895480" y="5407200"/>
              <a:ext cx="46224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0" name="AutoShape 39"/>
            <p:cNvCxnSpPr>
              <a:stCxn id="1028" idx="5"/>
              <a:endCxn id="1039" idx="0"/>
            </p:cNvCxnSpPr>
            <p:nvPr/>
          </p:nvCxnSpPr>
          <p:spPr>
            <a:xfrm>
              <a:off x="2940120" y="5054760"/>
              <a:ext cx="187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Oval 40"/>
            <p:cNvSpPr/>
            <p:nvPr/>
          </p:nvSpPr>
          <p:spPr>
            <a:xfrm>
              <a:off x="5105520" y="4595760"/>
              <a:ext cx="496800" cy="515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1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2" name="AutoShape 41"/>
            <p:cNvCxnSpPr>
              <a:stCxn id="1029" idx="3"/>
              <a:endCxn id="1041" idx="0"/>
            </p:cNvCxnSpPr>
            <p:nvPr/>
          </p:nvCxnSpPr>
          <p:spPr>
            <a:xfrm flipH="1">
              <a:off x="5354280" y="4243320"/>
              <a:ext cx="3434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3" name="AutoShape 37"/>
            <p:cNvCxnSpPr>
              <a:stCxn id="1027" idx="3"/>
              <a:endCxn id="1044" idx="0"/>
            </p:cNvCxnSpPr>
            <p:nvPr/>
          </p:nvCxnSpPr>
          <p:spPr>
            <a:xfrm flipH="1">
              <a:off x="3774600" y="5054400"/>
              <a:ext cx="145440" cy="30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4" name="Oval 26"/>
            <p:cNvSpPr/>
            <p:nvPr/>
          </p:nvSpPr>
          <p:spPr>
            <a:xfrm>
              <a:off x="3525840" y="5383080"/>
              <a:ext cx="496800" cy="516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5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5" name="AutoShape 39"/>
            <p:cNvCxnSpPr>
              <a:stCxn id="1027" idx="5"/>
              <a:endCxn id="1046" idx="0"/>
            </p:cNvCxnSpPr>
            <p:nvPr/>
          </p:nvCxnSpPr>
          <p:spPr>
            <a:xfrm>
              <a:off x="4270320" y="5054760"/>
              <a:ext cx="22464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6" name="Oval 38"/>
            <p:cNvSpPr/>
            <p:nvPr/>
          </p:nvSpPr>
          <p:spPr>
            <a:xfrm>
              <a:off x="4262400" y="5407200"/>
              <a:ext cx="461880" cy="480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8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7" name="AutoShape 37"/>
            <p:cNvCxnSpPr>
              <a:stCxn id="1041" idx="5"/>
              <a:endCxn id="1048" idx="0"/>
            </p:cNvCxnSpPr>
            <p:nvPr/>
          </p:nvCxnSpPr>
          <p:spPr>
            <a:xfrm>
              <a:off x="5529240" y="5054760"/>
              <a:ext cx="185040" cy="36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8" name="Oval 38"/>
            <p:cNvSpPr/>
            <p:nvPr/>
          </p:nvSpPr>
          <p:spPr>
            <a:xfrm>
              <a:off x="5481720" y="5438880"/>
              <a:ext cx="461880" cy="460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storing a set in an unfilled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n't really matter what order the elements appear in a set, so long as they can be added and searched quick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store them in the next available index, as in a list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O(1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, 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loop over the array;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ust shift elements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486240" y="4071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eap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ugh a heap is conceptually a binary tre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it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e, when implementing 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ctually can "cheat" and ju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 an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x of root = 1  (leave 0 empty to simplify the math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y nod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left  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right = 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index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rray represent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legant and efficient (O(1)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ommon tree 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eapPQ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ority queue using a min-heap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Int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IntPriorityQueu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[]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Int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lp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we will treat the array as a complete tree/heap, and walk up/down between parents/children, these methods are helpfu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lpers for navigating indexes up/down the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   { return index/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 { return index*2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   { return index*2 +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Par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 return index &gt; 1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Lef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f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sRightChil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inde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ightChild(index) &lt;=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, int index1, int index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emp = a[index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1] = a[index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ndex2] = te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the code to add an element to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3733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5"/>
          <p:cNvSpPr/>
          <p:nvPr/>
        </p:nvSpPr>
        <p:spPr>
          <a:xfrm>
            <a:off x="20574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6"/>
          <p:cNvSpPr/>
          <p:nvPr/>
        </p:nvSpPr>
        <p:spPr>
          <a:xfrm>
            <a:off x="762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7"/>
          <p:cNvSpPr/>
          <p:nvPr/>
        </p:nvSpPr>
        <p:spPr>
          <a:xfrm>
            <a:off x="3352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8"/>
          <p:cNvSpPr/>
          <p:nvPr/>
        </p:nvSpPr>
        <p:spPr>
          <a:xfrm>
            <a:off x="1523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9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AutoShape 10"/>
          <p:cNvCxnSpPr>
            <a:stCxn id="1063" idx="3"/>
            <a:endCxn id="1062" idx="0"/>
          </p:cNvCxnSpPr>
          <p:nvPr/>
        </p:nvCxnSpPr>
        <p:spPr>
          <a:xfrm flipH="1">
            <a:off x="1790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11"/>
          <p:cNvCxnSpPr>
            <a:stCxn id="1063" idx="5"/>
            <a:endCxn id="1061" idx="0"/>
          </p:cNvCxnSpPr>
          <p:nvPr/>
        </p:nvCxnSpPr>
        <p:spPr>
          <a:xfrm>
            <a:off x="2817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AutoShape 12"/>
          <p:cNvCxnSpPr>
            <a:stCxn id="1061" idx="5"/>
            <a:endCxn id="1058" idx="0"/>
          </p:cNvCxnSpPr>
          <p:nvPr/>
        </p:nvCxnSpPr>
        <p:spPr>
          <a:xfrm>
            <a:off x="3808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AutoShape 13"/>
          <p:cNvCxnSpPr>
            <a:stCxn id="1062" idx="3"/>
            <a:endCxn id="1060" idx="0"/>
          </p:cNvCxnSpPr>
          <p:nvPr/>
        </p:nvCxnSpPr>
        <p:spPr>
          <a:xfrm flipH="1">
            <a:off x="1028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AutoShape 14"/>
          <p:cNvCxnSpPr>
            <a:stCxn id="1062" idx="5"/>
            <a:endCxn id="1059" idx="0"/>
          </p:cNvCxnSpPr>
          <p:nvPr/>
        </p:nvCxnSpPr>
        <p:spPr>
          <a:xfrm>
            <a:off x="1979280" y="4512960"/>
            <a:ext cx="345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9" name="Oval 15"/>
          <p:cNvSpPr/>
          <p:nvPr/>
        </p:nvSpPr>
        <p:spPr>
          <a:xfrm>
            <a:off x="304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AutoShape 16"/>
          <p:cNvCxnSpPr>
            <a:stCxn id="1060" idx="3"/>
            <a:endCxn id="1069" idx="0"/>
          </p:cNvCxnSpPr>
          <p:nvPr/>
        </p:nvCxnSpPr>
        <p:spPr>
          <a:xfrm flipH="1">
            <a:off x="552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1" name="Oval 17"/>
          <p:cNvSpPr/>
          <p:nvPr/>
        </p:nvSpPr>
        <p:spPr>
          <a:xfrm>
            <a:off x="1143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AutoShape 18"/>
          <p:cNvCxnSpPr>
            <a:stCxn id="1060" idx="5"/>
            <a:endCxn id="1071" idx="0"/>
          </p:cNvCxnSpPr>
          <p:nvPr/>
        </p:nvCxnSpPr>
        <p:spPr>
          <a:xfrm>
            <a:off x="1217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3" name="Oval 19"/>
          <p:cNvSpPr/>
          <p:nvPr/>
        </p:nvSpPr>
        <p:spPr>
          <a:xfrm>
            <a:off x="2971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AutoShape 20"/>
          <p:cNvCxnSpPr>
            <a:stCxn id="1061" idx="3"/>
            <a:endCxn id="1073" idx="0"/>
          </p:cNvCxnSpPr>
          <p:nvPr/>
        </p:nvCxnSpPr>
        <p:spPr>
          <a:xfrm flipH="1">
            <a:off x="3237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5" name="Oval 21"/>
          <p:cNvSpPr/>
          <p:nvPr/>
        </p:nvSpPr>
        <p:spPr>
          <a:xfrm>
            <a:off x="1828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22"/>
          <p:cNvCxnSpPr>
            <a:stCxn id="1059" idx="3"/>
            <a:endCxn id="1075" idx="0"/>
          </p:cNvCxnSpPr>
          <p:nvPr/>
        </p:nvCxnSpPr>
        <p:spPr>
          <a:xfrm flipH="1">
            <a:off x="2075760" y="535104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7" name="Oval 23"/>
          <p:cNvSpPr/>
          <p:nvPr/>
        </p:nvSpPr>
        <p:spPr>
          <a:xfrm>
            <a:off x="2514600" y="5715000"/>
            <a:ext cx="533520" cy="53352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AutoShape 24"/>
          <p:cNvCxnSpPr>
            <a:stCxn id="1059" idx="5"/>
            <a:endCxn id="1077" idx="0"/>
          </p:cNvCxnSpPr>
          <p:nvPr/>
        </p:nvCxnSpPr>
        <p:spPr>
          <a:xfrm>
            <a:off x="2512800" y="5351400"/>
            <a:ext cx="2689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9" name="AutoShape 25"/>
          <p:cNvSpPr/>
          <p:nvPr/>
        </p:nvSpPr>
        <p:spPr>
          <a:xfrm flipH="1">
            <a:off x="2590920" y="4952880"/>
            <a:ext cx="380880" cy="714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26"/>
          <p:cNvSpPr/>
          <p:nvPr/>
        </p:nvSpPr>
        <p:spPr>
          <a:xfrm flipH="1">
            <a:off x="2286000" y="4114800"/>
            <a:ext cx="38088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27"/>
          <p:cNvSpPr/>
          <p:nvPr/>
        </p:nvSpPr>
        <p:spPr>
          <a:xfrm>
            <a:off x="83059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28"/>
          <p:cNvSpPr/>
          <p:nvPr/>
        </p:nvSpPr>
        <p:spPr>
          <a:xfrm>
            <a:off x="67057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29"/>
          <p:cNvSpPr/>
          <p:nvPr/>
        </p:nvSpPr>
        <p:spPr>
          <a:xfrm>
            <a:off x="5334120" y="48769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30"/>
          <p:cNvSpPr/>
          <p:nvPr/>
        </p:nvSpPr>
        <p:spPr>
          <a:xfrm>
            <a:off x="79246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31"/>
          <p:cNvSpPr/>
          <p:nvPr/>
        </p:nvSpPr>
        <p:spPr>
          <a:xfrm>
            <a:off x="6095880" y="40384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32"/>
          <p:cNvSpPr/>
          <p:nvPr/>
        </p:nvSpPr>
        <p:spPr>
          <a:xfrm>
            <a:off x="6934320" y="32004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AutoShape 33"/>
          <p:cNvCxnSpPr>
            <a:stCxn id="1086" idx="3"/>
            <a:endCxn id="1085" idx="0"/>
          </p:cNvCxnSpPr>
          <p:nvPr/>
        </p:nvCxnSpPr>
        <p:spPr>
          <a:xfrm flipH="1">
            <a:off x="6362280" y="3675240"/>
            <a:ext cx="6501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AutoShape 34"/>
          <p:cNvCxnSpPr>
            <a:stCxn id="1086" idx="5"/>
            <a:endCxn id="1084" idx="0"/>
          </p:cNvCxnSpPr>
          <p:nvPr/>
        </p:nvCxnSpPr>
        <p:spPr>
          <a:xfrm>
            <a:off x="7389360" y="3675240"/>
            <a:ext cx="8024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9" name="AutoShape 35"/>
          <p:cNvCxnSpPr>
            <a:stCxn id="1084" idx="5"/>
            <a:endCxn id="1081" idx="0"/>
          </p:cNvCxnSpPr>
          <p:nvPr/>
        </p:nvCxnSpPr>
        <p:spPr>
          <a:xfrm>
            <a:off x="8380440" y="4512960"/>
            <a:ext cx="1929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0" name="AutoShape 36"/>
          <p:cNvCxnSpPr>
            <a:stCxn id="1085" idx="3"/>
            <a:endCxn id="1083" idx="0"/>
          </p:cNvCxnSpPr>
          <p:nvPr/>
        </p:nvCxnSpPr>
        <p:spPr>
          <a:xfrm flipH="1">
            <a:off x="5600160" y="4512960"/>
            <a:ext cx="5734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1" name="AutoShape 37"/>
          <p:cNvCxnSpPr>
            <a:stCxn id="1085" idx="5"/>
            <a:endCxn id="1082" idx="0"/>
          </p:cNvCxnSpPr>
          <p:nvPr/>
        </p:nvCxnSpPr>
        <p:spPr>
          <a:xfrm>
            <a:off x="6551280" y="4512960"/>
            <a:ext cx="42156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2" name="Oval 38"/>
          <p:cNvSpPr/>
          <p:nvPr/>
        </p:nvSpPr>
        <p:spPr>
          <a:xfrm>
            <a:off x="487692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AutoShape 39"/>
          <p:cNvCxnSpPr>
            <a:stCxn id="1083" idx="3"/>
            <a:endCxn id="1092" idx="0"/>
          </p:cNvCxnSpPr>
          <p:nvPr/>
        </p:nvCxnSpPr>
        <p:spPr>
          <a:xfrm flipH="1">
            <a:off x="5124240" y="535104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Oval 40"/>
          <p:cNvSpPr/>
          <p:nvPr/>
        </p:nvSpPr>
        <p:spPr>
          <a:xfrm>
            <a:off x="57150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5" name="AutoShape 41"/>
          <p:cNvCxnSpPr>
            <a:stCxn id="1083" idx="5"/>
            <a:endCxn id="1094" idx="0"/>
          </p:cNvCxnSpPr>
          <p:nvPr/>
        </p:nvCxnSpPr>
        <p:spPr>
          <a:xfrm>
            <a:off x="5789160" y="5351040"/>
            <a:ext cx="1738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6" name="Oval 42"/>
          <p:cNvSpPr/>
          <p:nvPr/>
        </p:nvSpPr>
        <p:spPr>
          <a:xfrm>
            <a:off x="7543800" y="48769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3"/>
          <p:cNvCxnSpPr>
            <a:stCxn id="1084" idx="3"/>
            <a:endCxn id="1096" idx="0"/>
          </p:cNvCxnSpPr>
          <p:nvPr/>
        </p:nvCxnSpPr>
        <p:spPr>
          <a:xfrm flipH="1">
            <a:off x="7809840" y="4512960"/>
            <a:ext cx="1926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Oval 44"/>
          <p:cNvSpPr/>
          <p:nvPr/>
        </p:nvSpPr>
        <p:spPr>
          <a:xfrm>
            <a:off x="6400800" y="571500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9" name="AutoShape 45"/>
          <p:cNvCxnSpPr>
            <a:stCxn id="1082" idx="3"/>
            <a:endCxn id="1098" idx="0"/>
          </p:cNvCxnSpPr>
          <p:nvPr/>
        </p:nvCxnSpPr>
        <p:spPr>
          <a:xfrm flipH="1">
            <a:off x="6647760" y="535104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0" name="Oval 46"/>
          <p:cNvSpPr/>
          <p:nvPr/>
        </p:nvSpPr>
        <p:spPr>
          <a:xfrm>
            <a:off x="7086600" y="571500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1" name="AutoShape 47"/>
          <p:cNvCxnSpPr>
            <a:stCxn id="1082" idx="5"/>
            <a:endCxn id="1100" idx="0"/>
          </p:cNvCxnSpPr>
          <p:nvPr/>
        </p:nvCxnSpPr>
        <p:spPr>
          <a:xfrm>
            <a:off x="7161120" y="5351040"/>
            <a:ext cx="154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size + 1] = value;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 as rightmost lea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up" as necessary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lt; elements[paren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ing a h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our array heap runs out of spac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enlarge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enlarging hash sets, we needed to carefully rehash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ust we do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e can simply copy the dat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o a larger array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3809880" y="2647800"/>
            <a:ext cx="48769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add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ize to enlarge the heap if necess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ize == elements.length - 1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= Arrays.copyOf(element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elements.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trie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Oval 27"/>
          <p:cNvSpPr/>
          <p:nvPr/>
        </p:nvSpPr>
        <p:spPr>
          <a:xfrm>
            <a:off x="57150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28"/>
          <p:cNvSpPr/>
          <p:nvPr/>
        </p:nvSpPr>
        <p:spPr>
          <a:xfrm>
            <a:off x="41148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29"/>
          <p:cNvSpPr/>
          <p:nvPr/>
        </p:nvSpPr>
        <p:spPr>
          <a:xfrm>
            <a:off x="274320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0"/>
          <p:cNvSpPr/>
          <p:nvPr/>
        </p:nvSpPr>
        <p:spPr>
          <a:xfrm>
            <a:off x="53341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1"/>
          <p:cNvSpPr/>
          <p:nvPr/>
        </p:nvSpPr>
        <p:spPr>
          <a:xfrm>
            <a:off x="3505320" y="36576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2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7" name="AutoShape 33"/>
          <p:cNvCxnSpPr>
            <a:stCxn id="1116" idx="3"/>
            <a:endCxn id="1115" idx="0"/>
          </p:cNvCxnSpPr>
          <p:nvPr/>
        </p:nvCxnSpPr>
        <p:spPr>
          <a:xfrm flipH="1">
            <a:off x="3771360" y="3293640"/>
            <a:ext cx="6498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AutoShape 34"/>
          <p:cNvCxnSpPr>
            <a:stCxn id="1116" idx="5"/>
            <a:endCxn id="1114" idx="0"/>
          </p:cNvCxnSpPr>
          <p:nvPr/>
        </p:nvCxnSpPr>
        <p:spPr>
          <a:xfrm>
            <a:off x="4798800" y="32936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AutoShape 35"/>
          <p:cNvCxnSpPr>
            <a:stCxn id="1114" idx="5"/>
            <a:endCxn id="1111" idx="0"/>
          </p:cNvCxnSpPr>
          <p:nvPr/>
        </p:nvCxnSpPr>
        <p:spPr>
          <a:xfrm>
            <a:off x="578952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AutoShape 36"/>
          <p:cNvCxnSpPr>
            <a:stCxn id="1115" idx="3"/>
            <a:endCxn id="1113" idx="0"/>
          </p:cNvCxnSpPr>
          <p:nvPr/>
        </p:nvCxnSpPr>
        <p:spPr>
          <a:xfrm flipH="1">
            <a:off x="3009600" y="41324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AutoShape 37"/>
          <p:cNvCxnSpPr>
            <a:stCxn id="1115" idx="5"/>
            <a:endCxn id="1112" idx="0"/>
          </p:cNvCxnSpPr>
          <p:nvPr/>
        </p:nvCxnSpPr>
        <p:spPr>
          <a:xfrm>
            <a:off x="3960360" y="41324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Oval 38"/>
          <p:cNvSpPr/>
          <p:nvPr/>
        </p:nvSpPr>
        <p:spPr>
          <a:xfrm>
            <a:off x="228600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AutoShape 39"/>
          <p:cNvCxnSpPr>
            <a:stCxn id="1113" idx="3"/>
            <a:endCxn id="1122" idx="0"/>
          </p:cNvCxnSpPr>
          <p:nvPr/>
        </p:nvCxnSpPr>
        <p:spPr>
          <a:xfrm flipH="1">
            <a:off x="2533320" y="4970160"/>
            <a:ext cx="2880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4" name="Oval 40"/>
          <p:cNvSpPr/>
          <p:nvPr/>
        </p:nvSpPr>
        <p:spPr>
          <a:xfrm>
            <a:off x="31240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AutoShape 41"/>
          <p:cNvCxnSpPr>
            <a:stCxn id="1113" idx="5"/>
            <a:endCxn id="1124" idx="0"/>
          </p:cNvCxnSpPr>
          <p:nvPr/>
        </p:nvCxnSpPr>
        <p:spPr>
          <a:xfrm>
            <a:off x="3198960" y="4970160"/>
            <a:ext cx="1735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6" name="Oval 42"/>
          <p:cNvSpPr/>
          <p:nvPr/>
        </p:nvSpPr>
        <p:spPr>
          <a:xfrm>
            <a:off x="4952880" y="4495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7" name="AutoShape 43"/>
          <p:cNvCxnSpPr>
            <a:stCxn id="1114" idx="3"/>
            <a:endCxn id="1126" idx="0"/>
          </p:cNvCxnSpPr>
          <p:nvPr/>
        </p:nvCxnSpPr>
        <p:spPr>
          <a:xfrm flipH="1">
            <a:off x="5219280" y="41324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8" name="Oval 44"/>
          <p:cNvSpPr/>
          <p:nvPr/>
        </p:nvSpPr>
        <p:spPr>
          <a:xfrm>
            <a:off x="3809880" y="53341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9" name="AutoShape 45"/>
          <p:cNvCxnSpPr>
            <a:stCxn id="1112" idx="3"/>
            <a:endCxn id="1128" idx="0"/>
          </p:cNvCxnSpPr>
          <p:nvPr/>
        </p:nvCxnSpPr>
        <p:spPr>
          <a:xfrm flipH="1">
            <a:off x="4056840" y="4970160"/>
            <a:ext cx="1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Oval 46"/>
          <p:cNvSpPr/>
          <p:nvPr/>
        </p:nvSpPr>
        <p:spPr>
          <a:xfrm>
            <a:off x="4495680" y="53341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1" name="AutoShape 47"/>
          <p:cNvCxnSpPr>
            <a:stCxn id="1112" idx="5"/>
            <a:endCxn id="1130" idx="0"/>
          </p:cNvCxnSpPr>
          <p:nvPr/>
        </p:nvCxnSpPr>
        <p:spPr>
          <a:xfrm>
            <a:off x="4570200" y="4970160"/>
            <a:ext cx="154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pee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s the minimum element in this priority que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elements[1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code to remove the minimum element in the 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Oval 4"/>
          <p:cNvSpPr/>
          <p:nvPr/>
        </p:nvSpPr>
        <p:spPr>
          <a:xfrm>
            <a:off x="3733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6"/>
          <p:cNvSpPr/>
          <p:nvPr/>
        </p:nvSpPr>
        <p:spPr>
          <a:xfrm>
            <a:off x="685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"/>
          <p:cNvSpPr/>
          <p:nvPr/>
        </p:nvSpPr>
        <p:spPr>
          <a:xfrm>
            <a:off x="3352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8"/>
          <p:cNvSpPr/>
          <p:nvPr/>
        </p:nvSpPr>
        <p:spPr>
          <a:xfrm>
            <a:off x="1447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9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0"/>
          <p:cNvCxnSpPr>
            <a:stCxn id="1141" idx="3"/>
            <a:endCxn id="1140" idx="0"/>
          </p:cNvCxnSpPr>
          <p:nvPr/>
        </p:nvCxnSpPr>
        <p:spPr>
          <a:xfrm flipH="1">
            <a:off x="1713960" y="3525840"/>
            <a:ext cx="72612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AutoShape 11"/>
          <p:cNvCxnSpPr>
            <a:stCxn id="1141" idx="5"/>
            <a:endCxn id="1139" idx="0"/>
          </p:cNvCxnSpPr>
          <p:nvPr/>
        </p:nvCxnSpPr>
        <p:spPr>
          <a:xfrm>
            <a:off x="2817360" y="3525840"/>
            <a:ext cx="80244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AutoShape 12"/>
          <p:cNvCxnSpPr>
            <a:stCxn id="1139" idx="5"/>
            <a:endCxn id="1136" idx="0"/>
          </p:cNvCxnSpPr>
          <p:nvPr/>
        </p:nvCxnSpPr>
        <p:spPr>
          <a:xfrm>
            <a:off x="3808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5" name="AutoShape 13"/>
          <p:cNvCxnSpPr>
            <a:stCxn id="1140" idx="3"/>
            <a:endCxn id="1138" idx="0"/>
          </p:cNvCxnSpPr>
          <p:nvPr/>
        </p:nvCxnSpPr>
        <p:spPr>
          <a:xfrm flipH="1">
            <a:off x="952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6" name="AutoShape 14"/>
          <p:cNvCxnSpPr>
            <a:stCxn id="1140" idx="5"/>
            <a:endCxn id="1137" idx="0"/>
          </p:cNvCxnSpPr>
          <p:nvPr/>
        </p:nvCxnSpPr>
        <p:spPr>
          <a:xfrm>
            <a:off x="1902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Oval 15"/>
          <p:cNvSpPr/>
          <p:nvPr/>
        </p:nvSpPr>
        <p:spPr>
          <a:xfrm>
            <a:off x="304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AutoShape 16"/>
          <p:cNvCxnSpPr>
            <a:stCxn id="1138" idx="3"/>
            <a:endCxn id="1147" idx="0"/>
          </p:cNvCxnSpPr>
          <p:nvPr/>
        </p:nvCxnSpPr>
        <p:spPr>
          <a:xfrm flipH="1">
            <a:off x="552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Oval 17"/>
          <p:cNvSpPr/>
          <p:nvPr/>
        </p:nvSpPr>
        <p:spPr>
          <a:xfrm>
            <a:off x="1143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0" name="AutoShape 18"/>
          <p:cNvCxnSpPr>
            <a:stCxn id="1138" idx="5"/>
            <a:endCxn id="1149" idx="0"/>
          </p:cNvCxnSpPr>
          <p:nvPr/>
        </p:nvCxnSpPr>
        <p:spPr>
          <a:xfrm>
            <a:off x="1141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1" name="Oval 19"/>
          <p:cNvSpPr/>
          <p:nvPr/>
        </p:nvSpPr>
        <p:spPr>
          <a:xfrm>
            <a:off x="2971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AutoShape 20"/>
          <p:cNvCxnSpPr>
            <a:stCxn id="1139" idx="3"/>
            <a:endCxn id="1151" idx="0"/>
          </p:cNvCxnSpPr>
          <p:nvPr/>
        </p:nvCxnSpPr>
        <p:spPr>
          <a:xfrm flipH="1">
            <a:off x="3237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3" name="Oval 21"/>
          <p:cNvSpPr/>
          <p:nvPr/>
        </p:nvSpPr>
        <p:spPr>
          <a:xfrm>
            <a:off x="18288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4" name="AutoShape 22"/>
          <p:cNvCxnSpPr>
            <a:stCxn id="1137" idx="3"/>
            <a:endCxn id="1153" idx="0"/>
          </p:cNvCxnSpPr>
          <p:nvPr/>
        </p:nvCxnSpPr>
        <p:spPr>
          <a:xfrm flipH="1">
            <a:off x="2075760" y="5198760"/>
            <a:ext cx="5940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5" name="Line 23"/>
          <p:cNvSpPr/>
          <p:nvPr/>
        </p:nvSpPr>
        <p:spPr>
          <a:xfrm>
            <a:off x="213372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4"/>
          <p:cNvSpPr/>
          <p:nvPr/>
        </p:nvSpPr>
        <p:spPr>
          <a:xfrm flipH="1">
            <a:off x="2209680" y="289548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25"/>
          <p:cNvSpPr/>
          <p:nvPr/>
        </p:nvSpPr>
        <p:spPr>
          <a:xfrm>
            <a:off x="8305920" y="472428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26"/>
          <p:cNvSpPr/>
          <p:nvPr/>
        </p:nvSpPr>
        <p:spPr>
          <a:xfrm>
            <a:off x="66294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27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7924680" y="38862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29"/>
          <p:cNvSpPr/>
          <p:nvPr/>
        </p:nvSpPr>
        <p:spPr>
          <a:xfrm>
            <a:off x="6019920" y="38862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30"/>
          <p:cNvSpPr/>
          <p:nvPr/>
        </p:nvSpPr>
        <p:spPr>
          <a:xfrm>
            <a:off x="6934320" y="3048120"/>
            <a:ext cx="5331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31"/>
          <p:cNvCxnSpPr>
            <a:stCxn id="1162" idx="3"/>
            <a:endCxn id="1161" idx="0"/>
          </p:cNvCxnSpPr>
          <p:nvPr/>
        </p:nvCxnSpPr>
        <p:spPr>
          <a:xfrm flipH="1">
            <a:off x="6285960" y="3522240"/>
            <a:ext cx="72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32"/>
          <p:cNvCxnSpPr>
            <a:stCxn id="1162" idx="5"/>
            <a:endCxn id="1160" idx="0"/>
          </p:cNvCxnSpPr>
          <p:nvPr/>
        </p:nvCxnSpPr>
        <p:spPr>
          <a:xfrm>
            <a:off x="7389360" y="3522240"/>
            <a:ext cx="802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33"/>
          <p:cNvCxnSpPr>
            <a:stCxn id="1160" idx="5"/>
            <a:endCxn id="1157" idx="0"/>
          </p:cNvCxnSpPr>
          <p:nvPr/>
        </p:nvCxnSpPr>
        <p:spPr>
          <a:xfrm>
            <a:off x="8380440" y="4361040"/>
            <a:ext cx="1929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34"/>
          <p:cNvCxnSpPr>
            <a:stCxn id="1161" idx="3"/>
            <a:endCxn id="1159" idx="0"/>
          </p:cNvCxnSpPr>
          <p:nvPr/>
        </p:nvCxnSpPr>
        <p:spPr>
          <a:xfrm flipH="1">
            <a:off x="5524200" y="4361040"/>
            <a:ext cx="57384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7" name="AutoShape 35"/>
          <p:cNvCxnSpPr>
            <a:stCxn id="1161" idx="5"/>
            <a:endCxn id="1158" idx="0"/>
          </p:cNvCxnSpPr>
          <p:nvPr/>
        </p:nvCxnSpPr>
        <p:spPr>
          <a:xfrm>
            <a:off x="6474960" y="4361040"/>
            <a:ext cx="42156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8" name="Oval 36"/>
          <p:cNvSpPr/>
          <p:nvPr/>
        </p:nvSpPr>
        <p:spPr>
          <a:xfrm>
            <a:off x="487692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37"/>
          <p:cNvCxnSpPr>
            <a:stCxn id="1159" idx="3"/>
            <a:endCxn id="1168" idx="0"/>
          </p:cNvCxnSpPr>
          <p:nvPr/>
        </p:nvCxnSpPr>
        <p:spPr>
          <a:xfrm flipH="1">
            <a:off x="5124240" y="5198760"/>
            <a:ext cx="21168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Oval 38"/>
          <p:cNvSpPr/>
          <p:nvPr/>
        </p:nvSpPr>
        <p:spPr>
          <a:xfrm>
            <a:off x="5715000" y="5562720"/>
            <a:ext cx="495360" cy="495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AutoShape 39"/>
          <p:cNvCxnSpPr>
            <a:stCxn id="1159" idx="5"/>
            <a:endCxn id="1170" idx="0"/>
          </p:cNvCxnSpPr>
          <p:nvPr/>
        </p:nvCxnSpPr>
        <p:spPr>
          <a:xfrm>
            <a:off x="5713560" y="5198760"/>
            <a:ext cx="2498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2" name="Oval 40"/>
          <p:cNvSpPr/>
          <p:nvPr/>
        </p:nvSpPr>
        <p:spPr>
          <a:xfrm>
            <a:off x="7543800" y="47242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AutoShape 41"/>
          <p:cNvCxnSpPr>
            <a:stCxn id="1160" idx="3"/>
            <a:endCxn id="1172" idx="0"/>
          </p:cNvCxnSpPr>
          <p:nvPr/>
        </p:nvCxnSpPr>
        <p:spPr>
          <a:xfrm flipH="1">
            <a:off x="7809840" y="4361040"/>
            <a:ext cx="192600" cy="34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Oval 42"/>
          <p:cNvSpPr/>
          <p:nvPr/>
        </p:nvSpPr>
        <p:spPr>
          <a:xfrm>
            <a:off x="6400800" y="5562720"/>
            <a:ext cx="495360" cy="49536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alibri"/>
                <a:ea typeface="ＭＳ Ｐゴシック"/>
              </a:rPr>
              <a:t>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43"/>
          <p:cNvCxnSpPr>
            <a:stCxn id="1158" idx="3"/>
            <a:endCxn id="1174" idx="0"/>
          </p:cNvCxnSpPr>
          <p:nvPr/>
        </p:nvCxnSpPr>
        <p:spPr>
          <a:xfrm flipH="1">
            <a:off x="6647760" y="5198760"/>
            <a:ext cx="59400" cy="345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ed array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store the elements in an unfilled array, 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rather than order of inser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2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8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-3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4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efficien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a50021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,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O(</a:t>
            </a:r>
            <a:r>
              <a:rPr b="0" i="1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(You can do an O(lo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binary search to find elements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and to find the proper index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; 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still need to shift elements right/left to make room, which is 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) on aver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86240" y="24717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econdition: queue is not emp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esult = elements[1];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ast leaf -&gt; ro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1] = elements[size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1;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"bubble down" to fix ord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LeftChild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ft = lef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ight = rightChild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hild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hasRightChild(index)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[right] &lt; elements[left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ild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elements[index] &gt; elements[child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chil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chil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 PQ ADT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our own implementation of a priority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we only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our set for now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is (usually) done in the Java Collection Framework, we will define sets as an ADT by creating a Se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e operations are:  add, peek (at min), remove (mi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PQ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modify our priority queue so it can store any type of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with past collections, we will use Java generics (a type parameter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e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move/return min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modify our heap priority class to use generics as usual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rder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s the given value to this priority queue in ord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dex = size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found =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found &amp;&amp; hasParent(index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arent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elements[index] &lt; elements[parent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  <a:ea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elements, index, parent(index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parent(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= true;  // found proper location;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Even chang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Courier New"/>
              </a:rPr>
              <a:t> call does not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Java cannot be sure tha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h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ps rely on being abl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ir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not work with objects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ome types as having an ordering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other languages, we can enable &lt;, &gt; wit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perator overloa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ies a notion of equality (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but also &lt; and &gt;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otal orde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ll elements can be arranged in A ≤ B ≤ C ≤ ...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face provides a natur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parabl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2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Comparable&lt;T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T ot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768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18680" indent="0">
              <a:spcBef>
                <a:spcPts val="601"/>
              </a:spcBef>
              <a:buNone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1868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860400"/>
                <a:tab algn="l" pos="1143000"/>
                <a:tab algn="l" pos="1432080"/>
                <a:tab algn="l" pos="1774800"/>
                <a:tab algn="l" pos="217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ective Java Tip #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unded typ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upper bound; accepts the given supertype or any of its sub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ks for multiple superclass/interfac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B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up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-251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wer bound; accepts the given supertype or any of its super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an be instantiated with any animal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N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xtends Anim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2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st&lt;Bluebird&gt; nest = new Nest&lt;Bluebird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ed HeapPQ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pPriorityQueue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&lt;E extends Comparable&lt;E&gt;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[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constructs a new empty priority que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eapPriorityQueu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[]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ew Objec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E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index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.compareTo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elements[parent]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) &lt;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ap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rdering and Compa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strang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lly 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client adds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ore it at inde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this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 / drawbacks of this approach?  How to work around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7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.add(1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52680" y="2928960"/>
          <a:ext cx="5276880" cy="1185840"/>
        </p:xfrm>
        <a:graphic>
          <a:graphicData uri="http://schemas.openxmlformats.org/drawingml/2006/table">
            <a:tbl>
              <a:tblPr/>
              <a:tblGrid>
                <a:gridCol w="736560"/>
                <a:gridCol w="452520"/>
                <a:gridCol w="452520"/>
                <a:gridCol w="455400"/>
                <a:gridCol w="451080"/>
                <a:gridCol w="457200"/>
                <a:gridCol w="453960"/>
                <a:gridCol w="455400"/>
                <a:gridCol w="454320"/>
                <a:gridCol w="453960"/>
                <a:gridCol w="453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4960" y="5257800"/>
          <a:ext cx="8650080" cy="1095120"/>
        </p:xfrm>
        <a:graphic>
          <a:graphicData uri="http://schemas.openxmlformats.org/drawingml/2006/table">
            <a:tbl>
              <a:tblPr/>
              <a:tblGrid>
                <a:gridCol w="736560"/>
                <a:gridCol w="392040"/>
                <a:gridCol w="393840"/>
                <a:gridCol w="392040"/>
                <a:gridCol w="393480"/>
                <a:gridCol w="392400"/>
                <a:gridCol w="392040"/>
                <a:gridCol w="393480"/>
                <a:gridCol w="392400"/>
                <a:gridCol w="393480"/>
                <a:gridCol w="392040"/>
                <a:gridCol w="393840"/>
                <a:gridCol w="392040"/>
                <a:gridCol w="416160"/>
                <a:gridCol w="392040"/>
                <a:gridCol w="396720"/>
                <a:gridCol w="393840"/>
                <a:gridCol w="395280"/>
                <a:gridCol w="393480"/>
                <a:gridCol w="416160"/>
                <a:gridCol w="39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's the "natural" order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mplements Comparable&lt;Rectangl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x, y, width,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ctangle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Courier New"/>
              </a:rPr>
              <a:t>// ...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"natural ordering" of rectangl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x, breaking ties by 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width, breaking ties by heigh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area?  By perime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rectangles have any "natural" orde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ght we want to arrange rectangles into some order anyw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T first, T secon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external object that specifies a comparison function over some other typ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multiple orderings for the same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define a specific ordering(s) for a type even if there is no obvious "natural" ordering for that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you to externally define an ordering for a class that, for whatever reason, you are not able to modify to make it Compara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part of the Java class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that is final and can't be ex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ass from another library or author, that you don't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ator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Area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in ascending order by area (Wx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Area() - r2.getArea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ngleXYCompa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mplements Comparator&lt;Rectang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6600"/>
                </a:solidFill>
                <a:latin typeface="Courier New"/>
              </a:rPr>
              <a:t>// compare by ascending x,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Rectangle r1, Rectangle r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1.getX() != r2.getX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X() - r2.get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1.getY() - r2.getY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mpa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arator&lt;Rectangle&gt; co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RectangleAreaCompara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&lt;Rectangle&gt; set = new TreeSet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ue&lt;Rectangle&gt; pq = new PriorityQueue&lt;Rectangle&gt;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,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 methods can accep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binarySearch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ax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min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llections.sort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are provided to revers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Comparator Collections.reverseOrder(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omparat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and Compa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heap priority queue currently relies 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tural ordering of its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HeapPriorityQue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 extends Comparable&lt;E&gt;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PriorityQueue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llow other orderings, we can add a constructor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o clients can arrange  elements in any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HeapPriorityQueue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tor&lt;E&gt; com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...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stores strings in a priority queue and reads them back out in ascending or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y 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wo strings are the same length, break the ti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y ABC 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..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you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ee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madam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si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hell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"goodby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!pq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pq.remove()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r you meet hello madam goodb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Q Comparato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llowing comparator class to organize the str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ngthCompa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ements Comparator&lt;String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compar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1.length() != s2.length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lengths are unequal, compare by 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length() - s2.lengt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eak ties by ABC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1.compareTo(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&lt;String&gt; pq = new PriorityQueue&lt;String&gt;(100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engthComparator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o sort an arra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by turning the array into a heap, then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will come ou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put them into a new sorted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2" name="Picture 5" descr="&#13;Fig_21.20.pct                                                  0006D1AB_x0008_Porkchop                       B3B4845B:"/>
          <p:cNvPicPr/>
          <p:nvPr/>
        </p:nvPicPr>
        <p:blipFill>
          <a:blip r:embed="rId1"/>
          <a:srcRect l="52580" t="0" r="0" b="17677"/>
          <a:stretch/>
        </p:blipFill>
        <p:spPr>
          <a:xfrm>
            <a:off x="4876920" y="3489480"/>
            <a:ext cx="3962160" cy="28159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4" descr="&#13;Fig_21-17.pct                                                  00069570_x0008_Porkchop                       B3B4845B:"/>
          <p:cNvPicPr/>
          <p:nvPr/>
        </p:nvPicPr>
        <p:blipFill>
          <a:blip r:embed="rId2"/>
          <a:srcRect l="0" t="0" r="52234" b="17812"/>
          <a:stretch/>
        </p:blipFill>
        <p:spPr>
          <a:xfrm>
            <a:off x="304920" y="3524400"/>
            <a:ext cx="3886200" cy="27572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4267080" y="48006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p sort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apS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orityQueue&lt;Integer&gt; pq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HeapPriorityQueue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 :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q.add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a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pq.remov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correct and runs in O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 but wastes mem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makes an entire copy of the arr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internal heap of the priority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e perform a heap sort without making a cop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ing the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e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elf as a max-heap, whose data starts at 0 (not 1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ctually in heap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f you repeatedly "bubble down" eac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n-lea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, starting from the last one, you will eventually have a proper hea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alid max-he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eatedly until the heap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make it so that when an element is "removed", it is moved to the end of the array instead of completely evicted from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are done, voila!  The array is sor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7Z</dcterms:modified>
  <cp:revision>607</cp:revision>
  <dc:subject/>
  <dc:title>CSE 142 Python Slides</dc:title>
</cp:coreProperties>
</file>