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EF6F-A25F-447C-A01C-BEFEF048E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5F6-D93F-447C-8A13-D88A209747B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8Z</dcterms:modified>
  <cp:revision>122</cp:revision>
  <dc:subject/>
  <dc:title>CSE 142 Python Slides</dc:title>
</cp:coreProperties>
</file>