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B871-5E63-4383-8EC5-22F3E87FF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B79E-0697-4FAD-9490-A92798112FE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7Z</dcterms:modified>
  <cp:revision>98</cp:revision>
  <dc:subject/>
  <dc:title>CSE 142 Python Slides</dc:title>
</cp:coreProperties>
</file>