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C07D-8B92-4083-8623-3921528AF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11FF-1311-499A-AC18-400C5D1C28C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F484-CC3D-4F23-834A-A2F6DDD5EBE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E28F-7C34-4597-9AD4-F87FB694A65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9E83-932A-4C88-9F45-807550BBF0E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D113-938B-4720-8745-273ABAA4214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EDCC-2950-4CE4-9A74-35FF2FBE064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AF70-C832-4237-A325-0370EEF4373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6788-D177-42C8-8C8B-56D48C51921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1370-A938-4915-835A-046641E5930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99AE-5AE9-40D6-A05E-4963A7B27DC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63FE-B1A9-4029-86CD-7B85EC8BCA2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D0F7-AFA1-400B-ADF1-F3C1141F04B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E847-6D97-45C8-AE6D-BAA30331A66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09C9-D47E-46DB-BB95-015D6FF7535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4F90-27DB-40FA-B07B-96C89B9FC28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C6A7-9A2E-4DAB-B147-E57CAB623582}"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c) Pearson 2013.</a:t>
            </a:r>
            <a:br>
              <a:rPr sz="1200"/>
            </a:br>
            <a:r>
              <a:rPr b="0" lang="en-US" sz="1200" spc="-1" strike="noStrike">
                <a:solidFill>
                  <a:srgbClr val="000000"/>
                </a:solidFill>
                <a:latin typeface="Tahoma"/>
              </a:rPr>
              <a:t>All rights reserved.</a:t>
            </a:r>
            <a:endParaRPr b="0"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3-03-28T21:51:53Z</dcterms:modified>
  <cp:revision>118</cp:revision>
  <dc:subject/>
  <dc:title>CSE 142 Python Slides</dc:title>
</cp:coreProperties>
</file>