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CB2C-B10B-4C3C-9051-B6AB59876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1FB5-164C-42E0-B0D7-EA5713FF142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50Z</dcterms:modified>
  <cp:revision>117</cp:revision>
  <dc:subject/>
  <dc:title>CSE 142 Python Slides</dc:title>
</cp:coreProperties>
</file>