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FCCC-A817-4A57-A575-79451BA63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9F13-50E4-46D3-9821-7CC314D0EE8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6:24Z</dcterms:modified>
  <cp:revision>124</cp:revision>
  <dc:subject/>
  <dc:title>CSE 142 Python Slides</dc:title>
</cp:coreProperties>
</file>