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D8C-3BAA-4FC9-B0BA-03DCDE287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C43-0DB9-49F3-98D0-463D8CC0871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1:39Z</dcterms:modified>
  <cp:revision>119</cp:revision>
  <dc:subject/>
  <dc:title>CSE 142 Python Slides</dc:title>
</cp:coreProperties>
</file>