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980B-08C6-4379-A1BC-413AA460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DF1-B6D7-4BA2-9A96-BB85C8883E2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1:40Z</dcterms:modified>
  <cp:revision>97</cp:revision>
  <dc:subject/>
  <dc:title>CSE 142 Python Slides</dc:title>
</cp:coreProperties>
</file>