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2345-C07F-4534-88AE-69897BFABD6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9.3, 6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4:10Z</dcterms:modified>
  <cp:revision>493</cp:revision>
  <dc:subject/>
  <dc:title>CSE 142 Python Slides</dc:title>
</cp:coreProperties>
</file>