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DD9-922C-40E5-9D2F-37E47291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84F-E0C6-4066-A5E8-F2C15AD0E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88C-B16C-495C-A125-F810B7B998C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789-D14A-4339-85A1-20546EA75C1D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2:10Z</dcterms:modified>
  <cp:revision>125</cp:revision>
  <dc:subject/>
  <dc:title>CSE 142 Python Slides</dc:title>
</cp:coreProperties>
</file>