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01D2-3613-4ABF-94BE-2391975B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607D-9123-4B4F-BAC0-74CCEF7480E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6:33Z</dcterms:modified>
  <cp:revision>313</cp:revision>
  <dc:subject/>
  <dc:title>CSE 142 Python Slides</dc:title>
</cp:coreProperties>
</file>