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FAF5-3533-4C60-9613-62982B5BE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733E-707A-4B5C-9F9A-3C7F5BECD43E}"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D661-90B0-435D-8442-82A2CAD95776}"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28:10Z</dcterms:modified>
  <cp:revision>123</cp:revision>
  <dc:subject/>
  <dc:title>CSE 142 Python Slides</dc:title>
</cp:coreProperties>
</file>