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9.xml.rels" ContentType="application/vnd.openxmlformats-package.relationships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EC28-102A-4032-913F-41F2022D2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nnoying to flip back and forth between slides here.  I suggest putting the classes into a text editor so you can switch windows back and forth to fill in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E5C9-60D2-4477-9A7F-7A72914EC1D4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9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itance and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way to form new classes based on existing classes, taking on their attributes/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group related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 code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lass c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, absorbing its data/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parent class that i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child class that extends the superclass and inherits its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class 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243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exte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n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eiv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automaticall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eated 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client code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we only write the parts unique to each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s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dds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awy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lawyer regul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who get an extra week of paid vacation (a total of 3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use a pink form when applying for vacation le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have some unique behavior: they know how to s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We want lawyers to inher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havior from employee, but we want to replace parts with new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verrid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write a new version of a method in a subclass that replaces the superclass's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pecial syntax required to override a superclass metho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ust write a new version of it in the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verrides getVacationForm method in Employee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blic String getVacationForm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"pink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3 weeks vacation, pink vacation form, can su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awy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awy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Form from Employee 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Days from Employee 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5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3 weeks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  Marketers make $10,000 extra ($50,000 total) and know how to adverti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rke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market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evels of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evels of inheritance in a hierarchy are allow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A legal secretary is the same as a regular secretary but makes more money ($45,000) and can file legal brief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LegalSecretary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  <a:ea typeface="Courier New"/>
              </a:rPr>
              <a:t>extends Secretar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egal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egal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fileLegalBrief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 could file all day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5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5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acting with the superclas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software cri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ftware engine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practice of developing, designing, documenting, testing large computer progra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-scale projects face many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ting many programmers to work togeth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ting code finished o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voiding redunda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nding and fixing bug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taining, improving, and reusing existing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de reu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practice of writing program code once and using it in many contex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hanges to common behavio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return to our previous company/employee ex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a company-wide change affecting all employe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Everyone is given a $10,000 raise due to infl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ase employee salary is now $50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gal secretaries now make $55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rketers now make $60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must modify our code to reflect this policy chan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ying the super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 class to represent employees (20-page manua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we finish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bclasses are still incorr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have overridd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return other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unsatisfactory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55000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60000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The subclasses' salaries are based on the Employee salary, bu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does not reflect thi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overridden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overridden method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sub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per.getVacationDays() + 5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per.getSalary() + 1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that we want to give employees more vacation days the longer they've been with the compa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ach year worked, we'll award 2 additional vacation day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 Employee object is constructed, we'll pass in the number of years the person has been with the compan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will require us to modify 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nd add some new state and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ake necessary modification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5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10 + 2 *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 with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at we've added the constructor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, our subclasses do not compile.  The err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Lawyer.java:2: cannot find sym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symbol  : constructor Employe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location: class Employ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Lawyer extends Employe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hort explanation: Once we write a constructor (that requires parameters) in the superclass, we must now write constructors for our employee subclasses as wel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ng explanation: (next slid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detailed explan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ors are not inheri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classes don't inheri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(int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classes receive a default constructor that contai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per(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()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(in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laces the defaul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ubclasses' default constructors are now trying to call a non-existent defaul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alling superclass constructo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ll must be the first statement in the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ake a similar modification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w firm employee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rules: hours, vacation, benefits, regulations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employees attend a common orientation to learn general company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employee receives a 20-page manual of common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ubdivision also has specific ru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loyee receives a smaller (1-3 page) manual of these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aller manual adds some new rules and also changes some rules from the large man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4" descr="employee_manuals"/>
          <p:cNvPicPr/>
          <p:nvPr/>
        </p:nvPicPr>
        <p:blipFill>
          <a:blip r:embed="rId1"/>
          <a:stretch/>
        </p:blipFill>
        <p:spPr>
          <a:xfrm>
            <a:off x="5062680" y="4572000"/>
            <a:ext cx="37764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rke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market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Marketer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per.getSalary() + 1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aries' years of employment are not track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do not earn extra vacation for years work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Secret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per(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n't require any parameters to its constructor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iles without a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s default constructor call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retary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to give lawyers $5000 for each year at the compan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super.getSalary() + 5000 * year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; the error is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Lawyer.java:7: years has private access in Employ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super.getSalary() + 5000 * year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                          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fields cannot be directly accessed from sub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reason: So that subclassing can't break encapsul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get around this limita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n accessor for any field needed by the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int getYea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per.getSalary() + 5000 *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getYears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isi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currently has a poor 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et all Secretaries to 0 years because they do not get a vacation bonus for their servi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Yea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, we'll always get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n't a good solution; what if we wanted to give some other reward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mployees based on years of serv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esign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o allow for a better 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separate the standard 10 vacation days from those that are awarded based on senior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0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eniorityBonus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vacation days given for each year in the compan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int getSeniorityBonu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2 * 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es this help us improv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selectively overr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niorityBon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 wh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uns, it will use the new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oosing a method at runtime is call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ynamic bind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ecretary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ecretaries don't get a bonus for their years of servic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int getSeniorityBonu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types of objects have a super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class implicitly extend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defines several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 text representation of the object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so that it can be pri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ther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he object to any other for equalit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the objects have equal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7467480" y="1905120"/>
            <a:ext cx="13906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riab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store any object in a variable of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1 = new Point(5, -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2 = "hello ther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3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riable only knows how to do general th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o1.toString();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int len = o2.length(); 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String line = o3.nextLine();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write methods that accept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checkForNull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bject 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o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 new IllegalArgumentExcepti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compar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perator does not work well with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ares references to objects, not their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only produc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hen you compare an object to itse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2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 == p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962520" y="4495680"/>
            <a:ext cx="243828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051440" y="4665600"/>
          <a:ext cx="2197080" cy="3970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489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752480" y="480060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Line 33"/>
          <p:cNvSpPr/>
          <p:nvPr/>
        </p:nvSpPr>
        <p:spPr>
          <a:xfrm>
            <a:off x="2895480" y="51055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52480" y="5692680"/>
          <a:ext cx="1428840" cy="5209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Line 44"/>
          <p:cNvSpPr/>
          <p:nvPr/>
        </p:nvSpPr>
        <p:spPr>
          <a:xfrm>
            <a:off x="2895480" y="59976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5"/>
          <p:cNvSpPr/>
          <p:nvPr/>
        </p:nvSpPr>
        <p:spPr>
          <a:xfrm>
            <a:off x="3962520" y="5600880"/>
            <a:ext cx="243828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051440" y="5770440"/>
          <a:ext cx="2197080" cy="3970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489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parating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not just have a 22 page Lawyer manual, a 21-page Secretary manual, a 23-page Marketer manual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advantages of the separate manua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tenance: Only one update if a common rule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cality: Quick discovery of all rules specific to lawy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key ideas from this 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l rules are useful (the 20-page manual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cific rules that may override general ones are also usefu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compares the state of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1.equals(str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trings are 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f you write a class,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behave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.equals(p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 :-(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the behavior we inherit from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doesn't understand how to comp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by defa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change this behavior by wri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rs will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default behavior from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should compare the state of the two objects an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they have the same x/y pos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lawed implem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boolean equals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if (x == other.x &amp;&amp; y ==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s in our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ody can be shortened to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oolean z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should be legal to compar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any obj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t just oth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should be allow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.equals("hello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hould always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a non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Object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 that return a boolean 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arameter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ust be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general type that can match any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ving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meter mean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an be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we don't know what type it is, how can we compare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flawed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flaw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mplem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x == o.x &amp;&amp; y == o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comp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.java:36: cannot find sym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mbol  : variable 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cation: class java.lang.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o.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&amp; y ==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o.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is saying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be any object. Not every object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-cast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ype-c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he object parameter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Point other = (Point)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ting objects is different than casting primiti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ly casting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n't actually change the object that was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lls the compiler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ssum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s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ting objects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2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.equals(p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3352680"/>
            <a:ext cx="617220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ublic boolean equals(Object o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oint other = (Point) 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turn x == other.x &amp;&amp; y == other.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755800" y="3505320"/>
          <a:ext cx="2654280" cy="39528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9460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57200" y="464832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1600200" y="48769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554040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600200" y="58453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66880" y="5448240"/>
            <a:ext cx="243864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755800" y="5618160"/>
          <a:ext cx="2197080" cy="39528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4888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7696080" y="3429000"/>
          <a:ext cx="102204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7086600" y="3886200"/>
          <a:ext cx="1631880" cy="395280"/>
        </p:xfrm>
        <a:graphic>
          <a:graphicData uri="http://schemas.openxmlformats.org/drawingml/2006/table">
            <a:tbl>
              <a:tblPr/>
              <a:tblGrid>
                <a:gridCol w="9460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different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.equals("hello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hould be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rrently our method crashes on the above cod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Exception in thread "mai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java.lang.ClassCastException: java.lang.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Point.equals(Point.java:2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PointMain.main(PointMain.java:2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ulprit is the line with the type-cas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oint other = (Point)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stanceo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nstanceo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s if a variable ref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n object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d 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e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hello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865760" y="3084480"/>
          <a:ext cx="4201920" cy="3316320"/>
        </p:xfrm>
        <a:graphic>
          <a:graphicData uri="http://schemas.openxmlformats.org/drawingml/2006/table">
            <a:tbl>
              <a:tblPr/>
              <a:tblGrid>
                <a:gridCol w="3187440"/>
                <a:gridCol w="1014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turns whether o refers to a Point object wit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e same (x, y) coordinates as this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o instanceof Poin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 is a Point; cast and compare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other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Po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 is not a Point; cannot be eq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-a relationships, hierarch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-a relationshi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hierarchical connection where one category can be treated a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pecialized version of an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market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s 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mploy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legal secretar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s 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ecreta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 hierarch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t of classes connected by is-a relationships that can share common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rcRect l="6013" t="0" r="0" b="45385"/>
          <a:stretch/>
        </p:blipFill>
        <p:spPr>
          <a:xfrm>
            <a:off x="2479680" y="4114800"/>
            <a:ext cx="3844800" cy="21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lymorphis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bility for the same code to be used with different types of objects and behave differently with ea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print any type of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one displays in its own way on the conso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ritter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interact with any type of crit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one moves, fights, etc. in its own w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ing with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A variable of type </a:t>
            </a: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can hold an object of any subclass of </a:t>
            </a: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Lawy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ll any methods from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method is called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t behaves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Sal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VacationForm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Polymorphism and parameters</a:t>
            </a:r>
            <a:endParaRPr b="1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pass any subtype of a parameter's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wyer lisa = new Lawy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cretary steve = new Secretary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lisa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stev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 emp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: " + empl.getSalary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days: " + empl.getVacationDays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form: " + empl.getVacationForm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form: pin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form: yel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2971800"/>
            <a:ext cx="2379600" cy="56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3200400"/>
            <a:ext cx="215712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n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rays of superclass types can store any subtype as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[] e = { new Lawyer(),   new Secretary()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 Marketer(), new LegalSecretary() 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Salary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days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VacationDays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6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5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-5 classes with inheritance relationships are show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ient program calls methods on objects of each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must read the code and determine the client's outp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lways put such a question on our final exam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lymorphism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se that the following four classes have been declar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Fo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oo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oo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"foo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ar extends Fo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bar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lymorphism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z extends Foo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baz 1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baz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umble extends Baz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umble 2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be the output of the following client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[] pity = {new Baz(), new Bar(), new Mumble(), new Foo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pity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.method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.method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classes from top (superclass) to bottom (subclas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all inherite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3816360" y="2438280"/>
            <a:ext cx="1744560" cy="1146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2424240" y="2440080"/>
            <a:ext cx="3139920" cy="2541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3"/>
          <a:stretch/>
        </p:blipFill>
        <p:spPr>
          <a:xfrm>
            <a:off x="2438280" y="2443320"/>
            <a:ext cx="4527720" cy="2536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"/>
          <p:cNvPicPr/>
          <p:nvPr/>
        </p:nvPicPr>
        <p:blipFill>
          <a:blip r:embed="rId4"/>
          <a:stretch/>
        </p:blipFill>
        <p:spPr>
          <a:xfrm>
            <a:off x="2432160" y="2441520"/>
            <a:ext cx="4724280" cy="38289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iagramming the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ding output with tab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2120" y="175248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762120" y="175752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762120" y="175248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mployee regul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 the following employee regula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work 40 hours / wee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make $40,000 per year, except legal secretaries who make $5,000 extra per year ($45,000 total), and marketers who make $10,000 extra per year ($50,000 tota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have 2 weeks of paid vacation leave per year, except lawyers who get an extra week (a total of 3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should use a yellow form to apply for leave, except for lawyers who use a pink for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type of employee has some unique behavio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wyers know how to s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keters know how to advertis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retaries know how to take dict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gal secretaries know how to prepare legal docume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[] pity = {new Baz(), new Bar(), new Mumble(), new Foo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pity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pity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ty[i].method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ty[i].method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r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mble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rder of the classes is jumbled u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thods sometimes call other methods (tricky!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mb extend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Lamb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H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proble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pam extends Y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Sp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Yam extends Lamb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Y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per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Y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be the output of the following client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[] food = {new Lamb(), new Ham(), new Spam(), new Yam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food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.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9" descr="HamLambYamSpam_noanswers"/>
          <p:cNvPicPr/>
          <p:nvPr/>
        </p:nvPicPr>
        <p:blipFill>
          <a:blip r:embed="rId1"/>
          <a:stretch/>
        </p:blipFill>
        <p:spPr>
          <a:xfrm>
            <a:off x="3809880" y="1295280"/>
            <a:ext cx="12049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t 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l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B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verrid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H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mb extend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"Lamb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output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m a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t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[] food = {new Lamb(), new Ham(), new Spam(), new Yam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food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ood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d[i]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d[i].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a   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a   H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 a   Ham a   Sp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 a   Ham a   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4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4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4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ting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A variable can only call that type's methods, not a subtype'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Lawy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ours = ed.getHours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; it's in Employ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d.sue(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mpiler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's reasoning is,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store any kind of employee, and not all kinds know how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can type-cast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 theRealEd = (Lawyer) e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RealEd.sue();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(Lawyer) ed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sue();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horter ver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e code crashes if you cast an object too far down the tree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mployee eric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Secret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(Secretary) eric).takeDictation("hi"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(LegalSecretary) eric).fileLegalBriefs(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(Secretary object doesn't know how to file brief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st only up and down the tree, not sidew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wyer linda = new Lawy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(Secretary) linda).takeDictation("hi"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ting doesn't actually change the object's behavio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just gets the code to compile/ru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Employee) linda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getVacationForm()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 (Lawyer'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ssume that the following classes have been decla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now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now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Rain extend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Rain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Rain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employees in general (20-page manual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based on the previous employee regulations.  (Secretaries can take dictation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Sleet extend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leet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per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thod3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leet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Fog extends Sle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Fog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Fog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hat happens when the following examples are execut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1 = new Slee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1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2 = new Rai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2.method1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3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3 = new Rai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Sleet) var3).method3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chnique 1: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gram the classes from top (superclass) to bott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Group 20" descr=""/>
          <p:cNvPicPr/>
          <p:nvPr/>
        </p:nvPicPr>
        <p:blipFill>
          <a:blip r:embed="rId1"/>
          <a:stretch/>
        </p:blipFill>
        <p:spPr>
          <a:xfrm>
            <a:off x="3797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63" name="Group 21" descr=""/>
          <p:cNvPicPr/>
          <p:nvPr/>
        </p:nvPicPr>
        <p:blipFill>
          <a:blip r:embed="rId2"/>
          <a:stretch/>
        </p:blipFill>
        <p:spPr>
          <a:xfrm>
            <a:off x="2352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64" name="Group 22" descr=""/>
          <p:cNvPicPr/>
          <p:nvPr/>
        </p:nvPicPr>
        <p:blipFill>
          <a:blip r:embed="rId3"/>
          <a:stretch/>
        </p:blipFill>
        <p:spPr>
          <a:xfrm>
            <a:off x="5168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65" name="Group 19" descr=""/>
          <p:cNvPicPr/>
          <p:nvPr/>
        </p:nvPicPr>
        <p:blipFill>
          <a:blip r:embed="rId4"/>
          <a:stretch/>
        </p:blipFill>
        <p:spPr>
          <a:xfrm>
            <a:off x="5168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66" name="Elbow Connector 28"/>
          <p:cNvCxnSpPr/>
          <p:nvPr/>
        </p:nvCxnSpPr>
        <p:spPr>
          <a:xfrm flipV="1" rot="16200000">
            <a:off x="4800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67" name="Elbow Connector 32"/>
          <p:cNvCxnSpPr/>
          <p:nvPr/>
        </p:nvCxnSpPr>
        <p:spPr>
          <a:xfrm flipH="1" flipV="1" rot="5400000">
            <a:off x="3390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68" name="Straight Arrow Connector 42"/>
          <p:cNvCxnSpPr/>
          <p:nvPr/>
        </p:nvCxnSpPr>
        <p:spPr>
          <a:xfrm flipV="1">
            <a:off x="5713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chnique 2: t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52280" y="1523880"/>
          <a:ext cx="8915400" cy="37720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l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TextBox 9"/>
          <p:cNvSpPr/>
          <p:nvPr/>
        </p:nvSpPr>
        <p:spPr>
          <a:xfrm>
            <a:off x="3206160" y="5530680"/>
            <a:ext cx="32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tal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- inherited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ol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- dynamic method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52280" y="1523880"/>
          <a:ext cx="8915400" cy="377532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l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in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g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in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g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Straight Connector 4"/>
          <p:cNvSpPr/>
          <p:nvPr/>
        </p:nvSpPr>
        <p:spPr>
          <a:xfrm flipV="1">
            <a:off x="1523880" y="1981080"/>
            <a:ext cx="1905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6"/>
          <p:cNvSpPr/>
          <p:nvPr/>
        </p:nvSpPr>
        <p:spPr>
          <a:xfrm flipV="1">
            <a:off x="5334120" y="1981080"/>
            <a:ext cx="1828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1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1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78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79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80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81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82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83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84" name="TextBox 25"/>
          <p:cNvSpPr/>
          <p:nvPr/>
        </p:nvSpPr>
        <p:spPr>
          <a:xfrm>
            <a:off x="8001000" y="3200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6"/>
          <p:cNvSpPr/>
          <p:nvPr/>
        </p:nvSpPr>
        <p:spPr>
          <a:xfrm>
            <a:off x="6019920" y="1752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2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2.method1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n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There is an error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beca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does 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hav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thod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89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90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91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92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93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94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95" name="TextBox 23"/>
          <p:cNvSpPr/>
          <p:nvPr/>
        </p:nvSpPr>
        <p:spPr>
          <a:xfrm>
            <a:off x="6019920" y="1752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4"/>
          <p:cNvSpPr/>
          <p:nvPr/>
        </p:nvSpPr>
        <p:spPr>
          <a:xfrm>
            <a:off x="4191120" y="32004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3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var3)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n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There is an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becaus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t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9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300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301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302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303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304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305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306" name="TextBox 25"/>
          <p:cNvSpPr/>
          <p:nvPr/>
        </p:nvSpPr>
        <p:spPr>
          <a:xfrm>
            <a:off x="4191120" y="32004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6"/>
          <p:cNvSpPr/>
          <p:nvPr/>
        </p:nvSpPr>
        <p:spPr>
          <a:xfrm>
            <a:off x="8001000" y="3200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latedness of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se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ia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ain operations that are common to all sha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distance around the outside of the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amount of 2D space occupied by the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hape has them but computes them differ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hape area, peri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tangle (as defined by wid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heigh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 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2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2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le (as defined by radiu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2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angle (as defined by side length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√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= ½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7238880" y="1981080"/>
            <a:ext cx="1524240" cy="99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620120" y="3352680"/>
            <a:ext cx="1143000" cy="1143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477120" y="5105160"/>
            <a:ext cx="2209680" cy="1219320"/>
            <a:chOff x="6477120" y="5105160"/>
            <a:chExt cx="2209680" cy="1219320"/>
          </a:xfrm>
        </p:grpSpPr>
        <p:sp>
          <p:nvSpPr>
            <p:cNvPr id="317" name=""/>
            <p:cNvSpPr/>
            <p:nvPr/>
          </p:nvSpPr>
          <p:spPr>
            <a:xfrm flipH="1">
              <a:off x="6477120" y="5105520"/>
              <a:ext cx="121896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477120" y="5638320"/>
              <a:ext cx="220968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7695720" y="5105160"/>
              <a:ext cx="99036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redundant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shape classes with method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like to be able to write client code that treats different kinds of shape objects in the same way, such 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method that prints any shape's area and peri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an array of shapes that could hold a mixture of the various shape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method that could return a rectangle, a circle, a triangle, or any other shape we've writt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splay many shapes on scr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ist of methods that a class can imp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heritance gives you an is-a relationship and code-sha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bject can be treated a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faces give you an is-a relationship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thou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sha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bject can be treated a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alogous to the idea of roles or certif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I'm certified as a CPA accountant.  That means I know h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compute taxes, perform audits, and do consulting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I'm certified as a Shape.  That means I know h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compute my area and perimeter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lar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Vehicl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speed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Direction(int directio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bstract metho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header without an implement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ctual body is not specified, to allow/force different classes to implement the behavior in its own w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hape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area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perimete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nterface describes the features common to all shape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Every shape has an area and perimeter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icyc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mplements Vehic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declare that 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le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means the class must contain each of the abstract methods in that interface.  (Otherwise, it will not compil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hat must be true abou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icyc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for it to compile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requir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class claims to b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t doesn't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, it will not comp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anana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implements Sha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error messag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Banana.java:1: Banana is not abstract and does not override abstract method area() in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Banana implements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Circ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circ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irc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circle with the given radiu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ircle(double radiu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radius =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area of this circ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ath.PI * radius *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circ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2.0 * Math.PI *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Rectang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rectang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Rectang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wid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rectangle with the given dimens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Rectangle(double width, double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width = wid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height =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area of this rect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width *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rect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2.0 * (width + he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Triang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triang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Triang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b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Triangle given side length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Triangle(double a, double b, double c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a =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b = b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c =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is triangle's area using Heron's formu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s = (a + b + c) / 2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ath.sqrt(s * (s - a) * (s - b) * (s - c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tri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 + b +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 +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s don't benefit the class so much as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ie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face's is-a relationship lets the client use polymorphis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 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hape: " + 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area : " + s.area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erim: " + s.perimeter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object that implements the interface may be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 circ = new Circle(12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 rect = new Rectangle(4, 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iangle tri = new Triangle(5, 12, 1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circ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tr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rec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[] shapes = {tri, circ, rect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sire for code-sha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only unique behavior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like to be able to s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py all the contents from the Employee clas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4400" indent="-194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ow goes up from class to interface(s) it imp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is a supertype-subtype relationship her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all Circles are Shapes, but not all Shapes are Circl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kind of picture is also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UML class diagra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900080" y="1219320"/>
            <a:ext cx="5186520" cy="284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40:10Z</dcterms:modified>
  <cp:revision>126</cp:revision>
  <dc:subject/>
  <dc:title>CSE 142 Python Slides</dc:title>
</cp:coreProperties>
</file>