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A0D6-03E0-4DE3-A9B4-E944F094D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9EDF-D5B2-42CB-8010-4E9AFC41E8F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2:50Z</dcterms:modified>
  <cp:revision>115</cp:revision>
  <dc:subject/>
  <dc:title>CSE 142 Python Slides</dc:title>
</cp:coreProperties>
</file>