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E207-C82C-4A89-8C2F-0C8F297A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D3F5-7BDD-4A75-A7FA-CDCFA8B8BB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32Z</dcterms:modified>
  <cp:revision>265</cp:revision>
  <dc:subject/>
  <dc:title>CSE 142 Python Slides</dc:title>
</cp:coreProperties>
</file>