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3BD4-513C-4F45-BC07-C47984A44E6F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upplement 3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lined sha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raw a colored shape with an outline, firs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il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raw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ame shape in the outline co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o I can use Graph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OutlineExampl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150, 7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ner red fi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fillRect(20, 10, 100, 5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lack out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Rect(20, 10, 100, 5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58000" y="4597560"/>
            <a:ext cx="1981080" cy="172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perimposing sha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≥ 2 shapes occupy the same pixels, the last drawn "wins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ar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200, 10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LIGHT_GRAY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20, 70, 20, 2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80, 70, 20, 2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80, 40, 30, 2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64480" y="4621320"/>
            <a:ext cx="2050920" cy="170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with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228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ressions can use the loop counter variab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anel.setBackground(Color.YELLOW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             x           y        w   h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fillOval(100 +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5 +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50, 5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sted loops can be used with graphic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B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x = 1; x &lt;= 4; x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y = 1; y &lt;= 9; y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Java", x * 40, y * 2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315200" y="2049480"/>
            <a:ext cx="1676520" cy="1531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316640" y="4419720"/>
            <a:ext cx="167976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Zero-based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ning at 0 and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make coordinates easi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rawingPanel panel = new DrawingPanel(150, 14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horizontal line of 5 20x20 rectangles start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at (11, 18); x increases by 20 each tim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0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 i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&lt;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5; i++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drawRect(11 + 20 * i, 18, 20, 2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a variation of the abo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that draws the output at righ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bottom-left rectangle is at (11, 98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or (int i = 0; i &lt; 5; i++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drawRect(11 + 20 * i,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98 - 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20, 2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391520" y="1828800"/>
            <a:ext cx="1542960" cy="1981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391520" y="4419720"/>
            <a:ext cx="154296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book figur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draws the following fig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rawing panel is size 200x15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ook is at (20, 35), size 100x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yan backgrou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te "BJP" text at position (70, 5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irs are in color (red=191, green=118, blue=7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stair is 9px ta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st stair is 10px w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nd stair is 20px wide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irs are 10px apart (1 blank pixel betwee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34320" y="4343400"/>
            <a:ext cx="20192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book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uilding Java Programs textbook with DrawingPane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200, 15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20, 35, 100, 10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70, 5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20, 35 + 10 * i, 10 + 10 * i, 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Java boo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Java book program so that it can draw books at differe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osi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shown be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ook top/left positions: (20, 35), (150, 70), (300, 1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rawing panel's new size: 450x18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14760" y="4038480"/>
            <a:ext cx="440064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book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raw in a method, you must p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many BJP textbooks using parame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2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5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8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three books at different loc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20, 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150, 7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300, 1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books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JP textbook at the given x/y position.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raphics 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int x, int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100, 10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+ 5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+ 2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+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 * i, 10 * (i + 1), 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able Java boo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Java book program so that it can draw books at differe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iz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shown be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ook sizes: 100x100,  60x60,  200x2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rawing panel's new size: 520x24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86200" y="3505320"/>
            <a:ext cx="506736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aphical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ill draw graphics in Java using 3 kinds of obj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window on the scre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part of Java; provided by the authors.  See class web si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"pen" to draw shap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lines on a wind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lors in which to draw shap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629400" y="3581280"/>
            <a:ext cx="2338560" cy="28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able book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many sized BJP textbooks using parame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3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2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4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three books at different locations/siz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 20, 3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1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150, 7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 6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300, 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2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able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ook of the given size at the given posi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drawBook(Graphics g, int x, int y,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t siz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x, y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x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y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x,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* i,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* (i + 1),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id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1);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he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lyg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bjects that represent arbitrary sha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points 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lyg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ing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Point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 p = new DrawingPanel(100, 10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 g = p.getGraphics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setColor(Color.GREE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gon poly = new Polygo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.addPoint(10, 9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.addPoint(50, 1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.addPoint(90, 9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.fillPolygon(pol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315200" y="4005360"/>
            <a:ext cx="1335240" cy="16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rawingPanel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lear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ases any shapes that are drawn on the drawing pan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etWidth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etHeight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etSize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the drawing panel's size to the given value(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ave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le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the image on the panel to the given file (String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leep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uses the drawing for the given number of millisecon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imation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lee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pauses your program for a given number of millisecon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create simple anim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250, 20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setColor(Color.B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15 * i, 15 * i, 30, 3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.sleep(50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y add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mands to loops in past exercises in this chapter and watch the panel draw itself piece by pie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rawingPane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"Canvas" objects that represents windows/drawing su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reate a windo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DrawingPanel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300, 20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indow has nothing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raw shapes / lines on it with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other object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791320" y="3962520"/>
            <a:ext cx="2925720" cy="2592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237520" y="36360"/>
            <a:ext cx="84600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raph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"Pen" or "paint brush" objects to draw lines and sha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ss it by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you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 shapes by calling metho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Rect(10, 30, 60, 35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Oval(80, 40, 50, 7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91320" y="3960720"/>
            <a:ext cx="2925720" cy="2592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275680" y="31680"/>
            <a:ext cx="81576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class libraries, imp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va class librar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lasses included with Java's JD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ganized into groups name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ack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use a package, put an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mport declar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your progra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put this at the very top of your progr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ckage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longs to a package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aw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must place the above line at the very top of your program, befor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ea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ordinate syst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(x, y) position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ix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"picture element"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on (0, 0) is at the window's top-left corn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x increases rightward and the y increase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downwar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tangle from (0, 0) to (200, 100) looks like th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0, 0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200, 10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295280" y="4419720"/>
            <a:ext cx="1371600" cy="914400"/>
            <a:chOff x="1295280" y="4419720"/>
            <a:chExt cx="1371600" cy="914400"/>
          </a:xfrm>
        </p:grpSpPr>
        <p:sp>
          <p:nvSpPr>
            <p:cNvPr id="97" name=""/>
            <p:cNvSpPr/>
            <p:nvPr/>
          </p:nvSpPr>
          <p:spPr>
            <a:xfrm>
              <a:off x="1371600" y="4496040"/>
              <a:ext cx="129528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71600" y="44197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280" y="449604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raphic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7240" y="1511280"/>
          <a:ext cx="9029520" cy="4599000"/>
        </p:xfrm>
        <a:graphic>
          <a:graphicData uri="http://schemas.openxmlformats.org/drawingml/2006/table">
            <a:tbl>
              <a:tblPr/>
              <a:tblGrid>
                <a:gridCol w="4351320"/>
                <a:gridCol w="4678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Lin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 between points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,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Ova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line largest oval that fits in a box of size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*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R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line of rectangle of size</a:t>
                      </a:r>
                      <a:br>
                        <a:rPr sz="1800"/>
                      </a:b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with bottom-left at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x, y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Ova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l largest oval that fits in a box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R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l rectangle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setColor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o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t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raphic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o paint any following shapes in the given co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l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d as predefin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consta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STANT_NAME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STANT_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one of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L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L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Y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RK_G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GHT_G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GENT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RAN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N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EL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create one us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en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e (RGB) values of 0-25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Color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ree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 brown = new Color(192, 128, 6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53280" y="76320"/>
            <a:ext cx="914400" cy="90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col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sequent shapes will be drawn in the new col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setColor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or.BLACK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drawLine(20, 0, 10, 3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setColor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or.RE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Oval(60, 40, 40, 7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a color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Backgrou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verall window background color will chan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 brown = new Color(192, 128, 6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anel.setBackgroun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row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0120" y="2133720"/>
            <a:ext cx="1326960" cy="1668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620120" y="4863960"/>
            <a:ext cx="130788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20:14:49Z</dcterms:modified>
  <cp:revision>120</cp:revision>
  <dc:subject/>
  <dc:title>CSE 142 Python Slides</dc:title>
</cp:coreProperties>
</file>