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4FA-BC9A-4133-9ABF-A024D05F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4E67-F01C-418C-8414-7773FFC232F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7:27Z</dcterms:modified>
  <cp:revision>377</cp:revision>
  <dc:subject/>
  <dc:title>CSE 142 Python Slides</dc:title>
</cp:coreProperties>
</file>