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999212629424"/>
          <c:y val="0.0199460107978404"/>
          <c:w val="0.696941065312389"/>
          <c:h val="0.93978704259148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PhD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861</c:v>
                </c:pt>
                <c:pt idx="1">
                  <c:v>585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Master's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2"/>
                <c:pt idx="0">
                  <c:v>14529</c:v>
                </c:pt>
                <c:pt idx="1">
                  <c:v>6325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Bachelor's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2"/>
                <c:pt idx="0">
                  <c:v>37388</c:v>
                </c:pt>
                <c:pt idx="1">
                  <c:v>64904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Projected Job Openings</c:v>
                </c:pt>
              </c:strCache>
            </c:strRef>
          </c:tx>
          <c:spPr>
            <a:solidFill>
              <a:srgbClr val="579d1c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2"/>
                <c:pt idx="0">
                  <c:v>142900</c:v>
                </c:pt>
                <c:pt idx="1">
                  <c:v>6000</c:v>
                </c:pt>
              </c:numCache>
            </c:numRef>
          </c:val>
        </c:ser>
        <c:gapWidth val="100"/>
        <c:overlap val="0"/>
        <c:axId val="30602738"/>
        <c:axId val="7614015"/>
      </c:barChart>
      <c:catAx>
        <c:axId val="3060273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2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14015"/>
        <c:crossesAt val="0"/>
        <c:auto val="1"/>
        <c:lblAlgn val="ctr"/>
        <c:lblOffset val="100"/>
        <c:noMultiLvlLbl val="0"/>
      </c:catAx>
      <c:valAx>
        <c:axId val="76140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#,##0\ ;&quot; (&quot;#,##0\);\-#\ ;@\ 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2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02738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736978859100036"/>
          <c:y val="0.306988602279544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5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8B69-0E38-46C7-889E-90BB05131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6D7E-AAB7-4BDC-9763-8D7B5189C8F2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tion to Java Program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ucture of a Java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very executable Java program consists of a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at contains a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named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at contains the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(commands) to be execu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068640" y="1146240"/>
            <a:ext cx="3529800" cy="398880"/>
            <a:chOff x="3068640" y="1146240"/>
            <a:chExt cx="3529800" cy="398880"/>
          </a:xfrm>
        </p:grpSpPr>
        <p:sp>
          <p:nvSpPr>
            <p:cNvPr id="129" name=""/>
            <p:cNvSpPr/>
            <p:nvPr/>
          </p:nvSpPr>
          <p:spPr>
            <a:xfrm>
              <a:off x="3834720" y="1146240"/>
              <a:ext cx="2763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lass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068640" y="1247760"/>
              <a:ext cx="93024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743200" y="3316320"/>
            <a:ext cx="5852520" cy="779760"/>
            <a:chOff x="2743200" y="3316320"/>
            <a:chExt cx="5852520" cy="779760"/>
          </a:xfrm>
        </p:grpSpPr>
        <p:sp>
          <p:nvSpPr>
            <p:cNvPr id="132" name=""/>
            <p:cNvSpPr/>
            <p:nvPr/>
          </p:nvSpPr>
          <p:spPr>
            <a:xfrm>
              <a:off x="3136320" y="3697200"/>
              <a:ext cx="54594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command to be execu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2743200" y="33163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68600" y="2028960"/>
            <a:ext cx="5783040" cy="1084680"/>
            <a:chOff x="3468600" y="2028960"/>
            <a:chExt cx="5783040" cy="1084680"/>
          </a:xfrm>
        </p:grpSpPr>
        <p:sp>
          <p:nvSpPr>
            <p:cNvPr id="135" name=""/>
            <p:cNvSpPr/>
            <p:nvPr/>
          </p:nvSpPr>
          <p:spPr>
            <a:xfrm>
              <a:off x="3468600" y="2409840"/>
              <a:ext cx="578304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314360" indent="-131436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metho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named group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of state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4190760" y="2028960"/>
              <a:ext cx="4568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urier New"/>
              </a:rPr>
              <a:t>System.out.printl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statement that prints a line of output on the cons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onounced "print-linn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metimes called a "println statement" for sh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wo ways to use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ints the given message as out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ints a blank line of out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ames and identifi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You must give your program a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2200" spc="-1" strike="noStrike">
                <a:solidFill>
                  <a:srgbClr val="003399"/>
                </a:solidFill>
                <a:latin typeface="Courier New"/>
              </a:rPr>
              <a:t>GangstaRap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Naming convention: capitalize each word (e.g.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MyClassNam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Your program's file must match exactly (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GangstaRap.java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cludes capitalization (Java is "case-sensitive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dentifie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name given to an item in your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ust start with a letter or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$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ubsequent characters can be any of those or a numb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51"/>
              </a:spcBef>
              <a:buClr>
                <a:srgbClr val="00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legal:</a:t>
            </a: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urier New"/>
              </a:rPr>
              <a:t>_myName   TheCure   ANSWER_IS_42   $bling$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51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illegal: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me+u      49ers     side-swipe     Ph.D'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Keywor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keywor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n identifier that you cannot use because it already has a reserved meaning in J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bstract    default    if           private      th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oolean     do         implements   protected    th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reak       double     import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throw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yte        else       instanceof   return       transi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se        extends    int          short        t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tch       final      interface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har        finally    long         strictfp     volat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float      native       super        wh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st       for        new          swi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inue    goto       package      synchron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yntax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The set of legal structures and commands that can be used in a particular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very basic Java statement ends with a semicolon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contents of a class or method occur between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yntax erro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mpiler erro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): A problem in the structure of a program that causes the compiler to fai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issing semicol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oo many or too few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bra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Illegal identifier for class na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lass and file names do not mat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yntax error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public class Hello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p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oo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System.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ow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println("Hello, world!")_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iler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ello.java:</a:t>
            </a:r>
            <a:r>
              <a:rPr b="1" lang="en-GB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: &lt;identifier&gt; expec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oo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ello.java:</a:t>
            </a:r>
            <a:r>
              <a:rPr b="1" lang="en-GB" sz="18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: ';' expec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2 err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compiler shows the line number where it found the err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error messages can be tough to understand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equence of characters to be prin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tarts and ends with a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quote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charac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quotes do not appear in the outpu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br>
              <a:rPr sz="2200"/>
            </a:br>
            <a:br>
              <a:rPr sz="9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hello"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This is a string.  It's very long!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tri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y not span multiple lines.</a:t>
            </a:r>
            <a:br>
              <a:rPr sz="2200"/>
            </a:br>
            <a:br>
              <a:rPr sz="8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"This is not</a:t>
            </a:r>
            <a:br>
              <a:rPr sz="20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a legal String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y not contain a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character.</a:t>
            </a:r>
            <a:br>
              <a:rPr sz="2200"/>
            </a:br>
            <a:br>
              <a:rPr sz="8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"This is not a "legal" String either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scape sequ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escape sequenc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pecial sequence of characters used to represent certain special characters in a string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t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ab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n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new line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"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quotation mark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\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ackslash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\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hello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how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r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"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you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"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?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\\\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)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hello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how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are "you"?\\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is the output of the following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ta\tb\tc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\\\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'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"\"\"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C:\nin\the downward spir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rite a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 to produce this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/ \ // \\ /// \\\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utput of each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a       b       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\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"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C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in      he downward spir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 to produce the line of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/ \\ // \\\\ /// \\\\\\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computer science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udy of theoretical foundations of information and computation and their implementation and application in computer systems.  -- Wikiped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ny subfiel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s, Computer 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ientific Compu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bo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bases, Data M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ational Linguistics, Natural Language Processing 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verlap with CS and EE; emphasizes hardw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will generate this outpu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is program prints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quote from the Gettysburg Addr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Four score and seven years ago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our 'fore fathers' brought forth 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is continent a new nation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will generate this outpu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 "quoted" String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'much' better if you lea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e rules of "escape sequences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lso, "" represents an empty St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on't forget: use \" instead of " 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'' is not the same as 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to generate the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program prints a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quote from the Gettysburg Address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\"Four score and seven years ago,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our 'fore fathers' brought forth on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continent a new nation.\"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to generate the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A \"quoted\" String is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'much' better if you learn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the rules of \"escape sequences.\"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Also, \"\" represents an empty String.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Don't forget: use \\\" instead of \" !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'' is not the same as \"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om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mmen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note written in source code by the programmer to describe or clarify the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omments are not executed when your program ru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8080"/>
                </a:solidFill>
                <a:latin typeface="Courier New"/>
              </a:rPr>
              <a:t>//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mment text, on one line</a:t>
            </a:r>
            <a:br>
              <a:rPr sz="2200"/>
            </a:b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r,</a:t>
            </a:r>
            <a:br>
              <a:rPr sz="2200"/>
            </a:br>
            <a:r>
              <a:rPr b="1" lang="en-GB" sz="2200" spc="-1" strike="noStrike">
                <a:solidFill>
                  <a:srgbClr val="008080"/>
                </a:solidFill>
                <a:latin typeface="Courier New"/>
              </a:rPr>
              <a:t>/*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mment text; may span multiple lines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200" spc="-1" strike="noStrike">
                <a:solidFill>
                  <a:srgbClr val="008080"/>
                </a:solidFill>
                <a:latin typeface="Courier New"/>
              </a:rPr>
              <a:t>*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// This is a one-line com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/* This is a very lo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   </a:t>
            </a: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multi-line comment. *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Using com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ere to place com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t the top of each file (a "comment header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t the start of every method (seen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o explain complex pieces of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ments are useful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Understanding larger, more complex program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ultiple programmers working together, who must understand each other's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omments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* Suzy Student, CS 101, Fall 20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This program prints lyrics about ... something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BaWitDaBa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/ first ver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Bawitdaba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a bang a dang diggy diggy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/ second ver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iggy said the boogy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said up jump the boogy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Static metho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rcRect l="1923" t="2389" r="3037" b="1964"/>
          <a:stretch/>
        </p:blipFill>
        <p:spPr>
          <a:xfrm>
            <a:off x="6477120" y="2876400"/>
            <a:ext cx="2365200" cy="23814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lgorith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list of steps for solving a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 algorithm: "Bake sugar cookie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Cream the butter and sug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Beat in the eg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tir in the dry ingredi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oven temperatu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tim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Place the cookies into the ov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Allow the cookies to bak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pread frosting and sprinkles onto the cook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s with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ack of struct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Many tiny steps; tough to rememb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dunda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nsider making a double batch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Cream the butter and sug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Beat in the eg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tir in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Set the oven tempera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Place the first batch of cookies into the o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Place the second batch of cookies into the o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ingredients for fros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Structured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ructured algorith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Split into coherent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1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Make the cookie bat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Cream the butter and sug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Beat in the eg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tir in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2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Bake the cook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et the oven tempera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Place the cookies into the o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3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Add frosting and sprink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the ingredients for the fros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pread frosting and sprinkles onto the cook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well-structured algorithm can describe repeated tasks with less redundanc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1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 Make the cookie bat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2a</a:t>
            </a:r>
            <a:r>
              <a:rPr b="0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 Bake the cookies (first batch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oven temperatu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tim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2b</a:t>
            </a:r>
            <a:r>
              <a:rPr b="0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 Bake the cookies (second batch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3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 Decorate the cook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S job mark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Object 2"/>
          <p:cNvGraphicFramePr/>
          <p:nvPr/>
        </p:nvGraphicFramePr>
        <p:xfrm>
          <a:off x="766800" y="1523880"/>
          <a:ext cx="8300880" cy="43214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92" name="Text Box 3"/>
          <p:cNvSpPr/>
          <p:nvPr/>
        </p:nvSpPr>
        <p:spPr>
          <a:xfrm>
            <a:off x="642960" y="6086520"/>
            <a:ext cx="7880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  <a:ea typeface="Times New Roman"/>
              </a:rPr>
              <a:t>SOURCES: Tabulated by National Science Foundation/Division of Science Resources Statistics; data from Department of Education/National Center for Education Statistics:  Integrated Postsecondary Education Data System Completions Survey; and NSF/SRS: Su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A program with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Static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atic metho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named group of stat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notes the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structur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of a pro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iminates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redundancy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by code re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procedural decomposition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dividing a problem into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riting a static method is lik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dding a new command to J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943600" y="1928880"/>
            <a:ext cx="3048120" cy="4572000"/>
            <a:chOff x="5943600" y="1928880"/>
            <a:chExt cx="3048120" cy="4572000"/>
          </a:xfrm>
        </p:grpSpPr>
        <p:sp>
          <p:nvSpPr>
            <p:cNvPr id="181" name=""/>
            <p:cNvSpPr/>
            <p:nvPr/>
          </p:nvSpPr>
          <p:spPr>
            <a:xfrm>
              <a:off x="5943600" y="1928880"/>
              <a:ext cx="3048120" cy="4572000"/>
            </a:xfrm>
            <a:prstGeom prst="rect">
              <a:avLst/>
            </a:prstGeom>
            <a:solidFill>
              <a:srgbClr val="f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la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95880" y="2330280"/>
              <a:ext cx="274320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95880" y="3833640"/>
              <a:ext cx="2743200" cy="10821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5880" y="4997520"/>
              <a:ext cx="274320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Using static methods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. Design the algorith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Look at the structure, and which commands are repea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Decide what are the important overall task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eclar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write down) th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rrange statements into groups and give each group a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al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run) th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program's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method executes the other methods to perform the overall tas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Design of an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program displays a delicious recipe for baking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1: Make the cake batt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a: Bake cookies (first batch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b: Bake cookies (second batch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3: Decorate the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52280" y="1294920"/>
            <a:ext cx="89949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Gives your method a name so it can be exec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br>
              <a:rPr sz="2400"/>
            </a:br>
            <a:br>
              <a:rPr sz="800"/>
            </a:br>
            <a:br>
              <a:rPr sz="8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() {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150"/>
              </a:spcBef>
              <a:buClr>
                <a:srgbClr val="000000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400"/>
            </a:br>
            <a:br>
              <a:rPr sz="8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printWarning() {</a:t>
            </a:r>
            <a:br>
              <a:rPr sz="22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This product causes cancer");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in lab rats and humans.");</a:t>
            </a:r>
            <a:br>
              <a:rPr sz="19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Declaring a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alling a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Executes the method's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You can call the same method many times if you lik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Warning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This product causes canc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in lab rats and huma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with static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FreshPrinc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p();         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Calling (running) the rap metho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p();         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Calling the rap method agai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method prints the lyrics to my favorite song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ra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Now this is the story all about how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y life got flipped turned upside-down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this is the story all about h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life got flipped turned upside-dow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this is the story all about h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life got flipped turned upside-dow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inal cookie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program displays a delicious recipe for baking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3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makeBatter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ke();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1st batc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ke();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2nd batc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ecorat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1: Make the cake batt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makeBatter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: Bake a batch of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bak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3: Decorate the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decorat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Methods calling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MethodsExampl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ssage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one with main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essage1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is message1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essage2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is message2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one with message2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e with message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e with mai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en a method is called, the program's exec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"jumps" into that method, executing its statements, th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"jumps" back to the point where the method was ca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public class MethodsExample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ssage2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Done with main.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743200" y="3244680"/>
            <a:ext cx="6324480" cy="719280"/>
            <a:chOff x="2743200" y="3244680"/>
            <a:chExt cx="6324480" cy="719280"/>
          </a:xfrm>
        </p:grpSpPr>
        <p:sp>
          <p:nvSpPr>
            <p:cNvPr id="201" name=""/>
            <p:cNvSpPr/>
            <p:nvPr/>
          </p:nvSpPr>
          <p:spPr>
            <a:xfrm>
              <a:off x="3978000" y="3244680"/>
              <a:ext cx="508968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43200" y="3512880"/>
              <a:ext cx="1752480" cy="363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2743200" y="3664800"/>
              <a:ext cx="1295280" cy="1126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514240" y="4160880"/>
            <a:ext cx="6553440" cy="1401840"/>
            <a:chOff x="2514240" y="4160880"/>
            <a:chExt cx="6553440" cy="1401840"/>
          </a:xfrm>
        </p:grpSpPr>
        <p:sp>
          <p:nvSpPr>
            <p:cNvPr id="205" name=""/>
            <p:cNvSpPr/>
            <p:nvPr/>
          </p:nvSpPr>
          <p:spPr>
            <a:xfrm>
              <a:off x="3965400" y="4160880"/>
              <a:ext cx="5102280" cy="14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2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2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ssage1(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Done with message2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90560" y="4237200"/>
              <a:ext cx="1828800" cy="2286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2514240" y="4313160"/>
              <a:ext cx="1523880" cy="10670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962520" y="4827600"/>
            <a:ext cx="5105160" cy="1594080"/>
            <a:chOff x="3962520" y="4827600"/>
            <a:chExt cx="5105160" cy="1594080"/>
          </a:xfrm>
        </p:grpSpPr>
        <p:sp>
          <p:nvSpPr>
            <p:cNvPr id="209" name=""/>
            <p:cNvSpPr/>
            <p:nvPr/>
          </p:nvSpPr>
          <p:spPr>
            <a:xfrm>
              <a:off x="3962520" y="5702400"/>
              <a:ext cx="510516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4489200" y="4827600"/>
              <a:ext cx="380880" cy="11430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4108320" y="4827600"/>
              <a:ext cx="533160" cy="1447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ontrol flow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programming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et of instructio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be carried out by a compu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gram executio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The act of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rrying out the instruction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tained in a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gramming languag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ystematic set of rules used to describe computations in a format that is editable by huma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is textbook teaches programming in a language named Jav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1327" t="810" r="0" b="0"/>
          <a:stretch/>
        </p:blipFill>
        <p:spPr>
          <a:xfrm>
            <a:off x="6477120" y="1523880"/>
            <a:ext cx="212076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en to us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ce statements into a static method i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atements are related structurally, and/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atements are repea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should not create static methods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individua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blank lines. (Put blank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related or weakly related statemen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onsider splitting them into two smaller methods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rawing complex figures with static metho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methods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o print these figures using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velopment strate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1905120"/>
            <a:ext cx="647676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First version (unstructured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e an empty program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py the expected output into it, surrounding each line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synt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un it to verify the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1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velopment strategy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1905120"/>
            <a:ext cx="647676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econd version (structured, with redundanc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y the structure of the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vid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method into static methods based on this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33520" y="5638680"/>
            <a:ext cx="12189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4114800"/>
            <a:ext cx="121896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2995560"/>
            <a:ext cx="121896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1828800"/>
            <a:ext cx="121896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put structur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362320" y="1905120"/>
            <a:ext cx="6476760" cy="40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structure of the 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itial "egg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cond "teacup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rd "stop sign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ourth "hat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s structure can be represented by metho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aC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op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aCu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opSig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teaCu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2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stopSign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hat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velopment strategy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2362320" y="1905120"/>
            <a:ext cx="647676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Third version (structured, without redundanc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y redundancy in the output, and create methods to eliminate as much as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dd comments to the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langu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me influential 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2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FORTRA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cience / engine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OB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siness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LIS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ogic and A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simple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710240" y="1295280"/>
            <a:ext cx="3824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09480" y="6275520"/>
            <a:ext cx="1067040" cy="15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3473280"/>
            <a:ext cx="1067040" cy="1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4876920"/>
            <a:ext cx="106704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3016080"/>
            <a:ext cx="106704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2368440"/>
            <a:ext cx="106704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038480"/>
            <a:ext cx="1067040" cy="609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5675400"/>
            <a:ext cx="1067040" cy="590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1758960"/>
            <a:ext cx="1067040" cy="609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put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2362320" y="2286000"/>
            <a:ext cx="6400800" cy="35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redundancy in the 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gg top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used on stop sign,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gg bottom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used on teacup, stop 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vider lin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used on teacup,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s redundancy can be fixed by metho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uzy Student, CSE 138, Spring 209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s several figures, with methods for structure and redundanc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3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aCu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opSig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a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the top half of an an egg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To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the bottom half of an egg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Botto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complete egg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egg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3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teacup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teaCu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stop sign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stopSign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figure that looks sort of like a ha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hat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line of dash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lin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modern langu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6720" indent="-21672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cedural languag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programs are a series of comman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sc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0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ed for edu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2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-level operating systems and device 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0">
              <a:lnSpc>
                <a:spcPct val="114000"/>
              </a:lnSpc>
              <a:spcBef>
                <a:spcPts val="176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16720" indent="-21672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unctional programm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functions map inputs to outpu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s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58) /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che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5)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3)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aske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9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0">
              <a:lnSpc>
                <a:spcPct val="114000"/>
              </a:lnSpc>
              <a:spcBef>
                <a:spcPts val="176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16720" indent="-21672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bject-oriented languag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programs use interacting "objects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malltal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80): first major object-oriented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+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85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object-oriented" improvements to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8360" indent="-157680">
              <a:lnSpc>
                <a:spcPct val="11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ccessful in industry; used to build major OSes such as Window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av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95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ed for embedded systems, web apps/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8360" indent="-157680">
              <a:lnSpc>
                <a:spcPct val="11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uns on many platforms (Windows, Mac, Linux, cell phones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08360" indent="-157680">
              <a:lnSpc>
                <a:spcPct val="11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language taught in this textboo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asic Java programs with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statem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ile/run a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Writ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de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source cod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he set of instructions i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ompil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mpil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ranslate a program from one language to anoth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byte cod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he Java compiler converts your code into a format named </a:t>
            </a: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byte cod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hat runs on many computer 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execute)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output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he messages printed to the user by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5" name="Group 12"/>
          <p:cNvGrpSpPr/>
          <p:nvPr/>
        </p:nvGrpSpPr>
        <p:grpSpPr>
          <a:xfrm>
            <a:off x="458640" y="5059440"/>
            <a:ext cx="1646280" cy="1646280"/>
            <a:chOff x="458640" y="5059440"/>
            <a:chExt cx="1646280" cy="1646280"/>
          </a:xfrm>
        </p:grpSpPr>
        <p:sp>
          <p:nvSpPr>
            <p:cNvPr id="106" name="Rectangle 13"/>
            <p:cNvSpPr/>
            <p:nvPr/>
          </p:nvSpPr>
          <p:spPr>
            <a:xfrm>
              <a:off x="458640" y="5059440"/>
              <a:ext cx="1646280" cy="1646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4"/>
            <p:cNvSpPr/>
            <p:nvPr/>
          </p:nvSpPr>
          <p:spPr>
            <a:xfrm>
              <a:off x="482760" y="5106960"/>
              <a:ext cx="1600200" cy="6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ource co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15" descr=""/>
            <p:cNvPicPr/>
            <p:nvPr/>
          </p:nvPicPr>
          <p:blipFill>
            <a:blip r:embed="rId1"/>
            <a:stretch/>
          </p:blipFill>
          <p:spPr>
            <a:xfrm>
              <a:off x="838080" y="5592600"/>
              <a:ext cx="889200" cy="96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2104560" y="5057640"/>
            <a:ext cx="3151800" cy="1646280"/>
            <a:chOff x="2104560" y="5057640"/>
            <a:chExt cx="3151800" cy="1646280"/>
          </a:xfrm>
        </p:grpSpPr>
        <p:pic>
          <p:nvPicPr>
            <p:cNvPr id="110" name="Picture 6" descr=""/>
            <p:cNvPicPr/>
            <p:nvPr/>
          </p:nvPicPr>
          <p:blipFill>
            <a:blip r:embed="rId2"/>
            <a:stretch/>
          </p:blipFill>
          <p:spPr>
            <a:xfrm>
              <a:off x="2695680" y="5980320"/>
              <a:ext cx="34272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8"/>
            <p:cNvSpPr/>
            <p:nvPr/>
          </p:nvSpPr>
          <p:spPr>
            <a:xfrm>
              <a:off x="2318040" y="5446800"/>
              <a:ext cx="106776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ompi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16"/>
            <p:cNvGrpSpPr/>
            <p:nvPr/>
          </p:nvGrpSpPr>
          <p:grpSpPr>
            <a:xfrm>
              <a:off x="3610080" y="5057640"/>
              <a:ext cx="1646280" cy="1646280"/>
              <a:chOff x="3610080" y="5057640"/>
              <a:chExt cx="1646280" cy="1646280"/>
            </a:xfrm>
          </p:grpSpPr>
          <p:pic>
            <p:nvPicPr>
              <p:cNvPr id="113" name="Pictur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7200" y="5597280"/>
                <a:ext cx="930240" cy="90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Rectangle 18"/>
              <p:cNvSpPr/>
              <p:nvPr/>
            </p:nvSpPr>
            <p:spPr>
              <a:xfrm>
                <a:off x="3610080" y="5057640"/>
                <a:ext cx="1646280" cy="1646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9"/>
              <p:cNvSpPr/>
              <p:nvPr/>
            </p:nvSpPr>
            <p:spPr>
              <a:xfrm>
                <a:off x="3787920" y="5105160"/>
                <a:ext cx="1288800" cy="10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8000"/>
                  </a:lnSpc>
                  <a:spcBef>
                    <a:spcPts val="499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byte cod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16" name="Straight Arrow Connector 37"/>
            <p:cNvCxnSpPr/>
            <p:nvPr/>
          </p:nvCxnSpPr>
          <p:spPr>
            <a:xfrm>
              <a:off x="2104560" y="5879880"/>
              <a:ext cx="1505880" cy="3960"/>
            </a:xfrm>
            <a:prstGeom prst="straightConnector1">
              <a:avLst/>
            </a:prstGeom>
            <a:ln w="9360">
              <a:solidFill>
                <a:srgbClr val="1d778d"/>
              </a:solidFill>
              <a:miter/>
              <a:tailEnd len="med" type="arrow" w="med"/>
            </a:ln>
          </p:spPr>
        </p:cxnSp>
      </p:grpSp>
      <p:grpSp>
        <p:nvGrpSpPr>
          <p:cNvPr id="117" name=""/>
          <p:cNvGrpSpPr/>
          <p:nvPr/>
        </p:nvGrpSpPr>
        <p:grpSpPr>
          <a:xfrm>
            <a:off x="5257800" y="5051520"/>
            <a:ext cx="3886200" cy="1235160"/>
            <a:chOff x="5257800" y="5051520"/>
            <a:chExt cx="3886200" cy="1235160"/>
          </a:xfrm>
        </p:grpSpPr>
        <p:pic>
          <p:nvPicPr>
            <p:cNvPr id="118" name="Picture 7" descr=""/>
            <p:cNvPicPr/>
            <p:nvPr/>
          </p:nvPicPr>
          <p:blipFill>
            <a:blip r:embed="rId4"/>
            <a:stretch/>
          </p:blipFill>
          <p:spPr>
            <a:xfrm>
              <a:off x="5819760" y="5982120"/>
              <a:ext cx="257040" cy="2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9"/>
            <p:cNvSpPr/>
            <p:nvPr/>
          </p:nvSpPr>
          <p:spPr>
            <a:xfrm>
              <a:off x="5428080" y="5448600"/>
              <a:ext cx="57708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ru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0"/>
            <p:cNvSpPr/>
            <p:nvPr/>
          </p:nvSpPr>
          <p:spPr>
            <a:xfrm>
              <a:off x="7452000" y="5051520"/>
              <a:ext cx="98856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35" descr="hello.PNG"/>
            <p:cNvPicPr/>
            <p:nvPr/>
          </p:nvPicPr>
          <p:blipFill>
            <a:blip r:embed="rId5"/>
            <a:srcRect l="0" t="0" r="13648" b="0"/>
            <a:stretch/>
          </p:blipFill>
          <p:spPr>
            <a:xfrm>
              <a:off x="6734160" y="5448600"/>
              <a:ext cx="2409840" cy="838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22" name="Straight Arrow Connector 39"/>
            <p:cNvCxnSpPr/>
            <p:nvPr/>
          </p:nvCxnSpPr>
          <p:spPr>
            <a:xfrm>
              <a:off x="5257800" y="5881680"/>
              <a:ext cx="1505520" cy="3960"/>
            </a:xfrm>
            <a:prstGeom prst="straightConnector1">
              <a:avLst/>
            </a:prstGeom>
            <a:ln w="9360">
              <a:solidFill>
                <a:srgbClr val="1d778d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Java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class Hello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Hello, world!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This program produc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four lines of output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ts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Hello, world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This program produ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four lines of out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nsol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Text box into which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program's output is prin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867280" y="4775040"/>
            <a:ext cx="327672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58:25Z</dcterms:modified>
  <cp:revision>116</cp:revision>
  <dc:subject/>
  <dc:title>CSE 142 Python Slides</dc:title>
</cp:coreProperties>
</file>