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E1EE-435D-4A2A-ABC4-7ABEE00A411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search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30481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343400" y="49388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72000" y="44956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43400" y="5776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572000" y="5334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34340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57200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86728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12144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711216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146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4290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8862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7692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09720" y="35053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4008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List, Linked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ll methods assume value != null;  does not reha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shIntSe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final int CAPACITY = 13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&lt;Integer&gt;[]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ashSe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(List&lt;Integer&gt;[]) (new List[CAPACITY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dds the given value to this hash set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index]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 = new Linked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shing function to convert objects to index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HF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hash se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rue if this set contains the given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elements[index] != null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contains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e se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index]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remove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use big prime numbers as hash table sizes to reduc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4114800"/>
          <a:ext cx="8694720" cy="790560"/>
        </p:xfrm>
        <a:graphic>
          <a:graphicData uri="http://schemas.openxmlformats.org/drawingml/2006/table">
            <a:tbl>
              <a:tblPr/>
              <a:tblGrid>
                <a:gridCol w="385560"/>
                <a:gridCol w="385920"/>
                <a:gridCol w="385560"/>
                <a:gridCol w="414360"/>
                <a:gridCol w="425520"/>
                <a:gridCol w="426960"/>
                <a:gridCol w="425520"/>
                <a:gridCol w="412920"/>
                <a:gridCol w="414360"/>
                <a:gridCol w="41436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8012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640872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180120" y="6005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408720" y="5562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859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01456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7577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498636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0528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25908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433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097160" y="47862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2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986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455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2935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67444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513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3509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653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99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7136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170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6280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085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5424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494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I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pends on the type of object and it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ds the ASCII values of its let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just a set where the list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an inn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clas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s; the map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Entry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76520" y="35053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510552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0" y="45576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711216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146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9718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41972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409720" y="39625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4008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875120" y="45720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H="1">
            <a:off x="59436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0" y="53960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112160" y="4952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308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76720" y="45720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6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"/>
            <p:cNvCxnSpPr>
              <a:stCxn id="90" idx="3"/>
              <a:endCxn id="89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90" idx="5"/>
              <a:endCxn id="88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8" idx="3"/>
              <a:endCxn id="87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8" idx="5"/>
              <a:endCxn id="86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89" idx="3"/>
              <a:endCxn id="96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stCxn id="89" idx="5"/>
              <a:endCxn id="95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"/>
            <p:cNvCxnSpPr>
              <a:stCxn id="99" idx="2"/>
              <a:endCxn id="90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to implement a se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in BST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need this in order to add or search in 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t doesn't really matter what order the elements appear in a set, so long as they can be added and searched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storing a set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576252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752480" y="480060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value to an integ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ossible hash function for integ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 algn="ctr"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F(I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11 % 10 ==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49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24 % 10 == 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7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52480" y="576252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of 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HF(int i) {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ash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Data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: simply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: check 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: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untim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!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OMGWTFBBQFA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a hash function maps two or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to the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5029200"/>
          <a:ext cx="5619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493920"/>
                <a:gridCol w="493560"/>
                <a:gridCol w="493560"/>
                <a:gridCol w="49392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52480" y="5029200"/>
          <a:ext cx="56484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493920"/>
                <a:gridCol w="507960"/>
                <a:gridCol w="50796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ust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1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86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14, then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w a lookup for 94 must look at 7 out of 10 total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52480" y="5029200"/>
          <a:ext cx="5677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5079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3:43Z</dcterms:modified>
  <cp:revision>604</cp:revision>
  <dc:subject/>
  <dc:title>CSE 142 Python Slides</dc:title>
</cp:coreProperties>
</file>