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F756-C41B-4A27-83B0-C21293B7ABB2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5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ing a Collection 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3760" indent="-2037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middle or front is hard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see book ch 7.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if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earby elements to make room for the new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2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42 at index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e: The order in which you traverse the array matter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25146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219320" y="483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648320" y="5791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size; i &gt; index; i--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] = list[i -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ndex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19320" y="32338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64832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the following methods nex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we remove an element from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ain, we need to shift elements in the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time, it's a left-shif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what order should we process the elemen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ndexes should we proces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 flipH="1">
            <a:off x="41144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index; i &lt; size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] = list[i +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size]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ptional (why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 flipH="1">
            <a:off x="41144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ning out of sp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hould we do if the client adds more than 10 eleme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15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 an 11th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23623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6320" y="4757760"/>
          <a:ext cx="8980200" cy="1185840"/>
        </p:xfrm>
        <a:graphic>
          <a:graphicData uri="http://schemas.openxmlformats.org/drawingml/2006/table">
            <a:tbl>
              <a:tblPr/>
              <a:tblGrid>
                <a:gridCol w="782280"/>
                <a:gridCol w="507960"/>
                <a:gridCol w="322560"/>
                <a:gridCol w="322200"/>
                <a:gridCol w="322200"/>
                <a:gridCol w="322200"/>
                <a:gridCol w="460440"/>
                <a:gridCol w="322200"/>
                <a:gridCol w="322200"/>
                <a:gridCol w="322200"/>
                <a:gridCol w="322560"/>
                <a:gridCol w="5079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venienc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he first index an element is found, or -1 if n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rue if list has no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rue if the list contains the given int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 we ne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n we already ha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methods provide convenience to the client of ou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f (myList.size() == 0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f (myList.isEmpty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f (myList.indexOf(42) &gt;= 0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f (myList.contains(42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add some new features to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  A method that allows client programs to print a list's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  A constructor that accepts an initial capac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By writing these we will recall some features of objects in Java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ing lists: You may be tempted to wri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is this a bad idea?  What would be bet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list is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"list is " + list.toString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uitable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is the class's name and a hex (base-16) numb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(of unknown size) full of integers and prints the integers in the reverse order to how they occurred in the file.  Consider example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.t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3208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3205327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run with this file, your program's output would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3205327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3208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a String representation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ize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[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result = "[" + elementData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, " + elementData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ing constru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ArrayIntLis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ementData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new constructor that accepts a capacity parame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ArrayIntList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capacit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ementData = new int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pacit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nstructors are very similar.  Can we avoid redundanc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hi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A reference to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24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(the object on which a method/constructor is called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24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a fiel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all a metho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all a constructo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another construct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ised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rrayIntList(int capacity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ementData = new int[capacity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rrayIntList(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(10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calls (int) constru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ze vs. capacit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if the client tries to access an element that is past the size but within the capacity (bounds) of the arra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get(7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 list of size 5  (capacity 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swer: Currently the list allows this and returns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this good or bad?  What (if anything) should we do about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sumes is tr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its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documented as a comment on the method's header: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ng a precondition doesn't really "solve" the problem, but it at least documents our decision and warns the client what not to d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we want to actually enforce the precondi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d precondition te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wrong with the following way to handle viola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"Bad index! " + 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ing -1 is no better than returning 0  (could be a legal valu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 very strong deterrent to the client  (esp. GUI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exceptions (4.5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the program to immediately crash with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exception typ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ithmeticException, ArrayIndexOutOfBoundsException, FileNotFoundException, IllegalArgumentException, IllegalStateException, IOException, NoSuchElementException, NullPointerException, RuntimeException, UnsupportedOperationExcep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would anyone ev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ant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gram to cras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get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rest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state preconditions and throw exceptions as appropri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st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t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mises will be tr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of its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documented as a comment on the method's header: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kes sure that this list's internal array is la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nough to store the given number of ele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ostcondition: elementData.length &gt;=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ensureCapacity(int capacit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double in size until large enoug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capacity &gt; elementData.length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 = Arrays.copyOf(element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* elementData.lengt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r method states a postcondition, clients should be able to rely on that statement being true after they call the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using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nums = new int[100]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ke a really big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In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s[size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input.nextInt(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d each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++;           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to the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size - 1; i &gt;= 0; i--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s[i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 rever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11360" y="4952880"/>
          <a:ext cx="7746840" cy="156204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1013040"/>
                <a:gridCol w="1380960"/>
                <a:gridCol w="59868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2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2053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testing progr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programs are written specifically to test other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wrot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want to give it to others, we must make sure it works adequately well fir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ient program with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constructs several lists, adds elements to them, and calls the various other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ips for te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test every possible input, parameter valu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n a sing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has 2^32 different possible valu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you must think of a limited set of tests likely to expose bu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boundary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itive, zero, negative numb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ight at the edge of an array or collection's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empty cases and error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, -1, null;  an empty list or ar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rray or collection that contains null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helping methods in your test program to shorte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testing ti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 o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c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s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tu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est shouldn't just call methods and print results; it shoul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the method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heir results to a known correct expected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y are the same, report that the test "passed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y differ, report that the test "failed" along with the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behavior in comb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y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sually works, but fails after you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happens if I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multiple calls;  may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ails the second time on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1 = {5, 2, 7, 8, 4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2 = {2, 7, 42, 8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3 = {7, 42, 4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a1, a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a2, a3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new int[] {1, 2, 3, 4, 5}, new int[] {2, 3, 42, 4}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elper(int[] elements, int[] expected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IntList list = new ArrayIntList(element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lements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add(elements[i]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remove(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remove(list.size()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add(2, 4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xpected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ist.get(i) != expected[i]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fail; expect " + Arrays.toString(expected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 ", actual " + 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ish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add the following feature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onstant for the default list capac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tter encapsulation and protection of implementation detai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better way to print list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consta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final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 const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global, unchangeable value in a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d to store and give names to important values used in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cuments an important value;  easier to find and change la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will often store constants related to tha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MAX_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MIN_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.GRE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fault array length for new ArrayInt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final int DEFAULT_CAPACITY = 1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Helper"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our list class has a few useful "helper"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Re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, int min, int ma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rote them to help us implement other require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don't want clients to call these methods; they are inter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stop clients from calling th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rivate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vate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seen/called only by its own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apsulated, similar to fiel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object can call the method on itself, but clients cannot call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for "helper" methods that clients shouldn't directly tou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void checkIndex(int index, int min, int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min || index &gt;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IndexOutOfBoundsException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nting 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our list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is this a bad idea?  What would be bet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list is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uitable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is the class's name and a hex (base-16) numb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fille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s = new int[10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often need to store an unknown number of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rays can be used for this, but we must count the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the values at indexes [0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1] are releva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using an array to store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other operations might we want to run on lists of valu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11360" y="4952880"/>
          <a:ext cx="7746840" cy="156204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1013040"/>
                <a:gridCol w="1380960"/>
                <a:gridCol w="59868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2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2053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a String representation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ize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[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result = "[" + elementData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, " + elementData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ass call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utter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constructor accepts an integ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re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time an integer is added, the list will actually ad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re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umber of copies of that integ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u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tterIntList list = new StutterIntLis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7);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7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1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2, 5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5, 5, 5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5, 5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st.getStretch()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ming new classes based on existing 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/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use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arent clas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ild class that inherits behavior from super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4" descr="employee_manuals"/>
          <p:cNvPicPr/>
          <p:nvPr/>
        </p:nvPicPr>
        <p:blipFill>
          <a:blip r:embed="rId1"/>
          <a:stretch/>
        </p:blipFill>
        <p:spPr>
          <a:xfrm>
            <a:off x="2286000" y="3962520"/>
            <a:ext cx="46483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wyers, Secretaries, etc. have similar behavior to the abo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to implement those classes without redundanc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extends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awyer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ext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n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eives a copy of each method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utomatic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eated 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verrid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place a superclass's method by writing a new version of that method in a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pecial syntax is required to override a metho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ust write a new version of it in the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verrides getSalary method in Employee clas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4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up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overridden method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 (bet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version makes sure that Lawyers always make $5K more than Employees, even if the Employee's salary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super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String nam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name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llows a subclass constructor to call a superclass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ll must be the first statement in the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tructors are not inherited; If you extend a class, you must write all the constructors you want your subclass to h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tutterIntLis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tends ArrayInt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int stret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tterIntList(int stretchFactor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etch = stretchFacto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tterIntList(int stretchFactor, int capacity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capacity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etch = stretchFacto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stretc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add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stretc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add(index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Stretch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tret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bclasses and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giveRaise(double amou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alary += amoun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; salary is priv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ited private fields/methods cannot be directly accessed by subclasses.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The subclass has the field, but it can't touch i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allow a subclass to access/modify these field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possible oper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int value, int inde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mov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index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fin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implement these operations as methods that accept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 and it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long with other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since the behavior and data are so closely related, it makes more sense to put them together into an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st object can store an array of elements and a size, and can have methods for manipulating the list of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mote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hides details of how the list work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tected fields/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ected fiel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seen/called only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itself,  and its sub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by other classes in the same "package"  (discussed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for allowing selective access to inner class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the following two list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should be able to treat both lists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 interfac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reate an ADT interface for the two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6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erface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: When 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specify the 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ccept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that it i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neri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a parameterized (generic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utting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are demanding that any client that constructs your object must supply a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require multiple type parameters separated by com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t of your class's code can refer to that type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onvert our list classes to use gener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array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myField = new 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T[] a = new T[10];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not create objects or arrays of a parameterized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/arrays, fix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myField = param;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T[] a2 = (T[]) (new Object[10]);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you can create variables of that type, accept them as parameters, return them, or create arrays by cast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[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generic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ArrayList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indexOf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val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f (elementData[i] == val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elementData[i].equals(value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testing objects of type E for equality, must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a class that implements a list us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'll call i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st'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be the number of elements added to it so f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ill the list be used?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linked list nod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ListNode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E dat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ListNode&lt;E&gt; nex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 generic linked list, the node class must also accept the type 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3, 16.5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ArrayInt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 implements IntList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inkedInt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 implements IntList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to the end of a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19320" y="28954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219320" y="51055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 to end of list, just store element and increase siz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size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28954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219320" y="51055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to the middle or end of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2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42 at index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19320" y="25146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219320" y="483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29:05Z</dcterms:modified>
  <cp:revision>85</cp:revision>
  <dc:subject/>
  <dc:title>CSE 142 Python Slides</dc:title>
</cp:coreProperties>
</file>