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C65E-8459-492D-939C-59FFCB525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5CD9-9D42-46A3-8083-B4BC75452C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9AC4-D30D-4D00-BF5D-06ADC7ED21C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0:14Z</dcterms:modified>
  <cp:revision>121</cp:revision>
  <dc:subject/>
  <dc:title>CSE 142 Python Slides</dc:title>
</cp:coreProperties>
</file>